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27.jpeg" ContentType="image/jpeg"/>
  <Override PartName="/ppt/media/image13.wmf" ContentType="image/x-wmf"/>
  <Override PartName="/ppt/media/image29.png" ContentType="image/png"/>
  <Override PartName="/ppt/media/image6.png" ContentType="image/png"/>
  <Override PartName="/ppt/media/image20.png" ContentType="image/png"/>
  <Override PartName="/ppt/media/image7.jpeg" ContentType="image/jpeg"/>
  <Override PartName="/ppt/media/image28.jpeg" ContentType="image/jpeg"/>
  <Override PartName="/ppt/media/image18.png" ContentType="image/png"/>
  <Override PartName="/ppt/media/image8.jpeg" ContentType="image/jpeg"/>
  <Override PartName="/ppt/media/image5.png" ContentType="image/png"/>
  <Override PartName="/ppt/media/image10.jpeg" ContentType="image/jpeg"/>
  <Override PartName="/ppt/media/image9.jpeg" ContentType="image/jpeg"/>
  <Override PartName="/ppt/media/image30.wmf" ContentType="image/x-wmf"/>
  <Override PartName="/ppt/media/image31.jpeg" ContentType="image/jpeg"/>
  <Override PartName="/ppt/media/image2.png" ContentType="image/png"/>
  <Override PartName="/ppt/media/image25.jpeg" ContentType="image/jpeg"/>
  <Override PartName="/ppt/media/image12.jpeg" ContentType="image/jpeg"/>
  <Override PartName="/ppt/media/image4.png" ContentType="image/png"/>
  <Override PartName="/ppt/media/image3.jpeg" ContentType="image/jpeg"/>
  <Override PartName="/ppt/media/image15.png" ContentType="image/png"/>
  <Override PartName="/ppt/media/image1.png" ContentType="image/png"/>
  <Override PartName="/ppt/media/image11.jpeg" ContentType="image/jpeg"/>
  <Override PartName="/ppt/media/image24.png" ContentType="image/png"/>
  <Override PartName="/ppt/media/image14.jpeg" ContentType="image/jpeg"/>
  <Override PartName="/ppt/media/image16.png" ContentType="image/png"/>
  <Override PartName="/ppt/media/image17.png" ContentType="image/pn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media/image26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Text Box 2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6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sldNum" idx="5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C080E0A-0BB5-4A2F-8928-3C63DC75176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Text Box 1"/>
          <p:cNvSpPr/>
          <p:nvPr/>
        </p:nvSpPr>
        <p:spPr>
          <a:xfrm>
            <a:off x="990720" y="685800"/>
            <a:ext cx="487512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ctr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37080" cy="40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3"/>
          <p:cNvSpPr/>
          <p:nvPr/>
        </p:nvSpPr>
        <p:spPr>
          <a:xfrm>
            <a:off x="3884760" y="8685360"/>
            <a:ext cx="297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30200"/>
                <a:tab algn="l" pos="861840"/>
                <a:tab algn="l" pos="1293840"/>
                <a:tab algn="l" pos="1725480"/>
                <a:tab algn="l" pos="2157480"/>
                <a:tab algn="l" pos="2589120"/>
                <a:tab algn="l" pos="3021120"/>
                <a:tab algn="l" pos="3452760"/>
                <a:tab algn="l" pos="3884760"/>
                <a:tab algn="l" pos="4316400"/>
                <a:tab algn="l" pos="4748040"/>
                <a:tab algn="l" pos="5180040"/>
                <a:tab algn="l" pos="5611680"/>
                <a:tab algn="l" pos="6043680"/>
                <a:tab algn="l" pos="6475320"/>
                <a:tab algn="l" pos="6907320"/>
                <a:tab algn="l" pos="7338960"/>
                <a:tab algn="l" pos="7770960"/>
                <a:tab algn="l" pos="8202600"/>
                <a:tab algn="l" pos="86342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57693D-18A0-44FB-9F51-E94D69DF71DD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Text Box 1"/>
          <p:cNvSpPr/>
          <p:nvPr/>
        </p:nvSpPr>
        <p:spPr>
          <a:xfrm>
            <a:off x="-14774760" y="-11796840"/>
            <a:ext cx="17713080" cy="12454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ctr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37080" cy="40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1"/>
          <p:cNvSpPr/>
          <p:nvPr/>
        </p:nvSpPr>
        <p:spPr>
          <a:xfrm>
            <a:off x="-14774760" y="-11796840"/>
            <a:ext cx="17708400" cy="12450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ctr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37080" cy="40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3A10ACE-50DF-4FAB-B916-CAA8B7818C3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9" name="Text Box 1"/>
          <p:cNvSpPr/>
          <p:nvPr/>
        </p:nvSpPr>
        <p:spPr>
          <a:xfrm>
            <a:off x="4680" y="4680"/>
            <a:ext cx="11788920" cy="133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body"/>
          </p:nvPr>
        </p:nvSpPr>
        <p:spPr>
          <a:xfrm>
            <a:off x="686880" y="4643280"/>
            <a:ext cx="5450040" cy="43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A2EBE3D-2A87-4E1D-B0D7-7F8753C9812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2" name="Text Box 1"/>
          <p:cNvSpPr/>
          <p:nvPr/>
        </p:nvSpPr>
        <p:spPr>
          <a:xfrm>
            <a:off x="4680" y="4680"/>
            <a:ext cx="11788920" cy="133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body"/>
          </p:nvPr>
        </p:nvSpPr>
        <p:spPr>
          <a:xfrm>
            <a:off x="686880" y="4643280"/>
            <a:ext cx="5450040" cy="43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9D927CA-3662-47A2-9837-C4AA84EA119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5" name="Text Box 1"/>
          <p:cNvSpPr/>
          <p:nvPr/>
        </p:nvSpPr>
        <p:spPr>
          <a:xfrm>
            <a:off x="4680" y="4680"/>
            <a:ext cx="11788920" cy="133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body"/>
          </p:nvPr>
        </p:nvSpPr>
        <p:spPr>
          <a:xfrm>
            <a:off x="686880" y="4643280"/>
            <a:ext cx="5450040" cy="43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61BA9BF-4671-4E65-A374-1FB20CDA3EEA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8" name="Text Box 1"/>
          <p:cNvSpPr/>
          <p:nvPr/>
        </p:nvSpPr>
        <p:spPr>
          <a:xfrm>
            <a:off x="2147760" y="743040"/>
            <a:ext cx="2576520" cy="3665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body"/>
          </p:nvPr>
        </p:nvSpPr>
        <p:spPr>
          <a:xfrm>
            <a:off x="686880" y="4643280"/>
            <a:ext cx="5450040" cy="43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D1575DF-65DA-4267-B234-002B69C70F3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2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7E1A684-D2DC-4908-B8B2-C731C98CEDBA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5" name="Text Box 1"/>
          <p:cNvSpPr/>
          <p:nvPr/>
        </p:nvSpPr>
        <p:spPr>
          <a:xfrm>
            <a:off x="-11798280" y="-11796840"/>
            <a:ext cx="11772720" cy="1246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A4EB7F3-A31B-4DA3-8D16-46AEC7AB682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8" name="Text Box 1"/>
          <p:cNvSpPr/>
          <p:nvPr/>
        </p:nvSpPr>
        <p:spPr>
          <a:xfrm>
            <a:off x="-11798280" y="-11796840"/>
            <a:ext cx="11772720" cy="1246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 Box 1"/>
          <p:cNvSpPr/>
          <p:nvPr/>
        </p:nvSpPr>
        <p:spPr>
          <a:xfrm>
            <a:off x="-11798280" y="-11796840"/>
            <a:ext cx="11766600" cy="124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370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Text Box 1"/>
          <p:cNvSpPr/>
          <p:nvPr/>
        </p:nvSpPr>
        <p:spPr>
          <a:xfrm>
            <a:off x="-14774760" y="-11796840"/>
            <a:ext cx="17713080" cy="12454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ctr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37080" cy="40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370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 Box 1"/>
          <p:cNvSpPr/>
          <p:nvPr/>
        </p:nvSpPr>
        <p:spPr>
          <a:xfrm>
            <a:off x="-11798280" y="-11796840"/>
            <a:ext cx="11766600" cy="124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370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DA11C11-1833-49BC-AF16-4A2EA61C1FB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9" name="Text Box 1"/>
          <p:cNvSpPr/>
          <p:nvPr/>
        </p:nvSpPr>
        <p:spPr>
          <a:xfrm>
            <a:off x="-9798120" y="-3351240"/>
            <a:ext cx="16651440" cy="12488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370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B88FA9-3B56-4EE7-BCE1-5DF1C3751B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63360"/>
            <a:ext cx="8199360" cy="15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993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9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1080"/>
            <a:ext cx="81993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9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7B5135-957A-409B-AD5B-F1A8B681B5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63360"/>
            <a:ext cx="8199360" cy="15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10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9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8760" y="1600200"/>
            <a:ext cx="40010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9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40010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9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8760" y="3961080"/>
            <a:ext cx="40010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9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6F66AD-7E9A-4BC7-9721-6F1FD1E202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63360"/>
            <a:ext cx="8199360" cy="15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3988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9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9560" y="1600200"/>
            <a:ext cx="263988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9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1560" y="1600200"/>
            <a:ext cx="263988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9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1080"/>
            <a:ext cx="263988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9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9560" y="3961080"/>
            <a:ext cx="263988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9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1560" y="3961080"/>
            <a:ext cx="263988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9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829B4C-EDB4-405A-B7CA-72987F2145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DA3D35-8AF2-44D1-A9BB-9CA379EA11D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63360"/>
            <a:ext cx="8199360" cy="15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19936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9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657971-997A-45C4-B658-AEA93DCB7F0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63360"/>
            <a:ext cx="8199360" cy="15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993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9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65DB8B-210F-4EEB-B690-5923547BC04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63360"/>
            <a:ext cx="8199360" cy="15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104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9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58760" y="1600200"/>
            <a:ext cx="400104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9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6E432F-E834-44FD-82FE-BFD9CF5B84B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63360"/>
            <a:ext cx="8199360" cy="15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D9C015-83F3-424D-AE84-65A1512C399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63360"/>
            <a:ext cx="8199360" cy="71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9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C81623-3C04-44FC-9787-751D1810D7D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63360"/>
            <a:ext cx="8199360" cy="15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10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9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58760" y="1600200"/>
            <a:ext cx="400104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9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40010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9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B4572B-3112-4EC4-8BF7-23B16746E7F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63360"/>
            <a:ext cx="8199360" cy="15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19936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9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05377C-6F5D-410C-AD79-A07B5B507F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63360"/>
            <a:ext cx="8199360" cy="15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104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9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58760" y="1600200"/>
            <a:ext cx="40010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9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58760" y="3961080"/>
            <a:ext cx="40010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9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84B66D-C52D-470F-B26A-4A948B92F60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63360"/>
            <a:ext cx="8199360" cy="15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10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9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58760" y="1600200"/>
            <a:ext cx="40010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9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81993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9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9AFFEE-5401-456E-959A-B2B3244F0F6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63360"/>
            <a:ext cx="8199360" cy="15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993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9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1080"/>
            <a:ext cx="81993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9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02D5EE-C8A1-4622-993D-479273AC12F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63360"/>
            <a:ext cx="8199360" cy="15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10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9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58760" y="1600200"/>
            <a:ext cx="40010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9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40010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9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58760" y="3961080"/>
            <a:ext cx="40010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9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15EA8E-752E-4B07-AEA1-BB4D11EF29F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63360"/>
            <a:ext cx="8199360" cy="15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3988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9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9560" y="1600200"/>
            <a:ext cx="263988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9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01560" y="1600200"/>
            <a:ext cx="263988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9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1080"/>
            <a:ext cx="263988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9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9560" y="3961080"/>
            <a:ext cx="263988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9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01560" y="3961080"/>
            <a:ext cx="263988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9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CD8681-8A2D-4D87-93BD-816937357308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5363A-780D-4057-975B-3B2184A0724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63360"/>
            <a:ext cx="8199360" cy="15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19936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9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F24D8-AEC7-43C0-87EB-09CB5F8284A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63360"/>
            <a:ext cx="8199360" cy="15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993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9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DE2F6-DF3F-491A-BF78-19035EA0901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63360"/>
            <a:ext cx="8199360" cy="15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104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9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58760" y="1600200"/>
            <a:ext cx="400104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9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790AA-2C18-43CE-BE3D-4A5DF96E8DA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63360"/>
            <a:ext cx="8199360" cy="15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33C7F-E708-4EE1-9A12-C2A75D70FE0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63360"/>
            <a:ext cx="8199360" cy="15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993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9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A614D5-BFA8-4F14-8460-D40351C26D2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63360"/>
            <a:ext cx="8199360" cy="71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9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E1278-2FFC-4E15-8ACC-EE7414FBF73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63360"/>
            <a:ext cx="8199360" cy="15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10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9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58760" y="1600200"/>
            <a:ext cx="400104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9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40010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9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AAD81-9750-4C69-A0D8-ED406EC48ED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63360"/>
            <a:ext cx="8199360" cy="15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104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9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58760" y="1600200"/>
            <a:ext cx="40010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9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58760" y="3961080"/>
            <a:ext cx="40010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9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5B273-DAEF-48B0-9CC5-3CE11F53526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63360"/>
            <a:ext cx="8199360" cy="15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10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9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58760" y="1600200"/>
            <a:ext cx="40010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9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81993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9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66C94-8ADB-4393-9624-5BD8197AA60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63360"/>
            <a:ext cx="8199360" cy="15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993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9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1080"/>
            <a:ext cx="81993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9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C5BA8-EB76-4C69-A98E-32395C32202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63360"/>
            <a:ext cx="8199360" cy="15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10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9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58760" y="1600200"/>
            <a:ext cx="40010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9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40010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9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58760" y="3961080"/>
            <a:ext cx="40010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9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88B0C-6815-4EC4-9E2A-B7BC1137D74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63360"/>
            <a:ext cx="8199360" cy="15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3988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9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29560" y="1600200"/>
            <a:ext cx="263988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9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1560" y="1600200"/>
            <a:ext cx="263988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9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1080"/>
            <a:ext cx="263988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9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29560" y="3961080"/>
            <a:ext cx="263988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9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1560" y="3961080"/>
            <a:ext cx="263988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9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E5273-9B7E-429C-AB76-9E6798E668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63360"/>
            <a:ext cx="8199360" cy="15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104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9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8760" y="1600200"/>
            <a:ext cx="400104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9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4961AE-26CD-455F-B968-5BE9A58012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63360"/>
            <a:ext cx="8199360" cy="15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74271A-943C-4682-AA8A-505B739515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63360"/>
            <a:ext cx="8199360" cy="71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9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1CB01C-BEAC-4498-901D-D028251C07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63360"/>
            <a:ext cx="8199360" cy="15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10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9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8760" y="1600200"/>
            <a:ext cx="400104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9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40010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9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660083-5555-4B3B-A57C-378DDD210B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63360"/>
            <a:ext cx="8199360" cy="15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104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9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8760" y="1600200"/>
            <a:ext cx="40010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9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8760" y="3961080"/>
            <a:ext cx="40010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9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30A786-2FE9-4F29-927A-D8EAA63123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63360"/>
            <a:ext cx="8199360" cy="15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10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9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8760" y="1600200"/>
            <a:ext cx="40010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9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81993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9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3F55B3-B7B3-4EC2-BDF0-2AB869C1ED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63360"/>
            <a:ext cx="8199360" cy="15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1993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09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9800" indent="-282600">
              <a:lnSpc>
                <a:spcPct val="109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9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9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9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109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109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685800" y="6243480"/>
            <a:ext cx="18972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243480"/>
            <a:ext cx="2887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3080" y="6248520"/>
            <a:ext cx="186696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200" spc="-1" strike="noStrike">
                <a:solidFill>
                  <a:srgbClr val="898989"/>
                </a:solidFill>
                <a:latin typeface="Calibri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928C775-D9B0-4A50-AAB2-A4D2C5295AA5}" type="slidenum">
              <a:rPr b="0" lang="en-GB" sz="1200" spc="-1" strike="noStrike">
                <a:solidFill>
                  <a:srgbClr val="898989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63360"/>
            <a:ext cx="8199360" cy="15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1993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09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9800" indent="-282600">
              <a:lnSpc>
                <a:spcPct val="109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9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9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9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109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109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457200" y="6308640"/>
            <a:ext cx="21337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Text Box 4"/>
          <p:cNvSpPr/>
          <p:nvPr/>
        </p:nvSpPr>
        <p:spPr>
          <a:xfrm>
            <a:off x="3124080" y="6308640"/>
            <a:ext cx="28958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2"/>
          </p:nvPr>
        </p:nvSpPr>
        <p:spPr>
          <a:xfrm>
            <a:off x="6552720" y="6356520"/>
            <a:ext cx="2103480" cy="33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3B95D66-2332-4958-8CDC-E79D9B7EB7C5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6840" y="220320"/>
            <a:ext cx="8218440" cy="12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6840" y="160452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9840" indent="-33984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457200" y="6246720"/>
            <a:ext cx="21207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" name="Text Box 4"/>
          <p:cNvSpPr/>
          <p:nvPr/>
        </p:nvSpPr>
        <p:spPr>
          <a:xfrm>
            <a:off x="3127320" y="6246720"/>
            <a:ext cx="28893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Num" idx="3"/>
          </p:nvPr>
        </p:nvSpPr>
        <p:spPr>
          <a:xfrm>
            <a:off x="6555960" y="6246360"/>
            <a:ext cx="2119320" cy="4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400" spc="-1" strike="noStrike">
                <a:solidFill>
                  <a:srgbClr val="000000"/>
                </a:solidFill>
                <a:latin typeface="Arial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1064209-ED63-459F-BE3A-BCA816EC2C20}" type="slidenum">
              <a:rPr b="0" lang="en-GB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image" Target="../media/image23.png"/><Relationship Id="rId9" Type="http://schemas.openxmlformats.org/officeDocument/2006/relationships/image" Target="../media/image24.png"/><Relationship Id="rId10" Type="http://schemas.openxmlformats.org/officeDocument/2006/relationships/image" Target="../media/image25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13.wmf"/><Relationship Id="rId8" Type="http://schemas.openxmlformats.org/officeDocument/2006/relationships/image" Target="../media/image14.jpeg"/><Relationship Id="rId9" Type="http://schemas.openxmlformats.org/officeDocument/2006/relationships/image" Target="../media/image15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Calibri"/>
              </a:rPr>
              <a:t>Plano Nacional de Promoção das Cadeias de Produtos da Sociobiodiversida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357120" y="4676760"/>
            <a:ext cx="7344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7000"/>
              </a:lnSpc>
              <a:spcBef>
                <a:spcPts val="286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Arial"/>
              </a:rPr>
              <a:t>Ministério do Meio Ambien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7000"/>
              </a:lnSpc>
              <a:spcBef>
                <a:spcPts val="286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Arial"/>
              </a:rPr>
              <a:t>Ministério do Desenvolvimento Agrári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7000"/>
              </a:lnSpc>
              <a:spcBef>
                <a:spcPts val="286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Arial"/>
              </a:rPr>
              <a:t>Ministério do Desenvolvimento Social e Combate à Fom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7000"/>
              </a:lnSpc>
              <a:spcBef>
                <a:spcPts val="286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Arial"/>
              </a:rPr>
              <a:t>Companhia Nacional de Abastecimento - CONA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9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AutoShape 2"/>
          <p:cNvSpPr/>
          <p:nvPr/>
        </p:nvSpPr>
        <p:spPr>
          <a:xfrm>
            <a:off x="66600" y="1541520"/>
            <a:ext cx="4284720" cy="331632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Calibri"/>
                <a:ea typeface="Arial"/>
              </a:rPr>
              <a:t>Instituciona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Calibri"/>
                <a:ea typeface="Arial"/>
              </a:rPr>
              <a:t> </a:t>
            </a:r>
            <a:r>
              <a:rPr b="0" lang="pt-BR" sz="2400" spc="-1" strike="noStrike">
                <a:solidFill>
                  <a:srgbClr val="ffffff"/>
                </a:solidFill>
                <a:latin typeface="Calibri"/>
                <a:ea typeface="Arial"/>
              </a:rPr>
              <a:t>PGPM, PAA, PNA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Calibri"/>
                <a:ea typeface="Arial"/>
              </a:rPr>
              <a:t> </a:t>
            </a:r>
            <a:r>
              <a:rPr b="0" lang="pt-BR" sz="2400" spc="-1" strike="noStrike">
                <a:solidFill>
                  <a:srgbClr val="ffffff"/>
                </a:solidFill>
                <a:latin typeface="Calibri"/>
                <a:ea typeface="Arial"/>
              </a:rPr>
              <a:t>Governo – desenvolvendo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Calibri"/>
                <a:ea typeface="Arial"/>
              </a:rPr>
              <a:t>estratégia para inclusão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Calibri"/>
                <a:ea typeface="Arial"/>
              </a:rPr>
              <a:t>de PCTAFs</a:t>
            </a:r>
            <a:r>
              <a:rPr b="0" lang="pt-BR" sz="2000" spc="-1" strike="noStrike">
                <a:solidFill>
                  <a:srgbClr val="ffffff"/>
                </a:solidFill>
                <a:latin typeface="Calibri"/>
                <a:ea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7" name="Oval 3"/>
          <p:cNvSpPr/>
          <p:nvPr/>
        </p:nvSpPr>
        <p:spPr>
          <a:xfrm>
            <a:off x="3467160" y="4929120"/>
            <a:ext cx="1890720" cy="1916280"/>
          </a:xfrm>
          <a:prstGeom prst="ellipse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Calibri"/>
                <a:ea typeface="Arial"/>
              </a:rPr>
              <a:t>Acesso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Calibri"/>
                <a:ea typeface="Arial"/>
              </a:rPr>
              <a:t>ao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Calibri"/>
                <a:ea typeface="Arial"/>
              </a:rPr>
              <a:t>Mercado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8" name="AutoShape 4"/>
          <p:cNvSpPr/>
          <p:nvPr/>
        </p:nvSpPr>
        <p:spPr>
          <a:xfrm rot="18900000">
            <a:off x="2550960" y="4871880"/>
            <a:ext cx="935280" cy="935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9" name="AutoShape 5"/>
          <p:cNvSpPr/>
          <p:nvPr/>
        </p:nvSpPr>
        <p:spPr>
          <a:xfrm>
            <a:off x="4643280" y="1512720"/>
            <a:ext cx="4249800" cy="3345120"/>
          </a:xfrm>
          <a:prstGeom prst="roundRect">
            <a:avLst>
              <a:gd name="adj" fmla="val 16667"/>
            </a:avLst>
          </a:prstGeom>
          <a:solidFill>
            <a:srgbClr val="996600">
              <a:alpha val="8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Calibri"/>
                <a:ea typeface="Arial"/>
              </a:rPr>
              <a:t>Diferenciado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Calibri"/>
                <a:ea typeface="Arial"/>
              </a:rPr>
              <a:t> </a:t>
            </a:r>
            <a:r>
              <a:rPr b="0" lang="pt-BR" sz="2400" spc="-1" strike="noStrike">
                <a:solidFill>
                  <a:srgbClr val="ffffff"/>
                </a:solidFill>
                <a:latin typeface="Calibri"/>
                <a:ea typeface="Arial"/>
              </a:rPr>
              <a:t>Envolvimento do Setor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Calibri"/>
                <a:ea typeface="Arial"/>
              </a:rPr>
              <a:t>Empresarial com o PNPSB e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Calibri"/>
                <a:ea typeface="Arial"/>
              </a:rPr>
              <a:t>estabelecimento de critérios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Calibri"/>
                <a:ea typeface="Arial"/>
              </a:rPr>
              <a:t>orientadores para a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Calibri"/>
                <a:ea typeface="Arial"/>
              </a:rPr>
              <a:t>relações comerciais 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0" name="AutoShape 4"/>
          <p:cNvSpPr/>
          <p:nvPr/>
        </p:nvSpPr>
        <p:spPr>
          <a:xfrm rot="2709000">
            <a:off x="5299920" y="4872240"/>
            <a:ext cx="935280" cy="93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1" descr=""/>
          <p:cNvPicPr/>
          <p:nvPr/>
        </p:nvPicPr>
        <p:blipFill>
          <a:blip r:embed="rId1"/>
          <a:stretch/>
        </p:blipFill>
        <p:spPr>
          <a:xfrm>
            <a:off x="5000760" y="5857920"/>
            <a:ext cx="1050840" cy="88884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2" descr=""/>
          <p:cNvPicPr/>
          <p:nvPr/>
        </p:nvPicPr>
        <p:blipFill>
          <a:blip r:embed="rId2"/>
          <a:stretch/>
        </p:blipFill>
        <p:spPr>
          <a:xfrm>
            <a:off x="4929120" y="2500200"/>
            <a:ext cx="1143000" cy="100008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3" descr=""/>
          <p:cNvPicPr/>
          <p:nvPr/>
        </p:nvPicPr>
        <p:blipFill>
          <a:blip r:embed="rId3"/>
          <a:stretch/>
        </p:blipFill>
        <p:spPr>
          <a:xfrm>
            <a:off x="7929720" y="3643200"/>
            <a:ext cx="1071360" cy="100008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4" descr=""/>
          <p:cNvPicPr/>
          <p:nvPr/>
        </p:nvPicPr>
        <p:blipFill>
          <a:blip r:embed="rId4"/>
          <a:stretch/>
        </p:blipFill>
        <p:spPr>
          <a:xfrm>
            <a:off x="5000760" y="3643200"/>
            <a:ext cx="1071360" cy="10051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5" descr=""/>
          <p:cNvPicPr/>
          <p:nvPr/>
        </p:nvPicPr>
        <p:blipFill>
          <a:blip r:embed="rId5"/>
          <a:stretch/>
        </p:blipFill>
        <p:spPr>
          <a:xfrm>
            <a:off x="7905600" y="4816440"/>
            <a:ext cx="1095480" cy="89856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6" descr=""/>
          <p:cNvPicPr/>
          <p:nvPr/>
        </p:nvPicPr>
        <p:blipFill>
          <a:blip r:embed="rId6"/>
          <a:stretch/>
        </p:blipFill>
        <p:spPr>
          <a:xfrm>
            <a:off x="5000760" y="4786200"/>
            <a:ext cx="1071360" cy="92880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7" descr=""/>
          <p:cNvPicPr/>
          <p:nvPr/>
        </p:nvPicPr>
        <p:blipFill>
          <a:blip r:embed="rId7"/>
          <a:stretch/>
        </p:blipFill>
        <p:spPr>
          <a:xfrm>
            <a:off x="7929720" y="2500200"/>
            <a:ext cx="1071360" cy="100008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8" descr=""/>
          <p:cNvPicPr/>
          <p:nvPr/>
        </p:nvPicPr>
        <p:blipFill>
          <a:blip r:embed="rId8"/>
          <a:stretch/>
        </p:blipFill>
        <p:spPr>
          <a:xfrm>
            <a:off x="1500120" y="3071880"/>
            <a:ext cx="1285920" cy="100008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9" descr=""/>
          <p:cNvPicPr/>
          <p:nvPr/>
        </p:nvPicPr>
        <p:blipFill>
          <a:blip r:embed="rId9"/>
          <a:stretch/>
        </p:blipFill>
        <p:spPr>
          <a:xfrm>
            <a:off x="1571760" y="4786200"/>
            <a:ext cx="1357200" cy="114300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10" descr=""/>
          <p:cNvPicPr/>
          <p:nvPr/>
        </p:nvPicPr>
        <p:blipFill>
          <a:blip r:embed="rId10"/>
          <a:stretch/>
        </p:blipFill>
        <p:spPr>
          <a:xfrm>
            <a:off x="7929720" y="5857920"/>
            <a:ext cx="1015920" cy="857160"/>
          </a:xfrm>
          <a:prstGeom prst="rect">
            <a:avLst/>
          </a:prstGeom>
          <a:ln w="0">
            <a:noFill/>
          </a:ln>
        </p:spPr>
      </p:pic>
      <p:sp>
        <p:nvSpPr>
          <p:cNvPr id="191" name="AutoShape 11"/>
          <p:cNvSpPr/>
          <p:nvPr/>
        </p:nvSpPr>
        <p:spPr>
          <a:xfrm>
            <a:off x="3571920" y="5929200"/>
            <a:ext cx="1071360" cy="571680"/>
          </a:xfrm>
          <a:prstGeom prst="roundRect">
            <a:avLst>
              <a:gd name="adj" fmla="val 16667"/>
            </a:avLst>
          </a:prstGeom>
          <a:solidFill>
            <a:srgbClr val="ff9933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çaí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2" name="AutoShape 12"/>
          <p:cNvSpPr/>
          <p:nvPr/>
        </p:nvSpPr>
        <p:spPr>
          <a:xfrm>
            <a:off x="6500880" y="2786040"/>
            <a:ext cx="1285920" cy="406440"/>
          </a:xfrm>
          <a:prstGeom prst="roundRect">
            <a:avLst>
              <a:gd name="adj" fmla="val 16667"/>
            </a:avLst>
          </a:prstGeom>
          <a:solidFill>
            <a:srgbClr val="ff9933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orracha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3" name="AutoShape 13"/>
          <p:cNvSpPr/>
          <p:nvPr/>
        </p:nvSpPr>
        <p:spPr>
          <a:xfrm>
            <a:off x="6500880" y="3857760"/>
            <a:ext cx="1295280" cy="477720"/>
          </a:xfrm>
          <a:prstGeom prst="roundRect">
            <a:avLst>
              <a:gd name="adj" fmla="val 16667"/>
            </a:avLst>
          </a:prstGeom>
          <a:solidFill>
            <a:srgbClr val="ff9933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uriti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4" name="AutoShape 14"/>
          <p:cNvSpPr/>
          <p:nvPr/>
        </p:nvSpPr>
        <p:spPr>
          <a:xfrm>
            <a:off x="3446640" y="3857760"/>
            <a:ext cx="1295280" cy="542880"/>
          </a:xfrm>
          <a:prstGeom prst="roundRect">
            <a:avLst>
              <a:gd name="adj" fmla="val 16667"/>
            </a:avLst>
          </a:prstGeom>
          <a:solidFill>
            <a:srgbClr val="ff9933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arnaúba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5" name="AutoShape 15"/>
          <p:cNvSpPr/>
          <p:nvPr/>
        </p:nvSpPr>
        <p:spPr>
          <a:xfrm>
            <a:off x="6500880" y="5000760"/>
            <a:ext cx="1295280" cy="477720"/>
          </a:xfrm>
          <a:prstGeom prst="roundRect">
            <a:avLst>
              <a:gd name="adj" fmla="val 16667"/>
            </a:avLst>
          </a:prstGeom>
          <a:solidFill>
            <a:srgbClr val="ff9933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paíba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6" name="AutoShape 16"/>
          <p:cNvSpPr/>
          <p:nvPr/>
        </p:nvSpPr>
        <p:spPr>
          <a:xfrm>
            <a:off x="3500280" y="4951440"/>
            <a:ext cx="1214640" cy="477720"/>
          </a:xfrm>
          <a:prstGeom prst="roundRect">
            <a:avLst>
              <a:gd name="adj" fmla="val 16667"/>
            </a:avLst>
          </a:prstGeom>
          <a:solidFill>
            <a:srgbClr val="ff9933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equi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7" name="AutoShape 17"/>
          <p:cNvSpPr/>
          <p:nvPr/>
        </p:nvSpPr>
        <p:spPr>
          <a:xfrm>
            <a:off x="6500880" y="5929200"/>
            <a:ext cx="1285920" cy="571680"/>
          </a:xfrm>
          <a:prstGeom prst="roundRect">
            <a:avLst>
              <a:gd name="adj" fmla="val 16667"/>
            </a:avLst>
          </a:prstGeom>
          <a:solidFill>
            <a:srgbClr val="ff9933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iaçava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8" name="AutoShape 18"/>
          <p:cNvSpPr/>
          <p:nvPr/>
        </p:nvSpPr>
        <p:spPr>
          <a:xfrm flipH="1">
            <a:off x="214200" y="5084640"/>
            <a:ext cx="1214640" cy="649440"/>
          </a:xfrm>
          <a:prstGeom prst="roundRect">
            <a:avLst>
              <a:gd name="adj" fmla="val 0"/>
            </a:avLst>
          </a:prstGeom>
          <a:solidFill>
            <a:srgbClr val="ff9933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astanha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o-brasi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9" name="AutoShape 19"/>
          <p:cNvSpPr/>
          <p:nvPr/>
        </p:nvSpPr>
        <p:spPr>
          <a:xfrm flipH="1">
            <a:off x="285840" y="3429000"/>
            <a:ext cx="1071360" cy="571680"/>
          </a:xfrm>
          <a:prstGeom prst="roundRect">
            <a:avLst>
              <a:gd name="adj" fmla="val 16667"/>
            </a:avLst>
          </a:prstGeom>
          <a:solidFill>
            <a:srgbClr val="ff9933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abaçu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0" name="AutoShape 20"/>
          <p:cNvSpPr/>
          <p:nvPr/>
        </p:nvSpPr>
        <p:spPr>
          <a:xfrm>
            <a:off x="285840" y="1428840"/>
            <a:ext cx="7572240" cy="785880"/>
          </a:xfrm>
          <a:prstGeom prst="roundRect">
            <a:avLst>
              <a:gd name="adj" fmla="val 16667"/>
            </a:avLst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alibri"/>
                <a:ea typeface="Arial"/>
              </a:rPr>
              <a:t>Cadeias de Produtos da Sociobiodiversidad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1" name="AutoShape 21"/>
          <p:cNvSpPr/>
          <p:nvPr/>
        </p:nvSpPr>
        <p:spPr>
          <a:xfrm>
            <a:off x="3394080" y="2786040"/>
            <a:ext cx="1295280" cy="480960"/>
          </a:xfrm>
          <a:prstGeom prst="roundRect">
            <a:avLst>
              <a:gd name="adj" fmla="val 16667"/>
            </a:avLst>
          </a:prstGeom>
          <a:solidFill>
            <a:srgbClr val="ff9933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ndiroba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1" descr=""/>
          <p:cNvPicPr/>
          <p:nvPr/>
        </p:nvPicPr>
        <p:blipFill>
          <a:blip r:embed="rId1"/>
          <a:stretch/>
        </p:blipFill>
        <p:spPr>
          <a:xfrm>
            <a:off x="684360" y="1339920"/>
            <a:ext cx="3055680" cy="115236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2" descr=""/>
          <p:cNvPicPr/>
          <p:nvPr/>
        </p:nvPicPr>
        <p:blipFill>
          <a:blip r:embed="rId2"/>
          <a:stretch/>
        </p:blipFill>
        <p:spPr>
          <a:xfrm>
            <a:off x="5370480" y="1341360"/>
            <a:ext cx="2441520" cy="1457280"/>
          </a:xfrm>
          <a:prstGeom prst="rect">
            <a:avLst/>
          </a:prstGeom>
          <a:ln w="0">
            <a:noFill/>
          </a:ln>
        </p:spPr>
      </p:pic>
      <p:sp>
        <p:nvSpPr>
          <p:cNvPr id="204" name="Text Box 4"/>
          <p:cNvSpPr/>
          <p:nvPr/>
        </p:nvSpPr>
        <p:spPr>
          <a:xfrm>
            <a:off x="0" y="2714760"/>
            <a:ext cx="4645080" cy="8254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33.000 famílias beneficiada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R$ 3 milhões em negócio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05" name="Picture 5" descr=""/>
          <p:cNvPicPr/>
          <p:nvPr/>
        </p:nvPicPr>
        <p:blipFill>
          <a:blip r:embed="rId3"/>
          <a:stretch/>
        </p:blipFill>
        <p:spPr>
          <a:xfrm>
            <a:off x="4592520" y="3643200"/>
            <a:ext cx="4437360" cy="307188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6" descr=""/>
          <p:cNvPicPr/>
          <p:nvPr/>
        </p:nvPicPr>
        <p:blipFill>
          <a:blip r:embed="rId4"/>
          <a:stretch/>
        </p:blipFill>
        <p:spPr>
          <a:xfrm>
            <a:off x="142920" y="3643200"/>
            <a:ext cx="4440240" cy="3148200"/>
          </a:xfrm>
          <a:prstGeom prst="rect">
            <a:avLst/>
          </a:prstGeom>
          <a:ln w="0">
            <a:noFill/>
          </a:ln>
        </p:spPr>
      </p:pic>
      <p:sp>
        <p:nvSpPr>
          <p:cNvPr id="207" name="Text Box 3"/>
          <p:cNvSpPr/>
          <p:nvPr/>
        </p:nvSpPr>
        <p:spPr>
          <a:xfrm>
            <a:off x="4713120" y="2714760"/>
            <a:ext cx="4145040" cy="825480"/>
          </a:xfrm>
          <a:prstGeom prst="rect">
            <a:avLst/>
          </a:prstGeom>
          <a:solidFill>
            <a:srgbClr val="d09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25.000 famílias beneficiada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R$ 4 milhões em negócio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Text Box 1"/>
          <p:cNvSpPr/>
          <p:nvPr/>
        </p:nvSpPr>
        <p:spPr>
          <a:xfrm>
            <a:off x="428760" y="2071800"/>
            <a:ext cx="82152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28680" indent="-328680">
              <a:lnSpc>
                <a:spcPct val="150000"/>
              </a:lnSpc>
              <a:tabLst>
                <a:tab algn="l" pos="0"/>
                <a:tab algn="l" pos="328680"/>
                <a:tab algn="l" pos="1243080"/>
                <a:tab algn="l" pos="2157480"/>
                <a:tab algn="l" pos="3071880"/>
                <a:tab algn="l" pos="3986280"/>
                <a:tab algn="l" pos="4900680"/>
                <a:tab algn="l" pos="5815080"/>
                <a:tab algn="l" pos="6729480"/>
                <a:tab algn="l" pos="7643880"/>
                <a:tab algn="l" pos="8558280"/>
                <a:tab algn="l" pos="9472680"/>
                <a:tab algn="l" pos="10387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  <a:ea typeface="Arial"/>
              </a:rPr>
              <a:t>Quebra de paradigmas: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28680" indent="-3286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328680"/>
                <a:tab algn="l" pos="1243080"/>
                <a:tab algn="l" pos="2157480"/>
                <a:tab algn="l" pos="3071880"/>
                <a:tab algn="l" pos="3986280"/>
                <a:tab algn="l" pos="4900680"/>
                <a:tab algn="l" pos="5815080"/>
                <a:tab algn="l" pos="6729480"/>
                <a:tab algn="l" pos="7643880"/>
                <a:tab algn="l" pos="8558280"/>
                <a:tab algn="l" pos="9472680"/>
                <a:tab algn="l" pos="10387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Arial"/>
              </a:rPr>
              <a:t>Extrativistas atribuem as dificuldades de desenvolvimento da cadeia produtiva aos intermediário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28680" indent="-3286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328680"/>
                <a:tab algn="l" pos="1243080"/>
                <a:tab algn="l" pos="2157480"/>
                <a:tab algn="l" pos="3071880"/>
                <a:tab algn="l" pos="3986280"/>
                <a:tab algn="l" pos="4900680"/>
                <a:tab algn="l" pos="5815080"/>
                <a:tab algn="l" pos="6729480"/>
                <a:tab algn="l" pos="7643880"/>
                <a:tab algn="l" pos="8558280"/>
                <a:tab algn="l" pos="9472680"/>
                <a:tab algn="l" pos="10387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Arial"/>
              </a:rPr>
              <a:t>Empresas ainda não se sentem motivadas o suficente para investir em produtos e serviços socialmente e ambientalmente sustentávei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28680" indent="-3286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328680"/>
                <a:tab algn="l" pos="1243080"/>
                <a:tab algn="l" pos="2157480"/>
                <a:tab algn="l" pos="3071880"/>
                <a:tab algn="l" pos="3986280"/>
                <a:tab algn="l" pos="4900680"/>
                <a:tab algn="l" pos="5815080"/>
                <a:tab algn="l" pos="6729480"/>
                <a:tab algn="l" pos="7643880"/>
                <a:tab algn="l" pos="8558280"/>
                <a:tab algn="l" pos="9472680"/>
                <a:tab algn="l" pos="10387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Arial"/>
              </a:rPr>
              <a:t>Atender demanda reprimida por produtos da sociobiodiversidad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9" name="AutoShape 2"/>
          <p:cNvSpPr/>
          <p:nvPr/>
        </p:nvSpPr>
        <p:spPr>
          <a:xfrm>
            <a:off x="428760" y="2019240"/>
            <a:ext cx="8215200" cy="4624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0" name="AutoShape 3"/>
          <p:cNvSpPr/>
          <p:nvPr/>
        </p:nvSpPr>
        <p:spPr>
          <a:xfrm>
            <a:off x="357120" y="1143000"/>
            <a:ext cx="4500720" cy="895320"/>
          </a:xfrm>
          <a:prstGeom prst="roundRect">
            <a:avLst>
              <a:gd name="adj" fmla="val 16667"/>
            </a:avLst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Calibri"/>
                <a:ea typeface="Arial"/>
              </a:rPr>
              <a:t>Desafio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 Box 1"/>
          <p:cNvSpPr/>
          <p:nvPr/>
        </p:nvSpPr>
        <p:spPr>
          <a:xfrm>
            <a:off x="714240" y="2214720"/>
            <a:ext cx="7929720" cy="44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28680" indent="-3286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28680"/>
                <a:tab algn="l" pos="1243080"/>
                <a:tab algn="l" pos="2157480"/>
                <a:tab algn="l" pos="3071880"/>
                <a:tab algn="l" pos="3986280"/>
                <a:tab algn="l" pos="4900680"/>
                <a:tab algn="l" pos="5815080"/>
                <a:tab algn="l" pos="6729480"/>
                <a:tab algn="l" pos="7643880"/>
                <a:tab algn="l" pos="8558280"/>
                <a:tab algn="l" pos="9472680"/>
                <a:tab algn="l" pos="10387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  <a:ea typeface="Arial"/>
              </a:rPr>
              <a:t>Sustentabilidade econômica, social e ambiental dos recursos naturai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28680" indent="-3286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28680"/>
                <a:tab algn="l" pos="1243080"/>
                <a:tab algn="l" pos="2157480"/>
                <a:tab algn="l" pos="3071880"/>
                <a:tab algn="l" pos="3986280"/>
                <a:tab algn="l" pos="4900680"/>
                <a:tab algn="l" pos="5815080"/>
                <a:tab algn="l" pos="6729480"/>
                <a:tab algn="l" pos="7643880"/>
                <a:tab algn="l" pos="8558280"/>
                <a:tab algn="l" pos="9472680"/>
                <a:tab algn="l" pos="10387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  <a:ea typeface="Arial"/>
              </a:rPr>
              <a:t>Acesso aos mercados diferenciados: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28680" indent="-3286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28680"/>
                <a:tab algn="l" pos="1243080"/>
                <a:tab algn="l" pos="2157480"/>
                <a:tab algn="l" pos="3071880"/>
                <a:tab algn="l" pos="3986280"/>
                <a:tab algn="l" pos="4900680"/>
                <a:tab algn="l" pos="5815080"/>
                <a:tab algn="l" pos="6729480"/>
                <a:tab algn="l" pos="7643880"/>
                <a:tab algn="l" pos="8558280"/>
                <a:tab algn="l" pos="9472680"/>
                <a:tab algn="l" pos="10387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Arial"/>
              </a:rPr>
              <a:t>Estabelecimento de regras/critérios para acesso diferenciado que assegurem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85880" indent="-3286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28680"/>
                <a:tab algn="l" pos="1243080"/>
                <a:tab algn="l" pos="2157480"/>
                <a:tab algn="l" pos="3071880"/>
                <a:tab algn="l" pos="3986280"/>
                <a:tab algn="l" pos="4900680"/>
                <a:tab algn="l" pos="5815080"/>
                <a:tab algn="l" pos="6729480"/>
                <a:tab algn="l" pos="7643880"/>
                <a:tab algn="l" pos="8558280"/>
                <a:tab algn="l" pos="9472680"/>
                <a:tab algn="l" pos="10387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Arial"/>
              </a:rPr>
              <a:t>Comércio justo/repartição de benefícios ao longo da cadeia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85880" indent="-3286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28680"/>
                <a:tab algn="l" pos="1243080"/>
                <a:tab algn="l" pos="2157480"/>
                <a:tab algn="l" pos="3071880"/>
                <a:tab algn="l" pos="3986280"/>
                <a:tab algn="l" pos="4900680"/>
                <a:tab algn="l" pos="5815080"/>
                <a:tab algn="l" pos="6729480"/>
                <a:tab algn="l" pos="7643880"/>
                <a:tab algn="l" pos="8558280"/>
                <a:tab algn="l" pos="9472680"/>
                <a:tab algn="l" pos="10387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Arial"/>
              </a:rPr>
              <a:t>Incentivos fiscais e tributários para produtos social e ambientalmente sustentávei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85880" indent="-3286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28680"/>
                <a:tab algn="l" pos="1243080"/>
                <a:tab algn="l" pos="2157480"/>
                <a:tab algn="l" pos="3071880"/>
                <a:tab algn="l" pos="3986280"/>
                <a:tab algn="l" pos="4900680"/>
                <a:tab algn="l" pos="5815080"/>
                <a:tab algn="l" pos="6729480"/>
                <a:tab algn="l" pos="7643880"/>
                <a:tab algn="l" pos="8558280"/>
                <a:tab algn="l" pos="9472680"/>
                <a:tab algn="l" pos="10387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Arial"/>
              </a:rPr>
              <a:t>Selo de origem para garantia de produtos sustentávei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2" name="AutoShape 2"/>
          <p:cNvSpPr/>
          <p:nvPr/>
        </p:nvSpPr>
        <p:spPr>
          <a:xfrm>
            <a:off x="712800" y="2019240"/>
            <a:ext cx="7931160" cy="4624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3" name="AutoShape 3"/>
          <p:cNvSpPr/>
          <p:nvPr/>
        </p:nvSpPr>
        <p:spPr>
          <a:xfrm>
            <a:off x="357120" y="1143000"/>
            <a:ext cx="4786560" cy="895320"/>
          </a:xfrm>
          <a:prstGeom prst="roundRect">
            <a:avLst>
              <a:gd name="adj" fmla="val 16667"/>
            </a:avLst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Calibri"/>
                <a:ea typeface="Arial"/>
              </a:rPr>
              <a:t>Desafio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1"/>
          <p:cNvSpPr/>
          <p:nvPr/>
        </p:nvSpPr>
        <p:spPr>
          <a:xfrm>
            <a:off x="928800" y="2143080"/>
            <a:ext cx="7429320" cy="45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28680" indent="-32868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328680"/>
                <a:tab algn="l" pos="1243080"/>
                <a:tab algn="l" pos="2157480"/>
                <a:tab algn="l" pos="3071880"/>
                <a:tab algn="l" pos="3986280"/>
                <a:tab algn="l" pos="4900680"/>
                <a:tab algn="l" pos="5815080"/>
                <a:tab algn="l" pos="6729480"/>
                <a:tab algn="l" pos="7643880"/>
                <a:tab algn="l" pos="8558280"/>
                <a:tab algn="l" pos="9472680"/>
                <a:tab algn="l" pos="10387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  <a:ea typeface="Arial"/>
              </a:rPr>
              <a:t>Ambientais: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85880" indent="-32868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328680"/>
                <a:tab algn="l" pos="1243080"/>
                <a:tab algn="l" pos="2157480"/>
                <a:tab algn="l" pos="3071880"/>
                <a:tab algn="l" pos="3986280"/>
                <a:tab algn="l" pos="4900680"/>
                <a:tab algn="l" pos="5815080"/>
                <a:tab algn="l" pos="6729480"/>
                <a:tab algn="l" pos="7643880"/>
                <a:tab algn="l" pos="8558280"/>
                <a:tab algn="l" pos="9472680"/>
                <a:tab algn="l" pos="10387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Arial"/>
              </a:rPr>
              <a:t>Boas práticas de manejo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28680" indent="-32868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328680"/>
                <a:tab algn="l" pos="1243080"/>
                <a:tab algn="l" pos="2157480"/>
                <a:tab algn="l" pos="3071880"/>
                <a:tab algn="l" pos="3986280"/>
                <a:tab algn="l" pos="4900680"/>
                <a:tab algn="l" pos="5815080"/>
                <a:tab algn="l" pos="6729480"/>
                <a:tab algn="l" pos="7643880"/>
                <a:tab algn="l" pos="8558280"/>
                <a:tab algn="l" pos="9472680"/>
                <a:tab algn="l" pos="10387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  <a:ea typeface="Arial"/>
              </a:rPr>
              <a:t>Econômicos: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85880" indent="-32868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328680"/>
                <a:tab algn="l" pos="1243080"/>
                <a:tab algn="l" pos="2157480"/>
                <a:tab algn="l" pos="3071880"/>
                <a:tab algn="l" pos="3986280"/>
                <a:tab algn="l" pos="4900680"/>
                <a:tab algn="l" pos="5815080"/>
                <a:tab algn="l" pos="6729480"/>
                <a:tab algn="l" pos="7643880"/>
                <a:tab algn="l" pos="8558280"/>
                <a:tab algn="l" pos="9472680"/>
                <a:tab algn="l" pos="10387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Arial"/>
              </a:rPr>
              <a:t>Transparência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85880" indent="-32868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328680"/>
                <a:tab algn="l" pos="1243080"/>
                <a:tab algn="l" pos="2157480"/>
                <a:tab algn="l" pos="3071880"/>
                <a:tab algn="l" pos="3986280"/>
                <a:tab algn="l" pos="4900680"/>
                <a:tab algn="l" pos="5815080"/>
                <a:tab algn="l" pos="6729480"/>
                <a:tab algn="l" pos="7643880"/>
                <a:tab algn="l" pos="8558280"/>
                <a:tab algn="l" pos="9472680"/>
                <a:tab algn="l" pos="10387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Arial"/>
              </a:rPr>
              <a:t>Contrato e estabilidade na relação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28680" indent="-32868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328680"/>
                <a:tab algn="l" pos="1243080"/>
                <a:tab algn="l" pos="2157480"/>
                <a:tab algn="l" pos="3071880"/>
                <a:tab algn="l" pos="3986280"/>
                <a:tab algn="l" pos="4900680"/>
                <a:tab algn="l" pos="5815080"/>
                <a:tab algn="l" pos="6729480"/>
                <a:tab algn="l" pos="7643880"/>
                <a:tab algn="l" pos="8558280"/>
                <a:tab algn="l" pos="9472680"/>
                <a:tab algn="l" pos="10387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  <a:ea typeface="Arial"/>
              </a:rPr>
              <a:t>Sociais: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85880" indent="-32868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328680"/>
                <a:tab algn="l" pos="1243080"/>
                <a:tab algn="l" pos="2157480"/>
                <a:tab algn="l" pos="3071880"/>
                <a:tab algn="l" pos="3986280"/>
                <a:tab algn="l" pos="4900680"/>
                <a:tab algn="l" pos="5815080"/>
                <a:tab algn="l" pos="6729480"/>
                <a:tab algn="l" pos="7643880"/>
                <a:tab algn="l" pos="8558280"/>
                <a:tab algn="l" pos="9472680"/>
                <a:tab algn="l" pos="10387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Arial"/>
              </a:rPr>
              <a:t>Respeito aos aspectos socioculturai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5" name="AutoShape 2"/>
          <p:cNvSpPr/>
          <p:nvPr/>
        </p:nvSpPr>
        <p:spPr>
          <a:xfrm>
            <a:off x="712800" y="2019240"/>
            <a:ext cx="7704000" cy="4624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6" name="AutoShape 3"/>
          <p:cNvSpPr/>
          <p:nvPr/>
        </p:nvSpPr>
        <p:spPr>
          <a:xfrm>
            <a:off x="428760" y="1143000"/>
            <a:ext cx="4572000" cy="895320"/>
          </a:xfrm>
          <a:prstGeom prst="roundRect">
            <a:avLst>
              <a:gd name="adj" fmla="val 16667"/>
            </a:avLst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55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Calibri"/>
                <a:ea typeface="Arial"/>
              </a:rPr>
              <a:t>Critério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Text Box 1"/>
          <p:cNvSpPr/>
          <p:nvPr/>
        </p:nvSpPr>
        <p:spPr>
          <a:xfrm>
            <a:off x="642960" y="1500120"/>
            <a:ext cx="8177040" cy="32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18" name="Picture 2" descr=""/>
          <p:cNvPicPr/>
          <p:nvPr/>
        </p:nvPicPr>
        <p:blipFill>
          <a:blip r:embed="rId1"/>
          <a:stretch/>
        </p:blipFill>
        <p:spPr>
          <a:xfrm>
            <a:off x="289080" y="5877000"/>
            <a:ext cx="8569080" cy="76500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3" descr=""/>
          <p:cNvPicPr/>
          <p:nvPr/>
        </p:nvPicPr>
        <p:blipFill>
          <a:blip r:embed="rId2"/>
          <a:stretch/>
        </p:blipFill>
        <p:spPr>
          <a:xfrm>
            <a:off x="247680" y="5572080"/>
            <a:ext cx="1109520" cy="639720"/>
          </a:xfrm>
          <a:prstGeom prst="rect">
            <a:avLst/>
          </a:prstGeom>
          <a:ln w="0">
            <a:noFill/>
          </a:ln>
        </p:spPr>
      </p:pic>
      <p:sp>
        <p:nvSpPr>
          <p:cNvPr id="220" name="Rectangle 4"/>
          <p:cNvSpPr/>
          <p:nvPr/>
        </p:nvSpPr>
        <p:spPr>
          <a:xfrm>
            <a:off x="179280" y="1928880"/>
            <a:ext cx="8107560" cy="28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http://comunidades.mda.gov.br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Secretaria Executiva – (61) 2020 – 0984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planosociobio@mda.gov.br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1"/>
          <p:cNvSpPr/>
          <p:nvPr/>
        </p:nvSpPr>
        <p:spPr>
          <a:xfrm>
            <a:off x="928800" y="2000160"/>
            <a:ext cx="7429320" cy="427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1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alibri"/>
                <a:ea typeface="Arial"/>
              </a:rPr>
              <a:t>Agregação de Valor e Consolidação de Mercados Sustentávei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7000"/>
              </a:lnSpc>
              <a:spcBef>
                <a:spcPts val="28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7000"/>
              </a:lnSpc>
              <a:spcBef>
                <a:spcPts val="28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7000"/>
              </a:lnSpc>
              <a:spcBef>
                <a:spcPts val="28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Arial"/>
              </a:rPr>
              <a:t>Ministério do Meio Ambient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7000"/>
              </a:lnSpc>
              <a:spcBef>
                <a:spcPts val="28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Arial"/>
              </a:rPr>
              <a:t>Ministério do Desenvolvimento Agrário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7000"/>
              </a:lnSpc>
              <a:spcBef>
                <a:spcPts val="28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Arial"/>
              </a:rPr>
              <a:t>Ministério do Desenvolvimento Social e Combate à Fom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7000"/>
              </a:lnSpc>
              <a:spcBef>
                <a:spcPts val="28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Arial"/>
              </a:rPr>
              <a:t>Companhia Nacional de Abastecimento - CONAB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AutoShape 1"/>
          <p:cNvSpPr/>
          <p:nvPr/>
        </p:nvSpPr>
        <p:spPr>
          <a:xfrm>
            <a:off x="539640" y="1500120"/>
            <a:ext cx="2160720" cy="2160720"/>
          </a:xfrm>
          <a:custGeom>
            <a:avLst/>
            <a:gdLst>
              <a:gd name="textAreaLeft" fmla="*/ 0 w 2160720"/>
              <a:gd name="textAreaRight" fmla="*/ 2161080 w 2160720"/>
              <a:gd name="textAreaTop" fmla="*/ 0 h 2160720"/>
              <a:gd name="textAreaBottom" fmla="*/ 2161080 h 2160720"/>
            </a:gdLst>
            <a:ahLst/>
            <a:rect l="textAreaLeft" t="textAreaTop" r="textAreaRight" b="textAreaBottom"/>
            <a:pathLst>
              <a:path w="2501" h="2501">
                <a:moveTo>
                  <a:pt x="1250" y="2500"/>
                </a:moveTo>
                <a:cubicBezTo>
                  <a:pt x="560" y="2500"/>
                  <a:pt x="0" y="1940"/>
                  <a:pt x="0" y="1250"/>
                </a:cubicBezTo>
                <a:cubicBezTo>
                  <a:pt x="0" y="560"/>
                  <a:pt x="560" y="0"/>
                  <a:pt x="1250" y="0"/>
                </a:cubicBezTo>
                <a:cubicBezTo>
                  <a:pt x="1940" y="0"/>
                  <a:pt x="2500" y="560"/>
                  <a:pt x="2500" y="1250"/>
                </a:cubicBezTo>
                <a:cubicBezTo>
                  <a:pt x="2500" y="1940"/>
                  <a:pt x="1940" y="2500"/>
                  <a:pt x="1250" y="2500"/>
                </a:cubicBezTo>
              </a:path>
            </a:pathLst>
          </a:custGeom>
          <a:blipFill rotWithShape="0">
            <a:blip r:embed="rId1"/>
            <a:srcRect/>
            <a:stretch/>
          </a:blipFill>
          <a:ln w="25560">
            <a:solidFill>
              <a:srgbClr val="00ae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Oval 2"/>
          <p:cNvSpPr/>
          <p:nvPr/>
        </p:nvSpPr>
        <p:spPr>
          <a:xfrm>
            <a:off x="6300720" y="1500120"/>
            <a:ext cx="2160720" cy="219888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2556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Oval 3"/>
          <p:cNvSpPr/>
          <p:nvPr/>
        </p:nvSpPr>
        <p:spPr>
          <a:xfrm>
            <a:off x="1554120" y="4680000"/>
            <a:ext cx="2160720" cy="206064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2556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Oval 4"/>
          <p:cNvSpPr/>
          <p:nvPr/>
        </p:nvSpPr>
        <p:spPr>
          <a:xfrm>
            <a:off x="5072040" y="4680000"/>
            <a:ext cx="2160720" cy="197964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2556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Oval 5"/>
          <p:cNvSpPr/>
          <p:nvPr/>
        </p:nvSpPr>
        <p:spPr>
          <a:xfrm>
            <a:off x="3397320" y="1500120"/>
            <a:ext cx="2182680" cy="2160720"/>
          </a:xfrm>
          <a:prstGeom prst="ellipse">
            <a:avLst/>
          </a:prstGeom>
          <a:blipFill rotWithShape="0">
            <a:blip r:embed="rId5"/>
            <a:srcRect/>
            <a:stretch/>
          </a:blipFill>
          <a:ln w="2556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2" name="Text Box 6"/>
          <p:cNvSpPr/>
          <p:nvPr/>
        </p:nvSpPr>
        <p:spPr>
          <a:xfrm>
            <a:off x="539640" y="3879720"/>
            <a:ext cx="828036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1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alibri"/>
                <a:ea typeface="Arial"/>
              </a:rPr>
              <a:t>Megabiodiversidade Brasileira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" name="Group 1"/>
          <p:cNvGrpSpPr/>
          <p:nvPr/>
        </p:nvGrpSpPr>
        <p:grpSpPr>
          <a:xfrm>
            <a:off x="900000" y="1449360"/>
            <a:ext cx="7375320" cy="2181240"/>
            <a:chOff x="900000" y="1449360"/>
            <a:chExt cx="7375320" cy="2181240"/>
          </a:xfrm>
        </p:grpSpPr>
        <p:pic>
          <p:nvPicPr>
            <p:cNvPr id="144" name="Picture 2" descr=""/>
            <p:cNvPicPr/>
            <p:nvPr/>
          </p:nvPicPr>
          <p:blipFill>
            <a:blip r:embed="rId1"/>
            <a:stretch/>
          </p:blipFill>
          <p:spPr>
            <a:xfrm>
              <a:off x="2657160" y="1449360"/>
              <a:ext cx="3719880" cy="2170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" name="Picture 3" descr=""/>
            <p:cNvPicPr/>
            <p:nvPr/>
          </p:nvPicPr>
          <p:blipFill>
            <a:blip r:embed="rId2"/>
            <a:stretch/>
          </p:blipFill>
          <p:spPr>
            <a:xfrm>
              <a:off x="6446880" y="2523960"/>
              <a:ext cx="1825200" cy="1071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" name="Picture 4" descr=""/>
            <p:cNvPicPr/>
            <p:nvPr/>
          </p:nvPicPr>
          <p:blipFill>
            <a:blip r:embed="rId3"/>
            <a:stretch/>
          </p:blipFill>
          <p:spPr>
            <a:xfrm>
              <a:off x="6446880" y="1449360"/>
              <a:ext cx="1828440" cy="1020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5" descr=""/>
            <p:cNvPicPr/>
            <p:nvPr/>
          </p:nvPicPr>
          <p:blipFill>
            <a:blip r:embed="rId4"/>
            <a:stretch/>
          </p:blipFill>
          <p:spPr>
            <a:xfrm>
              <a:off x="900000" y="1449360"/>
              <a:ext cx="1692000" cy="113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6" descr=""/>
            <p:cNvPicPr/>
            <p:nvPr/>
          </p:nvPicPr>
          <p:blipFill>
            <a:blip r:embed="rId5"/>
            <a:stretch/>
          </p:blipFill>
          <p:spPr>
            <a:xfrm>
              <a:off x="900000" y="2639880"/>
              <a:ext cx="1719000" cy="990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9" name="Group 7"/>
          <p:cNvGrpSpPr/>
          <p:nvPr/>
        </p:nvGrpSpPr>
        <p:grpSpPr>
          <a:xfrm>
            <a:off x="900000" y="4680000"/>
            <a:ext cx="7373880" cy="1878120"/>
            <a:chOff x="900000" y="4680000"/>
            <a:chExt cx="7373880" cy="1878120"/>
          </a:xfrm>
        </p:grpSpPr>
        <p:pic>
          <p:nvPicPr>
            <p:cNvPr id="150" name="Picture 8" descr=""/>
            <p:cNvPicPr/>
            <p:nvPr/>
          </p:nvPicPr>
          <p:blipFill>
            <a:blip r:embed="rId6"/>
            <a:stretch/>
          </p:blipFill>
          <p:spPr>
            <a:xfrm>
              <a:off x="5703840" y="4706640"/>
              <a:ext cx="2570040" cy="1803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9" descr=""/>
            <p:cNvPicPr/>
            <p:nvPr/>
          </p:nvPicPr>
          <p:blipFill>
            <a:blip r:embed="rId7"/>
            <a:stretch/>
          </p:blipFill>
          <p:spPr>
            <a:xfrm>
              <a:off x="900000" y="4680000"/>
              <a:ext cx="2911680" cy="1878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0" descr=""/>
            <p:cNvPicPr/>
            <p:nvPr/>
          </p:nvPicPr>
          <p:blipFill>
            <a:blip r:embed="rId8"/>
            <a:stretch/>
          </p:blipFill>
          <p:spPr>
            <a:xfrm>
              <a:off x="3981600" y="4706640"/>
              <a:ext cx="1473120" cy="1792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Text Box 11"/>
          <p:cNvSpPr/>
          <p:nvPr/>
        </p:nvSpPr>
        <p:spPr>
          <a:xfrm>
            <a:off x="428760" y="3879720"/>
            <a:ext cx="828036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1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alibri"/>
                <a:ea typeface="Arial"/>
              </a:rPr>
              <a:t>Diversidade Sociocultural Brasileira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54" name="Picture 12" descr=""/>
          <p:cNvPicPr/>
          <p:nvPr/>
        </p:nvPicPr>
        <p:blipFill>
          <a:blip r:embed="rId9"/>
          <a:stretch/>
        </p:blipFill>
        <p:spPr>
          <a:xfrm>
            <a:off x="3929040" y="4714920"/>
            <a:ext cx="1666800" cy="178596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155" name="Freeform 13"/>
          <p:cNvSpPr/>
          <p:nvPr/>
        </p:nvSpPr>
        <p:spPr>
          <a:xfrm>
            <a:off x="3929040" y="4714920"/>
            <a:ext cx="1643040" cy="1440"/>
          </a:xfrm>
          <a:custGeom>
            <a:avLst/>
            <a:gdLst>
              <a:gd name="textAreaLeft" fmla="*/ 0 w 1643040"/>
              <a:gd name="textAreaRight" fmla="*/ 1643400 w 164304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4565" h="5">
                <a:moveTo>
                  <a:pt x="0" y="0"/>
                </a:moveTo>
                <a:lnTo>
                  <a:pt x="4564" y="4"/>
                </a:lnTo>
                <a:lnTo>
                  <a:pt x="0" y="0"/>
                </a:lnTo>
              </a:path>
            </a:pathLst>
          </a:custGeom>
          <a:solidFill>
            <a:srgbClr val="00b8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1"/>
          <p:cNvSpPr/>
          <p:nvPr/>
        </p:nvSpPr>
        <p:spPr>
          <a:xfrm>
            <a:off x="468360" y="1857240"/>
            <a:ext cx="8204040" cy="47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3360"/>
                <a:tab algn="l" pos="43020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696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8967960"/>
                <a:tab algn="l" pos="9416880"/>
                <a:tab algn="l" pos="9866160"/>
                <a:tab algn="l" pos="10321920"/>
                <a:tab algn="l" pos="10764720"/>
                <a:tab algn="l" pos="10766520"/>
                <a:tab algn="l" pos="10767960"/>
                <a:tab algn="l" pos="10769760"/>
                <a:tab algn="l" pos="10779120"/>
                <a:tab algn="l" pos="107823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3360"/>
                <a:tab algn="l" pos="43020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696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8967960"/>
                <a:tab algn="l" pos="9416880"/>
                <a:tab algn="l" pos="9866160"/>
                <a:tab algn="l" pos="10321920"/>
                <a:tab algn="l" pos="10764720"/>
                <a:tab algn="l" pos="10766520"/>
                <a:tab algn="l" pos="10767960"/>
                <a:tab algn="l" pos="10769760"/>
                <a:tab algn="l" pos="10779120"/>
                <a:tab algn="l" pos="107823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8000"/>
              </a:lnSpc>
              <a:spcBef>
                <a:spcPts val="799"/>
              </a:spcBef>
              <a:tabLst>
                <a:tab algn="l" pos="0"/>
                <a:tab algn="l" pos="333360"/>
                <a:tab algn="l" pos="43020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696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8967960"/>
                <a:tab algn="l" pos="9416880"/>
                <a:tab algn="l" pos="9866160"/>
                <a:tab algn="l" pos="10321920"/>
                <a:tab algn="l" pos="10764720"/>
                <a:tab algn="l" pos="10766520"/>
                <a:tab algn="l" pos="10767960"/>
                <a:tab algn="l" pos="10769760"/>
                <a:tab algn="l" pos="1077912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" name="Text Box 2"/>
          <p:cNvSpPr/>
          <p:nvPr/>
        </p:nvSpPr>
        <p:spPr>
          <a:xfrm>
            <a:off x="395280" y="1052640"/>
            <a:ext cx="7605720" cy="10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AutoShape 1"/>
          <p:cNvSpPr/>
          <p:nvPr/>
        </p:nvSpPr>
        <p:spPr>
          <a:xfrm>
            <a:off x="1000080" y="2492280"/>
            <a:ext cx="7786800" cy="4008600"/>
          </a:xfrm>
          <a:prstGeom prst="roundRect">
            <a:avLst>
              <a:gd name="adj" fmla="val 16667"/>
            </a:avLst>
          </a:prstGeom>
          <a:solidFill>
            <a:srgbClr val="ffcccc">
              <a:alpha val="7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spcBef>
                <a:spcPts val="11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Retângulo 4"/>
          <p:cNvSpPr/>
          <p:nvPr/>
        </p:nvSpPr>
        <p:spPr>
          <a:xfrm>
            <a:off x="1214280" y="2428920"/>
            <a:ext cx="7572600" cy="40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498"/>
              </a:lnSpc>
              <a:spcAft>
                <a:spcPts val="6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Bens e serviços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(produtos finais, matérias primas ou benefícios) gerados à partir de recursos da 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biodiversidade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, voltados à formação de 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cadeias produtivas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de interesse dos 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PCTAFs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(povos e comunidades tradicionais e de agricultores familiares), que promovam a 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manutenção e valorização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de suas 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práticas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e 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saberes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, e assegurem os 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direitos decorrentes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, gerando renda e promovendo a 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melhoria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de sua 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qualidade de vida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e do 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ambiente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em que vivem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AutoShape 2"/>
          <p:cNvSpPr/>
          <p:nvPr/>
        </p:nvSpPr>
        <p:spPr>
          <a:xfrm>
            <a:off x="684360" y="1628640"/>
            <a:ext cx="5816520" cy="86364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Calibri"/>
              </a:rPr>
              <a:t>Produtos Sociobiodiversidade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AutoShape 1"/>
          <p:cNvSpPr/>
          <p:nvPr/>
        </p:nvSpPr>
        <p:spPr>
          <a:xfrm>
            <a:off x="1403280" y="2492280"/>
            <a:ext cx="5454720" cy="3436920"/>
          </a:xfrm>
          <a:prstGeom prst="roundRect">
            <a:avLst>
              <a:gd name="adj" fmla="val 16667"/>
            </a:avLst>
          </a:prstGeom>
          <a:solidFill>
            <a:srgbClr val="ffcccc">
              <a:alpha val="7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spcBef>
                <a:spcPts val="11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  <a:ea typeface="Arial"/>
              </a:rPr>
              <a:t>Desenvolver ações </a:t>
            </a:r>
            <a:r>
              <a:rPr b="1" lang="pt-BR" sz="2400" spc="-1" strike="noStrike">
                <a:solidFill>
                  <a:srgbClr val="000000"/>
                </a:solidFill>
                <a:latin typeface="Calibri"/>
                <a:ea typeface="Arial"/>
              </a:rPr>
              <a:t>integradas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20000"/>
              </a:lnSpc>
              <a:spcBef>
                <a:spcPts val="11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  <a:ea typeface="Arial"/>
              </a:rPr>
              <a:t>para a promoção e fortalecimento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20000"/>
              </a:lnSpc>
              <a:spcBef>
                <a:spcPts val="11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  <a:ea typeface="Arial"/>
              </a:rPr>
              <a:t>das cadeias de produto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20000"/>
              </a:lnSpc>
              <a:spcBef>
                <a:spcPts val="11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  <a:ea typeface="Arial"/>
              </a:rPr>
              <a:t>da sociobiodiversidade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AutoShape 2"/>
          <p:cNvSpPr/>
          <p:nvPr/>
        </p:nvSpPr>
        <p:spPr>
          <a:xfrm>
            <a:off x="684360" y="1628640"/>
            <a:ext cx="4176720" cy="86364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3600" spc="-1" strike="noStrike">
                <a:solidFill>
                  <a:srgbClr val="ffffff"/>
                </a:solidFill>
                <a:latin typeface="Calibri"/>
                <a:ea typeface="Arial"/>
              </a:rPr>
              <a:t>Objetivo Geral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1"/>
          <p:cNvSpPr/>
          <p:nvPr/>
        </p:nvSpPr>
        <p:spPr>
          <a:xfrm>
            <a:off x="360360" y="1979640"/>
            <a:ext cx="8639280" cy="423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Rectangle 2"/>
          <p:cNvSpPr/>
          <p:nvPr/>
        </p:nvSpPr>
        <p:spPr>
          <a:xfrm>
            <a:off x="685800" y="1295280"/>
            <a:ext cx="7772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Rectangle 3"/>
          <p:cNvSpPr/>
          <p:nvPr/>
        </p:nvSpPr>
        <p:spPr>
          <a:xfrm>
            <a:off x="685800" y="1295280"/>
            <a:ext cx="77724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Text Box 4"/>
          <p:cNvSpPr/>
          <p:nvPr/>
        </p:nvSpPr>
        <p:spPr>
          <a:xfrm>
            <a:off x="457200" y="1635120"/>
            <a:ext cx="8209080" cy="454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99880" indent="-299880">
              <a:lnSpc>
                <a:spcPct val="107000"/>
              </a:lnSpc>
              <a:spcBef>
                <a:spcPts val="799"/>
              </a:spcBef>
              <a:tabLst>
                <a:tab algn="l" pos="0"/>
                <a:tab algn="l" pos="301680"/>
                <a:tab algn="l" pos="749160"/>
                <a:tab algn="l" pos="1198440"/>
                <a:tab algn="l" pos="1647720"/>
                <a:tab algn="l" pos="2097000"/>
                <a:tab algn="l" pos="2546280"/>
                <a:tab algn="l" pos="2995560"/>
                <a:tab algn="l" pos="3444840"/>
                <a:tab algn="l" pos="3894120"/>
                <a:tab algn="l" pos="4343400"/>
                <a:tab algn="l" pos="4792680"/>
                <a:tab algn="l" pos="5241960"/>
                <a:tab algn="l" pos="5691240"/>
                <a:tab algn="l" pos="6140520"/>
                <a:tab algn="l" pos="6589800"/>
                <a:tab algn="l" pos="7039080"/>
                <a:tab algn="l" pos="7488360"/>
                <a:tab algn="l" pos="7937640"/>
                <a:tab algn="l" pos="8386920"/>
                <a:tab algn="l" pos="8836200"/>
                <a:tab algn="l" pos="92851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AutoShape 1"/>
          <p:cNvSpPr/>
          <p:nvPr/>
        </p:nvSpPr>
        <p:spPr>
          <a:xfrm>
            <a:off x="1403280" y="2492280"/>
            <a:ext cx="5454720" cy="3436920"/>
          </a:xfrm>
          <a:prstGeom prst="roundRect">
            <a:avLst>
              <a:gd name="adj" fmla="val 16667"/>
            </a:avLst>
          </a:prstGeom>
          <a:solidFill>
            <a:srgbClr val="ffcccc">
              <a:alpha val="7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99880" indent="-2998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301680"/>
                <a:tab algn="l" pos="749160"/>
                <a:tab algn="l" pos="1198440"/>
                <a:tab algn="l" pos="1647720"/>
                <a:tab algn="l" pos="2097000"/>
                <a:tab algn="l" pos="2546280"/>
                <a:tab algn="l" pos="2995560"/>
                <a:tab algn="l" pos="3444840"/>
                <a:tab algn="l" pos="3894120"/>
                <a:tab algn="l" pos="4343400"/>
                <a:tab algn="l" pos="4792680"/>
                <a:tab algn="l" pos="5241960"/>
                <a:tab algn="l" pos="5691240"/>
                <a:tab algn="l" pos="6140520"/>
                <a:tab algn="l" pos="6589800"/>
                <a:tab algn="l" pos="7039080"/>
                <a:tab algn="l" pos="7488360"/>
                <a:tab algn="l" pos="7937640"/>
                <a:tab algn="l" pos="8386920"/>
                <a:tab algn="l" pos="8836200"/>
                <a:tab algn="l" pos="92851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Produção e Extrativismo Sustentá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99880" indent="-2998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301680"/>
                <a:tab algn="l" pos="749160"/>
                <a:tab algn="l" pos="1198440"/>
                <a:tab algn="l" pos="1647720"/>
                <a:tab algn="l" pos="2097000"/>
                <a:tab algn="l" pos="2546280"/>
                <a:tab algn="l" pos="2995560"/>
                <a:tab algn="l" pos="3444840"/>
                <a:tab algn="l" pos="3894120"/>
                <a:tab algn="l" pos="4343400"/>
                <a:tab algn="l" pos="4792680"/>
                <a:tab algn="l" pos="5241960"/>
                <a:tab algn="l" pos="5691240"/>
                <a:tab algn="l" pos="6140520"/>
                <a:tab algn="l" pos="6589800"/>
                <a:tab algn="l" pos="7039080"/>
                <a:tab algn="l" pos="7488360"/>
                <a:tab algn="l" pos="7937640"/>
                <a:tab algn="l" pos="8386920"/>
                <a:tab algn="l" pos="8836200"/>
                <a:tab algn="l" pos="92851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Processos Industriai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99880" indent="-2998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301680"/>
                <a:tab algn="l" pos="749160"/>
                <a:tab algn="l" pos="1198440"/>
                <a:tab algn="l" pos="1647720"/>
                <a:tab algn="l" pos="2097000"/>
                <a:tab algn="l" pos="2546280"/>
                <a:tab algn="l" pos="2995560"/>
                <a:tab algn="l" pos="3444840"/>
                <a:tab algn="l" pos="3894120"/>
                <a:tab algn="l" pos="4343400"/>
                <a:tab algn="l" pos="4792680"/>
                <a:tab algn="l" pos="5241960"/>
                <a:tab algn="l" pos="5691240"/>
                <a:tab algn="l" pos="6140520"/>
                <a:tab algn="l" pos="6589800"/>
                <a:tab algn="l" pos="7039080"/>
                <a:tab algn="l" pos="7488360"/>
                <a:tab algn="l" pos="7937640"/>
                <a:tab algn="l" pos="8386920"/>
                <a:tab algn="l" pos="8836200"/>
                <a:tab algn="l" pos="92851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Mercado Institucional e Diferenciado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99880" indent="-2998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301680"/>
                <a:tab algn="l" pos="749160"/>
                <a:tab algn="l" pos="1198440"/>
                <a:tab algn="l" pos="1647720"/>
                <a:tab algn="l" pos="2097000"/>
                <a:tab algn="l" pos="2546280"/>
                <a:tab algn="l" pos="2995560"/>
                <a:tab algn="l" pos="3444840"/>
                <a:tab algn="l" pos="3894120"/>
                <a:tab algn="l" pos="4343400"/>
                <a:tab algn="l" pos="4792680"/>
                <a:tab algn="l" pos="5241960"/>
                <a:tab algn="l" pos="5691240"/>
                <a:tab algn="l" pos="6140520"/>
                <a:tab algn="l" pos="6589800"/>
                <a:tab algn="l" pos="7039080"/>
                <a:tab algn="l" pos="7488360"/>
                <a:tab algn="l" pos="7937640"/>
                <a:tab algn="l" pos="8386920"/>
                <a:tab algn="l" pos="8836200"/>
                <a:tab algn="l" pos="92851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Organização Social e Produtiva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99880" indent="-2998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301680"/>
                <a:tab algn="l" pos="749160"/>
                <a:tab algn="l" pos="1198440"/>
                <a:tab algn="l" pos="1647720"/>
                <a:tab algn="l" pos="2097000"/>
                <a:tab algn="l" pos="2546280"/>
                <a:tab algn="l" pos="2995560"/>
                <a:tab algn="l" pos="3444840"/>
                <a:tab algn="l" pos="3894120"/>
                <a:tab algn="l" pos="4343400"/>
                <a:tab algn="l" pos="4792680"/>
                <a:tab algn="l" pos="5241960"/>
                <a:tab algn="l" pos="5691240"/>
                <a:tab algn="l" pos="6140520"/>
                <a:tab algn="l" pos="6589800"/>
                <a:tab algn="l" pos="7039080"/>
                <a:tab algn="l" pos="7488360"/>
                <a:tab algn="l" pos="7937640"/>
                <a:tab algn="l" pos="8386920"/>
                <a:tab algn="l" pos="8836200"/>
                <a:tab algn="l" pos="92851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Serviços da Sociobiodiversidad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AutoShape 2"/>
          <p:cNvSpPr/>
          <p:nvPr/>
        </p:nvSpPr>
        <p:spPr>
          <a:xfrm>
            <a:off x="684360" y="1628640"/>
            <a:ext cx="4176720" cy="86364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99880" indent="-299880" algn="ctr">
              <a:lnSpc>
                <a:spcPct val="101000"/>
              </a:lnSpc>
              <a:spcBef>
                <a:spcPts val="799"/>
              </a:spcBef>
              <a:tabLst>
                <a:tab algn="l" pos="0"/>
                <a:tab algn="l" pos="301680"/>
                <a:tab algn="l" pos="749160"/>
                <a:tab algn="l" pos="1198440"/>
                <a:tab algn="l" pos="1647720"/>
                <a:tab algn="l" pos="2097000"/>
                <a:tab algn="l" pos="2546280"/>
                <a:tab algn="l" pos="2995560"/>
                <a:tab algn="l" pos="3444840"/>
                <a:tab algn="l" pos="3894120"/>
                <a:tab algn="l" pos="4343400"/>
                <a:tab algn="l" pos="4792680"/>
                <a:tab algn="l" pos="5241960"/>
                <a:tab algn="l" pos="5691240"/>
                <a:tab algn="l" pos="6140520"/>
                <a:tab algn="l" pos="6589800"/>
                <a:tab algn="l" pos="7039080"/>
                <a:tab algn="l" pos="7488360"/>
                <a:tab algn="l" pos="7937640"/>
                <a:tab algn="l" pos="8386920"/>
                <a:tab algn="l" pos="8836200"/>
                <a:tab algn="l" pos="92851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Calibri"/>
              </a:rPr>
              <a:t>Eixos do Plano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1"/>
          <p:cNvSpPr/>
          <p:nvPr/>
        </p:nvSpPr>
        <p:spPr>
          <a:xfrm>
            <a:off x="457200" y="1484280"/>
            <a:ext cx="3970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0" name="AutoShape 2"/>
          <p:cNvSpPr/>
          <p:nvPr/>
        </p:nvSpPr>
        <p:spPr>
          <a:xfrm>
            <a:off x="642960" y="1628640"/>
            <a:ext cx="4176720" cy="86364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Calibri"/>
              </a:rPr>
              <a:t>Linhas de Ação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AutoShape 1"/>
          <p:cNvSpPr/>
          <p:nvPr/>
        </p:nvSpPr>
        <p:spPr>
          <a:xfrm>
            <a:off x="1143000" y="2492280"/>
            <a:ext cx="7383600" cy="4151520"/>
          </a:xfrm>
          <a:prstGeom prst="roundRect">
            <a:avLst>
              <a:gd name="adj" fmla="val 16667"/>
            </a:avLst>
          </a:prstGeom>
          <a:solidFill>
            <a:srgbClr val="ffcccc">
              <a:alpha val="7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25440" indent="-32544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325440"/>
                <a:tab algn="l" pos="773280"/>
                <a:tab algn="l" pos="1222200"/>
                <a:tab algn="l" pos="1671480"/>
                <a:tab algn="l" pos="2120760"/>
                <a:tab algn="l" pos="2570040"/>
                <a:tab algn="l" pos="3019320"/>
                <a:tab algn="l" pos="3468600"/>
                <a:tab algn="l" pos="3917880"/>
                <a:tab algn="l" pos="4367160"/>
                <a:tab algn="l" pos="4816440"/>
                <a:tab algn="l" pos="5265720"/>
                <a:tab algn="l" pos="5715000"/>
                <a:tab algn="l" pos="6164280"/>
                <a:tab algn="l" pos="6613560"/>
                <a:tab algn="l" pos="7062840"/>
                <a:tab algn="l" pos="7512120"/>
                <a:tab algn="l" pos="7961400"/>
                <a:tab algn="l" pos="8410680"/>
                <a:tab algn="l" pos="8859960"/>
                <a:tab algn="l" pos="9309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Pesquisa, Desenvolvimento Tecnológico e Inovação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25440" indent="-32544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325440"/>
                <a:tab algn="l" pos="773280"/>
                <a:tab algn="l" pos="1222200"/>
                <a:tab algn="l" pos="1671480"/>
                <a:tab algn="l" pos="2120760"/>
                <a:tab algn="l" pos="2570040"/>
                <a:tab algn="l" pos="3019320"/>
                <a:tab algn="l" pos="3468600"/>
                <a:tab algn="l" pos="3917880"/>
                <a:tab algn="l" pos="4367160"/>
                <a:tab algn="l" pos="4816440"/>
                <a:tab algn="l" pos="5265720"/>
                <a:tab algn="l" pos="5715000"/>
                <a:tab algn="l" pos="6164280"/>
                <a:tab algn="l" pos="6613560"/>
                <a:tab algn="l" pos="7062840"/>
                <a:tab algn="l" pos="7512120"/>
                <a:tab algn="l" pos="7961400"/>
                <a:tab algn="l" pos="8410680"/>
                <a:tab algn="l" pos="8859960"/>
                <a:tab algn="l" pos="9309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Assistência Técnica e Extensão Rura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25440" indent="-32544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325440"/>
                <a:tab algn="l" pos="773280"/>
                <a:tab algn="l" pos="1222200"/>
                <a:tab algn="l" pos="1671480"/>
                <a:tab algn="l" pos="2120760"/>
                <a:tab algn="l" pos="2570040"/>
                <a:tab algn="l" pos="3019320"/>
                <a:tab algn="l" pos="3468600"/>
                <a:tab algn="l" pos="3917880"/>
                <a:tab algn="l" pos="4367160"/>
                <a:tab algn="l" pos="4816440"/>
                <a:tab algn="l" pos="5265720"/>
                <a:tab algn="l" pos="5715000"/>
                <a:tab algn="l" pos="6164280"/>
                <a:tab algn="l" pos="6613560"/>
                <a:tab algn="l" pos="7062840"/>
                <a:tab algn="l" pos="7512120"/>
                <a:tab algn="l" pos="7961400"/>
                <a:tab algn="l" pos="8410680"/>
                <a:tab algn="l" pos="8859960"/>
                <a:tab algn="l" pos="9309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apacitação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25440" indent="-32544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325440"/>
                <a:tab algn="l" pos="773280"/>
                <a:tab algn="l" pos="1222200"/>
                <a:tab algn="l" pos="1671480"/>
                <a:tab algn="l" pos="2120760"/>
                <a:tab algn="l" pos="2570040"/>
                <a:tab algn="l" pos="3019320"/>
                <a:tab algn="l" pos="3468600"/>
                <a:tab algn="l" pos="3917880"/>
                <a:tab algn="l" pos="4367160"/>
                <a:tab algn="l" pos="4816440"/>
                <a:tab algn="l" pos="5265720"/>
                <a:tab algn="l" pos="5715000"/>
                <a:tab algn="l" pos="6164280"/>
                <a:tab algn="l" pos="6613560"/>
                <a:tab algn="l" pos="7062840"/>
                <a:tab algn="l" pos="7512120"/>
                <a:tab algn="l" pos="7961400"/>
                <a:tab algn="l" pos="8410680"/>
                <a:tab algn="l" pos="8859960"/>
                <a:tab algn="l" pos="9309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rédito, Fomento e Incentivos Fiscai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25440" indent="-32544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325440"/>
                <a:tab algn="l" pos="773280"/>
                <a:tab algn="l" pos="1222200"/>
                <a:tab algn="l" pos="1671480"/>
                <a:tab algn="l" pos="2120760"/>
                <a:tab algn="l" pos="2570040"/>
                <a:tab algn="l" pos="3019320"/>
                <a:tab algn="l" pos="3468600"/>
                <a:tab algn="l" pos="3917880"/>
                <a:tab algn="l" pos="4367160"/>
                <a:tab algn="l" pos="4816440"/>
                <a:tab algn="l" pos="5265720"/>
                <a:tab algn="l" pos="5715000"/>
                <a:tab algn="l" pos="6164280"/>
                <a:tab algn="l" pos="6613560"/>
                <a:tab algn="l" pos="7062840"/>
                <a:tab algn="l" pos="7512120"/>
                <a:tab algn="l" pos="7961400"/>
                <a:tab algn="l" pos="8410680"/>
                <a:tab algn="l" pos="8859960"/>
                <a:tab algn="l" pos="9309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Divulgação e Comunicação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25440" indent="-32544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325440"/>
                <a:tab algn="l" pos="773280"/>
                <a:tab algn="l" pos="1222200"/>
                <a:tab algn="l" pos="1671480"/>
                <a:tab algn="l" pos="2120760"/>
                <a:tab algn="l" pos="2570040"/>
                <a:tab algn="l" pos="3019320"/>
                <a:tab algn="l" pos="3468600"/>
                <a:tab algn="l" pos="3917880"/>
                <a:tab algn="l" pos="4367160"/>
                <a:tab algn="l" pos="4816440"/>
                <a:tab algn="l" pos="5265720"/>
                <a:tab algn="l" pos="5715000"/>
                <a:tab algn="l" pos="6164280"/>
                <a:tab algn="l" pos="6613560"/>
                <a:tab algn="l" pos="7062840"/>
                <a:tab algn="l" pos="7512120"/>
                <a:tab algn="l" pos="7961400"/>
                <a:tab algn="l" pos="8410680"/>
                <a:tab algn="l" pos="8859960"/>
                <a:tab algn="l" pos="9309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Marco Regulatório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1"/>
          <p:cNvSpPr/>
          <p:nvPr/>
        </p:nvSpPr>
        <p:spPr>
          <a:xfrm>
            <a:off x="685800" y="1728720"/>
            <a:ext cx="7765920" cy="41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3" name="Text Box 2"/>
          <p:cNvSpPr/>
          <p:nvPr/>
        </p:nvSpPr>
        <p:spPr>
          <a:xfrm>
            <a:off x="360360" y="2519280"/>
            <a:ext cx="8459640" cy="433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99880" indent="-299880">
              <a:lnSpc>
                <a:spcPct val="107000"/>
              </a:lnSpc>
              <a:spcBef>
                <a:spcPts val="799"/>
              </a:spcBef>
              <a:tabLst>
                <a:tab algn="l" pos="0"/>
                <a:tab algn="l" pos="299880"/>
                <a:tab algn="l" pos="1214280"/>
                <a:tab algn="l" pos="2128680"/>
                <a:tab algn="l" pos="3043080"/>
                <a:tab algn="l" pos="3957480"/>
                <a:tab algn="l" pos="4871880"/>
                <a:tab algn="l" pos="5786280"/>
                <a:tab algn="l" pos="6700680"/>
                <a:tab algn="l" pos="7615080"/>
                <a:tab algn="l" pos="8529480"/>
                <a:tab algn="l" pos="9443880"/>
                <a:tab algn="l" pos="103582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4" name="AutoShape 3"/>
          <p:cNvSpPr/>
          <p:nvPr/>
        </p:nvSpPr>
        <p:spPr>
          <a:xfrm>
            <a:off x="828720" y="1604880"/>
            <a:ext cx="3600360" cy="895320"/>
          </a:xfrm>
          <a:prstGeom prst="roundRect">
            <a:avLst>
              <a:gd name="adj" fmla="val 16667"/>
            </a:avLst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  <a:ea typeface="Arial"/>
              </a:rPr>
              <a:t>Gestão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5" name="AutoShape 1"/>
          <p:cNvSpPr/>
          <p:nvPr/>
        </p:nvSpPr>
        <p:spPr>
          <a:xfrm>
            <a:off x="1143000" y="2492280"/>
            <a:ext cx="7383600" cy="4151520"/>
          </a:xfrm>
          <a:prstGeom prst="roundRect">
            <a:avLst>
              <a:gd name="adj" fmla="val 16667"/>
            </a:avLst>
          </a:prstGeom>
          <a:solidFill>
            <a:srgbClr val="ffcccc">
              <a:alpha val="7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99880" indent="-299880">
              <a:lnSpc>
                <a:spcPct val="101000"/>
              </a:lnSpc>
              <a:spcBef>
                <a:spcPts val="799"/>
              </a:spcBef>
              <a:tabLst>
                <a:tab algn="l" pos="0"/>
                <a:tab algn="l" pos="299880"/>
                <a:tab algn="l" pos="1214280"/>
                <a:tab algn="l" pos="2128680"/>
                <a:tab algn="l" pos="3043080"/>
                <a:tab algn="l" pos="3957480"/>
                <a:tab algn="l" pos="4871880"/>
                <a:tab algn="l" pos="5786280"/>
                <a:tab algn="l" pos="6700680"/>
                <a:tab algn="l" pos="7615080"/>
                <a:tab algn="l" pos="8529480"/>
                <a:tab algn="l" pos="9443880"/>
                <a:tab algn="l" pos="103582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Atribuições operacionais/deliberativa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99880" indent="-299880">
              <a:lnSpc>
                <a:spcPct val="107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99880"/>
                <a:tab algn="l" pos="1214280"/>
                <a:tab algn="l" pos="2128680"/>
                <a:tab algn="l" pos="3043080"/>
                <a:tab algn="l" pos="3957480"/>
                <a:tab algn="l" pos="4871880"/>
                <a:tab algn="l" pos="5786280"/>
                <a:tab algn="l" pos="6700680"/>
                <a:tab algn="l" pos="7615080"/>
                <a:tab algn="l" pos="8529480"/>
                <a:tab algn="l" pos="9443880"/>
                <a:tab algn="l" pos="103582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Grupo de Coordenação do Plano Nacional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99880" indent="-299880">
              <a:lnSpc>
                <a:spcPct val="107000"/>
              </a:lnSpc>
              <a:spcBef>
                <a:spcPts val="799"/>
              </a:spcBef>
              <a:tabLst>
                <a:tab algn="l" pos="0"/>
                <a:tab algn="l" pos="299880"/>
                <a:tab algn="l" pos="1214280"/>
                <a:tab algn="l" pos="2128680"/>
                <a:tab algn="l" pos="3043080"/>
                <a:tab algn="l" pos="3957480"/>
                <a:tab algn="l" pos="4871880"/>
                <a:tab algn="l" pos="5786280"/>
                <a:tab algn="l" pos="6700680"/>
                <a:tab algn="l" pos="7615080"/>
                <a:tab algn="l" pos="8529480"/>
                <a:tab algn="l" pos="9443880"/>
                <a:tab algn="l" pos="103582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MDA, MDS, MMA e CONAB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99880" indent="-299880">
              <a:lnSpc>
                <a:spcPct val="108000"/>
              </a:lnSpc>
              <a:spcBef>
                <a:spcPts val="799"/>
              </a:spcBef>
              <a:tabLst>
                <a:tab algn="l" pos="0"/>
                <a:tab algn="l" pos="299880"/>
                <a:tab algn="l" pos="1214280"/>
                <a:tab algn="l" pos="2128680"/>
                <a:tab algn="l" pos="3043080"/>
                <a:tab algn="l" pos="3957480"/>
                <a:tab algn="l" pos="4871880"/>
                <a:tab algn="l" pos="5786280"/>
                <a:tab algn="l" pos="6700680"/>
                <a:tab algn="l" pos="7615080"/>
                <a:tab algn="l" pos="8529480"/>
                <a:tab algn="l" pos="9443880"/>
                <a:tab algn="l" pos="103582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99880" indent="-299880">
              <a:lnSpc>
                <a:spcPct val="108000"/>
              </a:lnSpc>
              <a:spcBef>
                <a:spcPts val="799"/>
              </a:spcBef>
              <a:tabLst>
                <a:tab algn="l" pos="0"/>
                <a:tab algn="l" pos="299880"/>
                <a:tab algn="l" pos="1214280"/>
                <a:tab algn="l" pos="2128680"/>
                <a:tab algn="l" pos="3043080"/>
                <a:tab algn="l" pos="3957480"/>
                <a:tab algn="l" pos="4871880"/>
                <a:tab algn="l" pos="5786280"/>
                <a:tab algn="l" pos="6700680"/>
                <a:tab algn="l" pos="7615080"/>
                <a:tab algn="l" pos="8529480"/>
                <a:tab algn="l" pos="9443880"/>
                <a:tab algn="l" pos="103582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Atribuições consultiva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99880" indent="-299880">
              <a:lnSpc>
                <a:spcPct val="107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99880"/>
                <a:tab algn="l" pos="1214280"/>
                <a:tab algn="l" pos="2128680"/>
                <a:tab algn="l" pos="3043080"/>
                <a:tab algn="l" pos="3957480"/>
                <a:tab algn="l" pos="4871880"/>
                <a:tab algn="l" pos="5786280"/>
                <a:tab algn="l" pos="6700680"/>
                <a:tab algn="l" pos="7615080"/>
                <a:tab algn="l" pos="8529480"/>
                <a:tab algn="l" pos="9443880"/>
                <a:tab algn="l" pos="103582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âmara Nacional da Sociobiodiversidade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99880" indent="-299880">
              <a:lnSpc>
                <a:spcPct val="107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99880"/>
                <a:tab algn="l" pos="1214280"/>
                <a:tab algn="l" pos="2128680"/>
                <a:tab algn="l" pos="3043080"/>
                <a:tab algn="l" pos="3957480"/>
                <a:tab algn="l" pos="4871880"/>
                <a:tab algn="l" pos="5786280"/>
                <a:tab algn="l" pos="6700680"/>
                <a:tab algn="l" pos="7615080"/>
                <a:tab algn="l" pos="8529480"/>
                <a:tab algn="l" pos="9443880"/>
                <a:tab algn="l" pos="103582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âmaras estaduais, GTs, APLs, outros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uciana</dc:creator>
  <dc:description/>
  <dc:language>en-US</dc:language>
  <cp:lastModifiedBy>Mônica Batista</cp:lastModifiedBy>
  <dcterms:modified xsi:type="dcterms:W3CDTF">2010-08-10T18:42:09Z</dcterms:modified>
  <cp:revision>8</cp:revision>
  <dc:subject/>
  <dc:title>Slide 1</dc:title>
</cp:coreProperties>
</file>