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F91-FA4D-467F-AB3D-6A8574A6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0AA-CD5A-4608-B024-07AC76EB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C97-A9B4-45A2-96FB-396B62C9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45C-6FAE-448B-B8C0-6A609D84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D2449-0F61-4701-AE48-3285FC9E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AB675-EFC9-4B67-A060-28E0A45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066C3-A020-4562-8FE4-3DFD963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F2FE1-0D48-4DD2-89AF-DCF89855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2E4BE-630F-4937-9584-2F68F1E0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DE599-1176-4E16-99EB-64C8EFF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21D85-9526-4F22-B21A-CEAC61B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650-9D03-4056-A2A4-6BC69CB8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CB2F5-56F7-4EF9-9090-C1C52A3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829CC-C563-4EA1-BAB9-27305407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BDA42-8F24-49AE-B095-966CD4D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12060-3900-4CC6-BFC2-8F158CD7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105FE-57D6-410E-B3A3-9423AECB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FEC-D07B-4690-908A-E1055DEC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3BD-4407-45DD-AC20-22789A92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149-0EE6-4845-8E3E-0ECBD90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0D5-6214-49C0-A53D-E39F1AC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104-7D97-4A25-9B5D-8C34471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E65-52C8-459B-94BE-E230844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D78-3E15-41E3-8615-595672B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EC21-1400-4B26-88BD-A9C69BF0AD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B83-E71C-434E-91E2-B5B733CC7E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LANO NACIONAL DE RECURSOS HÍD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âmara Técnica do PNRH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T-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Evolução na Elaboração do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 Reunião Extraordinária do 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2/08/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1254240"/>
            <a:ext cx="7162920" cy="3653640"/>
            <a:chOff x="1981080" y="1254240"/>
            <a:chExt cx="7162920" cy="36536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23001" t="35337" r="5999" b="16670"/>
            <a:stretch/>
          </p:blipFill>
          <p:spPr>
            <a:xfrm>
              <a:off x="1981080" y="1254240"/>
              <a:ext cx="716292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315200" y="4572000"/>
              <a:ext cx="18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http://pnrh.cjb.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533160"/>
            <a:ext cx="6867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276640" y="121932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. Diretrizes Para Elaboração do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276640" y="207180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. Detalhamento das Diretr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2276640" y="292572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. Plano de Trabalho / Estrutura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2276640" y="377820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4. Cronograma da CT-PNRH para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2276640" y="463248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5. Avanços Alcanç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2276640" y="548640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6. Próxim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01760" y="3733560"/>
            <a:ext cx="7842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cesso simultaneamente técnico e político a  ser liderado por uma equipe de gover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btenção de aperfeiçoamento progressivos, tornando o processo permanente e contínu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Deve existir um Programa de Trabalho; 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Devem ser elaborados termos de referência para contratação de produtos bem defi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76640" y="15192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RETRIZES PARA ELABORAÇÃO DO PLANO NACIONAL DE RECURSOS HÍDRICOS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981080"/>
            <a:ext cx="7162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POSTA DO ENGENHEIRO FLÁVIO TERRA BARTH, APROVADA PELO CONSELHO NACIONAL DE RECURSOS HÍDRICOS – CNRH, NA 5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REUNIÃO ORDINÁRIA, REALIZADA EM 15/12/2000. PRINCIPAIS PONTOS DA PROPOS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600200" y="167652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Composição de propostas de membros da CT-PNRH, detalhando as diretrizes aprovadas no CNRH. Principais contribu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TALHAMENTO DAS DIRETRIZ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8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Reunião – 15/03/2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3429000"/>
            <a:ext cx="678168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posição de um Programa de Trabalho – fase preliminar; 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posição de Cronograma – fase prelimin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3429000"/>
            <a:ext cx="72388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"/>
              </a:rPr>
              <a:t>DEFINIR O GRUPO TÉCNICO DE COORDENAÇÃO E ELABORAÇÃO DO PNRH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DE ACORDO COM AS DIRETRIZES ESTABELECIDAS E APROVADAS PELA CÂMARA TÉCNICA, ELABOROU-SE PLANO DE TRABALHO, VISANDO DAR ORDENAMENTO À IMPLEMENTAÇAO DAS AÇÕES, TENDO COMO PRINCIPAIS META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LANO DE TRABALHO e ESTRUTURA E CONTEÚDO DO PNRH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(10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a.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eunião – 20/11/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262400"/>
            <a:ext cx="7238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"/>
              </a:rPr>
              <a:t>CONSOLIDAR A ESTRUTURA E CONTEÚDO DO PNRH; e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38760"/>
            <a:ext cx="7238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"/>
              </a:rPr>
              <a:t>DEFINIR AS ESTRATÉGIAS DE ELABORAÇÃO DO PNR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540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utura e Conteúdo do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95280"/>
            <a:ext cx="9143280" cy="5562360"/>
            <a:chOff x="0" y="1295280"/>
            <a:chExt cx="9143280" cy="5562360"/>
          </a:xfrm>
        </p:grpSpPr>
        <p:sp>
          <p:nvSpPr>
            <p:cNvPr id="125" name=""/>
            <p:cNvSpPr/>
            <p:nvPr/>
          </p:nvSpPr>
          <p:spPr>
            <a:xfrm>
              <a:off x="196200" y="1295280"/>
              <a:ext cx="8947080" cy="537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EST" descr=""/>
            <p:cNvPicPr/>
            <p:nvPr/>
          </p:nvPicPr>
          <p:blipFill>
            <a:blip r:embed="rId1"/>
            <a:srcRect l="4946" t="6383" r="4946" b="7425"/>
            <a:stretch/>
          </p:blipFill>
          <p:spPr>
            <a:xfrm>
              <a:off x="0" y="1480320"/>
              <a:ext cx="8947080" cy="537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09680" y="1522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CRONOGRAMA DA CÂMARA TÉCNICA PARA 2002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(11ª REUNIÃO – 21/02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1600200"/>
            <a:ext cx="9144000" cy="5257440"/>
            <a:chOff x="0" y="1600200"/>
            <a:chExt cx="9144000" cy="5257440"/>
          </a:xfrm>
        </p:grpSpPr>
        <p:sp>
          <p:nvSpPr>
            <p:cNvPr id="131" name=""/>
            <p:cNvSpPr/>
            <p:nvPr/>
          </p:nvSpPr>
          <p:spPr>
            <a:xfrm>
              <a:off x="0" y="1769400"/>
              <a:ext cx="9144000" cy="5088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0" y="1600200"/>
              <a:ext cx="9144000" cy="5257080"/>
              <a:chOff x="0" y="1600200"/>
              <a:chExt cx="9144000" cy="5257080"/>
            </a:xfrm>
          </p:grpSpPr>
          <p:sp>
            <p:nvSpPr>
              <p:cNvPr id="133" name=""/>
              <p:cNvSpPr/>
              <p:nvPr/>
            </p:nvSpPr>
            <p:spPr>
              <a:xfrm>
                <a:off x="228600" y="1600200"/>
                <a:ext cx="8915400" cy="338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4" name=""/>
              <p:cNvGraphicFramePr/>
              <p:nvPr/>
            </p:nvGraphicFramePr>
            <p:xfrm>
              <a:off x="0" y="1769400"/>
              <a:ext cx="9144000" cy="50878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3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1769400"/>
                        <a:ext cx="9144000" cy="508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1600200"/>
            <a:ext cx="685800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 COMPOSIÇÃO DO GTCE-PNRH – SRH/MMA e AN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REALIZAÇÃO DE REUNIÕES DE TRABALHO SISTEMÁTICAS DO GTCE-PNRH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 DIAGNÓSTICO SÍNTESE DA BACIA HIDROGRÁFICA DO RIO SÃO FRANCISCO (11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Reunião – 21/02/200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 PANORAMA DAS REGIÕES HIDROGRÁFICAS BRASILEIRAS – PRELIMINAR (13a. Reunião – 20/06/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. VISÃO SETORIAL DOS RECURSOS HÍDRICOS – SETOR DE IRRIGAÇÃO, SETOR HIDRELÉTRICO e TRANSPORTE AQUAVIÁRIO (14a. Reunião – 15/08/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NÇOS ALCANÇ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1371600"/>
            <a:ext cx="6858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 DEFINIÇÃO DA BASE FÍSICO-TERRITORIAL A SER ADOTADA NO PNR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SÃO ESTRATÉGICA DOS SETORES USUARIOS E SUA INTERFACE COM O PLANEJAMENTO NACIONAL DOS RECURSOS HÍDR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 DIAGNÓSTICO DAS REGIÕES HIDROGRÁFICAS BRASILEIRAS – versão aprofundada; 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 COMPOSIÇÃO DO VOLUME “VISÃO NACIONAL - SÍNTESE”, para discus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457200"/>
            <a:ext cx="762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ÓXIM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20:22:44Z</dcterms:created>
  <dc:creator>rcrema</dc:creator>
  <dc:description/>
  <dc:language>en-US</dc:language>
  <cp:lastModifiedBy>Carlos Novais</cp:lastModifiedBy>
  <dcterms:modified xsi:type="dcterms:W3CDTF">2002-08-22T11:29:27Z</dcterms:modified>
  <cp:revision>90</cp:revision>
  <dc:subject/>
  <dc:title>PLANO NACIONAL DE  RECURSOS HÍDRICOS </dc:title>
</cp:coreProperties>
</file>