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0F2-21C8-4E3B-9AFC-1E2B545C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1A1-9C73-4B25-8145-F5B249F0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5AB-8423-4E30-8674-98276B3C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981-5847-4ED2-A6D7-A09708A6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B6A-3837-49B9-B3CC-CF52F7F8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922F-C2BD-474E-BC2D-456552B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4F14-5C33-459B-9516-1A1FC8E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C08-84FD-48F4-8C02-C6929AC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B8FC-59F1-414B-A752-0B7A1061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A0C-2040-4682-B771-7EA546FD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89B-B5D9-4EA3-BE12-6BEA7ED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63F-5987-4CB0-913D-49F075E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BA25-46EB-49BE-8EA4-C9271CE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F131-539F-456A-BF40-DC46EDA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9DBD-8B3A-4BE7-8F37-043D363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B018-364C-4AE7-B447-2EB780F4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7E8C-16CB-4620-8DB9-25C1EC01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2F7-E842-4571-A154-A8494359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C33-62F8-488F-AD2B-A24F645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675-4DEA-4448-AF25-309198C8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3DB-D783-429F-8435-0996BBC0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42D-7956-4FED-BCD7-1EE4BE72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4B4-E192-4DEA-9F31-705C5D8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54E-AEF4-4874-A7A3-4D607D6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F617-B202-483D-9A25-74213E90B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6543-F8D9-4E11-98A9-62CE37AD1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cecff"/>
                </a:solidFill>
                <a:latin typeface="Arial"/>
              </a:rPr>
              <a:t>PROPOSTA DE RESOLUÇÃO </a:t>
            </a:r>
            <a:br>
              <a:rPr sz="2800"/>
            </a:br>
            <a:br>
              <a:rPr sz="2800"/>
            </a:br>
            <a:r>
              <a:rPr b="0" i="1" lang="pt-BR" sz="2800" spc="-1" strike="noStrike">
                <a:solidFill>
                  <a:srgbClr val="ccecff"/>
                </a:solidFill>
                <a:latin typeface="Arial"/>
              </a:rPr>
              <a:t>Estabelece diretrizes e critérios de identificação do curso de água principal para a caracterização da rede hidrográfica nacional com a finalidade de aplicação dos instrumentos da Política Nacional de Recursos Hídrico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96680" y="355680"/>
            <a:ext cx="53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FATOS GERAD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920" y="1197000"/>
            <a:ext cx="878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dade de se definir de modo claro e invariável o curso de água no que se refere à aplicação dos instrumentos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m é o poder outorga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nsegurança gerada para os requerentes de outorga, quando não se havia certeza quanto a toponímia de um determinado curso de água – especialmente nos estados em que a outorga ainda estão em fase de implan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tatação da fragilidade do critério de toponímia para a identificação de um curso de ág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96680" y="355680"/>
            <a:ext cx="53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FATOS GERAD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8920" y="1197000"/>
            <a:ext cx="87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ição de solução técnica apresentada pela ANA, por meio de uma resolução interna administra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s resultados de uma aplicação direta da resolução e os riscos de um ato administrativo tratar de temas complexos com a questão da dominialidade, mudanças de locais históric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97400" y="355680"/>
            <a:ext cx="53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CRITÉRIO ADOT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8920" y="1197000"/>
            <a:ext cx="8785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m como base a identificação do curso principal, a partir do qual são identificados os demais cursos afl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-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s cursos de água devem ser </a:t>
            </a:r>
            <a:r>
              <a:rPr b="1" lang="pt-BR" sz="2400" spc="-1" strike="noStrike">
                <a:solidFill>
                  <a:srgbClr val="afe1ff"/>
                </a:solidFill>
                <a:latin typeface="Arial"/>
              </a:rPr>
              <a:t>examinados de jusante para montant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- em cada confluência será considerado curso de água </a:t>
            </a:r>
            <a:r>
              <a:rPr b="1" lang="pt-BR" sz="2800" spc="-1" strike="noStrike" u="sng">
                <a:solidFill>
                  <a:srgbClr val="afe1ff"/>
                </a:solidFill>
                <a:uFillTx/>
                <a:latin typeface="Arial"/>
              </a:rPr>
              <a:t>principal aquele, dentre os confluentes, que apresentar maior área de drenagem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- o curso de água principal de uma bacia ou sub-bacia hidrográfica se </a:t>
            </a:r>
            <a:r>
              <a:rPr b="1" lang="pt-BR" sz="2400" spc="-1" strike="noStrike">
                <a:solidFill>
                  <a:srgbClr val="afe1ff"/>
                </a:solidFill>
                <a:latin typeface="Arial"/>
              </a:rPr>
              <a:t>configura como uma unidad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, desde a sua foz até a nascente, independentemente da toponím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9280" y="189000"/>
            <a:ext cx="880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e1ff"/>
                </a:solidFill>
                <a:latin typeface="Arial"/>
              </a:rPr>
              <a:t>CONDIÇÕES CONSOLIDADAS COM O CRITÉRIO DA TOPONÍM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8920" y="1530360"/>
            <a:ext cx="87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.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utoridades outorgantes envolvidas deverão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articular-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a aplicação dos instrumentos da Política Nacional de Recursos Hídricos, </a:t>
            </a:r>
            <a:r>
              <a:rPr b="1" lang="en-US" sz="2400" spc="-1" strike="noStrike" u="sng">
                <a:solidFill>
                  <a:srgbClr val="afe1ff"/>
                </a:solidFill>
                <a:uFillTx/>
                <a:latin typeface="Arial"/>
              </a:rPr>
              <a:t>sempre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 que os critérios definidos nesta Resolução implicarem alteração de situações locais já consolid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o à gestão do curso de água afe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ágrafo único. A articulação mencionada n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fe1ff"/>
                </a:solidFill>
                <a:latin typeface="Arial"/>
              </a:rPr>
              <a:t>será efetivada por instrumento legal adequ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 deverá resultar em práticas que observem os princípios </a:t>
            </a:r>
            <a:r>
              <a:rPr b="1" lang="en-US" sz="2400" spc="-1" strike="noStrike" u="sng">
                <a:solidFill>
                  <a:srgbClr val="afe1ff"/>
                </a:solidFill>
                <a:uFillTx/>
                <a:latin typeface="Arial"/>
              </a:rPr>
              <a:t>da eficiência e da descentralizaçã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1:14:47Z</dcterms:created>
  <dc:creator>Patricia</dc:creator>
  <dc:description/>
  <dc:language>en-US</dc:language>
  <cp:lastModifiedBy>Patricia</cp:lastModifiedBy>
  <dcterms:modified xsi:type="dcterms:W3CDTF">2008-06-02T01:00:40Z</dcterms:modified>
  <cp:revision>5</cp:revision>
  <dc:subject/>
  <dc:title>REFLEXÕES</dc:title>
</cp:coreProperties>
</file>