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.wmf" ContentType="image/x-wmf"/>
  <Override PartName="/ppt/media/projctor.wav" ContentType="audio/x-wav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" name=""/>
          <p:cNvGrpSpPr/>
          <p:nvPr/>
        </p:nvGrpSpPr>
        <p:grpSpPr>
          <a:xfrm>
            <a:off x="-1440" y="52560"/>
            <a:ext cx="720720" cy="431640"/>
            <a:chOff x="-1440" y="52560"/>
            <a:chExt cx="720720" cy="431640"/>
          </a:xfrm>
        </p:grpSpPr>
        <p:sp>
          <p:nvSpPr>
            <p:cNvPr id="41" name=""/>
            <p:cNvSpPr/>
            <p:nvPr/>
          </p:nvSpPr>
          <p:spPr>
            <a:xfrm>
              <a:off x="4320" y="52560"/>
              <a:ext cx="714960" cy="25164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45" y="18"/>
                  </a:moveTo>
                  <a:lnTo>
                    <a:pt x="55" y="23"/>
                  </a:lnTo>
                  <a:cubicBezTo>
                    <a:pt x="60" y="24"/>
                    <a:pt x="65" y="27"/>
                    <a:pt x="69" y="29"/>
                  </a:cubicBezTo>
                  <a:cubicBezTo>
                    <a:pt x="79" y="43"/>
                    <a:pt x="83" y="49"/>
                    <a:pt x="99" y="41"/>
                  </a:cubicBezTo>
                  <a:cubicBezTo>
                    <a:pt x="106" y="36"/>
                    <a:pt x="113" y="31"/>
                    <a:pt x="121" y="26"/>
                  </a:cubicBezTo>
                  <a:cubicBezTo>
                    <a:pt x="121" y="25"/>
                    <a:pt x="121" y="23"/>
                    <a:pt x="121" y="22"/>
                  </a:cubicBezTo>
                  <a:cubicBezTo>
                    <a:pt x="114" y="26"/>
                    <a:pt x="107" y="30"/>
                    <a:pt x="100" y="34"/>
                  </a:cubicBezTo>
                  <a:cubicBezTo>
                    <a:pt x="98" y="35"/>
                    <a:pt x="96" y="35"/>
                    <a:pt x="94" y="34"/>
                  </a:cubicBezTo>
                  <a:cubicBezTo>
                    <a:pt x="87" y="24"/>
                    <a:pt x="81" y="14"/>
                    <a:pt x="74" y="5"/>
                  </a:cubicBezTo>
                  <a:cubicBezTo>
                    <a:pt x="67" y="0"/>
                    <a:pt x="65" y="0"/>
                    <a:pt x="57" y="3"/>
                  </a:cubicBezTo>
                  <a:cubicBezTo>
                    <a:pt x="38" y="15"/>
                    <a:pt x="19" y="27"/>
                    <a:pt x="0" y="39"/>
                  </a:cubicBezTo>
                  <a:cubicBezTo>
                    <a:pt x="0" y="41"/>
                    <a:pt x="0" y="42"/>
                    <a:pt x="0" y="44"/>
                  </a:cubicBezTo>
                  <a:cubicBezTo>
                    <a:pt x="20" y="31"/>
                    <a:pt x="20" y="31"/>
                    <a:pt x="52" y="12"/>
                  </a:cubicBezTo>
                  <a:cubicBezTo>
                    <a:pt x="57" y="12"/>
                    <a:pt x="58" y="13"/>
                    <a:pt x="61" y="17"/>
                  </a:cubicBezTo>
                  <a:cubicBezTo>
                    <a:pt x="61" y="17"/>
                    <a:pt x="61" y="18"/>
                    <a:pt x="60" y="18"/>
                  </a:cubicBezTo>
                  <a:cubicBezTo>
                    <a:pt x="55" y="17"/>
                    <a:pt x="51" y="17"/>
                    <a:pt x="45" y="18"/>
                  </a:cubicBezTo>
                  <a:close/>
                </a:path>
              </a:pathLst>
            </a:custGeom>
            <a:solidFill>
              <a:srgbClr val="52a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1440" y="150120"/>
              <a:ext cx="720720" cy="24120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6" y="3"/>
                  </a:moveTo>
                  <a:lnTo>
                    <a:pt x="54" y="1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cubicBezTo>
                    <a:pt x="31" y="10"/>
                    <a:pt x="15" y="20"/>
                    <a:pt x="0" y="30"/>
                  </a:cubicBezTo>
                  <a:cubicBezTo>
                    <a:pt x="0" y="32"/>
                    <a:pt x="0" y="34"/>
                    <a:pt x="0" y="35"/>
                  </a:cubicBezTo>
                  <a:cubicBezTo>
                    <a:pt x="12" y="28"/>
                    <a:pt x="24" y="20"/>
                    <a:pt x="36" y="13"/>
                  </a:cubicBezTo>
                  <a:cubicBezTo>
                    <a:pt x="37" y="12"/>
                    <a:pt x="38" y="12"/>
                    <a:pt x="40" y="13"/>
                  </a:cubicBezTo>
                  <a:cubicBezTo>
                    <a:pt x="52" y="23"/>
                    <a:pt x="54" y="40"/>
                    <a:pt x="70" y="46"/>
                  </a:cubicBezTo>
                  <a:cubicBezTo>
                    <a:pt x="73" y="47"/>
                    <a:pt x="75" y="46"/>
                    <a:pt x="77" y="45"/>
                  </a:cubicBezTo>
                  <a:cubicBezTo>
                    <a:pt x="93" y="37"/>
                    <a:pt x="107" y="26"/>
                    <a:pt x="122" y="16"/>
                  </a:cubicBezTo>
                  <a:cubicBezTo>
                    <a:pt x="122" y="15"/>
                    <a:pt x="122" y="13"/>
                    <a:pt x="122" y="11"/>
                  </a:cubicBezTo>
                  <a:cubicBezTo>
                    <a:pt x="108" y="18"/>
                    <a:pt x="96" y="29"/>
                    <a:pt x="82" y="35"/>
                  </a:cubicBezTo>
                  <a:cubicBezTo>
                    <a:pt x="80" y="36"/>
                    <a:pt x="79" y="36"/>
                    <a:pt x="78" y="35"/>
                  </a:cubicBezTo>
                  <a:cubicBezTo>
                    <a:pt x="72" y="25"/>
                    <a:pt x="65" y="15"/>
                    <a:pt x="59" y="6"/>
                  </a:cubicBezTo>
                  <a:cubicBezTo>
                    <a:pt x="58" y="6"/>
                    <a:pt x="58" y="5"/>
                    <a:pt x="58" y="5"/>
                  </a:cubicBezTo>
                  <a:cubicBezTo>
                    <a:pt x="58" y="5"/>
                    <a:pt x="56" y="3"/>
                    <a:pt x="56" y="3"/>
                  </a:cubicBezTo>
                  <a:close/>
                </a:path>
              </a:pathLst>
            </a:custGeom>
            <a:solidFill>
              <a:srgbClr val="008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1440" y="242640"/>
              <a:ext cx="720720" cy="241560"/>
            </a:xfrm>
            <a:custGeom>
              <a:avLst/>
              <a:gdLst/>
              <a:ahLst/>
              <a:rect l="l" t="t" r="r" b="b"/>
              <a:pathLst>
                <a:path w="122" h="47">
                  <a:moveTo>
                    <a:pt x="54" y="45"/>
                  </a:moveTo>
                  <a:cubicBezTo>
                    <a:pt x="51" y="43"/>
                    <a:pt x="49" y="42"/>
                    <a:pt x="47" y="40"/>
                  </a:cubicBezTo>
                  <a:cubicBezTo>
                    <a:pt x="37" y="26"/>
                    <a:pt x="26" y="19"/>
                    <a:pt x="9" y="24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1" y="21"/>
                    <a:pt x="14" y="20"/>
                    <a:pt x="16" y="18"/>
                  </a:cubicBezTo>
                  <a:cubicBezTo>
                    <a:pt x="19" y="17"/>
                    <a:pt x="28" y="17"/>
                    <a:pt x="31" y="18"/>
                  </a:cubicBezTo>
                  <a:cubicBezTo>
                    <a:pt x="28" y="14"/>
                    <a:pt x="28" y="13"/>
                    <a:pt x="22" y="13"/>
                  </a:cubicBezTo>
                  <a:cubicBezTo>
                    <a:pt x="15" y="17"/>
                    <a:pt x="8" y="21"/>
                    <a:pt x="0" y="26"/>
                  </a:cubicBezTo>
                  <a:cubicBezTo>
                    <a:pt x="0" y="24"/>
                    <a:pt x="1" y="22"/>
                    <a:pt x="1" y="20"/>
                  </a:cubicBezTo>
                  <a:cubicBezTo>
                    <a:pt x="10" y="14"/>
                    <a:pt x="19" y="8"/>
                    <a:pt x="28" y="3"/>
                  </a:cubicBezTo>
                  <a:cubicBezTo>
                    <a:pt x="36" y="0"/>
                    <a:pt x="37" y="1"/>
                    <a:pt x="45" y="5"/>
                  </a:cubicBezTo>
                  <a:cubicBezTo>
                    <a:pt x="51" y="14"/>
                    <a:pt x="58" y="24"/>
                    <a:pt x="65" y="34"/>
                  </a:cubicBezTo>
                  <a:cubicBezTo>
                    <a:pt x="66" y="35"/>
                    <a:pt x="67" y="35"/>
                    <a:pt x="71" y="34"/>
                  </a:cubicBezTo>
                  <a:cubicBezTo>
                    <a:pt x="121" y="3"/>
                    <a:pt x="121" y="3"/>
                    <a:pt x="122" y="2"/>
                  </a:cubicBezTo>
                  <a:cubicBezTo>
                    <a:pt x="122" y="5"/>
                    <a:pt x="122" y="7"/>
                    <a:pt x="122" y="9"/>
                  </a:cubicBezTo>
                  <a:cubicBezTo>
                    <a:pt x="106" y="18"/>
                    <a:pt x="106" y="18"/>
                    <a:pt x="68" y="42"/>
                  </a:cubicBezTo>
                  <a:cubicBezTo>
                    <a:pt x="63" y="46"/>
                    <a:pt x="60" y="47"/>
                    <a:pt x="54" y="45"/>
                  </a:cubicBezTo>
                  <a:close/>
                </a:path>
              </a:pathLst>
            </a:custGeom>
            <a:solidFill>
              <a:srgbClr val="194b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828720" y="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71640" y="476280"/>
            <a:ext cx="174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GÊNCIA NACIONAL DE ÁGUA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390600" cy="409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18000" y="2881080"/>
            <a:ext cx="121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0240" y="4032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MINISTÉRIO DO MEIO AMBIENT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Times New Roman"/>
              </a:rPr>
              <a:t>Secretaria de Recursos Hídric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492360" y="44280"/>
            <a:ext cx="700200" cy="638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11640" y="115920"/>
            <a:ext cx="187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IV REUNIÃO EXTRAORDINÁ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04520" y="5105160"/>
            <a:ext cx="7753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anços na Elaboração do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92520" y="6172200"/>
            <a:ext cx="172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sí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9 de outubro de 20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914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43280" y="1981080"/>
            <a:ext cx="3489120" cy="29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fluxo3A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517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18728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CENARIZ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uxograma do Processo de Elaboraç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  <p:sndAc>
      <p:stSnd>
        <p:snd r:embed="rId2" name="projcto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fluxo4A1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517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33720" y="118728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DIRETRI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uxograma do Processo de Elaboraç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2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fluxo4A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5168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1187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PROGRA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11872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RESUMO EXECUTI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uxograma do Processo de Elaboraç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STÓRIC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473120"/>
            <a:ext cx="84582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5/12/2000 – 5ª Reunião Ordinária do CNRH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Aprovação das Diretrizes pa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laboração do PNR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001 – Reuniões da CT-PNRH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Constituição do GTCE (SRH/MMA – ANA), d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strutura e conteúdo do PNRH e das estratégias preliminares para sua elabor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5/10/2003 – 22ª Reunião Extraordinária do CNRH: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Aprovação da Divisão Hidrográf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Nac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º/12/2003 – 10ª Reunião Ordinária do CNRH: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esentação do Documento Base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Referência / 2003 – DBR/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1° Semestre de 2004: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Consolidação do Processo de desenvolvimento do PNR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31ª Reunião - 07 de outubro de 2004:</a:t>
            </a:r>
            <a:r>
              <a:rPr b="0" i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Definição do Escopo de Estudo – Tema: Águ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para o Futuro: Uma visão para 2020; Horizonte: 2005-2020; Sistema: Corpos 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Água nas 12 Regiões Hidrográficas; Dimensões: 10 dimensõ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RUTURA DO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1981080"/>
            <a:ext cx="7467840" cy="2916360"/>
            <a:chOff x="838080" y="1981080"/>
            <a:chExt cx="7467840" cy="2916360"/>
          </a:xfrm>
        </p:grpSpPr>
        <p:sp>
          <p:nvSpPr>
            <p:cNvPr id="99" name=""/>
            <p:cNvSpPr/>
            <p:nvPr/>
          </p:nvSpPr>
          <p:spPr>
            <a:xfrm>
              <a:off x="3327480" y="4502160"/>
              <a:ext cx="497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mo Executiv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4502160"/>
              <a:ext cx="1498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7480" y="4106880"/>
              <a:ext cx="497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gramas Nacionais e Regionai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28800" y="4106880"/>
              <a:ext cx="1498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27480" y="3711600"/>
              <a:ext cx="497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retrizes e Met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3711600"/>
              <a:ext cx="14986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27480" y="3241800"/>
              <a:ext cx="49784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enários e Confli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800" y="3241800"/>
              <a:ext cx="14986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27480" y="2833560"/>
              <a:ext cx="4978440" cy="40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iagnóstico Estraté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28800" y="2833560"/>
              <a:ext cx="1498680" cy="40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27480" y="2438280"/>
              <a:ext cx="4978440" cy="395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são Nac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2438280"/>
              <a:ext cx="1498680" cy="395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2438280"/>
              <a:ext cx="6477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833560"/>
              <a:ext cx="647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3241800"/>
              <a:ext cx="647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3711600"/>
              <a:ext cx="647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4106880"/>
              <a:ext cx="647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8800" y="4502160"/>
              <a:ext cx="6477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28800" y="4897440"/>
              <a:ext cx="6477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438280"/>
              <a:ext cx="0" cy="2459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27480" y="2438280"/>
              <a:ext cx="0" cy="245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05920" y="2438280"/>
              <a:ext cx="0" cy="24591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1981080"/>
              <a:ext cx="647712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OLUMES QUE COMPÕEM O PNR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8080" y="2590920"/>
              <a:ext cx="91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DBR/200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604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óximas Etapas do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Instalação das Comissões Executivas Regionais - CERs – dias 04 e 05 de novembro em Brasília, DF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ficina “Sociedade Civil e os Recursos Hídricos” – dias 17, 18, 19 de novembro em Campo Grande, M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ficina “Segmentos Usuários e os Recursos Hídricos”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Oficina “Gestão de Recursos Hídricos Transfronteiriços”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tratação de Estudos de Âmbito Nacional e Reg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8506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mensões e suas inter-rel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00440" y="2060640"/>
            <a:ext cx="3600360" cy="34812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371600" y="1557360"/>
            <a:ext cx="6988320" cy="4480920"/>
            <a:chOff x="1371600" y="1557360"/>
            <a:chExt cx="6988320" cy="4480920"/>
          </a:xfrm>
        </p:grpSpPr>
        <p:sp>
          <p:nvSpPr>
            <p:cNvPr id="128" name=""/>
            <p:cNvSpPr/>
            <p:nvPr/>
          </p:nvSpPr>
          <p:spPr>
            <a:xfrm>
              <a:off x="3890880" y="155736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Hídr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2880" y="299736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mbien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14520" y="422100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paci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13400" y="2997360"/>
              <a:ext cx="19465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gráf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90880" y="1989000"/>
              <a:ext cx="165708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conôm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00320" y="5661000"/>
              <a:ext cx="338472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aúde e Desenv. Human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69040" y="422100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lít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71600" y="514188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iência e Tecnolog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7040" y="198900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ócio-Cultur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40320" y="5157720"/>
              <a:ext cx="165744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-630000" rIns="-45072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Legal e Institu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932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uxograma do Processo de Elaboraç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fluxo1A" descr=""/>
          <p:cNvPicPr/>
          <p:nvPr/>
        </p:nvPicPr>
        <p:blipFill>
          <a:blip r:embed="rId1"/>
          <a:stretch/>
        </p:blipFill>
        <p:spPr>
          <a:xfrm>
            <a:off x="76320" y="1523880"/>
            <a:ext cx="8991360" cy="5283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133720" y="114300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DIAGNÓSTICO ESTRATÉG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fluxo2A1" descr=""/>
          <p:cNvPicPr/>
          <p:nvPr/>
        </p:nvPicPr>
        <p:blipFill>
          <a:blip r:embed="rId1"/>
          <a:stretch/>
        </p:blipFill>
        <p:spPr>
          <a:xfrm>
            <a:off x="76320" y="1616040"/>
            <a:ext cx="8991360" cy="5165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133720" y="118728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CENARIZ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uxograma do Processo de Elaboraç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projcto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fluxo2A2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5122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133720" y="1187280"/>
            <a:ext cx="487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CENARIZAÇÃ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6094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luxograma do Processo de Elaboração do PN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25:47Z</dcterms:created>
  <dc:creator>Bolivar Antunes Matos</dc:creator>
  <dc:description/>
  <dc:language>en-US</dc:language>
  <cp:lastModifiedBy>Adelmo</cp:lastModifiedBy>
  <dcterms:modified xsi:type="dcterms:W3CDTF">2004-10-28T18:45:01Z</dcterms:modified>
  <cp:revision>442</cp:revision>
  <dc:subject>X Reunião do Conselho Nacional de Recursos Hídricos</dc:subject>
  <dc:title>Proposta de Divisão Hidrográfica Nacional</dc:title>
</cp:coreProperties>
</file>