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499680"/>
            <a:ext cx="77691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4146480"/>
            <a:ext cx="7769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99680"/>
            <a:ext cx="77691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4146480"/>
            <a:ext cx="3791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6680" y="4146480"/>
            <a:ext cx="3791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499680"/>
            <a:ext cx="77691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4146480"/>
            <a:ext cx="25012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2000" y="4146480"/>
            <a:ext cx="25012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8920" y="4146480"/>
            <a:ext cx="25012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499680"/>
            <a:ext cx="77691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99680"/>
            <a:ext cx="77691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499680"/>
            <a:ext cx="77691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99680"/>
            <a:ext cx="77691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440" y="499680"/>
            <a:ext cx="7769160" cy="63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499680"/>
            <a:ext cx="77691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4146480"/>
            <a:ext cx="3791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499680"/>
            <a:ext cx="77691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6680" y="4146480"/>
            <a:ext cx="3791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499680"/>
            <a:ext cx="77691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4146480"/>
            <a:ext cx="77691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99680"/>
            <a:ext cx="77691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2514600" y="1239840"/>
            <a:ext cx="4419720" cy="401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" name=""/>
          <p:cNvGraphicFramePr/>
          <p:nvPr/>
        </p:nvGraphicFramePr>
        <p:xfrm>
          <a:off x="0" y="304920"/>
          <a:ext cx="9144000" cy="60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04920"/>
                    <a:ext cx="914400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" name=""/>
          <p:cNvGraphicFramePr/>
          <p:nvPr/>
        </p:nvGraphicFramePr>
        <p:xfrm>
          <a:off x="1219320" y="5867280"/>
          <a:ext cx="6933960" cy="609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5867280"/>
                    <a:ext cx="69339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8153280" y="5867280"/>
          <a:ext cx="990720" cy="609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153280" y="5867280"/>
                    <a:ext cx="9907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0" y="5867280"/>
          <a:ext cx="1219320" cy="609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5867280"/>
                    <a:ext cx="121932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1523880" y="6019920"/>
            <a:ext cx="70772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XII Reunião Ordinária  - Brasília, 20 de dezembro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gerio Barion</cp:lastModifiedBy>
  <dcterms:modified xsi:type="dcterms:W3CDTF">2004-12-17T01:08:17Z</dcterms:modified>
  <cp:revision>1</cp:revision>
  <dc:subject/>
  <dc:title>Slide sem título </dc:title>
</cp:coreProperties>
</file>