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06F-2BB3-4BF2-9B97-A9B693DD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06A-2FB6-457A-B5EA-D54040E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4C8-7B5C-46B7-8058-B1E6FD29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EB9-B236-4BC8-8989-AF879C06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E69-0BE8-4CF7-A222-1DDD51C9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E5D-B3BB-4FB1-8BAA-24EFE416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49A-3CD3-470B-B8CB-601CFB2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C72-17E4-4504-94ED-E366202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124-0E0E-4800-81E4-8B0DF70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27E-9690-4CDF-8AE2-2484B541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DBA-99D9-4E17-9D97-097C549D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0A2-DB9C-4EC8-B2CC-B8DB42C4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2679840"/>
            <a:chOff x="0" y="0"/>
            <a:chExt cx="9144000" cy="2679840"/>
          </a:xfrm>
        </p:grpSpPr>
        <p:graphicFrame>
          <p:nvGraphicFramePr>
            <p:cNvPr id="1" name=""/>
            <p:cNvGraphicFramePr/>
            <p:nvPr/>
          </p:nvGraphicFramePr>
          <p:xfrm>
            <a:off x="0" y="0"/>
            <a:ext cx="9144000" cy="26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9144000" cy="26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162920" y="838080"/>
              <a:ext cx="1981080" cy="6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SRH" descr=""/>
            <p:cNvPicPr/>
            <p:nvPr/>
          </p:nvPicPr>
          <p:blipFill>
            <a:blip r:embed="rId5"/>
            <a:stretch/>
          </p:blipFill>
          <p:spPr>
            <a:xfrm>
              <a:off x="609480" y="838080"/>
              <a:ext cx="6046920" cy="6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5537-A4AF-487B-8835-69F57A21F12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2895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ndo Setorial de Recursos Hídric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8240" y="5181480"/>
            <a:ext cx="6629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rasília, 15 de outubro de 200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2022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T HIDRO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pt-BR" sz="2800" spc="-1" strike="noStrike">
                <a:solidFill>
                  <a:srgbClr val="cc0000"/>
                </a:solidFill>
                <a:latin typeface="Times New Roman"/>
              </a:rPr>
              <a:t>INSTRUMENTOS DE CRIAÇÃO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Lei nº 9.993, de 24 de julho de 200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Destina ao Fundo Nacional de Desenvolvimento Científic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 Tecnológico recursos oriundos da compensação financeir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ela utilização de recursos hídricos para fins de geração de energi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létri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Decreto 3.874 de 19/07/2001 (regulamentação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Depósito no FNDCT em categoria específica de programação denominada CT-HIDRO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ssegurar o financiamento de programas e projetos  de pesquisa científica e desenvolvimento tecnológico da área de recursos hídricos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senvolvimento tecnológico experimental;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senvolvimento de tecnologia industrial básica;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mplantação de infra-estrutura para atividades de pesquisa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ormação e a capacitação de recursos humanos; 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ifusão do conhecimento científico e tecnológico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7840" y="16002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m torno de R$20 milhões de reais/ an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%  de compensação financeira das geradoras de energia elétrica (6% do valor da energia elétrica gerada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9640" y="160020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POSIÇÃ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CT, CNPq, FINEP, MMA, ANA, MME, Comunidade Científica, Setor Produtiv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TRIBUIÇÕ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definir diretrizes gerais e plano anual de investiment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acompanhar a implementação das açõ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proceder avaliação anual dos resultados alcançad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52080" y="162576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ITÊ GESTO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133720"/>
            <a:ext cx="761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ital MCT/ CNPq/ CT HIDRO Nº 01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Apoio a grupos de pesquisa emergentes e em consolidação na área de Recursos Hídricos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 3.000.000,00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R$2.000.000,00 para Capital e Custeio 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1.000.000,00 para as bolsas de pesquis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no mínimo, 50% dos recursos financeiros estabelecidos neste Edital serão destinados a projetos aprovados, submetidos por grupos sediados nas regiões Norte, Nordeste e Centro-Oeste.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Data limite de apresentação das Proposta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: 21/10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133720"/>
            <a:ext cx="7610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ital MCT/ CNPq/ CT HIDRO Nº 02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financiar projetos de pesquisa científica, tecnológica e de inovação que contribuam para promover novas tecnologias de gestão, uso e conservação de recursos hídricos na região do Semi-árido brasileiro.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 3.500.000,00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R$2.500.000,00 para Capital e Custeio 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1.000.000,00 para as bolsas de pesquis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Data limite de apresentação das Proposta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: 27/10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676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362320"/>
            <a:ext cx="761040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ital MCT/ CNPq/ CT HIDRO Nº 03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apoiar projetos para elaboração de material didático e promoção de cursos de especialização e de aperfeiçoamento técnico na área de gerenciamento de recursos hídricos;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900.000,00 para cursos a distância em nível de especialização, R$600.000,00 para cursos presenciais em nível de especialização e R$300.000,00 para cursos presenciais de aperfeiçoamento técnic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Apresentação das Propostas de Qualificaçã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: 30/10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676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362320"/>
            <a:ext cx="761040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hamada Pública CT HIDRO/ FINEP- 01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qualificar Instituições de Pesquisa que venham a constituir redes cooperativas de pesquisa - saneamento básic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$5.000.000,00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$ 2.500.000,00 para os projetos de pesquisa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$ 2.500.000,00 para bolsas de pesquis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resentação das Propostas de Qualificaçã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30/09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ULA </cp:lastModifiedBy>
  <dcterms:modified xsi:type="dcterms:W3CDTF">1997-01-02T02:19:47Z</dcterms:modified>
  <cp:revision>348</cp:revision>
  <dc:subject/>
  <dc:title>Apresentação do PowerPoint</dc:title>
</cp:coreProperties>
</file>