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8E2-A59A-43B3-8734-C7175B81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301-21FD-48BD-9623-58CC78FD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97B3-6062-4C50-A1BA-B36A9A03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602-2D4B-4ADC-937D-5BDEB6D6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AC0-5E30-496F-8BCB-9AB1594A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D2E3-B4DC-4F1A-A696-90878A2C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A34-BCA5-4643-8630-197919A9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9100-3DBD-4EB8-9AAD-8E442638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3B4D-3A20-46E9-847A-2E73E53F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F46-6662-4E07-A80F-38A36D1A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FD4A-86F3-4FA3-9CCB-83B7D92E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EDC7-3D9A-462E-AB9E-F70B8636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9428-DD3B-43F2-B08B-B387FC055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42" name="Breda%5D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H01406J" descr=""/>
            <p:cNvPicPr/>
            <p:nvPr/>
          </p:nvPicPr>
          <p:blipFill>
            <a:blip r:embed="rId2"/>
            <a:stretch/>
          </p:blipFill>
          <p:spPr>
            <a:xfrm>
              <a:off x="380880" y="228600"/>
              <a:ext cx="9220320" cy="623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 txBox="1"/>
          <p:nvPr/>
        </p:nvSpPr>
        <p:spPr>
          <a:xfrm>
            <a:off x="1752480" y="457200"/>
            <a:ext cx="6019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nistério do Meio Ambient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cretaria de Recursos Hídric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209680"/>
            <a:ext cx="8763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 Conselho Nacional de Recursos Hídricos - CNRH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962520"/>
            <a:ext cx="7848720" cy="22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JOÃO BOSCO SEN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ecretário de Recursos Hídricos/MMA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Brasília, junho de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48" name="Breda%5D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H01406J" descr=""/>
            <p:cNvPicPr/>
            <p:nvPr/>
          </p:nvPicPr>
          <p:blipFill>
            <a:blip r:embed="rId2"/>
            <a:stretch/>
          </p:blipFill>
          <p:spPr>
            <a:xfrm>
              <a:off x="380880" y="228600"/>
              <a:ext cx="9220320" cy="623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609480" y="533520"/>
            <a:ext cx="876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5:26:15Z</dcterms:created>
  <dc:creator>EST-A518</dc:creator>
  <dc:description/>
  <dc:language>en-US</dc:language>
  <cp:lastModifiedBy>DPI</cp:lastModifiedBy>
  <dcterms:modified xsi:type="dcterms:W3CDTF">2003-06-25T22:40:00Z</dcterms:modified>
  <cp:revision>2</cp:revision>
  <dc:subject/>
  <dc:title>Apresentação do PowerPoint</dc:title>
</cp:coreProperties>
</file>