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9748838" cy="6850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F05-EC1E-43CF-A86E-FAFA7CF7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4E7-4F8E-4D51-8076-75E550DC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C88-9113-44FC-A9DB-74FACD52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391-F0F0-460E-9DAB-25A6AC07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1DB-77CF-413C-A49A-6D3A023D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619-CE15-47F8-BEB6-12B0F3C9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01C-50F1-4417-8C14-1331308F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2D9-6FE0-4D98-A229-AED140CD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ACA-2075-440A-97B0-63AEE9C7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2D4-1FF6-49EB-99B5-3A01F612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E9E-3324-4B1F-9B90-844691FA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8EE-B09D-4F58-AFA6-A37E7B0F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9392-D8DF-495F-8002-503F11EA7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BASES PARA ELABORAÇÃO DO PROGRAMA SEDE Z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SRH / 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março/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-1374840" y="114480"/>
          <a:ext cx="5607000" cy="118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74840" y="114480"/>
                    <a:ext cx="560700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1244520"/>
          <a:ext cx="9067680" cy="53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44520"/>
                    <a:ext cx="906768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57200" y="6553080"/>
            <a:ext cx="609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nte Básica: Ministério da Integração Nacional/ Secretaria da Defesa Civil – 200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-993600" y="114480"/>
          <a:ext cx="5607000" cy="118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93600" y="114480"/>
                    <a:ext cx="560700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350520" y="289080"/>
            <a:ext cx="57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8112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5105160" cy="6781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095880"/>
            <a:ext cx="3352680" cy="27648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Fonte: Atlas da Exclusão Social no Brasil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763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TRIZES DO MMA COMO MARCOS REFERENCIAIS DO SEDE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DESENVOLVIMENTO SUSTENTÁVEL - propostas e soluções adequadas às dimensões sócioambien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TRANSVERSALIDADE - cada ministério ou setor deverá identificar oportunidades de participação; definição de 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CONTROLE SOCIAL (PARTICIPAÇÃO, MOBILIZAÇÃO E VALORES CULTURAIS) - envolvimento social para compartilhar o processo de elaboração, de implementação e de gestão do programa - participação de instâncias colegiadas, organizações religiosas, rede de ONGs, centrais sindicais, organizações de usuári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PACTO FEDERATIVO SOCIOAMBIENTAL (Ações integradas SISNAMA e SINGR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-1527120" y="114480"/>
          <a:ext cx="5607000" cy="118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7120" y="114480"/>
                    <a:ext cx="560700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320" y="469116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GENDA 21 NACIONAL (publicada em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mover a universalização do acesso à água e ao esgoto, ampliando para 60% o tratamento secundário de esgoto n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óxima décad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-1450800" y="3816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50800" y="3816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429000" y="228600"/>
            <a:ext cx="5562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ROS MARCOS REFERENCIAIS DO SED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48896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GENDA 21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rantir pelo menos 40 litros per capita por dia de água potável a todos os residentes em áreas urban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izar e facilitar a participação da mulher nas equipes de manejo de á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33720" y="457200"/>
            <a:ext cx="761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67040" y="8621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556160"/>
            <a:ext cx="8159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RECE DESTAQUE O VALOR SOCIAL DA ÁGUA (SEM DESCONSIDERAR SEU VALOR ECONÔMICO), COMO UM RECURSO IMPRESCINDÍVEL PARA O ESTABELECIMENTO E MANUTENÇÃO DA VIDA, SENDO SUA DISPONIBILIDADE, EM QUANTIDADE E QUALIDADE ADEQUADAS, UM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ATOR PREPONDERANTE DE INCLUSÃO  SO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1450800" y="19044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50800" y="19044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657600" y="304920"/>
            <a:ext cx="5562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ROS MARCOS REFERENCIAIS DO SED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600200"/>
            <a:ext cx="8534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i 9.433/97 (Lei das Águ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água é um bem de Domínio Públic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m situação de escassez, o uso prioritário dos recursos hídricos é o consumo humano e a dessedentação de anim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Gestão dos Recursos Hídricos deve ser descentralizada e contar com a participação do Poder Público, dos usuários e das comun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-1371600" y="19044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71600" y="19044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36800" y="304920"/>
            <a:ext cx="5562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OS DO SED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673280"/>
            <a:ext cx="847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G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umentar a oferta de água de boa qualidade à população brasileir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espertar a sociedade sobre a importância do tema para o desenvolvimento sustentáv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mobilizar a sociedade para contribuir com o alcance da meta estabeleci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onsolidar a questão da água como instrumento de justiça e solidaried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1844640"/>
            <a:ext cx="89154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garantir, no mínimo, 40 litros de água diários, per capita, de boa qualidade, privilegiando medidas de baixo custo, que respeitem as características region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inserir ações de educação sanitária e ambiental nas propostas e soluções apontadas pelo proje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apontar propostas e soluções relacionadas recuperação de nascentes, mapas de topo, vegetação cili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apontar soluções voltadas ao combate ao desperdício, ao reuso da águ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implementar ações visando atender à demanda de água para assentamentos de reforma agrária, comunidades indígenas e quilombo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-990720" y="19044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90720" y="19044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118040" y="304920"/>
            <a:ext cx="5562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OS DO SED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2494080"/>
            <a:ext cx="8915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 SEDE ZERO É UM PROJETO SOCIAL QUE DEMANDA AÇÕES POLÍTICAS, ORGANIZADAS EM 2 CONJUNTOS DE PROPOS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 gest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trutu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70120" y="22716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RUTURA E DESENVOLVIMENTO METODOLÓGICO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DE ZERO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-1523880" y="26496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3880" y="26496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2057400"/>
            <a:ext cx="89154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O SEDE ZERO DEVERÁ TER 4 VERTENTES BÁSICAS DE ATUAÇÃ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 atuação em áreas com escassez natural de 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 atuação em centros urban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 atuação voltada para a recuperação de bacias hidrográfic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 atuação em áreas indígenas, de assentamento de reforma agrária e quilombo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3800" y="22716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RUTURA E DESENVOLVIMENTO METODOLÓGICO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DE ZERO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-1600200" y="26496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26496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6200" y="3124080"/>
            <a:ext cx="1066680" cy="609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86200" y="4572000"/>
            <a:ext cx="106668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886200" y="6019920"/>
            <a:ext cx="1066680" cy="609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17845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BORAÇÃO DA PROPOSTA PRELIMINAR PARA SUBSÍDIO DAS CONSULTAS A SEREM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7497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LIZAÇÃO DAS CONSUL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4100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SOLIDAÇÃO DAS CONTRIBUI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380880"/>
            <a:ext cx="6095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TAPAS  DO PROJET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-1488960" y="76320"/>
          <a:ext cx="5607000" cy="1181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1488960" y="7632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523880"/>
            <a:ext cx="8229600" cy="52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az parte destacada dessa agenda (do MMA) o trabalho integrado no semi-árido, para o qual a equipe de transição na área ambiental propôs o Sede Zero, como a outra face do Programa Fome Zero anunciado pelo presidente Lula”...  “O Sede Zero quer, por meio de um conjunto de intervenções integradas de governo, assegurar a cada brasileiro o direito a uma quantidade mínima de água de boa qualidade diária, conforme prevê a Agenda 21. Desse esforço farão parte ações de recuperação das nascentes, das matas ciliares, o combate ao desperdício, medidas de baixo custo para propiciar o acesso à água potável e até a realização de grandes obras de saneamento ambiental”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arina Silva - discurso de posse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-3240" y="114480"/>
          <a:ext cx="5607000" cy="118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114480"/>
                    <a:ext cx="560700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41148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CAMINHAMENTO DA PROPOSTA PARA APROVAÇÃO NO CN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1067040" cy="609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3520" y="22096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LIZAÇÃO DE SEMINÁRIO PARA CONSOLIDAÇÃO DA PRO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09880" y="3352680"/>
            <a:ext cx="1067040" cy="6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-1527120" y="190440"/>
          <a:ext cx="5607000" cy="1181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7120" y="19044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971800" y="380880"/>
            <a:ext cx="6095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TAPAS  DO PROJE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83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MPO PREVISTO PARA A CONSTRUÇÃO COLETIVA DO PROJETO - 3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24080" y="228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TA PRELIMINAR DO SED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1184400" y="19044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84400" y="19044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1600200"/>
            <a:ext cx="914400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A PROPOSTA PRELIMINAR PREVÊ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Diretrizes Ge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Diagnóstico consolidado, conte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levantamento e análise das ações em curs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panorama da realidade urbana e r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identificação de alternativas de baixo custo, estruturais e não estrutur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banco de dados e sistema georreferenc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A PROPOSTA PRELIMINAR DEVE AGREGAR RESULTADOS DA ARTICULAÇÃO INTERMINISTERIAL E DA  ARTICULAÇÃO COM ESTADOS E MUNICÍ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698480"/>
            <a:ext cx="915660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VERÃO SER CONSOLIDADOS NA ETAPA DE CONSTRUÇÃO DO PROJETO, POR INTERMÉDIO DAS CONSULTA E DISCUSSÕES COM DIVERSOS SEGMENTOS DA SOCIEDA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ierarquização de áreas, utilizando indicado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dentificação de alternativas de acordo com as características das áreas selecionad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talhamento ações, horizontes temporais e definição dos responsáve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talhamento dos investimentos necessári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dentificação de parcerias, entidades financiadoras e de f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inição de indicadores de acompanhamento da eficácia do Proje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mplementação do pro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38560" y="228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TA PRELIMINAR DO SED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-1068480" y="190440"/>
          <a:ext cx="560556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8480" y="190440"/>
                    <a:ext cx="56055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ursos Hídricos por Região do Brasil (em % do total do Paí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nte: Consumo Sustentável: manual de educação. MMA/ IDEC. Brasília/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108240"/>
          <a:ext cx="8229600" cy="26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08240"/>
                    <a:ext cx="822960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-1450800" y="114480"/>
          <a:ext cx="5607000" cy="118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50800" y="114480"/>
                    <a:ext cx="560700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412440" y="219240"/>
            <a:ext cx="57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1709640"/>
            <a:ext cx="89154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Do total de domicílios brasileiros (54.2 milhões), 63,9% (34.6 milhões) são atendidos com rede de abastecimento de ág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O índice de tratamento de esgoto em relação ao volume coletado corresponde a 35,3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O índice de tratamento de esgoto em relação ao volume de água distribuída corresponde a 11,7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Fonte: PNSB/ IBGE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-1260360" y="15228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360" y="15228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412440" y="219240"/>
            <a:ext cx="57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990720"/>
          <a:ext cx="8686800" cy="43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8680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33520" y="5410080"/>
            <a:ext cx="518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nte: Pesquisa Nacional de Saneamento Básico: 2000. IBGE, 2002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2440" y="219240"/>
            <a:ext cx="57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-1146240" y="22860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6240" y="22860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8600" y="1614600"/>
          <a:ext cx="8686800" cy="4927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14600"/>
                    <a:ext cx="8686800" cy="49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198240" y="365040"/>
            <a:ext cx="57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1332000"/>
          <a:ext cx="8763120" cy="55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2000"/>
                    <a:ext cx="87631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-1222200" y="0"/>
          <a:ext cx="5607000" cy="1181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222200" y="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124080" y="380880"/>
            <a:ext cx="5729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281952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=7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6019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nte: Pesquisa Nacional de Saneamento Básico: 2000. IBGE, 200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Nota. Um mesmo distrito pode apresentar mais de um motivo relacionado ao racionament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1527120" y="22860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7120" y="22860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412440" y="219240"/>
            <a:ext cx="57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1522440"/>
          <a:ext cx="8686800" cy="449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522440"/>
                    <a:ext cx="86868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59436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nte: Pesquisa Nacional de Saneamento Básico: 2000. IBG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Nota: um mesmo distrito pode apresentar mais de um motivo do raciona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-1527120" y="114480"/>
          <a:ext cx="5607000" cy="118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7120" y="114480"/>
                    <a:ext cx="560700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412440" y="0"/>
            <a:ext cx="57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1357200"/>
          <a:ext cx="8688240" cy="4675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357200"/>
                    <a:ext cx="868824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1:55:28Z</dcterms:created>
  <dc:creator>Oscar</dc:creator>
  <dc:description/>
  <dc:language>en-US</dc:language>
  <cp:lastModifiedBy>Maria de Fátima</cp:lastModifiedBy>
  <cp:lastPrinted>2003-03-25T11:57:18Z</cp:lastPrinted>
  <dcterms:modified xsi:type="dcterms:W3CDTF">2003-03-25T12:21:05Z</dcterms:modified>
  <cp:revision>52</cp:revision>
  <dc:subject/>
  <dc:title>Slide sem título </dc:title>
</cp:coreProperties>
</file>