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97C-2608-41EE-AFA9-DE83BAB2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4D5-28CB-4959-A437-56F12AED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D63-EE94-4D5A-AAC0-9E907F91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A1C-CE2A-4099-9C98-1B9F7CF7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459-55ED-45F9-88D4-9D470C5C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902-6CAA-49DD-B266-269B1E9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9D8-F83F-463E-AE1B-5EB7D3C8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B6A-311A-4DBA-A8A8-52A50B3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BAA-1AC9-4314-ACC6-CD345F3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BBC-50E0-48D8-8DA3-45DA6158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6CD-2084-460A-B412-8088337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203-12E0-46A5-9A6B-409CA182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4C39-D98B-45C9-AD62-CCAE94590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52280"/>
          <a:ext cx="4952880" cy="13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280"/>
                    <a:ext cx="495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4191120"/>
            <a:ext cx="94485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Altamirano Vaz Lordêllo Ne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ng.º Agr.º MSc. Coordenador Técnico de Controle e Avali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GEREST/SRH-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email: alordelo@srh.ba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Tel: (71) 370-6207/3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276640"/>
            <a:ext cx="9296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orga de Água, Alvará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quisa e Lavra de Água Mi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pectos Legais e Procedimentos no Estado da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800" y="1557360"/>
            <a:ext cx="90680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meira outorga de direito de uso - 539,5 m³/dia em mai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gência para Concessão de Licença de Loca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itida pelo órgão ambiental – Centro de Recursos Ambientais - C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do – Indústria e Comércio de Águas Minerais  Lt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Legal – Legislação de Recursos Híd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6.855 de 12 de maio de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õe sobre a Política, o Gerenciamento e o Plano Estadual de Recursos Hídricos e dá outras providências (Anterior a lei federal 9.43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. 20 - A concessão  d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cença de Localiz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 empreendimentos que demandem a utilização de recursos hídricos, dependerá da prévia obtenção da respectiva outorga do direito de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lvl="1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Legal – Legislação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1341360"/>
            <a:ext cx="86108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i Estadual 7.799 de 07 de fevereiro de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i a Política Estadual de Administração de Recursos Ambientais e dá outras provid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to Estadual Nº 7.967 de 05 de  junho de 2001 (Regulamenta a Lei 7.799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ção VIII - Procedimentos Para Emissão de Autorização ou Licença Ambient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692280"/>
            <a:ext cx="87631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to 7.967 - Seção VIII, Continu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371600"/>
            <a:ext cx="8686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. 181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ção dos processos de autorização ou de licenciamento ambiental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 1o - O CRA exigirá, no que couber, dentre outros documentos e informações: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II - Outorga de uso da água expedida pelo órgão competente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II - Alvará de pesquisa mineral expedido pelo DNPM;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entos Para Exploração de Água Mineral – Bah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600200"/>
            <a:ext cx="8534520" cy="4284720"/>
            <a:chOff x="457200" y="1600200"/>
            <a:chExt cx="8534520" cy="4284720"/>
          </a:xfrm>
        </p:grpSpPr>
        <p:sp>
          <p:nvSpPr>
            <p:cNvPr id="60" name=""/>
            <p:cNvSpPr/>
            <p:nvPr/>
          </p:nvSpPr>
          <p:spPr>
            <a:xfrm>
              <a:off x="457200" y="2552760"/>
              <a:ext cx="1828800" cy="118836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mpresário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3505320"/>
              <a:ext cx="205740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Outorga de Uso da Águ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2057400"/>
              <a:ext cx="2438280" cy="7621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Alvará de pesquisa mineral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160020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2520" y="3048120"/>
              <a:ext cx="100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SRH*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24480" y="167652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2133720"/>
              <a:ext cx="2286000" cy="85572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Localiz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0" idx="3"/>
              <a:endCxn id="62" idx="1"/>
            </p:cNvCxnSpPr>
            <p:nvPr/>
          </p:nvCxnSpPr>
          <p:spPr>
            <a:xfrm flipV="1">
              <a:off x="2297160" y="2448720"/>
              <a:ext cx="435600" cy="69444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0" idx="3"/>
              <a:endCxn id="61" idx="1"/>
            </p:cNvCxnSpPr>
            <p:nvPr/>
          </p:nvCxnSpPr>
          <p:spPr>
            <a:xfrm>
              <a:off x="2297160" y="3142800"/>
              <a:ext cx="511920" cy="75492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sp>
          <p:nvSpPr>
            <p:cNvPr id="71" name=""/>
            <p:cNvSpPr/>
            <p:nvPr/>
          </p:nvSpPr>
          <p:spPr>
            <a:xfrm>
              <a:off x="5334120" y="5410080"/>
              <a:ext cx="36576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icença de Implantaçã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61" idx="3"/>
              <a:endCxn id="66" idx="1"/>
            </p:cNvCxnSpPr>
            <p:nvPr/>
          </p:nvCxnSpPr>
          <p:spPr>
            <a:xfrm flipV="1">
              <a:off x="4887720" y="2571480"/>
              <a:ext cx="1121400" cy="1326240"/>
            </a:xfrm>
            <a:prstGeom prst="straightConnector1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62" idx="3"/>
              <a:endCxn id="66" idx="1"/>
            </p:cNvCxnSpPr>
            <p:nvPr/>
          </p:nvCxnSpPr>
          <p:spPr>
            <a:xfrm>
              <a:off x="5192280" y="2449440"/>
              <a:ext cx="816840" cy="123120"/>
            </a:xfrm>
            <a:prstGeom prst="straightConnector1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562720" y="3771720"/>
              <a:ext cx="3200400" cy="47484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Portaria de Lavr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33145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DNP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6" idx="2"/>
              <a:endCxn id="74" idx="0"/>
            </p:cNvCxnSpPr>
            <p:nvPr/>
          </p:nvCxnSpPr>
          <p:spPr>
            <a:xfrm>
              <a:off x="7162560" y="3021120"/>
              <a:ext cx="1080" cy="740160"/>
            </a:xfrm>
            <a:prstGeom prst="straightConnector1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5638680" y="4952880"/>
              <a:ext cx="89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3300"/>
                  </a:solidFill>
                  <a:latin typeface="Arial"/>
                </a:rPr>
                <a:t>CR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4" idx="2"/>
              <a:endCxn id="71" idx="0"/>
            </p:cNvCxnSpPr>
            <p:nvPr/>
          </p:nvCxnSpPr>
          <p:spPr>
            <a:xfrm>
              <a:off x="7162560" y="4277880"/>
              <a:ext cx="1080" cy="1121400"/>
            </a:xfrm>
            <a:prstGeom prst="straightConnector1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457200" y="5791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* Detalhado a se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00160" y="189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o Para Outorga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15800" y="1468440"/>
            <a:ext cx="9145440" cy="4629240"/>
            <a:chOff x="415800" y="1468440"/>
            <a:chExt cx="9145440" cy="4629240"/>
          </a:xfrm>
        </p:grpSpPr>
        <p:sp>
          <p:nvSpPr>
            <p:cNvPr id="83" name=""/>
            <p:cNvSpPr/>
            <p:nvPr/>
          </p:nvSpPr>
          <p:spPr>
            <a:xfrm>
              <a:off x="415800" y="1468440"/>
              <a:ext cx="1990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ADA: PROTOC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30320" y="1468440"/>
              <a:ext cx="34340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ERTURA DA FOLHA DE ACOMPANH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85560" y="1468440"/>
              <a:ext cx="28756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JURÍDICO: PARECER JURÍD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64360" y="2560680"/>
              <a:ext cx="28522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OR GEOLÓGICO: PARECER TEC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78080" y="2560680"/>
              <a:ext cx="24159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 PARECER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8080" y="2560680"/>
              <a:ext cx="191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AVALI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920" y="3652920"/>
              <a:ext cx="182556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CON: COBRANÇ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585520" y="292428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2880" y="3652920"/>
              <a:ext cx="211572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TARIA DE OUTO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9960" y="3652920"/>
              <a:ext cx="370080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ES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7840" y="4745160"/>
              <a:ext cx="18086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UTA DA PORTA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720" y="183204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68960" y="40165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6360" y="4705200"/>
              <a:ext cx="33508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GE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ÇÃO DA MINU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58080" y="42879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280" y="4705200"/>
              <a:ext cx="202608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.G.: PUB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48760" y="5729400"/>
              <a:ext cx="190188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CHA FI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655000" y="5049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0200" y="5729400"/>
              <a:ext cx="1498320" cy="36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P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593680" y="29242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67800" y="32367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680" y="534528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64360" y="1832040"/>
              <a:ext cx="36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10760" y="4016520"/>
              <a:ext cx="4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473160" y="504972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8000" y="597060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2880" y="476280"/>
            <a:ext cx="84204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ras Outorgas Conce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8880" y="11970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nte – Superintendência de Recursos Hídricos – SR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Água Mineral Salvador Ltda – 172,8 m³/dia em outubro de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Milfontes Águas Minerais e Bebidas Ltda - 192 m³/dia em junho de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orgado – Água Mineral Vida Ltda  - 180 m³/dia em abril d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2880" y="260280"/>
            <a:ext cx="911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 TÉCNICA NT - 004/02 CEP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880" y="1268280"/>
            <a:ext cx="8382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4º - Para o requerimento da Renovação da Licença de Operação - RLO, faz-se necessária a apresentação dos seguintes documentos, no que couber, junto ao Centro de Recursos Ambientais - CR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X - Outorga do Direito de Uso da Água para Mananciais Superficiais ou Subterrâneos concedida pelo competente órgão gestor dos recursos hídricos;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5:12:39Z</dcterms:created>
  <dc:creator>rbomfim</dc:creator>
  <dc:description/>
  <dc:language>en-US</dc:language>
  <cp:lastModifiedBy>alordelo</cp:lastModifiedBy>
  <dcterms:modified xsi:type="dcterms:W3CDTF">2004-08-10T22:56:09Z</dcterms:modified>
  <cp:revision>304</cp:revision>
  <dc:subject/>
  <dc:title>Apresentação do PowerPoint</dc:title>
</cp:coreProperties>
</file>