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E5D-8FFB-4BD7-9306-A422670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E85-DB39-4F3A-B677-3808242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0AA-DE66-4C23-886F-C801CDAF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407-7A74-44EC-A06B-9A561726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185-A3DA-4CCF-BB66-FAA0D934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C62-6AA9-4641-B54A-0E9633F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DD0-F500-4D1C-B211-393799D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7A8-EC63-4046-937A-0CB9EA5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CE8-9918-42DE-B9A2-F59B5A5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EA3-E819-4AF0-B00D-0B5EDF2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2FD-C7AE-4FC5-A70D-37F3B5A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88C-B6AB-430C-9366-09D850A0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0F4-1B49-4612-9AD2-3DBAE5239C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nanc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343400" y="6095880"/>
          <a:ext cx="19288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095880"/>
                    <a:ext cx="192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4038480" y="65530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ÃO DE AÇÕES SOBRE O MEIO AM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2971800" y="5867280"/>
          <a:ext cx="9493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867280"/>
                    <a:ext cx="94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anc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495680"/>
            <a:ext cx="8534160" cy="68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44º Reuni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âmara Técnica de Integração de Procedimentos, Ações de Outorga e Ações Regulador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onselho Nacional de Recursos Hídr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7680" y="5257800"/>
            <a:ext cx="2232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asília, 8 de agost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1532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Resolução Conjunta SES/SMA/SRHS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 Black"/>
              </a:rPr>
              <a:t>Integrando Políticas Públicas de Saúde, Meio Ambiente e Recursos Hídr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029200"/>
            <a:ext cx="8077320" cy="685800"/>
          </a:xfrm>
          <a:prstGeom prst="rightArrow">
            <a:avLst>
              <a:gd name="adj1" fmla="val 50000"/>
              <a:gd name="adj2" fmla="val 294449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6480" y="5181480"/>
            <a:ext cx="68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MOÇÃO                             PROTEÇÃO                            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295280"/>
            <a:ext cx="2133720" cy="3652200"/>
            <a:chOff x="380880" y="1295280"/>
            <a:chExt cx="2133720" cy="3652200"/>
          </a:xfrm>
        </p:grpSpPr>
        <p:sp>
          <p:nvSpPr>
            <p:cNvPr id="102" name=""/>
            <p:cNvSpPr/>
            <p:nvPr/>
          </p:nvSpPr>
          <p:spPr>
            <a:xfrm>
              <a:off x="457200" y="129528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523880"/>
              <a:ext cx="19051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TÉRIA 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2569680"/>
              <a:ext cx="2133720" cy="2377800"/>
            </a:xfrm>
            <a:prstGeom prst="upArrowCallout">
              <a:avLst>
                <a:gd name="adj1" fmla="val 26790"/>
                <a:gd name="adj2" fmla="val 20833"/>
                <a:gd name="adj3" fmla="val 26941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USO E OCUPAÇÃO DO S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QUALIDADE DAS ÁGU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RELAÇÃO DISPONIBILIDADE/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14600" y="1295280"/>
            <a:ext cx="2286000" cy="3522960"/>
            <a:chOff x="2514600" y="1295280"/>
            <a:chExt cx="2286000" cy="3522960"/>
          </a:xfrm>
        </p:grpSpPr>
        <p:sp>
          <p:nvSpPr>
            <p:cNvPr id="106" name=""/>
            <p:cNvSpPr/>
            <p:nvPr/>
          </p:nvSpPr>
          <p:spPr>
            <a:xfrm>
              <a:off x="2514600" y="1295280"/>
              <a:ext cx="175248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8320" y="1752480"/>
              <a:ext cx="16225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2759400"/>
              <a:ext cx="2133720" cy="2058840"/>
            </a:xfrm>
            <a:prstGeom prst="upArrowCallout">
              <a:avLst>
                <a:gd name="adj1" fmla="val 27764"/>
                <a:gd name="adj2" fmla="val 21591"/>
                <a:gd name="adj3" fmla="val 24176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CAP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ADU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TRA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RESERV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08440" y="1371600"/>
            <a:ext cx="2378160" cy="3547440"/>
            <a:chOff x="4708440" y="1371600"/>
            <a:chExt cx="2378160" cy="3547440"/>
          </a:xfrm>
        </p:grpSpPr>
        <p:sp>
          <p:nvSpPr>
            <p:cNvPr id="110" name=""/>
            <p:cNvSpPr/>
            <p:nvPr/>
          </p:nvSpPr>
          <p:spPr>
            <a:xfrm>
              <a:off x="4800600" y="137160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8440" y="1752480"/>
              <a:ext cx="20732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2722320"/>
              <a:ext cx="2133720" cy="2196720"/>
            </a:xfrm>
            <a:prstGeom prst="upArrowCallout">
              <a:avLst>
                <a:gd name="adj1" fmla="val 26790"/>
                <a:gd name="adj2" fmla="val 20833"/>
                <a:gd name="adj3" fmla="val 24890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ADRÕE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O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0" y="1371600"/>
            <a:ext cx="2286000" cy="3372840"/>
            <a:chOff x="6858000" y="1371600"/>
            <a:chExt cx="2286000" cy="3372840"/>
          </a:xfrm>
        </p:grpSpPr>
        <p:sp>
          <p:nvSpPr>
            <p:cNvPr id="114" name=""/>
            <p:cNvSpPr/>
            <p:nvPr/>
          </p:nvSpPr>
          <p:spPr>
            <a:xfrm>
              <a:off x="7010280" y="1371600"/>
              <a:ext cx="167652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1768320"/>
              <a:ext cx="22860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2685240"/>
              <a:ext cx="1676520" cy="2059200"/>
            </a:xfrm>
            <a:prstGeom prst="upArrowCallout">
              <a:avLst>
                <a:gd name="adj1" fmla="val 26790"/>
                <a:gd name="adj2" fmla="val 20833"/>
                <a:gd name="adj3" fmla="val 29694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OENÇAS DE TRANSMISSÃO HÍD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743280" y="152280"/>
            <a:ext cx="471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Vigilância da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24280" y="3352680"/>
            <a:ext cx="2514600" cy="2286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276720"/>
            <a:ext cx="1981440" cy="2286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28600"/>
            <a:ext cx="3124440" cy="2133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320"/>
            <a:ext cx="3124080" cy="2133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981080"/>
            <a:ext cx="3124080" cy="19051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4920" y="2362320"/>
            <a:ext cx="24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55200" y="9144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Ú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480" y="593640"/>
            <a:ext cx="28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INT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GERANCI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862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ÍNT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809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TOR DETER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 CONDICIO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A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28200">
            <a:off x="1143000" y="24379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72400">
            <a:off x="5943240" y="24382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293760"/>
            <a:ext cx="3886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77800">
            <a:off x="1904760" y="445680"/>
            <a:ext cx="2133360" cy="3962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971800"/>
            <a:ext cx="502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Ú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 SAÚ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55520"/>
            <a:ext cx="502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INTEGRADO DE GERENCIAMENTO DE R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16480" y="76320"/>
            <a:ext cx="300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2198520"/>
            <a:ext cx="3321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8840" y="3581280"/>
            <a:ext cx="578916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RTICIP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 COMUN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LÍTICO-ADIMINIST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GION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 HIERARQU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IVERSALI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LIC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GUAL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127160"/>
            <a:ext cx="79246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relaçã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disponibilidade/demand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iciona e determina o processo saúde/do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em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acesso à águ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ão há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qualidade dos recursos hídric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é imprescindível para a manutenção da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qualidade da água de um manancial é determinada pel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organização territor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elo uso e ocupação do solo n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 acesso à água depende fundamentalmente d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uso 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Comitês de Bacia Hidrográfica são importantes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fóruns para a promoção da saú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477120" y="0"/>
          <a:ext cx="23619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23619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14360" y="76320"/>
            <a:ext cx="7143840" cy="57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ÁREAS CONTA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OS 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HO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OLV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OMÍNIO BARÃO DE MAU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PAULÍ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O ANTÔNIO DE P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A GERTR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BA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VILA CARI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. MORADA DOS PRÍNCIPES-CAMP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AF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AVELA PARAGU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RAFARD (RODHIA), CERQUILHO (FERROBAN) SÃO PAULO (CROMO DURO) COTIA (DELPHI), PORTO FELIZ (USA)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01040" y="1523880"/>
            <a:ext cx="1770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ss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371600"/>
            <a:ext cx="2895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 Black"/>
              </a:rPr>
              <a:t>Tendência à proliferação indiscriminada de poços e de empresas de transporte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2520" y="3962520"/>
            <a:ext cx="4056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isco à saúde no consu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água proveni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qüíferos conta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1371600"/>
            <a:ext cx="70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2004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2720" y="1628640"/>
            <a:ext cx="293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iversos poç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362320"/>
            <a:ext cx="75438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e diversos estabelecimentos</a:t>
            </a: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Shoppings, condomínios residenciais, hospitais, clínicas médicas, residências, conjuntos comerciais, industrias 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733920"/>
            <a:ext cx="7086600" cy="14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com diversas substâncias perigosas à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Tetracloroeteno, clorofórmio, benzeno, cromo, bário, cloreto de vinila, drins, arsênio. mercúrio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09640" y="380880"/>
            <a:ext cx="285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 consta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1600200"/>
            <a:ext cx="5715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ecessidade de estabelecer mecanismos integrado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venção de riscos à saúde pública no consumo de água subterrânea, particularmente em áreas contaminadas ou próximas a fontes com potencial de contaminação do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437880" y="380880"/>
            <a:ext cx="183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s 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16400" y="1523880"/>
            <a:ext cx="4545360" cy="825480"/>
            <a:chOff x="4316400" y="1523880"/>
            <a:chExt cx="4545360" cy="825480"/>
          </a:xfrm>
        </p:grpSpPr>
        <p:sp>
          <p:nvSpPr>
            <p:cNvPr id="158" name=""/>
            <p:cNvSpPr/>
            <p:nvPr/>
          </p:nvSpPr>
          <p:spPr>
            <a:xfrm>
              <a:off x="6393600" y="1523880"/>
              <a:ext cx="2468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uni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SES/SMA/SER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6400" y="160020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93000" y="2514600"/>
            <a:ext cx="6270120" cy="1557000"/>
            <a:chOff x="2493000" y="2514600"/>
            <a:chExt cx="6270120" cy="1557000"/>
          </a:xfrm>
        </p:grpSpPr>
        <p:sp>
          <p:nvSpPr>
            <p:cNvPr id="161" name=""/>
            <p:cNvSpPr/>
            <p:nvPr/>
          </p:nvSpPr>
          <p:spPr>
            <a:xfrm>
              <a:off x="4343400" y="2514600"/>
              <a:ext cx="4419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SES/SMA/SERHS nº 01/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Grupo de Trabal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Interinstitu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93000" y="2590920"/>
              <a:ext cx="210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outubro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73200" y="4191120"/>
            <a:ext cx="6961320" cy="1601280"/>
            <a:chOff x="1573200" y="4191120"/>
            <a:chExt cx="6961320" cy="1601280"/>
          </a:xfrm>
        </p:grpSpPr>
        <p:sp>
          <p:nvSpPr>
            <p:cNvPr id="164" name=""/>
            <p:cNvSpPr/>
            <p:nvPr/>
          </p:nvSpPr>
          <p:spPr>
            <a:xfrm>
              <a:off x="3048120" y="4267080"/>
              <a:ext cx="5486400" cy="152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Minuta de 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Dispõe sobre </a:t>
              </a:r>
              <a:r>
                <a:rPr b="0" lang="en-US" sz="1400" spc="-1" strike="noStrike">
                  <a:solidFill>
                    <a:srgbClr val="66ccff"/>
                  </a:solidFill>
                  <a:latin typeface="Arial Black"/>
                </a:rPr>
                <a:t>procedimentos integrados para controle e vigilância de soluções alternativas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 coletivas de abastecimento de água para consumo humano proveniente de mananciais subterrâne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3200" y="419112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79800" y="237960"/>
            <a:ext cx="2559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Arcabouç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65440"/>
            <a:ext cx="7507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Resolução Conjunta SES/SMA nº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efine procedimentos comuns entre as Secretarias de Saúde e Meio Ambiente para A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295280"/>
            <a:ext cx="4689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7.663/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olítica Estadu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762120"/>
            <a:ext cx="7266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nº6.134/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eservação dos depósitos naturais de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511360"/>
            <a:ext cx="67975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Portaria Federal nº518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Controle e Vigilância da qualidade da água para consumo humano e seu padrão de po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0280" y="3213000"/>
            <a:ext cx="67579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Deliberação CRH nº 052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iretrizes de procedimentos para definição de áreas de restrição e controle da captação e uso das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1120" y="838080"/>
            <a:ext cx="4572000" cy="317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rt. 313 e 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 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 matas existentes nas cabeceiras [dos mananciais] deverão ser conservadas do melhor modo possí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Deverão ser absolutamente proibidas habitações acima das represas e tomadas d’água”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Código Sanitário Estadual de 18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0400" y="380880"/>
            <a:ext cx="5425920" cy="387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Decreto Estadual nº32.995/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AEE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e fiscalização da ex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ETESB/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da po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VS/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Fiscalização das águas subterrâneas destinadas ao 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14600" y="228600"/>
            <a:ext cx="5867280" cy="174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inuta de Resolução Conjunta SES/SMA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 Black"/>
              </a:rPr>
              <a:t>Dispõe sobre procedimentos integrados para controle e vigilância de soluções alternativas coletivas de abastecimento de água para consumo humano proveniente de mananciais subterrân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7600" y="1676520"/>
            <a:ext cx="26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4760" y="2247840"/>
            <a:ext cx="549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istórico de uso e ocupação d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705040"/>
            <a:ext cx="49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controle operacional das SA por part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1680" y="3803760"/>
            <a:ext cx="574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aprimoramento, compatibilização e integração dos procedimentos técnicos e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66680" y="1600200"/>
            <a:ext cx="3200400" cy="1219320"/>
            <a:chOff x="1066680" y="1600200"/>
            <a:chExt cx="3200400" cy="1219320"/>
          </a:xfrm>
        </p:grpSpPr>
        <p:sp>
          <p:nvSpPr>
            <p:cNvPr id="181" name=""/>
            <p:cNvSpPr/>
            <p:nvPr/>
          </p:nvSpPr>
          <p:spPr>
            <a:xfrm>
              <a:off x="1676520" y="1600200"/>
              <a:ext cx="2590560" cy="1219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676520"/>
              <a:ext cx="3017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e Autorização de Implantação do Empreend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81200" y="2696760"/>
            <a:ext cx="5648400" cy="1875240"/>
            <a:chOff x="2581200" y="2696760"/>
            <a:chExt cx="5648400" cy="1875240"/>
          </a:xfrm>
        </p:grpSpPr>
        <p:grpSp>
          <p:nvGrpSpPr>
            <p:cNvPr id="184" name=""/>
            <p:cNvGrpSpPr/>
            <p:nvPr/>
          </p:nvGrpSpPr>
          <p:grpSpPr>
            <a:xfrm>
              <a:off x="3200400" y="3352680"/>
              <a:ext cx="5029200" cy="1219320"/>
              <a:chOff x="3200400" y="3352680"/>
              <a:chExt cx="5029200" cy="1219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581280" y="3352680"/>
                <a:ext cx="4648320" cy="121932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0400" y="3352680"/>
                <a:ext cx="459756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Fontes pontuais:  CETE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Áreas de Restrição e controle: CR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Uso e ocupação do solo: municíp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4696800">
              <a:off x="2160360" y="3290760"/>
              <a:ext cx="1523880" cy="3808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13720" y="1595880"/>
            <a:ext cx="4039560" cy="1375920"/>
            <a:chOff x="4113720" y="1595880"/>
            <a:chExt cx="4039560" cy="1375920"/>
          </a:xfrm>
        </p:grpSpPr>
        <p:grpSp>
          <p:nvGrpSpPr>
            <p:cNvPr id="189" name=""/>
            <p:cNvGrpSpPr/>
            <p:nvPr/>
          </p:nvGrpSpPr>
          <p:grpSpPr>
            <a:xfrm>
              <a:off x="5867280" y="1828800"/>
              <a:ext cx="2286000" cy="1143000"/>
              <a:chOff x="5867280" y="1828800"/>
              <a:chExt cx="2286000" cy="1143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867280" y="1905120"/>
                <a:ext cx="2286000" cy="106668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600" y="1828800"/>
                <a:ext cx="187488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Mapa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localizaçã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raio de 5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 rot="21585600">
              <a:off x="4114440" y="1599480"/>
              <a:ext cx="1940040" cy="512640"/>
            </a:xfrm>
            <a:custGeom>
              <a:avLst/>
              <a:gdLst>
                <a:gd name="textAreaLeft" fmla="*/ 339480 w 1940040"/>
                <a:gd name="textAreaRight" fmla="*/ 1406520 w 194004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676520"/>
            <a:ext cx="3276720" cy="1066680"/>
            <a:chOff x="1066680" y="1676520"/>
            <a:chExt cx="3276720" cy="1066680"/>
          </a:xfrm>
        </p:grpSpPr>
        <p:sp>
          <p:nvSpPr>
            <p:cNvPr id="196" name=""/>
            <p:cNvSpPr/>
            <p:nvPr/>
          </p:nvSpPr>
          <p:spPr>
            <a:xfrm>
              <a:off x="1447920" y="1676520"/>
              <a:ext cx="2895480" cy="10666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167652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licença de  execução do poç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1523880"/>
            <a:ext cx="3855960" cy="1676520"/>
            <a:chOff x="3657600" y="1523880"/>
            <a:chExt cx="3855960" cy="1676520"/>
          </a:xfrm>
        </p:grpSpPr>
        <p:sp>
          <p:nvSpPr>
            <p:cNvPr id="199" name=""/>
            <p:cNvSpPr/>
            <p:nvPr/>
          </p:nvSpPr>
          <p:spPr>
            <a:xfrm>
              <a:off x="5105520" y="1523880"/>
              <a:ext cx="2361960" cy="16765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7524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Exigências DA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DAEE nº 717/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590920"/>
              <a:ext cx="2590920" cy="60948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2133720"/>
            <a:ext cx="3276720" cy="990360"/>
            <a:chOff x="914400" y="2133720"/>
            <a:chExt cx="3276720" cy="990360"/>
          </a:xfrm>
        </p:grpSpPr>
        <p:sp>
          <p:nvSpPr>
            <p:cNvPr id="205" name=""/>
            <p:cNvSpPr/>
            <p:nvPr/>
          </p:nvSpPr>
          <p:spPr>
            <a:xfrm>
              <a:off x="2438280" y="2133720"/>
              <a:ext cx="1752840" cy="99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220968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Direi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02440" y="3012480"/>
            <a:ext cx="4509720" cy="1976040"/>
            <a:chOff x="2602440" y="3012480"/>
            <a:chExt cx="4509720" cy="1976040"/>
          </a:xfrm>
        </p:grpSpPr>
        <p:sp>
          <p:nvSpPr>
            <p:cNvPr id="208" name=""/>
            <p:cNvSpPr/>
            <p:nvPr/>
          </p:nvSpPr>
          <p:spPr>
            <a:xfrm>
              <a:off x="4191120" y="35812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3657600"/>
              <a:ext cx="31496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48000">
              <a:off x="2552400" y="3543120"/>
              <a:ext cx="1752840" cy="914400"/>
            </a:xfrm>
            <a:custGeom>
              <a:avLst/>
              <a:gdLst>
                <a:gd name="textAreaLeft" fmla="*/ 306720 w 1752840"/>
                <a:gd name="textAreaRight" fmla="*/ 1270800 w 175284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0400" y="1357560"/>
            <a:ext cx="4473000" cy="1614240"/>
            <a:chOff x="3650400" y="1357560"/>
            <a:chExt cx="4473000" cy="1614240"/>
          </a:xfrm>
        </p:grpSpPr>
        <p:sp>
          <p:nvSpPr>
            <p:cNvPr id="212" name=""/>
            <p:cNvSpPr/>
            <p:nvPr/>
          </p:nvSpPr>
          <p:spPr>
            <a:xfrm>
              <a:off x="5105520" y="19810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057400"/>
              <a:ext cx="31705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Cadastro de VISA:  Resolução SS-65/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0744800">
              <a:off x="3657240" y="1371600"/>
              <a:ext cx="1752480" cy="91440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3880" y="1676520"/>
            <a:ext cx="2895840" cy="1371600"/>
            <a:chOff x="1523880" y="1676520"/>
            <a:chExt cx="2895840" cy="1371600"/>
          </a:xfrm>
        </p:grpSpPr>
        <p:sp>
          <p:nvSpPr>
            <p:cNvPr id="218" name=""/>
            <p:cNvSpPr/>
            <p:nvPr/>
          </p:nvSpPr>
          <p:spPr>
            <a:xfrm>
              <a:off x="1905120" y="1752480"/>
              <a:ext cx="2514600" cy="1295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1676520"/>
              <a:ext cx="2560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Renovação de Outorga de Direito 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1240" y="1139040"/>
            <a:ext cx="4564440" cy="2033280"/>
            <a:chOff x="3711240" y="1139040"/>
            <a:chExt cx="4564440" cy="2033280"/>
          </a:xfrm>
        </p:grpSpPr>
        <p:sp>
          <p:nvSpPr>
            <p:cNvPr id="221" name=""/>
            <p:cNvSpPr/>
            <p:nvPr/>
          </p:nvSpPr>
          <p:spPr>
            <a:xfrm>
              <a:off x="5181480" y="1981080"/>
              <a:ext cx="2971800" cy="1143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7800" y="19810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 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421200">
              <a:off x="3733920" y="1295280"/>
              <a:ext cx="2590560" cy="533520"/>
            </a:xfrm>
            <a:custGeom>
              <a:avLst/>
              <a:gdLst>
                <a:gd name="textAreaLeft" fmla="*/ 453240 w 2590560"/>
                <a:gd name="textAreaRight" fmla="*/ 1878120 w 259056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799720" y="2882880"/>
            <a:ext cx="5124960" cy="2310120"/>
            <a:chOff x="2799720" y="2882880"/>
            <a:chExt cx="5124960" cy="2310120"/>
          </a:xfrm>
        </p:grpSpPr>
        <p:sp>
          <p:nvSpPr>
            <p:cNvPr id="225" name=""/>
            <p:cNvSpPr/>
            <p:nvPr/>
          </p:nvSpPr>
          <p:spPr>
            <a:xfrm>
              <a:off x="4724280" y="3657600"/>
              <a:ext cx="3200400" cy="12193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3657600"/>
              <a:ext cx="34542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avaliação do uso e ocupação do solo (500 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2952600">
              <a:off x="2552400" y="3770640"/>
              <a:ext cx="2590920" cy="53352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6960" y="762120"/>
            <a:ext cx="466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nitoramento V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2971800"/>
            <a:ext cx="3047760" cy="2286000"/>
            <a:chOff x="1905120" y="2971800"/>
            <a:chExt cx="3047760" cy="2286000"/>
          </a:xfrm>
        </p:grpSpPr>
        <p:sp>
          <p:nvSpPr>
            <p:cNvPr id="231" name=""/>
            <p:cNvSpPr/>
            <p:nvPr/>
          </p:nvSpPr>
          <p:spPr>
            <a:xfrm>
              <a:off x="2286000" y="2971800"/>
              <a:ext cx="2666880" cy="2286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3200400"/>
              <a:ext cx="2844720" cy="192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Parâmetros e freqüência mais restritivos, a critério dos órgãos ambiental e de saúde, em locais com A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57800" y="1905120"/>
            <a:ext cx="2971800" cy="1752480"/>
            <a:chOff x="5257800" y="1905120"/>
            <a:chExt cx="2971800" cy="1752480"/>
          </a:xfrm>
        </p:grpSpPr>
        <p:sp>
          <p:nvSpPr>
            <p:cNvPr id="234" name=""/>
            <p:cNvSpPr/>
            <p:nvPr/>
          </p:nvSpPr>
          <p:spPr>
            <a:xfrm>
              <a:off x="5867280" y="1905120"/>
              <a:ext cx="2362320" cy="175248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905120"/>
              <a:ext cx="281952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Laudos analíticos anuais, em locais com fontes pontuais com potencial de contamin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56600" y="762120"/>
            <a:ext cx="53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Qualidade das amos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46240" y="2498760"/>
            <a:ext cx="574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Definição de modelo de laudo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752480"/>
            <a:ext cx="4800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inculação da coleta aos laboratórios responsáveis pela 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2895480"/>
            <a:ext cx="574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Padrão de qualidade labora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Norma NBR ISSO/IEC 17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4000" y="762120"/>
            <a:ext cx="26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895480"/>
            <a:ext cx="574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ções de comunicaçã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981080"/>
            <a:ext cx="4800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truturação de Sistema de Informação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648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685960"/>
            <a:ext cx="7875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 – TÍTULO II – OBJETO, CAMPO DE ATUAÇÃO E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Artigo 2º - Princíp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II -</a:t>
            </a: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omover a melhoria da qualidade do meio ambiente, nele incluído o do trabalho, garantindo condições de saúde, segurança e bem-esta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6080" y="190512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63720" y="1905120"/>
            <a:ext cx="7875360" cy="38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I – TÍTULO I – SAÚDE E MEIO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 11 –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enfrentamento dos problemas ambientais e ecológicos ..., com vista ao desenvolvimento sustentado, como forma de garantir a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qualidade de vida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proteção a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12 –</a:t>
            </a: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São fatores ambientais de risco à saúde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rganização territorial,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mbiente construíd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saneamento ambiental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ontes de poluiçã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artrópodes nocivos, vetores e hospedeiros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tividades produtiv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de consumo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ubstâncias perigosas, tóxic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explosivas, inflamáveis, corrosivas e radioativa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1360" y="114300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4917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Risc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Probabilidade da ocorrência de um efeito ad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38080"/>
            <a:ext cx="51055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Saú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Estado de equilíbrio e adaptação dos organismos às condições do ambiente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828800"/>
            <a:ext cx="4319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fenômeno subjetivo, pois depende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uscetibilida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cada indivídu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438280"/>
            <a:ext cx="67582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svio negativ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um indivíduo diante de um padrão; funções se desviam de um parâmetro preestabelecido com conseqüências para a própria pessoa ou para a 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200400"/>
            <a:ext cx="6599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iminuição/interrupção de suas funções ou atividades físicas e mentais,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ômodos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ofrimento ou incapacidade de comportamento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495680"/>
            <a:ext cx="6248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Não apenas “uma vida sem doença” mas também uma vida com quali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7650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esloca o conceito de saúde do plano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dividual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ituando-o no âmbito do conjunto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98320" y="4119480"/>
            <a:ext cx="165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Bem-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0520" y="1523880"/>
            <a:ext cx="126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28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p" descr="São Paulo"/>
          <p:cNvPicPr/>
          <p:nvPr/>
        </p:nvPicPr>
        <p:blipFill>
          <a:blip r:embed="rId1"/>
          <a:srcRect l="6569" t="20335" r="17316" b="7936"/>
          <a:stretch/>
        </p:blipFill>
        <p:spPr>
          <a:xfrm>
            <a:off x="76320" y="76320"/>
            <a:ext cx="8915400" cy="57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358128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114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8098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24800">
            <a:off x="6858000" y="3276360"/>
            <a:ext cx="1523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057400"/>
            <a:ext cx="1676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572000"/>
            <a:ext cx="2057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295280"/>
            <a:ext cx="381024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cia" descr="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74840" y="304920"/>
            <a:ext cx="289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cupação do terri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0280" y="1508040"/>
            <a:ext cx="284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0280" y="89856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6480" y="1203480"/>
            <a:ext cx="29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3920" y="609480"/>
            <a:ext cx="2314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ecursos nat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1752480"/>
            <a:ext cx="6311880" cy="23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Gastos do S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em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1,39 bilhão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2,19 milhões de internações hospita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2,10 bilhõe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486,86 milhões de proced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bul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8120" y="304920"/>
            <a:ext cx="57909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Características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r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V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mpl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suntos ainda não devidamente consolidados no âmbito do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ncertezas técnico/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ragilidade 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Envolvimento de diferentes campos do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Governabilidade compartilh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arência de 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5000" y="1752480"/>
            <a:ext cx="3581280" cy="31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mplicações à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feitos congênitos e desordens reprodu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âncer em áreas anatômicas especí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sordens imun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enças pulmonares e respirató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ranstornos neurotóx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21932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5120" y="1523880"/>
            <a:ext cx="137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8560" y="2590920"/>
            <a:ext cx="1419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17160" y="3581280"/>
            <a:ext cx="144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8520" y="1952640"/>
            <a:ext cx="1398240" cy="24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2. Me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668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1. 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858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528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5. Pop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081080"/>
            <a:ext cx="1752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 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657600"/>
            <a:ext cx="60984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omem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23623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24:03Z</dcterms:created>
  <dc:creator>sama</dc:creator>
  <dc:description/>
  <dc:language>en-US</dc:language>
  <cp:lastModifiedBy>Luis Sergio</cp:lastModifiedBy>
  <dcterms:modified xsi:type="dcterms:W3CDTF">2005-08-07T18:23:41Z</dcterms:modified>
  <cp:revision>69</cp:revision>
  <dc:subject/>
  <dc:title>Apresentação do PowerPoint</dc:title>
</cp:coreProperties>
</file>