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907588" cy="6858000"/>
  <p:notesSz cx="6858000" cy="9544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27364-130F-4BDF-885E-83D12AC66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5D80A-F6D7-467F-9415-6E0FE8526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7E757-ACFE-4547-8F67-B721EBB0D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3846C-FE46-4B63-B0F1-B209DB4EE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B8A3A-524C-406E-969F-CE990642C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B1EB5-BB4D-4074-B210-A17562274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09646-15FE-4F40-8A57-88197E0ED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02956-FE3C-4347-A1C7-427FD9744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442DF-CB2F-432B-84D1-CCCC9862A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B67D5-F38B-4924-AC1B-124DFC46D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AE6C1-A682-46E0-902A-17259BD82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3946B-59E6-405E-89F8-ED3FB8E03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9863-8EEA-4A41-902B-C649B433A5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hyperlink" Target="mailto:ffsilva@srh.ba.gov.br"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1" name=""/>
          <p:cNvGraphicFramePr/>
          <p:nvPr/>
        </p:nvGraphicFramePr>
        <p:xfrm>
          <a:off x="457200" y="152280"/>
          <a:ext cx="4952880" cy="1338480"/>
        </p:xfrm>
        <a:graphic>
          <a:graphicData uri="http://schemas.openxmlformats.org/presentationml/2006/ole">
            <p:oleObj r:id="rId2" spid="">
              <p:embed/>
              <p:pic>
                <p:nvPicPr>
                  <p:cNvPr id="42" name="" descr=""/>
                  <p:cNvPicPr/>
                  <p:nvPr/>
                </p:nvPicPr>
                <p:blipFill>
                  <a:blip r:embed="rId3"/>
                  <a:stretch/>
                </p:blipFill>
                <p:spPr>
                  <a:xfrm>
                    <a:off x="457200" y="152280"/>
                    <a:ext cx="4952880" cy="1338480"/>
                  </a:xfrm>
                  <a:prstGeom prst="rect">
                    <a:avLst/>
                  </a:prstGeom>
                  <a:ln w="0">
                    <a:noFill/>
                  </a:ln>
                </p:spPr>
              </p:pic>
            </p:oleObj>
          </a:graphicData>
        </a:graphic>
      </p:graphicFrame>
      <p:sp>
        <p:nvSpPr>
          <p:cNvPr id="43" name=""/>
          <p:cNvSpPr/>
          <p:nvPr/>
        </p:nvSpPr>
        <p:spPr>
          <a:xfrm>
            <a:off x="631800" y="1981080"/>
            <a:ext cx="8642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ÉRIOS DE OUTORGA do Estado da Bahia</a:t>
            </a:r>
            <a:endParaRPr b="0" lang="en-US" sz="3200" spc="-1" strike="noStrike">
              <a:solidFill>
                <a:srgbClr val="000000"/>
              </a:solidFill>
              <a:latin typeface="Times New Roman"/>
            </a:endParaRPr>
          </a:p>
        </p:txBody>
      </p:sp>
      <p:sp>
        <p:nvSpPr>
          <p:cNvPr id="44" name=""/>
          <p:cNvSpPr/>
          <p:nvPr/>
        </p:nvSpPr>
        <p:spPr>
          <a:xfrm>
            <a:off x="631800" y="4300560"/>
            <a:ext cx="8785080" cy="19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rnando Fernandes da Silva</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ail: </a:t>
            </a:r>
            <a:r>
              <a:rPr b="0" lang="en-US" sz="2000" spc="-1" strike="noStrike" u="sng">
                <a:solidFill>
                  <a:srgbClr val="ccccff"/>
                </a:solidFill>
                <a:uFillTx/>
                <a:latin typeface="Verdana"/>
                <a:hlinkClick r:id="rId4"/>
              </a:rPr>
              <a:t>ffsilva@srh.ba.gov.br</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ORDENAÇÃO DE GESTÃ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GEREST/SRH-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04880" y="907920"/>
            <a:ext cx="871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 30 </a:t>
            </a:r>
            <a:r>
              <a:rPr b="0" lang="en-US" sz="1800" spc="-1" strike="noStrike">
                <a:solidFill>
                  <a:srgbClr val="000000"/>
                </a:solidFill>
                <a:latin typeface="Times New Roman"/>
              </a:rPr>
              <a:t>As outorgas de direito de uso de recursos hídricos poderão ser revistas ou suspensas, temporariamente, pelo órgão executor da Política Estadual de Recursos Hídricos do Estado, quando hou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a:t>
            </a:r>
            <a:r>
              <a:rPr b="0" lang="en-US" sz="1800" spc="-1" strike="noStrike">
                <a:solidFill>
                  <a:srgbClr val="000000"/>
                </a:solidFill>
                <a:latin typeface="Times New Roman"/>
              </a:rPr>
              <a:t> modificação dos pressupostos que a determinar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 -</a:t>
            </a:r>
            <a:r>
              <a:rPr b="0" lang="en-US" sz="1800" spc="-1" strike="noStrike">
                <a:solidFill>
                  <a:srgbClr val="000000"/>
                </a:solidFill>
                <a:latin typeface="Times New Roman"/>
              </a:rPr>
              <a:t> necessidade premente de água para atender a situações de calamidade pública, inclusive as decorrentes de condições climáticas advers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I -</a:t>
            </a:r>
            <a:r>
              <a:rPr b="0" lang="en-US" sz="1800" spc="-1" strike="noStrike">
                <a:solidFill>
                  <a:srgbClr val="000000"/>
                </a:solidFill>
                <a:latin typeface="Times New Roman"/>
              </a:rPr>
              <a:t> necessidade de prevenir ou reverter grave degradação ambient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 -</a:t>
            </a:r>
            <a:r>
              <a:rPr b="0" lang="en-US" sz="1800" spc="-1" strike="noStrike">
                <a:solidFill>
                  <a:srgbClr val="000000"/>
                </a:solidFill>
                <a:latin typeface="Times New Roman"/>
              </a:rPr>
              <a:t> necessidade de se atender a usos prioritários ou de interesse coletivo, para os quais não se disponha, comprovadamente, de fontes alternativ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 –</a:t>
            </a:r>
            <a:r>
              <a:rPr b="0" lang="en-US" sz="1800" spc="-1" strike="noStrike">
                <a:solidFill>
                  <a:srgbClr val="000000"/>
                </a:solidFill>
                <a:latin typeface="Times New Roman"/>
              </a:rPr>
              <a:t> necessidade de serem mantidas as características de navegabilidade do corpo d’ águ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560520" y="189000"/>
            <a:ext cx="8856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31 .</a:t>
            </a:r>
            <a:r>
              <a:rPr b="0" lang="pt-BR" sz="1800" spc="-1" strike="noStrike">
                <a:solidFill>
                  <a:srgbClr val="000000"/>
                </a:solidFill>
                <a:latin typeface="Times New Roman"/>
              </a:rPr>
              <a:t> As outorgas de direito de uso de água extinguir-se-ão p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 -</a:t>
            </a:r>
            <a:r>
              <a:rPr b="0" lang="pt-BR" sz="1800" spc="-1" strike="noStrike">
                <a:solidFill>
                  <a:srgbClr val="000000"/>
                </a:solidFill>
                <a:latin typeface="Times New Roman"/>
              </a:rPr>
              <a:t> decurso de praz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I -</a:t>
            </a:r>
            <a:r>
              <a:rPr b="0" lang="pt-BR" sz="1800" spc="-1" strike="noStrike">
                <a:solidFill>
                  <a:srgbClr val="000000"/>
                </a:solidFill>
                <a:latin typeface="Times New Roman"/>
              </a:rPr>
              <a:t> revogação, em razão  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 não cumprimento, pelo outorgado, dos termos da respectiva concessão ou autorizaçã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b) falta de iniciativa ou de conclusão da derivação dentro do prazo estabelecido ou ausência de uso, pelos períodos consignados no ato administrativo da outorg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c) informações falsas, prestadas no processo administrativo do pedido de outorg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d) atividade não apresentar condições de obter o licenciamento ambiental, na forma da legislação específ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II -</a:t>
            </a:r>
            <a:r>
              <a:rPr b="0" lang="pt-BR" sz="1800" spc="-1" strike="noStrike">
                <a:solidFill>
                  <a:srgbClr val="000000"/>
                </a:solidFill>
                <a:latin typeface="Times New Roman"/>
              </a:rPr>
              <a:t> caducida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V -</a:t>
            </a:r>
            <a:r>
              <a:rPr b="0" lang="pt-BR" sz="1800" spc="-1" strike="noStrike">
                <a:solidFill>
                  <a:srgbClr val="000000"/>
                </a:solidFill>
                <a:latin typeface="Times New Roman"/>
              </a:rPr>
              <a:t> desistência do outorg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32 </a:t>
            </a:r>
            <a:r>
              <a:rPr b="0" lang="pt-BR" sz="1800" spc="-1" strike="noStrike">
                <a:solidFill>
                  <a:srgbClr val="000000"/>
                </a:solidFill>
                <a:latin typeface="Times New Roman"/>
              </a:rPr>
              <a:t>. O reuso de águas residuais e residuárias será passível de outorga, conforme regulamentação específi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60520" y="187200"/>
            <a:ext cx="87850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I Nº 6.855 DE 12 DE MAIO DE 199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põe sobre a Política, o Gerenciamento e o Plano Estadual de Recursos Hídricos e dá outras providências.</a:t>
            </a:r>
            <a:endParaRPr b="0" lang="en-US" sz="2400" spc="-1" strike="noStrike">
              <a:solidFill>
                <a:srgbClr val="000000"/>
              </a:solidFill>
              <a:latin typeface="Times New Roman"/>
            </a:endParaRPr>
          </a:p>
        </p:txBody>
      </p:sp>
      <p:sp>
        <p:nvSpPr>
          <p:cNvPr id="46" name=""/>
          <p:cNvSpPr/>
          <p:nvPr/>
        </p:nvSpPr>
        <p:spPr>
          <a:xfrm>
            <a:off x="560520" y="1378440"/>
            <a:ext cx="8785080" cy="53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ÍTULO 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ORGA DE DIREITO DE USO DOS RECURSOS HÍDRIC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 12</a:t>
            </a:r>
            <a:r>
              <a:rPr b="0" lang="en-US" sz="1800" spc="-1" strike="noStrike">
                <a:solidFill>
                  <a:srgbClr val="000000"/>
                </a:solidFill>
                <a:latin typeface="Times New Roman"/>
              </a:rPr>
              <a:t> - A implantação, ampliação e alteração de projetos de qualquer empreendimento que demande a utilização de recursos hídricos, superficiais ou subterrâneos, bem como a execução de obras ou serviços que alterem o seu regime, quantidade ou qualidade, dependerão de prévia outorga do órgão competen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º</a:t>
            </a:r>
            <a:r>
              <a:rPr b="0" lang="en-US" sz="1800" spc="-1" strike="noStrike">
                <a:solidFill>
                  <a:srgbClr val="000000"/>
                </a:solidFill>
                <a:latin typeface="Times New Roman"/>
              </a:rPr>
              <a:t> - O regulamento estabelecerá critérios e diretrizes quanto aos prazos para cadastramento e outorga mencionado no “caput” deste  artig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2º</a:t>
            </a:r>
            <a:r>
              <a:rPr b="0" lang="en-US" sz="1800" spc="-1" strike="noStrike">
                <a:solidFill>
                  <a:srgbClr val="000000"/>
                </a:solidFill>
                <a:latin typeface="Times New Roman"/>
              </a:rPr>
              <a:t> - Atendida a conveniência do interesse público e considerado o volume das derivações e funções sociais a outorga de direito de uso da água poderá ser concedida mediante permissão ou autorizaçã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 13</a:t>
            </a:r>
            <a:r>
              <a:rPr b="0" lang="en-US" sz="1800" spc="-1" strike="noStrike">
                <a:solidFill>
                  <a:srgbClr val="000000"/>
                </a:solidFill>
                <a:latin typeface="Times New Roman"/>
              </a:rPr>
              <a:t> - A derivação de água superficial ou subterrânea, para as diversas utilizações, incluindo o lançamento de efluentes em corpos d’água, dependerá de cadastramento e da outorga da permissão e do direito de uso, obedecidas as legislações federal e estadual pertinentes e atendidos os critérios e normas estabelecidos em regulam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488880" y="268200"/>
            <a:ext cx="8928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ETO Nº 6.296 DE 21 DE MARÇO DE 199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õe sobre a outorga de direito de uso de recursos hídricos, infração e penalidades e dá outras providências.</a:t>
            </a:r>
            <a:endParaRPr b="0" lang="en-US" sz="2400" spc="-1" strike="noStrike">
              <a:solidFill>
                <a:srgbClr val="000000"/>
              </a:solidFill>
              <a:latin typeface="Times New Roman"/>
            </a:endParaRPr>
          </a:p>
        </p:txBody>
      </p:sp>
      <p:sp>
        <p:nvSpPr>
          <p:cNvPr id="48" name=""/>
          <p:cNvSpPr/>
          <p:nvPr/>
        </p:nvSpPr>
        <p:spPr>
          <a:xfrm>
            <a:off x="488880" y="1980720"/>
            <a:ext cx="9024840" cy="447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ÍTULO I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 Outorga do Direito de Uso da Águ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 4º - </a:t>
            </a:r>
            <a:r>
              <a:rPr b="0" lang="en-US" sz="1600" spc="-1" strike="noStrike">
                <a:solidFill>
                  <a:srgbClr val="000000"/>
                </a:solidFill>
                <a:latin typeface="Times New Roman"/>
              </a:rPr>
              <a:t>O uso das águas de domínio público estadual depende da outorga de direitos de uso na forma da Lei n.º 6.855, de 12 de maio de 1995, do Decreto Federal nº 24.643, de 10 de julho de 1934 (Código de Águas), do Decreto n.º 4.082, de 27 de março de 1995, e da Lei Federal n.º 9.433, de 8 de janeiro de 1997, na seguinte conformida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concessão,  nos casos de utilidade públic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 autorização, nos outros cas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rPr>
              <a:t>Art. 5º - </a:t>
            </a:r>
            <a:r>
              <a:rPr b="0" lang="en-US" sz="1600" spc="-1" strike="noStrike">
                <a:solidFill>
                  <a:srgbClr val="000000"/>
                </a:solidFill>
                <a:latin typeface="Times New Roman"/>
              </a:rPr>
              <a:t>A implantação, ampliação e alteração de qualquer empreendimento que demande a utilização de recursos hídricos, superficiais ou subterrâneos, bem como a execução de obras ou serviços que alterem o seu regime, quantidade ou qualidade, dependerão de prévia outorg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1º - </a:t>
            </a:r>
            <a:r>
              <a:rPr b="0" lang="en-US" sz="1600" spc="-1" strike="noStrike">
                <a:solidFill>
                  <a:srgbClr val="000000"/>
                </a:solidFill>
                <a:latin typeface="Times New Roman"/>
              </a:rPr>
              <a:t>A extração mineral ou de outros materiais em leitos ou margens de mananciais, com ou sem derivação de águas, está sujeita à outorga, observada a legislação aplicáv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2º - </a:t>
            </a:r>
            <a:r>
              <a:rPr b="0" lang="en-US" sz="1600" spc="-1" strike="noStrike">
                <a:solidFill>
                  <a:srgbClr val="000000"/>
                </a:solidFill>
                <a:latin typeface="Times New Roman"/>
              </a:rPr>
              <a:t>O uso dos corpos de água para lançamento de esgotos e efluentes líquidos, mesmo sem  prévia derivação de água para diluição, está sujeito à outorga, segundo a legislação ambie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15800" y="470160"/>
            <a:ext cx="9001080" cy="5848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6º - </a:t>
            </a:r>
            <a:r>
              <a:rPr b="0" lang="pt-BR" sz="1400" spc="-1" strike="noStrike">
                <a:solidFill>
                  <a:srgbClr val="000000"/>
                </a:solidFill>
                <a:latin typeface="Times New Roman"/>
              </a:rPr>
              <a:t>As outorgas serão dispensadas quando o uso da água se destinar às primeiras necessidades da vida ou as derivações de águas forem feitas de pequenos reservatórios, cisternas, poços rasos, cravados ou tipo "Amazonas", desde que atendam às seguintes condiçõ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 - vazões máximas de 0,5 l/s (zero vírgula cinco litros por segun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I - volumes máximos acumulados em reservatórios de 200.000 m</a:t>
            </a:r>
            <a:r>
              <a:rPr b="0" lang="pt-BR" sz="1400" spc="-1" strike="noStrike" baseline="30000">
                <a:solidFill>
                  <a:srgbClr val="000000"/>
                </a:solidFill>
                <a:latin typeface="Times New Roman"/>
              </a:rPr>
              <a:t>3</a:t>
            </a:r>
            <a:r>
              <a:rPr b="0" lang="pt-BR" sz="1400" spc="-1" strike="noStrike">
                <a:solidFill>
                  <a:srgbClr val="000000"/>
                </a:solidFill>
                <a:latin typeface="Times New Roman"/>
              </a:rPr>
              <a:t> (duzentos mil metros cúb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Parágrafo único - </a:t>
            </a:r>
            <a:r>
              <a:rPr b="0" lang="pt-BR" sz="1400" spc="-1" strike="noStrike">
                <a:solidFill>
                  <a:srgbClr val="000000"/>
                </a:solidFill>
                <a:latin typeface="Times New Roman"/>
              </a:rPr>
              <a:t>A dispensa de outorga não implica a inexistência de controle e fiscalização no interesse público e na conciliação de conflitos sempre que as derivações insignificantes possam interferir umas nas outr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7º - </a:t>
            </a:r>
            <a:r>
              <a:rPr b="0" lang="pt-BR" sz="1400" spc="-1" strike="noStrike">
                <a:solidFill>
                  <a:srgbClr val="000000"/>
                </a:solidFill>
                <a:latin typeface="Times New Roman"/>
              </a:rPr>
              <a:t>Os prazos máximos a serem estabelecidos para a outorga serão 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 - concessão: 30 an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I - autorização: 4 anos, renováveis por mais dois períodos igua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1º - </a:t>
            </a:r>
            <a:r>
              <a:rPr b="0" lang="pt-BR" sz="1400" spc="-1" strike="noStrike">
                <a:solidFill>
                  <a:srgbClr val="000000"/>
                </a:solidFill>
                <a:latin typeface="Times New Roman"/>
              </a:rPr>
              <a:t>No caso do inciso II, vencido o prazo da segunda renovação, poderão ser outorgadas novas autorizações, se as disponibilidades hídricas locais forem suficientes, conforme estiver demonstrado nos planos de bacias hidrográfic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2º - </a:t>
            </a:r>
            <a:r>
              <a:rPr b="0" lang="pt-BR" sz="1400" spc="-1" strike="noStrike">
                <a:solidFill>
                  <a:srgbClr val="000000"/>
                </a:solidFill>
                <a:latin typeface="Times New Roman"/>
              </a:rPr>
              <a:t>O usuário da água deverá requerer a renovação do prazo de outorga 6 (seis) meses antes de sua expiraçã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8º - </a:t>
            </a:r>
            <a:r>
              <a:rPr b="0" lang="pt-BR" sz="1400" spc="-1" strike="noStrike">
                <a:solidFill>
                  <a:srgbClr val="000000"/>
                </a:solidFill>
                <a:latin typeface="Times New Roman"/>
              </a:rPr>
              <a:t>Somente ao proprietário da terra ou a alguém com sua anuência, devidamente formalizada, será outorgado o direito de uso das águ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9º - </a:t>
            </a:r>
            <a:r>
              <a:rPr b="0" lang="pt-BR" sz="1400" spc="-1" strike="noStrike">
                <a:solidFill>
                  <a:srgbClr val="000000"/>
                </a:solidFill>
                <a:latin typeface="Times New Roman"/>
              </a:rPr>
              <a:t>Quando considerado conveniente, os outorgados deverão instalar e operar estações e equipamentos hidrométricos, ou arcar com os respectivos custos, ficando obrigados a encaminhar os dados observados e medidos à SRH, na forma preconizada no ato de outorga e de conformidade com as normas e procedimentos estabelecid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60520" y="759240"/>
            <a:ext cx="8785080" cy="5421960"/>
          </a:xfrm>
          <a:prstGeom prst="rect">
            <a:avLst/>
          </a:prstGeom>
          <a:noFill/>
          <a:ln w="0">
            <a:noFill/>
          </a:ln>
        </p:spPr>
        <p:style>
          <a:lnRef idx="0"/>
          <a:fillRef idx="0"/>
          <a:effectRef idx="0"/>
          <a:fontRef idx="minor"/>
        </p:style>
        <p:txBody>
          <a:bodyPr lIns="90000" rIns="90000" tIns="46800" bIns="46800" anchor="ctr">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1</a:t>
            </a:r>
            <a:r>
              <a:rPr b="1" lang="pt-BR" sz="1400" spc="-1" strike="noStrike">
                <a:solidFill>
                  <a:srgbClr val="000000"/>
                </a:solidFill>
                <a:latin typeface="Symbol"/>
                <a:ea typeface="Symbol"/>
              </a:rPr>
              <a:t></a:t>
            </a:r>
            <a:r>
              <a:rPr b="1" lang="pt-BR" sz="1400" spc="-1" strike="noStrike">
                <a:solidFill>
                  <a:srgbClr val="000000"/>
                </a:solidFill>
                <a:latin typeface="Times New Roman"/>
              </a:rPr>
              <a:t> </a:t>
            </a:r>
            <a:r>
              <a:rPr b="0" lang="pt-BR" sz="1400" spc="-1" strike="noStrike">
                <a:solidFill>
                  <a:srgbClr val="000000"/>
                </a:solidFill>
                <a:latin typeface="Times New Roman"/>
              </a:rPr>
              <a:t>Ficam dispensadas de outorga as captações, derivações, lançamentos e acumulações consideradas de pouca expressão, sem prejuízo de seu cadastramento para o monitoramento de uso, controle e fiscalização, para fins de defesa da segurança e da saúde pública e da solução de conflitos.</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2</a:t>
            </a:r>
            <a:r>
              <a:rPr b="1" lang="pt-BR" sz="1400" spc="-1" strike="noStrike">
                <a:solidFill>
                  <a:srgbClr val="000000"/>
                </a:solidFill>
                <a:latin typeface="Symbol"/>
                <a:ea typeface="Symbol"/>
              </a:rPr>
              <a:t></a:t>
            </a:r>
            <a:r>
              <a:rPr b="1" lang="pt-BR" sz="1400" spc="-1" strike="noStrike">
                <a:solidFill>
                  <a:srgbClr val="000000"/>
                </a:solidFill>
                <a:latin typeface="Times New Roman"/>
              </a:rPr>
              <a:t> </a:t>
            </a:r>
            <a:r>
              <a:rPr b="0" lang="pt-BR" sz="1400" spc="-1" strike="noStrike">
                <a:solidFill>
                  <a:srgbClr val="000000"/>
                </a:solidFill>
                <a:latin typeface="Times New Roman"/>
              </a:rPr>
              <a:t>O</a:t>
            </a:r>
            <a:r>
              <a:rPr b="1" lang="pt-BR" sz="1400" spc="-1" strike="noStrike">
                <a:solidFill>
                  <a:srgbClr val="000000"/>
                </a:solidFill>
                <a:latin typeface="Times New Roman"/>
              </a:rPr>
              <a:t> outorgado ficará responsável, na forma da legislação pertinente, por qualquer dano ao meio ambiente causado pela execução de obras de captação, contenção ou de derivação de águas.</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3</a:t>
            </a:r>
            <a:r>
              <a:rPr b="1" lang="pt-BR" sz="1400" spc="-1" strike="noStrike">
                <a:solidFill>
                  <a:srgbClr val="000000"/>
                </a:solidFill>
                <a:latin typeface="Symbol"/>
                <a:ea typeface="Symbol"/>
              </a:rPr>
              <a:t></a:t>
            </a:r>
            <a:r>
              <a:rPr b="0" lang="pt-BR" sz="1400" spc="-1" strike="noStrike">
                <a:solidFill>
                  <a:srgbClr val="000000"/>
                </a:solidFill>
                <a:latin typeface="Times New Roman"/>
              </a:rPr>
              <a:t> Ato regulamentar estabelecerá os valores a serem recolhidos por conta das despesas correspondentes à expedição de outorgas de direito de uso da água, a serem pagas pelos interessados. </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10 - </a:t>
            </a:r>
            <a:r>
              <a:rPr b="0" lang="pt-BR" sz="1400" spc="-1" strike="noStrike">
                <a:solidFill>
                  <a:srgbClr val="000000"/>
                </a:solidFill>
                <a:latin typeface="Times New Roman"/>
              </a:rPr>
              <a:t>As outorgas serão expedidas segundo a seguinte ordem de prioridade, que poderá ser alterada e ajustada às peculiaridades das bacias hidrográficas, a partir do inciso II:</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 - abastecimento humano e animal;</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I - irrigação;</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II - abastecimento agro-industrial;</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V - abastecimento industrial;</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V - aquicultura;</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VI - mineração;</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VII - lançamento de efluentes;</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VIII - outros usos.</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Parágrafo único</a:t>
            </a:r>
            <a:r>
              <a:rPr b="0" lang="pt-BR" sz="1400" spc="-1" strike="noStrike">
                <a:solidFill>
                  <a:srgbClr val="000000"/>
                </a:solidFill>
                <a:latin typeface="Times New Roman"/>
              </a:rPr>
              <a:t> - A prioridade do uso de recursos hídricos para aproveitamento energético será estabelecida mediante articulação com os órgãos ou entidades competentes nos termos das Leis Federais nos  9.427, de 26 de dezembro de 1996, e 9.433, de 8 de janeiro de 199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72880" y="123120"/>
            <a:ext cx="9288720" cy="642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Art. 11 - </a:t>
            </a:r>
            <a:r>
              <a:rPr b="0" lang="pt-BR" sz="1600" spc="-1" strike="noStrike">
                <a:solidFill>
                  <a:srgbClr val="000000"/>
                </a:solidFill>
                <a:latin typeface="Times New Roman"/>
              </a:rPr>
              <a:t> No caso de escassez de recursos hídricos, haverá racionamento de uso de recursos hídricos, que considerará preferencialm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 - o abastecimento humano e anim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I - os usos que comprovarem menor consumo unitário de águ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II - os usos que propiciem maior benefício so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Art. 12 - </a:t>
            </a:r>
            <a:r>
              <a:rPr b="0" lang="pt-BR" sz="1600" spc="-1" strike="noStrike">
                <a:solidFill>
                  <a:srgbClr val="000000"/>
                </a:solidFill>
                <a:latin typeface="Times New Roman"/>
              </a:rPr>
              <a:t>As outorgas do direito de uso da água serão expedidas pela Secretaria de Recursos Hídricos, Saneamento e Habitação e pela Superintendência de Recursos Hídricos, conforme o disposto no inciso XVI, do art. 9º, do Decreto n.o 4.082, de 27 de março de 1995, mediante portarias específicas publicadas no Diário Oficial do Est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Art. 13 - </a:t>
            </a:r>
            <a:r>
              <a:rPr b="0" lang="pt-BR" sz="1600" spc="-1" strike="noStrike">
                <a:solidFill>
                  <a:srgbClr val="000000"/>
                </a:solidFill>
                <a:latin typeface="Times New Roman"/>
              </a:rPr>
              <a:t>Será estabelecida, em Manual de Outorga da SRH, orientação ao usuário para a formalização do seu pleito, contendo as informações necessárias para a tramitação do process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 1º - </a:t>
            </a:r>
            <a:r>
              <a:rPr b="0" lang="pt-BR" sz="1600" spc="-1" strike="noStrike">
                <a:solidFill>
                  <a:srgbClr val="000000"/>
                </a:solidFill>
                <a:latin typeface="Times New Roman"/>
              </a:rPr>
              <a:t>Constarão do Manual de Outorga os formulários-padrão e a discriminação dos documentos a serem preenchidos e anexados, dentre os quais, necessariam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 - comprovante de propriedade da terra ou documento de anuência do proprietá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I - identificação e qualificação do solicita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II - projeto que permita comprovação da necessidade e quantidade de águ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 2</a:t>
            </a:r>
            <a:r>
              <a:rPr b="0" lang="pt-BR" sz="1600" spc="-1" strike="noStrike">
                <a:solidFill>
                  <a:srgbClr val="000000"/>
                </a:solidFill>
                <a:latin typeface="Times New Roman"/>
              </a:rPr>
              <a:t>o No caso de barramentos, será exigida</a:t>
            </a:r>
            <a:r>
              <a:rPr b="1" lang="pt-BR" sz="1600" spc="-1" strike="noStrike">
                <a:solidFill>
                  <a:srgbClr val="000000"/>
                </a:solidFill>
                <a:latin typeface="Times New Roman"/>
              </a:rPr>
              <a:t> </a:t>
            </a:r>
            <a:r>
              <a:rPr b="0" lang="pt-BR" sz="1600" spc="-1" strike="noStrike">
                <a:solidFill>
                  <a:srgbClr val="000000"/>
                </a:solidFill>
                <a:latin typeface="Times New Roman"/>
              </a:rPr>
              <a:t>Anotação de Responsabilidade Técnica - ART, expedida pelo Conselho Regional de Engenharia e Arquitetura - CRE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 3º - </a:t>
            </a:r>
            <a:r>
              <a:rPr b="0" lang="pt-BR" sz="1600" spc="-1" strike="noStrike">
                <a:solidFill>
                  <a:srgbClr val="000000"/>
                </a:solidFill>
                <a:latin typeface="Times New Roman"/>
              </a:rPr>
              <a:t>Comunicado da aprovação da outorga, o usuário fará o recolhimento dos valores referentes ao ressarcimento de custos referentes à publicação da portaria de outorga e dos serviços de análise de sua solicitação, conforme consta no Anexo Único que integra este Decre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88880" y="340920"/>
            <a:ext cx="907272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14 - </a:t>
            </a:r>
            <a:r>
              <a:rPr b="0" lang="pt-BR" sz="1800" spc="-1" strike="noStrike">
                <a:solidFill>
                  <a:srgbClr val="000000"/>
                </a:solidFill>
                <a:latin typeface="Times New Roman"/>
              </a:rPr>
              <a:t>Ficam estabelecidos, para o somatório das vazões a serem outorgadas, os seguintes limi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I - 80% (oitenta por cento) da vazão de referência do manancial, estimada com base na vazão de até 90% (noventa por cento) de permanência a nível diário, quando não houver barramen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II - 80% (oitenta por cento) das vazões regularizadas com 90% (noventa por cento) de garantia, dos lagos naturais ou de barramentos implantados em mananciais pere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III - 95% (noventa e cinco por cento) das vazões regularizadas com 90% (noventa por cento) de garantia, dos lagos naturais ou de barramentos implantados em mananciais intermit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 1º - </a:t>
            </a:r>
            <a:r>
              <a:rPr b="0" lang="pt-BR" sz="1800" spc="-1" strike="noStrike">
                <a:solidFill>
                  <a:srgbClr val="000000"/>
                </a:solidFill>
                <a:latin typeface="Times New Roman"/>
              </a:rPr>
              <a:t>Nos casos de abastecimento humano, os limites dos incisos I e II poderão atingir até 95% (noventa e cinco por cen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 2º - </a:t>
            </a:r>
            <a:r>
              <a:rPr b="0" lang="pt-BR" sz="1800" spc="-1" strike="noStrike">
                <a:solidFill>
                  <a:srgbClr val="000000"/>
                </a:solidFill>
                <a:latin typeface="Times New Roman"/>
              </a:rPr>
              <a:t>No caso do inciso II, a vazão remanescente de 20% (vinte por cento) das vazões regularizadas deverá escoar para jusante, por descarga de fundo ou por qualquer outro dispositivo que não inclua bombas de recal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 3º - </a:t>
            </a:r>
            <a:r>
              <a:rPr b="0" lang="pt-BR" sz="1800" spc="-1" strike="noStrike">
                <a:solidFill>
                  <a:srgbClr val="000000"/>
                </a:solidFill>
                <a:latin typeface="Times New Roman"/>
              </a:rPr>
              <a:t>Nenhum usuário, individualmente, receberá autorização acima de 20% (vinte por cento) da vazão de referência de um dado mananci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72880" y="199080"/>
            <a:ext cx="9144000" cy="6421320"/>
          </a:xfrm>
          <a:prstGeom prst="rect">
            <a:avLst/>
          </a:prstGeom>
          <a:noFill/>
          <a:ln w="0">
            <a:noFill/>
          </a:ln>
        </p:spPr>
        <p:style>
          <a:lnRef idx="0"/>
          <a:fillRef idx="0"/>
          <a:effectRef idx="0"/>
          <a:fontRef idx="minor"/>
        </p:style>
        <p:txBody>
          <a:bodyPr lIns="90000" rIns="90000" tIns="46800" bIns="46800" anchor="ctr">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 15 - </a:t>
            </a:r>
            <a:r>
              <a:rPr b="0" lang="en-US" sz="1600" spc="-1" strike="noStrike">
                <a:solidFill>
                  <a:srgbClr val="000000"/>
                </a:solidFill>
                <a:latin typeface="Times New Roman"/>
              </a:rPr>
              <a:t>Serão fixados, em portaria do Diretor Geral da SRH, os critérios técnicos a serem atendidos na análise dos pedidos de outorga, dentre os quais:</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as vazões dos mananciais superficiais ou os volumes deriváveis dos lagos ou reservatórios acima dos quais a outorga será concedida sob condições especiais;</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 as limitações dos níveis dinâmicos e as vazões máximas a serem extraídas de poços tubulares profundos;</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 - os critérios de preferência para a outorga ao usuário que demonstrar maior racionalidade na utilização do recurso hídrico.</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1º - </a:t>
            </a:r>
            <a:r>
              <a:rPr b="0" lang="en-US" sz="1600" spc="-1" strike="noStrike">
                <a:solidFill>
                  <a:srgbClr val="000000"/>
                </a:solidFill>
                <a:latin typeface="Times New Roman"/>
              </a:rPr>
              <a:t>Dentre as condições especiais de que trata este artigo, deverão constar:</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a possibilidade de estabelecer-se regime de racionamento para o uso das águas, na dependência de situação hidrológica crítica, ou de grau de rebaixamento do nível de água dos aqüíferos;</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 a existência de monitoramento da quantidade e qualidade dos recursos hídricos assim como das captações e derivações de águas, de forma a estabelecer e controlar o regime de racionamento;</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 - a existência de associação de usuários ou de Comitês de Bacias Hidrográficas para definição de critérios e regimes de racionamento.</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2º - </a:t>
            </a:r>
            <a:r>
              <a:rPr b="0" lang="en-US" sz="1600" spc="-1" strike="noStrike">
                <a:solidFill>
                  <a:srgbClr val="000000"/>
                </a:solidFill>
                <a:latin typeface="Times New Roman"/>
              </a:rPr>
              <a:t>Na ocorrência de estiagem prolongada e insuficiência de água para atender os usuários, os critérios fixados nas portarias de outorga poderão ser alterados, assegurada a prioridade para as primeiras necessidades da vida.</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3º</a:t>
            </a:r>
            <a:r>
              <a:rPr b="0" lang="en-US" sz="1600" spc="-1" strike="noStrike">
                <a:solidFill>
                  <a:srgbClr val="000000"/>
                </a:solidFill>
                <a:latin typeface="Times New Roman"/>
              </a:rPr>
              <a:t> As condições e critérios para outorga de lançamento de efluentes e resíduos líquidos serão fixados em conformidade com a legislação ambie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88880" y="260280"/>
            <a:ext cx="9217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uta: Dispõe sobre a Política Estadual de Recursos Hídricos, cria o Sistema Estadual de Gerenciamento de Recursos Hídricos e dá outras providências.</a:t>
            </a:r>
            <a:endParaRPr b="0" lang="en-US" sz="2000" spc="-1" strike="noStrike">
              <a:solidFill>
                <a:srgbClr val="000000"/>
              </a:solidFill>
              <a:latin typeface="Times New Roman"/>
            </a:endParaRPr>
          </a:p>
        </p:txBody>
      </p:sp>
      <p:sp>
        <p:nvSpPr>
          <p:cNvPr id="55" name=""/>
          <p:cNvSpPr/>
          <p:nvPr/>
        </p:nvSpPr>
        <p:spPr>
          <a:xfrm>
            <a:off x="488880" y="1213920"/>
            <a:ext cx="9001080" cy="5365080"/>
          </a:xfrm>
          <a:prstGeom prst="rect">
            <a:avLst/>
          </a:prstGeom>
          <a:noFill/>
          <a:ln w="0">
            <a:noFill/>
          </a:ln>
        </p:spPr>
        <p:style>
          <a:lnRef idx="0"/>
          <a:fillRef idx="0"/>
          <a:effectRef idx="0"/>
          <a:fontRef idx="minor"/>
        </p:style>
        <p:txBody>
          <a:bodyPr lIns="90000" rIns="90000" tIns="76320" bIns="76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Da Outorga de Direito de Uso de Recursos Hídric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28 .</a:t>
            </a:r>
            <a:r>
              <a:rPr b="0" lang="pt-BR" sz="1800" spc="-1" strike="noStrike">
                <a:solidFill>
                  <a:srgbClr val="000000"/>
                </a:solidFill>
                <a:latin typeface="Times New Roman"/>
              </a:rPr>
              <a:t> A outorga de direito de uso de recursos hídricos tem por objetivos o controle quantitativo e qualitativo dos usos da água e o efetivo exercício do direito de acesso à água, condicionando-se às prioridades de uso estabelecidas nos Planos de Recursos Hídrico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Parágrafo único. </a:t>
            </a:r>
            <a:r>
              <a:rPr b="0" lang="pt-BR" sz="1800" spc="-1" strike="noStrike">
                <a:solidFill>
                  <a:srgbClr val="000000"/>
                </a:solidFill>
                <a:latin typeface="Times New Roman"/>
              </a:rPr>
              <a:t>No ato de concessão da outorga de direito de uso de recursos hídricos deverá constar a finalidade, o prazo, que não excederá trinta anos, a vazão máxima outorgada, o seu regime de variação, o tempo de bombeamento e, no caso de lançamento de efluentes, os parâmetros de qualidade dos mesm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29 . </a:t>
            </a:r>
            <a:r>
              <a:rPr b="0" lang="pt-BR" sz="1800" spc="-1" strike="noStrike">
                <a:solidFill>
                  <a:srgbClr val="000000"/>
                </a:solidFill>
                <a:latin typeface="Times New Roman"/>
              </a:rPr>
              <a:t>Ficam sujeitas à outorga de direito de uso de Recursos Hídr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 -</a:t>
            </a:r>
            <a:r>
              <a:rPr b="0" lang="pt-BR" sz="1800" spc="-1" strike="noStrike">
                <a:solidFill>
                  <a:srgbClr val="000000"/>
                </a:solidFill>
                <a:latin typeface="Times New Roman"/>
              </a:rPr>
              <a:t> as atividades ou empreendimentos que captem ou derivem águas superficiais ou subterrâneas, para uso próprio ou para terceir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I </a:t>
            </a:r>
            <a:r>
              <a:rPr b="0" lang="pt-BR" sz="1800" spc="-1" strike="noStrike">
                <a:solidFill>
                  <a:srgbClr val="000000"/>
                </a:solidFill>
                <a:latin typeface="Times New Roman"/>
              </a:rPr>
              <a:t>– as atividades ou empreendimentos com potencial de provocar poluição, contaminação ou degradação das águas superficiais ou subterrâneas mediante lançamentos, nos corpos d´água, de despejos ou resíduos líqui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II –</a:t>
            </a:r>
            <a:r>
              <a:rPr b="0" lang="pt-BR" sz="1800" spc="-1" strike="noStrike">
                <a:solidFill>
                  <a:srgbClr val="000000"/>
                </a:solidFill>
                <a:latin typeface="Times New Roman"/>
              </a:rPr>
              <a:t> as atividades, ações ou intervenções que possam afetar a quantidade, a qualidade e o regime das águas superficiais ou subterrâne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V -</a:t>
            </a:r>
            <a:r>
              <a:rPr b="0" lang="pt-BR" sz="1800" spc="-1" strike="noStrike">
                <a:solidFill>
                  <a:srgbClr val="000000"/>
                </a:solidFill>
                <a:latin typeface="Times New Roman"/>
              </a:rPr>
              <a:t> a extração mineral ou de outros materiais em leitos ou margens de manancia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V - </a:t>
            </a:r>
            <a:r>
              <a:rPr b="0" lang="pt-BR" sz="1800" spc="-1" strike="noStrike">
                <a:solidFill>
                  <a:srgbClr val="000000"/>
                </a:solidFill>
                <a:latin typeface="Times New Roman"/>
              </a:rPr>
              <a:t>o lançamento de esgotos e efluentes líquidos em corpos d´água para diluiçã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5:12:39Z</dcterms:created>
  <dc:creator>Fernando Fernandes</dc:creator>
  <dc:description/>
  <dc:language>en-US</dc:language>
  <cp:lastModifiedBy>Cliente</cp:lastModifiedBy>
  <dcterms:modified xsi:type="dcterms:W3CDTF">2005-07-01T11:12:15Z</dcterms:modified>
  <cp:revision>399</cp:revision>
  <dc:subject/>
  <dc:title>Apresentação do PowerPoint</dc:title>
</cp:coreProperties>
</file>