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172360" y="6040440"/>
            <a:ext cx="657360" cy="3967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755640" y="260280"/>
            <a:ext cx="720108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84280" y="581040"/>
            <a:ext cx="326880" cy="307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30240" y="307800"/>
            <a:ext cx="328680" cy="30816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91960" y="272880"/>
            <a:ext cx="328680" cy="3096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581040"/>
            <a:ext cx="328680" cy="307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20640" y="0"/>
            <a:ext cx="328680" cy="307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24000" y="836640"/>
            <a:ext cx="326880" cy="307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50920" y="6524640"/>
            <a:ext cx="86421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7993080" y="115920"/>
            <a:ext cx="1042920" cy="46368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73080" y="1268280"/>
            <a:ext cx="9036000" cy="2521080"/>
            <a:chOff x="73080" y="1268280"/>
            <a:chExt cx="9036000" cy="2521080"/>
          </a:xfrm>
        </p:grpSpPr>
        <p:sp>
          <p:nvSpPr>
            <p:cNvPr id="87" name=""/>
            <p:cNvSpPr/>
            <p:nvPr/>
          </p:nvSpPr>
          <p:spPr>
            <a:xfrm>
              <a:off x="1152360" y="2058840"/>
              <a:ext cx="7956720" cy="17305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9440" y="3139920"/>
              <a:ext cx="647640" cy="64944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24000" y="2492280"/>
              <a:ext cx="647640" cy="64944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08360" y="1916280"/>
              <a:ext cx="647640" cy="649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9440" y="1844640"/>
              <a:ext cx="647640" cy="64944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080" y="2492280"/>
              <a:ext cx="647640" cy="649440"/>
            </a:xfrm>
            <a:prstGeom prst="rect">
              <a:avLst/>
            </a:prstGeom>
            <a:solidFill>
              <a:srgbClr val="33339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97080" y="1268280"/>
              <a:ext cx="647640" cy="64944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03280" y="2133720"/>
              <a:ext cx="7705800" cy="156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ffffff"/>
                  </a:solidFill>
                  <a:latin typeface="Arial"/>
                </a:rPr>
                <a:t>IGAM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INSTITUTO MINEIRO DE GESTÃO DAS ÁGU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244000" y="4508640"/>
            <a:ext cx="644400" cy="261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172360" y="5084640"/>
            <a:ext cx="642960" cy="184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8172360" y="5589720"/>
            <a:ext cx="693720" cy="307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8028000" y="6165720"/>
            <a:ext cx="792000" cy="479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47640" y="54936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 I S T E M A    E S T A D U A L    D E    M E I O    A M B I E N T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96680" y="1143000"/>
            <a:ext cx="3886920" cy="288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40" indent="-144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- USO DE RECURSO HÍDRICO - IG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2280" y="2327400"/>
            <a:ext cx="88376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90720" y="457200"/>
            <a:ext cx="7848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28920" y="4881600"/>
            <a:ext cx="1047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04920"/>
            <a:ext cx="8991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  <a:ea typeface="Arial"/>
              </a:rPr>
              <a:t>Cus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7520" y="228600"/>
            <a:ext cx="873360" cy="603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"/>
          <p:cNvGraphicFramePr/>
          <p:nvPr/>
        </p:nvGraphicFramePr>
        <p:xfrm>
          <a:off x="228600" y="1219320"/>
          <a:ext cx="8839080" cy="4806720"/>
        </p:xfrm>
        <a:graphic>
          <a:graphicData uri="http://schemas.openxmlformats.org/drawingml/2006/table">
            <a:tbl>
              <a:tblPr/>
              <a:tblGrid>
                <a:gridCol w="4710240"/>
                <a:gridCol w="1461960"/>
                <a:gridCol w="1366920"/>
                <a:gridCol w="1299960"/>
              </a:tblGrid>
              <a:tr h="102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ipos de Interven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usto 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náli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R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usto de Public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R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usto 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R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Subterrân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 - Autorização para perfuração de poço tubu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 - Poço tubular e man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5,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5,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 Superfi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 - Captação dir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5,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5,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 - Açude/Barramento sem regulariz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8,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8,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 - Barramento com regularização com área de espelho d’água até 5,0 h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96,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06,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 - Barramento com regularização com área de espelho d’água acima de 5,0 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10,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20,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276200" y="1828800"/>
            <a:ext cx="664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Informações técnicas princip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2438280"/>
            <a:ext cx="718848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 algn="just">
              <a:spcAft>
                <a:spcPts val="2500"/>
              </a:spcAft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Coordenadas do ponto do uso do recurso hídrico obtidas por GPS (preferencialment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spcAft>
                <a:spcPts val="2500"/>
              </a:spcAft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Justificativa da vazão solicitada em função do uso (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  <a:ea typeface="Arial"/>
              </a:rPr>
              <a:t>descrição do sistema de recirculação de água, condições de reservação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spcAft>
                <a:spcPts val="2500"/>
              </a:spcAft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Características da estrutura de captação ou estrutura referente ao us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spcAft>
                <a:spcPts val="2500"/>
              </a:spcAft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Características do empreendi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00200" y="62532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entações / procedimentos para elaboração de processo de outo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76200" y="1905120"/>
            <a:ext cx="664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aptação direta em corpo de á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2971800"/>
            <a:ext cx="7664400" cy="28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 algn="just">
              <a:spcAft>
                <a:spcPts val="2999"/>
              </a:spcAft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terminação da área de drenagem e da vazão Q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7,10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no ponto de capt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spcAft>
                <a:spcPts val="2999"/>
              </a:spcAft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valiação da disponibilidade hídrica considerando a vazão máxima outorgável (30% da Q7,10) e os usuários a montante e a jusante do ponto de captação quando for o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62532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entações / procedimentos para elaboração de processo de outo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1447920"/>
            <a:ext cx="802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aptação em barramento com regularização de vaz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 algn="just">
              <a:spcAft>
                <a:spcPts val="1250"/>
              </a:spcAft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Área inundada e volume de acumulação do reservatóri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spcAft>
                <a:spcPts val="1250"/>
              </a:spcAft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imulação hidrológica de operação diária do reservatório para um período crítico de pelo menos 1 (um) ano, obtido a partir de uma série de dados de pelo menos 10 (dez) anos, considerando os usuários de água a montante e a jusante do mesmo quando for o cas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spcAft>
                <a:spcPts val="1250"/>
              </a:spcAft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presentar o dimensionamento hidráulico da descarga de fundo considerando a vazão mínima residual, informando a lâmina de água mínima a ser mantida no reservatório para garantia dessa vaz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spcAft>
                <a:spcPts val="1250"/>
              </a:spcAft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presentar o dimensionamento hidráulico do vertedouro de emergência considerando a cheia máxima de proj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spcAft>
                <a:spcPts val="1250"/>
              </a:spcAft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00200" y="62532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entações / procedimentos para elaboração de processo de outo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76200" y="1447920"/>
            <a:ext cx="664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esvio parcial ou total do curso d’á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905120"/>
            <a:ext cx="822960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61800" indent="-361800" algn="just">
              <a:spcAft>
                <a:spcPts val="1250"/>
              </a:spcAft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Informações referentes ao curso de água no trecho da intervenção e ao canal de desvio, características físicas e geométricas dos mesm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spcAft>
                <a:spcPts val="1250"/>
              </a:spcAft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Estudo hidrológico utilizado para a definição das vazões transportadas no canal de desvio, com seus respectivos períodos de recorrênci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spcAft>
                <a:spcPts val="1250"/>
              </a:spcAft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Dimensionamento hidráulico do canal de desvio para a vazão de proje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spcAft>
                <a:spcPts val="1250"/>
              </a:spcAft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Os critérios utilizados para a definição do revestimento das seções do desvio, levando em consideração aspectos hidráulicos, tecnológicos, operacionais, ambientais e sociais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00200" y="62532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entações / procedimentos para elaboração de processo de outo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76200" y="1371600"/>
            <a:ext cx="664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anal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905120"/>
            <a:ext cx="822960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61800" indent="-361800" algn="just">
              <a:spcAft>
                <a:spcPts val="1250"/>
              </a:spcAft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Informações referentes ao curso de água no trecho da intervenção e à canalização, características físicas e geométricas dos mesm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spcAft>
                <a:spcPts val="1250"/>
              </a:spcAft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Estudo hidrológico utilizado para a definição das vazões de projeto, com seus respectivos períodos de recorrênci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spcAft>
                <a:spcPts val="1250"/>
              </a:spcAft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Estudo hidráulico mostrando o perfil da linha d’água para a vazão de projeto no trecho da canalização, com e sem a intervenção, considerando o efeito da própria canalização e de obstáculos como curvas, pontes, bueiros etc, a montante e a jusante do trecho em quest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spcAft>
                <a:spcPts val="1250"/>
              </a:spcAft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ritérios utilizados para a definição do revestimento da canalização, levando em consideração aspectos hidráulicos, tecnológicos, operacionais, ambientais e soci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62532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entações / procedimentos para elaboração de processo de outo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276200" y="1295280"/>
            <a:ext cx="664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rag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752480"/>
            <a:ext cx="822960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61800" indent="-361800" algn="just">
              <a:spcAft>
                <a:spcPts val="1250"/>
              </a:spcAft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Informações referentes ao curso de água no trecho da intervenção, incluindo as características físicas e geométricas do mesm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spcAft>
                <a:spcPts val="1250"/>
              </a:spcAft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Quando houver alteração da seção original do leito do curso de água, apresentar o perfil longitudinal e as características das principais seções transversais do trecho em questão, antes e após a realização da intervenção, e o estudo hidráulico considerando os possíveis efeitos causados a jusante e a montante da intervenção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spcAft>
                <a:spcPts val="1250"/>
              </a:spcAft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Informar o tipo de material retirado, o volume e a sua destinação final, bem como o período de duração da interven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spcAft>
                <a:spcPts val="1250"/>
              </a:spcAft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Informar os tipos de equipamentos e processos utilizados na execução do serviço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53352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entações / procedimentos para elaboração de processo de outo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066680" y="1828800"/>
            <a:ext cx="664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Perfuração de poço tub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(licença de perfuraçã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2867040"/>
            <a:ext cx="774072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 algn="just">
              <a:spcAft>
                <a:spcPts val="1250"/>
              </a:spcAft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nfirmação do ponto de locação do poç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spcAft>
                <a:spcPts val="1250"/>
              </a:spcAft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formação sobre a existência de poços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nascentes, cursos d’água e fontes potenciais de poluição, existentes num raio de 500m do ponto de locação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spcAft>
                <a:spcPts val="1250"/>
              </a:spcAft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formações sobre a locação do poço em áreas de proteção permanente (veredas, nascentes, unidades de conservação et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62532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entações / procedimentos para elaboração de processo de outo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76200" y="1600200"/>
            <a:ext cx="664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aptação de água subterrân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2289240"/>
            <a:ext cx="822960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61800" indent="-361800" algn="just">
              <a:spcAft>
                <a:spcPts val="1500"/>
              </a:spcAft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Identificação da empresa perfurador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spcAft>
                <a:spcPts val="1500"/>
              </a:spcAft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Identificação da empresa responsável pelo teste de bombea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spcAft>
                <a:spcPts val="1500"/>
              </a:spcAft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Características do poço tubula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spcAft>
                <a:spcPts val="1500"/>
              </a:spcAft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Características do conjunto moto-bomba instalad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spcAft>
                <a:spcPts val="1500"/>
              </a:spcAft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Resultados finais do teste de bombea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spcAft>
                <a:spcPts val="1500"/>
              </a:spcAft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Perfis: construtivo (pré-filtro, revestimento, filtros e cimentação sanitária), geológico (litologia, sistemas aquífer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00200" y="62532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entações / procedimentos para elaboração de processo de outo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0920" y="6524640"/>
            <a:ext cx="86421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2749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TPOA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9440" y="2565360"/>
            <a:ext cx="647640" cy="6494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24000" y="1917720"/>
            <a:ext cx="647640" cy="6494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8000" y="1341360"/>
            <a:ext cx="648000" cy="6494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9440" y="1270080"/>
            <a:ext cx="647640" cy="6490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0" y="1917720"/>
            <a:ext cx="647640" cy="64944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97080" y="693720"/>
            <a:ext cx="647640" cy="6494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40000" y="1371600"/>
            <a:ext cx="676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Gestão de recursos hídr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no Estado de Minas Ger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885080" y="5965920"/>
            <a:ext cx="981000" cy="434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057400" y="508968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Brasília, Julho de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76200" y="1447920"/>
            <a:ext cx="664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Rebaixamento de Lenç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905120"/>
            <a:ext cx="822960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61800" indent="-361800" algn="just">
              <a:spcAft>
                <a:spcPts val="1250"/>
              </a:spcAft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Modelo hidrogeológico conceitual da área de influência da min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spcAft>
                <a:spcPts val="1250"/>
              </a:spcAft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Modelo numérico de fluxo subterrâneo, quando for o cas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spcAft>
                <a:spcPts val="1250"/>
              </a:spcAft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lano de monitoramento hidrológico e hidrogeológico da área de influência da mina (critérios de seleção de pontos, instrumentos de medição, metodologia de tratamento de dados, e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spcAft>
                <a:spcPts val="1250"/>
              </a:spcAft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rojeto detalhado de rebaixamento de nível de água (estruturas de captação, níveis de água e vazões projetados ao longo do temp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spcAft>
                <a:spcPts val="1250"/>
              </a:spcAft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escrição detalhada das estruturas de captação da água subterrânea que compõem o sistema de rebaixamento (poços tubulares, drenos, bombas, et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62532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entações / procedimentos para elaboração de processo de outo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76200" y="1447920"/>
            <a:ext cx="664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Outros u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1905120"/>
            <a:ext cx="822960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61800" indent="-361800" algn="just">
              <a:spcAft>
                <a:spcPts val="1250"/>
              </a:spcAft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ravessia rodo-ferroviári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spcAft>
                <a:spcPts val="1250"/>
              </a:spcAft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Surgênci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spcAft>
                <a:spcPts val="1250"/>
              </a:spcAft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oço manu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spcAft>
                <a:spcPts val="1250"/>
              </a:spcAft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nçamento de efluent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spcAft>
                <a:spcPts val="1250"/>
              </a:spcAft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roveitamento hidrelétr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spcAft>
                <a:spcPts val="1250"/>
              </a:spcAft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rocesso único de outorg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62532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entações / procedimentos para elaboração de processo de outo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58800" y="609480"/>
            <a:ext cx="79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licativo “Análise de Processo de Outorg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62120" y="1044720"/>
            <a:ext cx="7696080" cy="57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62120" y="68580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tos IG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98480" y="1611360"/>
            <a:ext cx="6226200" cy="40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www.igam.mg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marilia.melo@igam.mg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Telef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Geral: (31) 3337-33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DvRC: ramal 161 / 1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603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295280" y="762120"/>
            <a:ext cx="67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egislação Estadual Bá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1828800"/>
            <a:ext cx="775512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Aft>
                <a:spcPts val="29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i Estadual nº 13.199/9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Aft>
                <a:spcPts val="29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to Estadual nº 41.578/0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Aft>
                <a:spcPts val="29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i Estadual nº 13.771/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Aft>
                <a:spcPts val="29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iberações Normativas do CER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Aft>
                <a:spcPts val="29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rias Administrativas do IG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603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38080" y="1600200"/>
            <a:ext cx="7755120" cy="47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Aft>
                <a:spcPts val="2500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ortaria IGAM nº 010/9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define os critérios de outorg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Aft>
                <a:spcPts val="2500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ortaria IGAM nº 001/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ublicidade dos processos de outorg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Aft>
                <a:spcPts val="2500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liberação Normativa CERH nº 03/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ustos de análise, publicação e vistori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Aft>
                <a:spcPts val="2500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liberação Normativa CERH nº 07/0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lassifica os empreendimentos quanto ao por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Aft>
                <a:spcPts val="2500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liberação Normativa CERH nº 09/0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define critérios para usos insignific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685800"/>
            <a:ext cx="67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egislação em Minas Ger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603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362320" y="685800"/>
            <a:ext cx="52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ritérios de outo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2209680"/>
            <a:ext cx="7486560" cy="42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 algn="just">
              <a:spcAft>
                <a:spcPts val="2999"/>
              </a:spcAft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zão máxima outorgável para captação direta no curso de água igual a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30% da Q</a:t>
            </a:r>
            <a:r>
              <a:rPr b="1" i="1" lang="en-US" sz="2400" spc="-1" strike="noStrike" baseline="-25000">
                <a:solidFill>
                  <a:srgbClr val="cc3300"/>
                </a:solidFill>
                <a:latin typeface="Arial"/>
              </a:rPr>
              <a:t>7,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spcAft>
                <a:spcPts val="2999"/>
              </a:spcAft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utenção de vazão residual mínima igual a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70% da Q</a:t>
            </a:r>
            <a:r>
              <a:rPr b="1" i="1" lang="en-US" sz="2400" spc="-1" strike="noStrike" baseline="-25000">
                <a:solidFill>
                  <a:srgbClr val="cc3300"/>
                </a:solidFill>
                <a:latin typeface="Arial"/>
              </a:rPr>
              <a:t>7,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spcAft>
                <a:spcPts val="2999"/>
              </a:spcAft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houver regularização, vazão maior pode ser retirada desde que garantido o fluxo residual mínimo de 70% da 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7,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1371600"/>
            <a:ext cx="692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rtaria Administrativa IGAM nº 010/98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09480" y="762120"/>
            <a:ext cx="80964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  <a:ea typeface="Arial"/>
              </a:rPr>
              <a:t>Modalidades de outorg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1676520"/>
            <a:ext cx="809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CESS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- usos desenvolvidos por pessoa física ou jurídica de direito público, quando se destinarem a finalidade de utilidade públic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prazo máximo de 20 an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2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UTORIZA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- usos desenvolvidos por pessoa física ou jurídica de direito privado e quando não se destinarem a finalidade de utilidade públic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prazo máximo de 5 ano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2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DAST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Usos insignificantes: definidos pela DN CERH 09/04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609480"/>
            <a:ext cx="8096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DN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CERH-MG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09/2004 – Usos insignifica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1447920"/>
            <a:ext cx="8915400" cy="5410080"/>
            <a:chOff x="0" y="1447920"/>
            <a:chExt cx="8915400" cy="5410080"/>
          </a:xfrm>
        </p:grpSpPr>
        <p:sp>
          <p:nvSpPr>
            <p:cNvPr id="125" name=""/>
            <p:cNvSpPr/>
            <p:nvPr/>
          </p:nvSpPr>
          <p:spPr>
            <a:xfrm>
              <a:off x="0" y="1447920"/>
              <a:ext cx="746748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Bookman Old Style"/>
                  <a:ea typeface="Times New Roman"/>
                </a:rPr>
                <a:t>     </a:t>
              </a:r>
              <a:r>
                <a:rPr b="1" lang="pt-BR" sz="1800" spc="-1" strike="noStrike">
                  <a:solidFill>
                    <a:srgbClr val="333399"/>
                  </a:solidFill>
                  <a:latin typeface="Arial"/>
                  <a:ea typeface="Times New Roman"/>
                </a:rPr>
                <a:t>UPGRH – SF6, SF7, SF8, SF9, SF10, JQ1, JQ2, JQ3, PA1, MU1, Rio Jucuruçu e Rio Itanhém</a:t>
              </a:r>
              <a:r>
                <a:rPr b="0" lang="pt-BR" sz="1800" spc="-1" strike="noStrike">
                  <a:solidFill>
                    <a:srgbClr val="000000"/>
                  </a:solidFill>
                  <a:latin typeface="Bookman Old Style"/>
                  <a:ea typeface="Times New Roman"/>
                </a:rPr>
                <a:t>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Bookman Old Style"/>
                  <a:ea typeface="Times New Roman"/>
                </a:rPr>
                <a:t>Captações e derivações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Bookman Old Style"/>
                  <a:ea typeface="Times New Roman"/>
                </a:rPr>
                <a:t>Acumulações com volume máxim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51"/>
                </a:spcBef>
                <a:buClr>
                  <a:srgbClr val="33339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0600" y="2286000"/>
              <a:ext cx="10666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  <a:ea typeface="Times New Roman"/>
                </a:rPr>
                <a:t>0,5 L/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00600" y="2743200"/>
              <a:ext cx="13716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  <a:ea typeface="Times New Roman"/>
                </a:rPr>
                <a:t>3.000 m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Bookman Old Style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3581280"/>
              <a:ext cx="8915400" cy="32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Bookman Old Style"/>
                  <a:ea typeface="Times New Roman"/>
                </a:rPr>
                <a:t>     </a:t>
              </a:r>
              <a:r>
                <a:rPr b="1" lang="pt-BR" sz="1800" spc="-1" strike="noStrike">
                  <a:solidFill>
                    <a:srgbClr val="333399"/>
                  </a:solidFill>
                  <a:latin typeface="Arial"/>
                  <a:ea typeface="Times New Roman"/>
                </a:rPr>
                <a:t>Demais UPGRH´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Bookman Old Style"/>
                  <a:ea typeface="Times New Roman"/>
                </a:rPr>
                <a:t>Captações e derivações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Bookman Old Style"/>
                  <a:ea typeface="Times New Roman"/>
                </a:rPr>
                <a:t>Acumulações com volume máxim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13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Bookman Old Style"/>
                  <a:ea typeface="Times New Roman"/>
                </a:rPr>
                <a:t>     </a:t>
              </a:r>
              <a:r>
                <a:rPr b="1" lang="pt-BR" sz="1800" spc="-1" strike="noStrike">
                  <a:solidFill>
                    <a:srgbClr val="333399"/>
                  </a:solidFill>
                  <a:latin typeface="Arial"/>
                  <a:ea typeface="Times New Roman"/>
                </a:rPr>
                <a:t>Captações subterrâneas</a:t>
              </a:r>
              <a:r>
                <a:rPr b="0" lang="pt-BR" sz="1800" spc="-1" strike="noStrike">
                  <a:solidFill>
                    <a:srgbClr val="000000"/>
                  </a:solidFill>
                  <a:latin typeface="Bookman Old Style"/>
                  <a:ea typeface="Times New Roman"/>
                </a:rPr>
                <a:t>: poços manuais, surgências e cisternas, com </a:t>
              </a:r>
              <a:r>
                <a:rPr b="1" lang="pt-BR" sz="1800" spc="-1" strike="noStrike">
                  <a:solidFill>
                    <a:srgbClr val="000000"/>
                  </a:solidFill>
                  <a:latin typeface="Bookman Old Style"/>
                  <a:ea typeface="Times New Roman"/>
                </a:rPr>
                <a:t>volume menor ou igual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spcBef>
                  <a:spcPts val="451"/>
                </a:spcBef>
                <a:buClr>
                  <a:srgbClr val="33339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51"/>
                </a:spcBef>
                <a:buClr>
                  <a:srgbClr val="33339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00600" y="4114800"/>
              <a:ext cx="10666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  <a:ea typeface="Times New Roman"/>
                </a:rPr>
                <a:t>1,0 L/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00600" y="4572000"/>
              <a:ext cx="13716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  <a:ea typeface="Times New Roman"/>
                </a:rPr>
                <a:t>5.000 m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Bookman Old Style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486400" y="6019920"/>
            <a:ext cx="1828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10 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Bookman Old Style"/>
                <a:ea typeface="Times New Roman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por 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06560" y="68580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sos que independem de outo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80880" y="1346040"/>
            <a:ext cx="8305920" cy="50533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1371600" y="0"/>
            <a:ext cx="5380200" cy="6858000"/>
            <a:chOff x="1371600" y="0"/>
            <a:chExt cx="5380200" cy="685800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rcRect l="22880" t="950" r="22880" b="1792"/>
            <a:stretch/>
          </p:blipFill>
          <p:spPr>
            <a:xfrm>
              <a:off x="1371600" y="0"/>
              <a:ext cx="53802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 txBox="1"/>
            <p:nvPr/>
          </p:nvSpPr>
          <p:spPr>
            <a:xfrm>
              <a:off x="1371600" y="0"/>
              <a:ext cx="538020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 txBox="1"/>
          <p:nvPr/>
        </p:nvSpPr>
        <p:spPr>
          <a:xfrm>
            <a:off x="152280" y="457200"/>
            <a:ext cx="117180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>
                    <a:alpha val="50000"/>
                  </a:srgbClr>
                </a:solidFill>
                <a:latin typeface="Arial Black"/>
              </a:rPr>
              <a:t>FCE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5032440" y="914400"/>
            <a:ext cx="3830400" cy="288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40" indent="-144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- IDENTIFICAÇÃO DO REQUER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5960" y="1676520"/>
            <a:ext cx="4361040" cy="288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40" indent="-144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- IDENTIFICAÇÃO DO EMPREENDI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34960" y="3505320"/>
            <a:ext cx="3886920" cy="288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40" indent="-144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- USO DE RECURSO HÍDRICO - IG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85800" y="4495680"/>
            <a:ext cx="3615480" cy="288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40" indent="-144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- EXPLORAÇÃO FLORESTAL - 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4920" y="5029200"/>
            <a:ext cx="4112640" cy="288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40" indent="-144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- LICENCIAMENTO AMBIENTAL - F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18:19:51Z</dcterms:created>
  <dc:creator>Semad</dc:creator>
  <dc:description/>
  <dc:language>en-US</dc:language>
  <cp:lastModifiedBy>CGTI-SPOA</cp:lastModifiedBy>
  <dcterms:modified xsi:type="dcterms:W3CDTF">2005-07-01T12:56:31Z</dcterms:modified>
  <cp:revision>247</cp:revision>
  <dc:subject/>
  <dc:title>Slide 1</dc:title>
</cp:coreProperties>
</file>