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jpeg" ContentType="image/jpeg"/>
  <Override PartName="/ppt/media/CHICOTE.WAV" ContentType="audio/x-wav"/>
  <Override PartName="/ppt/media/carbrak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1CE8-C6F5-4F16-8CFA-7B5BAA4EA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275C-3280-4F43-A119-371C01EB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73AA-BBE1-45E1-9367-2E573D442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234C-DA65-4BF5-9F46-C021FE274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B940-9615-42C8-8E08-4CFE5B8F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8470-15B6-44E1-8E88-0C35F0B7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939B-22B1-4100-B9E9-42EBA2D1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19EB-57C9-4F31-BC75-C7EA763F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63CE-F602-4E25-9BB1-E9F4AA21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CA76-6F12-4126-B9EF-A9E295D0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03EF-D9AB-4F0B-BF35-2AEA0B51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47F7-39E2-454D-BA3E-431AC781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947B-E62A-41F5-98AB-5A1669A82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COTE.WAV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10960" y="1849320"/>
            <a:ext cx="879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quação de dilui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diluição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 = Q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efluente 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. (C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efluente 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- C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permitida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) / (C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permitida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- C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manancial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lnSpc>
                <a:spcPct val="75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rivada da equação geral de mistura (balanço de mas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                   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C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final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 = (C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A 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. Q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A 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+ C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B 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. Q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B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)/ (Q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A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+Q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B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ransforma” qualidade em quant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quivalente em vaz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nifica procedimentos de outo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âmetros conservativos e não-conserv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eixe de tubos e c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352440" y="3045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124080" y="914400"/>
            <a:ext cx="3276720" cy="2590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ANE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52480" y="2743200"/>
            <a:ext cx="3429000" cy="2819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EIO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24280" y="2895480"/>
            <a:ext cx="3505320" cy="26672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CURSOS HÍD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COT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" fill="hold">
                      <p:stCondLst>
                        <p:cond delay="indefinite"/>
                      </p:stCondLst>
                      <p:childTnLst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3657600" y="3352680"/>
            <a:ext cx="3165480" cy="2051280"/>
            <a:chOff x="3657600" y="3352680"/>
            <a:chExt cx="3165480" cy="2051280"/>
          </a:xfrm>
        </p:grpSpPr>
        <p:sp>
          <p:nvSpPr>
            <p:cNvPr id="44" name=""/>
            <p:cNvSpPr/>
            <p:nvPr/>
          </p:nvSpPr>
          <p:spPr>
            <a:xfrm>
              <a:off x="3657600" y="3352680"/>
              <a:ext cx="3165480" cy="2051280"/>
            </a:xfrm>
            <a:custGeom>
              <a:avLst/>
              <a:gdLst/>
              <a:ahLst/>
              <a:rect l="l" t="t" r="r" b="b"/>
              <a:pathLst>
                <a:path w="3157" h="1292">
                  <a:moveTo>
                    <a:pt x="9" y="177"/>
                  </a:moveTo>
                  <a:cubicBezTo>
                    <a:pt x="42" y="227"/>
                    <a:pt x="0" y="173"/>
                    <a:pt x="71" y="216"/>
                  </a:cubicBezTo>
                  <a:cubicBezTo>
                    <a:pt x="84" y="224"/>
                    <a:pt x="92" y="237"/>
                    <a:pt x="102" y="247"/>
                  </a:cubicBezTo>
                  <a:cubicBezTo>
                    <a:pt x="112" y="276"/>
                    <a:pt x="128" y="298"/>
                    <a:pt x="141" y="325"/>
                  </a:cubicBezTo>
                  <a:cubicBezTo>
                    <a:pt x="145" y="332"/>
                    <a:pt x="144" y="342"/>
                    <a:pt x="149" y="348"/>
                  </a:cubicBezTo>
                  <a:cubicBezTo>
                    <a:pt x="162" y="364"/>
                    <a:pt x="181" y="373"/>
                    <a:pt x="196" y="387"/>
                  </a:cubicBezTo>
                  <a:cubicBezTo>
                    <a:pt x="238" y="473"/>
                    <a:pt x="246" y="592"/>
                    <a:pt x="344" y="637"/>
                  </a:cubicBezTo>
                  <a:cubicBezTo>
                    <a:pt x="418" y="671"/>
                    <a:pt x="461" y="670"/>
                    <a:pt x="546" y="683"/>
                  </a:cubicBezTo>
                  <a:cubicBezTo>
                    <a:pt x="577" y="688"/>
                    <a:pt x="640" y="699"/>
                    <a:pt x="640" y="699"/>
                  </a:cubicBezTo>
                  <a:cubicBezTo>
                    <a:pt x="656" y="707"/>
                    <a:pt x="675" y="709"/>
                    <a:pt x="687" y="722"/>
                  </a:cubicBezTo>
                  <a:cubicBezTo>
                    <a:pt x="707" y="744"/>
                    <a:pt x="718" y="829"/>
                    <a:pt x="733" y="855"/>
                  </a:cubicBezTo>
                  <a:cubicBezTo>
                    <a:pt x="754" y="891"/>
                    <a:pt x="805" y="903"/>
                    <a:pt x="835" y="933"/>
                  </a:cubicBezTo>
                  <a:cubicBezTo>
                    <a:pt x="851" y="978"/>
                    <a:pt x="832" y="935"/>
                    <a:pt x="866" y="979"/>
                  </a:cubicBezTo>
                  <a:cubicBezTo>
                    <a:pt x="877" y="994"/>
                    <a:pt x="887" y="1010"/>
                    <a:pt x="897" y="1026"/>
                  </a:cubicBezTo>
                  <a:cubicBezTo>
                    <a:pt x="902" y="1034"/>
                    <a:pt x="904" y="1046"/>
                    <a:pt x="913" y="1050"/>
                  </a:cubicBezTo>
                  <a:cubicBezTo>
                    <a:pt x="977" y="1082"/>
                    <a:pt x="943" y="1066"/>
                    <a:pt x="1014" y="1096"/>
                  </a:cubicBezTo>
                  <a:cubicBezTo>
                    <a:pt x="1041" y="1124"/>
                    <a:pt x="1071" y="1147"/>
                    <a:pt x="1108" y="1159"/>
                  </a:cubicBezTo>
                  <a:cubicBezTo>
                    <a:pt x="1232" y="1150"/>
                    <a:pt x="1307" y="1146"/>
                    <a:pt x="1435" y="1159"/>
                  </a:cubicBezTo>
                  <a:cubicBezTo>
                    <a:pt x="1464" y="1169"/>
                    <a:pt x="1488" y="1181"/>
                    <a:pt x="1513" y="1198"/>
                  </a:cubicBezTo>
                  <a:cubicBezTo>
                    <a:pt x="1534" y="1261"/>
                    <a:pt x="1515" y="1236"/>
                    <a:pt x="1575" y="1276"/>
                  </a:cubicBezTo>
                  <a:cubicBezTo>
                    <a:pt x="1583" y="1281"/>
                    <a:pt x="1598" y="1291"/>
                    <a:pt x="1598" y="1291"/>
                  </a:cubicBezTo>
                  <a:cubicBezTo>
                    <a:pt x="1673" y="1288"/>
                    <a:pt x="1749" y="1292"/>
                    <a:pt x="1824" y="1283"/>
                  </a:cubicBezTo>
                  <a:cubicBezTo>
                    <a:pt x="1857" y="1279"/>
                    <a:pt x="1872" y="1184"/>
                    <a:pt x="1910" y="1159"/>
                  </a:cubicBezTo>
                  <a:cubicBezTo>
                    <a:pt x="1916" y="1140"/>
                    <a:pt x="1956" y="1076"/>
                    <a:pt x="1972" y="1065"/>
                  </a:cubicBezTo>
                  <a:cubicBezTo>
                    <a:pt x="2000" y="1046"/>
                    <a:pt x="2033" y="1046"/>
                    <a:pt x="2058" y="1018"/>
                  </a:cubicBezTo>
                  <a:cubicBezTo>
                    <a:pt x="2131" y="936"/>
                    <a:pt x="2067" y="985"/>
                    <a:pt x="2120" y="948"/>
                  </a:cubicBezTo>
                  <a:cubicBezTo>
                    <a:pt x="2136" y="903"/>
                    <a:pt x="2116" y="945"/>
                    <a:pt x="2152" y="909"/>
                  </a:cubicBezTo>
                  <a:cubicBezTo>
                    <a:pt x="2170" y="891"/>
                    <a:pt x="2186" y="837"/>
                    <a:pt x="2191" y="824"/>
                  </a:cubicBezTo>
                  <a:cubicBezTo>
                    <a:pt x="2196" y="639"/>
                    <a:pt x="2140" y="539"/>
                    <a:pt x="2300" y="512"/>
                  </a:cubicBezTo>
                  <a:cubicBezTo>
                    <a:pt x="2341" y="471"/>
                    <a:pt x="2383" y="450"/>
                    <a:pt x="2424" y="418"/>
                  </a:cubicBezTo>
                  <a:cubicBezTo>
                    <a:pt x="2468" y="383"/>
                    <a:pt x="2493" y="350"/>
                    <a:pt x="2549" y="333"/>
                  </a:cubicBezTo>
                  <a:cubicBezTo>
                    <a:pt x="2565" y="317"/>
                    <a:pt x="2578" y="298"/>
                    <a:pt x="2596" y="286"/>
                  </a:cubicBezTo>
                  <a:cubicBezTo>
                    <a:pt x="2617" y="272"/>
                    <a:pt x="2645" y="269"/>
                    <a:pt x="2666" y="255"/>
                  </a:cubicBezTo>
                  <a:cubicBezTo>
                    <a:pt x="2669" y="250"/>
                    <a:pt x="2692" y="212"/>
                    <a:pt x="2697" y="208"/>
                  </a:cubicBezTo>
                  <a:cubicBezTo>
                    <a:pt x="2714" y="193"/>
                    <a:pt x="2752" y="169"/>
                    <a:pt x="2752" y="169"/>
                  </a:cubicBezTo>
                  <a:cubicBezTo>
                    <a:pt x="2769" y="114"/>
                    <a:pt x="2744" y="177"/>
                    <a:pt x="2783" y="130"/>
                  </a:cubicBezTo>
                  <a:cubicBezTo>
                    <a:pt x="2833" y="70"/>
                    <a:pt x="2742" y="147"/>
                    <a:pt x="2806" y="83"/>
                  </a:cubicBezTo>
                  <a:cubicBezTo>
                    <a:pt x="2889" y="0"/>
                    <a:pt x="3040" y="60"/>
                    <a:pt x="3157" y="6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3938400" y="3733920"/>
              <a:ext cx="2391480" cy="457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52440" y="304920"/>
            <a:ext cx="836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72080" y="1447920"/>
            <a:ext cx="387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ixe de tubos e c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97000" y="2209680"/>
            <a:ext cx="4627440" cy="2051280"/>
            <a:chOff x="297000" y="2209680"/>
            <a:chExt cx="4627440" cy="2051280"/>
          </a:xfrm>
        </p:grpSpPr>
        <p:sp>
          <p:nvSpPr>
            <p:cNvPr id="49" name=""/>
            <p:cNvSpPr/>
            <p:nvPr/>
          </p:nvSpPr>
          <p:spPr>
            <a:xfrm>
              <a:off x="297000" y="2209680"/>
              <a:ext cx="4627440" cy="2051280"/>
            </a:xfrm>
            <a:custGeom>
              <a:avLst/>
              <a:gdLst/>
              <a:ahLst/>
              <a:rect l="l" t="t" r="r" b="b"/>
              <a:pathLst>
                <a:path w="3157" h="1292">
                  <a:moveTo>
                    <a:pt x="9" y="177"/>
                  </a:moveTo>
                  <a:cubicBezTo>
                    <a:pt x="42" y="227"/>
                    <a:pt x="0" y="173"/>
                    <a:pt x="71" y="216"/>
                  </a:cubicBezTo>
                  <a:cubicBezTo>
                    <a:pt x="84" y="224"/>
                    <a:pt x="92" y="237"/>
                    <a:pt x="102" y="247"/>
                  </a:cubicBezTo>
                  <a:cubicBezTo>
                    <a:pt x="112" y="276"/>
                    <a:pt x="128" y="298"/>
                    <a:pt x="141" y="325"/>
                  </a:cubicBezTo>
                  <a:cubicBezTo>
                    <a:pt x="145" y="332"/>
                    <a:pt x="144" y="342"/>
                    <a:pt x="149" y="348"/>
                  </a:cubicBezTo>
                  <a:cubicBezTo>
                    <a:pt x="162" y="364"/>
                    <a:pt x="181" y="373"/>
                    <a:pt x="196" y="387"/>
                  </a:cubicBezTo>
                  <a:cubicBezTo>
                    <a:pt x="238" y="473"/>
                    <a:pt x="246" y="592"/>
                    <a:pt x="344" y="637"/>
                  </a:cubicBezTo>
                  <a:cubicBezTo>
                    <a:pt x="418" y="671"/>
                    <a:pt x="461" y="670"/>
                    <a:pt x="546" y="683"/>
                  </a:cubicBezTo>
                  <a:cubicBezTo>
                    <a:pt x="577" y="688"/>
                    <a:pt x="640" y="699"/>
                    <a:pt x="640" y="699"/>
                  </a:cubicBezTo>
                  <a:cubicBezTo>
                    <a:pt x="656" y="707"/>
                    <a:pt x="675" y="709"/>
                    <a:pt x="687" y="722"/>
                  </a:cubicBezTo>
                  <a:cubicBezTo>
                    <a:pt x="707" y="744"/>
                    <a:pt x="718" y="829"/>
                    <a:pt x="733" y="855"/>
                  </a:cubicBezTo>
                  <a:cubicBezTo>
                    <a:pt x="754" y="891"/>
                    <a:pt x="805" y="903"/>
                    <a:pt x="835" y="933"/>
                  </a:cubicBezTo>
                  <a:cubicBezTo>
                    <a:pt x="851" y="978"/>
                    <a:pt x="832" y="935"/>
                    <a:pt x="866" y="979"/>
                  </a:cubicBezTo>
                  <a:cubicBezTo>
                    <a:pt x="877" y="994"/>
                    <a:pt x="887" y="1010"/>
                    <a:pt x="897" y="1026"/>
                  </a:cubicBezTo>
                  <a:cubicBezTo>
                    <a:pt x="902" y="1034"/>
                    <a:pt x="904" y="1046"/>
                    <a:pt x="913" y="1050"/>
                  </a:cubicBezTo>
                  <a:cubicBezTo>
                    <a:pt x="977" y="1082"/>
                    <a:pt x="943" y="1066"/>
                    <a:pt x="1014" y="1096"/>
                  </a:cubicBezTo>
                  <a:cubicBezTo>
                    <a:pt x="1041" y="1124"/>
                    <a:pt x="1071" y="1147"/>
                    <a:pt x="1108" y="1159"/>
                  </a:cubicBezTo>
                  <a:cubicBezTo>
                    <a:pt x="1232" y="1150"/>
                    <a:pt x="1307" y="1146"/>
                    <a:pt x="1435" y="1159"/>
                  </a:cubicBezTo>
                  <a:cubicBezTo>
                    <a:pt x="1464" y="1169"/>
                    <a:pt x="1488" y="1181"/>
                    <a:pt x="1513" y="1198"/>
                  </a:cubicBezTo>
                  <a:cubicBezTo>
                    <a:pt x="1534" y="1261"/>
                    <a:pt x="1515" y="1236"/>
                    <a:pt x="1575" y="1276"/>
                  </a:cubicBezTo>
                  <a:cubicBezTo>
                    <a:pt x="1583" y="1281"/>
                    <a:pt x="1598" y="1291"/>
                    <a:pt x="1598" y="1291"/>
                  </a:cubicBezTo>
                  <a:cubicBezTo>
                    <a:pt x="1673" y="1288"/>
                    <a:pt x="1749" y="1292"/>
                    <a:pt x="1824" y="1283"/>
                  </a:cubicBezTo>
                  <a:cubicBezTo>
                    <a:pt x="1857" y="1279"/>
                    <a:pt x="1872" y="1184"/>
                    <a:pt x="1910" y="1159"/>
                  </a:cubicBezTo>
                  <a:cubicBezTo>
                    <a:pt x="1916" y="1140"/>
                    <a:pt x="1956" y="1076"/>
                    <a:pt x="1972" y="1065"/>
                  </a:cubicBezTo>
                  <a:cubicBezTo>
                    <a:pt x="2000" y="1046"/>
                    <a:pt x="2033" y="1046"/>
                    <a:pt x="2058" y="1018"/>
                  </a:cubicBezTo>
                  <a:cubicBezTo>
                    <a:pt x="2131" y="936"/>
                    <a:pt x="2067" y="985"/>
                    <a:pt x="2120" y="948"/>
                  </a:cubicBezTo>
                  <a:cubicBezTo>
                    <a:pt x="2136" y="903"/>
                    <a:pt x="2116" y="945"/>
                    <a:pt x="2152" y="909"/>
                  </a:cubicBezTo>
                  <a:cubicBezTo>
                    <a:pt x="2170" y="891"/>
                    <a:pt x="2186" y="837"/>
                    <a:pt x="2191" y="824"/>
                  </a:cubicBezTo>
                  <a:cubicBezTo>
                    <a:pt x="2196" y="639"/>
                    <a:pt x="2140" y="539"/>
                    <a:pt x="2300" y="512"/>
                  </a:cubicBezTo>
                  <a:cubicBezTo>
                    <a:pt x="2341" y="471"/>
                    <a:pt x="2383" y="450"/>
                    <a:pt x="2424" y="418"/>
                  </a:cubicBezTo>
                  <a:cubicBezTo>
                    <a:pt x="2468" y="383"/>
                    <a:pt x="2493" y="350"/>
                    <a:pt x="2549" y="333"/>
                  </a:cubicBezTo>
                  <a:cubicBezTo>
                    <a:pt x="2565" y="317"/>
                    <a:pt x="2578" y="298"/>
                    <a:pt x="2596" y="286"/>
                  </a:cubicBezTo>
                  <a:cubicBezTo>
                    <a:pt x="2617" y="272"/>
                    <a:pt x="2645" y="269"/>
                    <a:pt x="2666" y="255"/>
                  </a:cubicBezTo>
                  <a:cubicBezTo>
                    <a:pt x="2669" y="250"/>
                    <a:pt x="2692" y="212"/>
                    <a:pt x="2697" y="208"/>
                  </a:cubicBezTo>
                  <a:cubicBezTo>
                    <a:pt x="2714" y="193"/>
                    <a:pt x="2752" y="169"/>
                    <a:pt x="2752" y="169"/>
                  </a:cubicBezTo>
                  <a:cubicBezTo>
                    <a:pt x="2769" y="114"/>
                    <a:pt x="2744" y="177"/>
                    <a:pt x="2783" y="130"/>
                  </a:cubicBezTo>
                  <a:cubicBezTo>
                    <a:pt x="2833" y="70"/>
                    <a:pt x="2742" y="147"/>
                    <a:pt x="2806" y="83"/>
                  </a:cubicBezTo>
                  <a:cubicBezTo>
                    <a:pt x="2889" y="0"/>
                    <a:pt x="3040" y="60"/>
                    <a:pt x="3157" y="6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88600" y="2808360"/>
              <a:ext cx="33062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1503360" y="2884320"/>
            <a:ext cx="844560" cy="9907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47920" y="2808360"/>
            <a:ext cx="422280" cy="457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70200" y="2884320"/>
            <a:ext cx="631800" cy="8384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ac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800280" y="2808360"/>
            <a:ext cx="2180520" cy="1447560"/>
            <a:chOff x="800280" y="2808360"/>
            <a:chExt cx="2180520" cy="1447560"/>
          </a:xfrm>
        </p:grpSpPr>
        <p:sp>
          <p:nvSpPr>
            <p:cNvPr id="55" name=""/>
            <p:cNvSpPr/>
            <p:nvPr/>
          </p:nvSpPr>
          <p:spPr>
            <a:xfrm>
              <a:off x="2558880" y="3798720"/>
              <a:ext cx="421920" cy="457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151640" y="2884320"/>
              <a:ext cx="351360" cy="381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00280" y="2808360"/>
              <a:ext cx="351360" cy="3808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47920" y="3341520"/>
              <a:ext cx="421920" cy="457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 rot="133200">
            <a:off x="7175160" y="5179680"/>
            <a:ext cx="582480" cy="700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ac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68960" y="5854680"/>
            <a:ext cx="422280" cy="457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657600" y="2871360"/>
            <a:ext cx="5063760" cy="3529440"/>
            <a:chOff x="3657600" y="2871360"/>
            <a:chExt cx="5063760" cy="3529440"/>
          </a:xfrm>
        </p:grpSpPr>
        <p:sp>
          <p:nvSpPr>
            <p:cNvPr id="62" name=""/>
            <p:cNvSpPr/>
            <p:nvPr/>
          </p:nvSpPr>
          <p:spPr>
            <a:xfrm>
              <a:off x="3657600" y="3657600"/>
              <a:ext cx="1899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752160" y="3429000"/>
              <a:ext cx="1899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415480" y="5410080"/>
              <a:ext cx="1899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59680" y="3733920"/>
              <a:ext cx="1899000" cy="990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56600" y="4343400"/>
              <a:ext cx="3164760" cy="2050920"/>
            </a:xfrm>
            <a:custGeom>
              <a:avLst/>
              <a:gdLst/>
              <a:ahLst/>
              <a:rect l="l" t="t" r="r" b="b"/>
              <a:pathLst>
                <a:path w="3157" h="1292">
                  <a:moveTo>
                    <a:pt x="9" y="177"/>
                  </a:moveTo>
                  <a:cubicBezTo>
                    <a:pt x="42" y="227"/>
                    <a:pt x="0" y="173"/>
                    <a:pt x="71" y="216"/>
                  </a:cubicBezTo>
                  <a:cubicBezTo>
                    <a:pt x="84" y="224"/>
                    <a:pt x="92" y="237"/>
                    <a:pt x="102" y="247"/>
                  </a:cubicBezTo>
                  <a:cubicBezTo>
                    <a:pt x="112" y="276"/>
                    <a:pt x="128" y="298"/>
                    <a:pt x="141" y="325"/>
                  </a:cubicBezTo>
                  <a:cubicBezTo>
                    <a:pt x="145" y="332"/>
                    <a:pt x="144" y="342"/>
                    <a:pt x="149" y="348"/>
                  </a:cubicBezTo>
                  <a:cubicBezTo>
                    <a:pt x="162" y="364"/>
                    <a:pt x="181" y="373"/>
                    <a:pt x="196" y="387"/>
                  </a:cubicBezTo>
                  <a:cubicBezTo>
                    <a:pt x="238" y="473"/>
                    <a:pt x="246" y="592"/>
                    <a:pt x="344" y="637"/>
                  </a:cubicBezTo>
                  <a:cubicBezTo>
                    <a:pt x="418" y="671"/>
                    <a:pt x="461" y="670"/>
                    <a:pt x="546" y="683"/>
                  </a:cubicBezTo>
                  <a:cubicBezTo>
                    <a:pt x="577" y="688"/>
                    <a:pt x="640" y="699"/>
                    <a:pt x="640" y="699"/>
                  </a:cubicBezTo>
                  <a:cubicBezTo>
                    <a:pt x="656" y="707"/>
                    <a:pt x="675" y="709"/>
                    <a:pt x="687" y="722"/>
                  </a:cubicBezTo>
                  <a:cubicBezTo>
                    <a:pt x="707" y="744"/>
                    <a:pt x="718" y="829"/>
                    <a:pt x="733" y="855"/>
                  </a:cubicBezTo>
                  <a:cubicBezTo>
                    <a:pt x="754" y="891"/>
                    <a:pt x="805" y="903"/>
                    <a:pt x="835" y="933"/>
                  </a:cubicBezTo>
                  <a:cubicBezTo>
                    <a:pt x="851" y="978"/>
                    <a:pt x="832" y="935"/>
                    <a:pt x="866" y="979"/>
                  </a:cubicBezTo>
                  <a:cubicBezTo>
                    <a:pt x="877" y="994"/>
                    <a:pt x="887" y="1010"/>
                    <a:pt x="897" y="1026"/>
                  </a:cubicBezTo>
                  <a:cubicBezTo>
                    <a:pt x="902" y="1034"/>
                    <a:pt x="904" y="1046"/>
                    <a:pt x="913" y="1050"/>
                  </a:cubicBezTo>
                  <a:cubicBezTo>
                    <a:pt x="977" y="1082"/>
                    <a:pt x="943" y="1066"/>
                    <a:pt x="1014" y="1096"/>
                  </a:cubicBezTo>
                  <a:cubicBezTo>
                    <a:pt x="1041" y="1124"/>
                    <a:pt x="1071" y="1147"/>
                    <a:pt x="1108" y="1159"/>
                  </a:cubicBezTo>
                  <a:cubicBezTo>
                    <a:pt x="1232" y="1150"/>
                    <a:pt x="1307" y="1146"/>
                    <a:pt x="1435" y="1159"/>
                  </a:cubicBezTo>
                  <a:cubicBezTo>
                    <a:pt x="1464" y="1169"/>
                    <a:pt x="1488" y="1181"/>
                    <a:pt x="1513" y="1198"/>
                  </a:cubicBezTo>
                  <a:cubicBezTo>
                    <a:pt x="1534" y="1261"/>
                    <a:pt x="1515" y="1236"/>
                    <a:pt x="1575" y="1276"/>
                  </a:cubicBezTo>
                  <a:cubicBezTo>
                    <a:pt x="1583" y="1281"/>
                    <a:pt x="1598" y="1291"/>
                    <a:pt x="1598" y="1291"/>
                  </a:cubicBezTo>
                  <a:cubicBezTo>
                    <a:pt x="1673" y="1288"/>
                    <a:pt x="1749" y="1292"/>
                    <a:pt x="1824" y="1283"/>
                  </a:cubicBezTo>
                  <a:cubicBezTo>
                    <a:pt x="1857" y="1279"/>
                    <a:pt x="1872" y="1184"/>
                    <a:pt x="1910" y="1159"/>
                  </a:cubicBezTo>
                  <a:cubicBezTo>
                    <a:pt x="1916" y="1140"/>
                    <a:pt x="1956" y="1076"/>
                    <a:pt x="1972" y="1065"/>
                  </a:cubicBezTo>
                  <a:cubicBezTo>
                    <a:pt x="2000" y="1046"/>
                    <a:pt x="2033" y="1046"/>
                    <a:pt x="2058" y="1018"/>
                  </a:cubicBezTo>
                  <a:cubicBezTo>
                    <a:pt x="2131" y="936"/>
                    <a:pt x="2067" y="985"/>
                    <a:pt x="2120" y="948"/>
                  </a:cubicBezTo>
                  <a:cubicBezTo>
                    <a:pt x="2136" y="903"/>
                    <a:pt x="2116" y="945"/>
                    <a:pt x="2152" y="909"/>
                  </a:cubicBezTo>
                  <a:cubicBezTo>
                    <a:pt x="2170" y="891"/>
                    <a:pt x="2186" y="837"/>
                    <a:pt x="2191" y="824"/>
                  </a:cubicBezTo>
                  <a:cubicBezTo>
                    <a:pt x="2196" y="639"/>
                    <a:pt x="2140" y="539"/>
                    <a:pt x="2300" y="512"/>
                  </a:cubicBezTo>
                  <a:cubicBezTo>
                    <a:pt x="2341" y="471"/>
                    <a:pt x="2383" y="450"/>
                    <a:pt x="2424" y="418"/>
                  </a:cubicBezTo>
                  <a:cubicBezTo>
                    <a:pt x="2468" y="383"/>
                    <a:pt x="2493" y="350"/>
                    <a:pt x="2549" y="333"/>
                  </a:cubicBezTo>
                  <a:cubicBezTo>
                    <a:pt x="2565" y="317"/>
                    <a:pt x="2578" y="298"/>
                    <a:pt x="2596" y="286"/>
                  </a:cubicBezTo>
                  <a:cubicBezTo>
                    <a:pt x="2617" y="272"/>
                    <a:pt x="2645" y="269"/>
                    <a:pt x="2666" y="255"/>
                  </a:cubicBezTo>
                  <a:cubicBezTo>
                    <a:pt x="2669" y="250"/>
                    <a:pt x="2692" y="212"/>
                    <a:pt x="2697" y="208"/>
                  </a:cubicBezTo>
                  <a:cubicBezTo>
                    <a:pt x="2714" y="193"/>
                    <a:pt x="2752" y="169"/>
                    <a:pt x="2752" y="169"/>
                  </a:cubicBezTo>
                  <a:cubicBezTo>
                    <a:pt x="2769" y="114"/>
                    <a:pt x="2744" y="177"/>
                    <a:pt x="2783" y="130"/>
                  </a:cubicBezTo>
                  <a:cubicBezTo>
                    <a:pt x="2833" y="70"/>
                    <a:pt x="2742" y="147"/>
                    <a:pt x="2806" y="83"/>
                  </a:cubicBezTo>
                  <a:cubicBezTo>
                    <a:pt x="2889" y="0"/>
                    <a:pt x="3040" y="60"/>
                    <a:pt x="3157" y="6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5837760" y="4724280"/>
              <a:ext cx="2391480" cy="457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38400" y="4191120"/>
              <a:ext cx="1899000" cy="990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flipV="1">
              <a:off x="7103520" y="3123720"/>
              <a:ext cx="1265760" cy="685800"/>
            </a:xfrm>
            <a:prstGeom prst="line">
              <a:avLst/>
            </a:prstGeom>
            <a:ln w="414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610400">
              <a:off x="7351200" y="304776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Flux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448720" y="4564440"/>
            <a:ext cx="2216880" cy="1859400"/>
            <a:chOff x="2448720" y="4564440"/>
            <a:chExt cx="2216880" cy="1859400"/>
          </a:xfrm>
        </p:grpSpPr>
        <p:sp>
          <p:nvSpPr>
            <p:cNvPr id="72" name=""/>
            <p:cNvSpPr/>
            <p:nvPr/>
          </p:nvSpPr>
          <p:spPr>
            <a:xfrm rot="133200">
              <a:off x="4149360" y="6019920"/>
              <a:ext cx="366480" cy="396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ac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811400">
              <a:off x="2381400" y="5130360"/>
              <a:ext cx="235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Parâmetro conservati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547200" y="4656240"/>
            <a:ext cx="2665440" cy="1744560"/>
            <a:chOff x="547200" y="4656240"/>
            <a:chExt cx="2665440" cy="1744560"/>
          </a:xfrm>
        </p:grpSpPr>
        <p:sp>
          <p:nvSpPr>
            <p:cNvPr id="75" name=""/>
            <p:cNvSpPr/>
            <p:nvPr/>
          </p:nvSpPr>
          <p:spPr>
            <a:xfrm>
              <a:off x="2743920" y="6095880"/>
              <a:ext cx="281520" cy="3049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456800">
              <a:off x="500760" y="5206680"/>
              <a:ext cx="27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Parâmetro não-conservati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47520" y="1638360"/>
            <a:ext cx="1716840" cy="1181160"/>
            <a:chOff x="47520" y="1638360"/>
            <a:chExt cx="1716840" cy="1181160"/>
          </a:xfrm>
        </p:grpSpPr>
        <p:sp>
          <p:nvSpPr>
            <p:cNvPr id="78" name=""/>
            <p:cNvSpPr/>
            <p:nvPr/>
          </p:nvSpPr>
          <p:spPr>
            <a:xfrm>
              <a:off x="47520" y="2057400"/>
              <a:ext cx="1546920" cy="762120"/>
            </a:xfrm>
            <a:custGeom>
              <a:avLst/>
              <a:gdLst>
                <a:gd name="textAreaLeft" fmla="*/ 0 w 1546920"/>
                <a:gd name="textAreaRight" fmla="*/ 1547280 w 154692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455" y="10800"/>
                  </a:moveTo>
                  <a:arcTo wR="-8345" hR="-8345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20373" y="14728"/>
                  </a:lnTo>
                  <a:lnTo>
                    <a:pt x="16445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4880" y="1638360"/>
              <a:ext cx="168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Lançamen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758960" y="1447920"/>
            <a:ext cx="661176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emplo da Prefeitura Municipal de Areias -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onstrução de barr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aptação de água (9,72 l/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Lançamento de efluentes (23,6 l/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Times New Roman"/>
              </a:rPr>
              <a:t>Análise quantit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Vazão de referência (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7,10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) = 204,8 l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Vazão após Barramento = 543,3 l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Times New Roman"/>
              </a:rPr>
              <a:t>Análise qualit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diluição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= 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efluente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BO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efluente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= 300 m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ficiência do tratamento = 8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Vazão de diluição = 324,7 l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3235320" cy="915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52440" y="304920"/>
            <a:ext cx="836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92120" y="1676520"/>
            <a:ext cx="8018640" cy="46479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52440" y="304920"/>
            <a:ext cx="836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5286240" y="4317840"/>
            <a:ext cx="341280" cy="609840"/>
            <a:chOff x="5286240" y="4317840"/>
            <a:chExt cx="341280" cy="609840"/>
          </a:xfrm>
        </p:grpSpPr>
        <p:sp>
          <p:nvSpPr>
            <p:cNvPr id="86" name=""/>
            <p:cNvSpPr/>
            <p:nvPr/>
          </p:nvSpPr>
          <p:spPr>
            <a:xfrm>
              <a:off x="5627520" y="4317840"/>
              <a:ext cx="0" cy="609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286240" y="4317840"/>
              <a:ext cx="341280" cy="129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073880" y="3124080"/>
            <a:ext cx="3779280" cy="730440"/>
            <a:chOff x="1073880" y="3124080"/>
            <a:chExt cx="3779280" cy="730440"/>
          </a:xfrm>
        </p:grpSpPr>
        <p:sp>
          <p:nvSpPr>
            <p:cNvPr id="89" name=""/>
            <p:cNvSpPr/>
            <p:nvPr/>
          </p:nvSpPr>
          <p:spPr>
            <a:xfrm>
              <a:off x="4360680" y="3124080"/>
              <a:ext cx="4921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3160" y="3124080"/>
              <a:ext cx="0" cy="609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17120" y="3657600"/>
              <a:ext cx="3235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73880" y="34862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ff"/>
                  </a:solidFill>
                  <a:latin typeface="Courier New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1085040" y="3695760"/>
            <a:ext cx="4248720" cy="838080"/>
            <a:chOff x="1085040" y="3695760"/>
            <a:chExt cx="4248720" cy="838080"/>
          </a:xfrm>
        </p:grpSpPr>
        <p:sp>
          <p:nvSpPr>
            <p:cNvPr id="94" name=""/>
            <p:cNvSpPr/>
            <p:nvPr/>
          </p:nvSpPr>
          <p:spPr>
            <a:xfrm>
              <a:off x="4841640" y="3695760"/>
              <a:ext cx="4921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99200" y="3708360"/>
              <a:ext cx="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1616760" y="4317840"/>
              <a:ext cx="3681720" cy="255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085040" y="41655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ff"/>
                  </a:solidFill>
                  <a:latin typeface="Courier New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034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400" spc="-1" strike="noStrike">
                <a:solidFill>
                  <a:srgbClr val="000000"/>
                </a:solidFill>
                <a:latin typeface="Times New Roman"/>
              </a:rPr>
              <a:t>SISTEMA DE APOIO AO GERENCIAMENTO DE USUÁRIOS DE ÁGUA - SISAGU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10960" y="1757520"/>
            <a:ext cx="3093840" cy="916920"/>
            <a:chOff x="210960" y="1757520"/>
            <a:chExt cx="3093840" cy="916920"/>
          </a:xfrm>
        </p:grpSpPr>
        <p:sp>
          <p:nvSpPr>
            <p:cNvPr id="100" name=""/>
            <p:cNvSpPr/>
            <p:nvPr/>
          </p:nvSpPr>
          <p:spPr>
            <a:xfrm>
              <a:off x="210960" y="1757520"/>
              <a:ext cx="2428560" cy="916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Solicitações de Outorga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Cadastros de usuários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Outorgas estaduai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42480" y="2209680"/>
              <a:ext cx="5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14480" y="1816200"/>
            <a:ext cx="5376240" cy="3829680"/>
            <a:chOff x="114480" y="1816200"/>
            <a:chExt cx="5376240" cy="3829680"/>
          </a:xfrm>
        </p:grpSpPr>
        <p:grpSp>
          <p:nvGrpSpPr>
            <p:cNvPr id="103" name=""/>
            <p:cNvGrpSpPr/>
            <p:nvPr/>
          </p:nvGrpSpPr>
          <p:grpSpPr>
            <a:xfrm>
              <a:off x="3376080" y="1816200"/>
              <a:ext cx="2114640" cy="1272600"/>
              <a:chOff x="3376080" y="1816200"/>
              <a:chExt cx="2114640" cy="12726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76080" y="1816200"/>
                <a:ext cx="2109960" cy="914400"/>
              </a:xfrm>
              <a:prstGeom prst="ellipse">
                <a:avLst/>
              </a:prstGeom>
              <a:solidFill>
                <a:srgbClr val="ffcc66"/>
              </a:solidFill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692160" y="1895400"/>
                <a:ext cx="1553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3600" spc="-1" strike="noStrike">
                    <a:solidFill>
                      <a:srgbClr val="000000"/>
                    </a:solidFill>
                    <a:latin typeface="Times New Roman"/>
                  </a:rPr>
                  <a:t>SISCO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59960" y="2629080"/>
                <a:ext cx="203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Administrativ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114480" y="5308560"/>
              <a:ext cx="371304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SISCO</a:t>
              </a: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: Sistema de Controle de Outorg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5599080" y="4330440"/>
            <a:ext cx="2849400" cy="1084320"/>
            <a:chOff x="5599080" y="4330440"/>
            <a:chExt cx="2849400" cy="1084320"/>
          </a:xfrm>
        </p:grpSpPr>
        <p:sp>
          <p:nvSpPr>
            <p:cNvPr id="109" name=""/>
            <p:cNvSpPr/>
            <p:nvPr/>
          </p:nvSpPr>
          <p:spPr>
            <a:xfrm>
              <a:off x="5599080" y="4834080"/>
              <a:ext cx="284940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Modelos de simulação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MODSIM, PROPAGAR, Outr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76320" y="43308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7783560" y="433044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839640" y="1751040"/>
            <a:ext cx="2113200" cy="1372680"/>
            <a:chOff x="6839640" y="1751040"/>
            <a:chExt cx="2113200" cy="1372680"/>
          </a:xfrm>
        </p:grpSpPr>
        <p:sp>
          <p:nvSpPr>
            <p:cNvPr id="113" name=""/>
            <p:cNvSpPr/>
            <p:nvPr/>
          </p:nvSpPr>
          <p:spPr>
            <a:xfrm>
              <a:off x="6839640" y="1751040"/>
              <a:ext cx="2113200" cy="64260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Cobrança pelo u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dos recursos hídr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7314840" y="2514240"/>
              <a:ext cx="563040" cy="60948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17360" y="2666880"/>
            <a:ext cx="5172120" cy="3359880"/>
            <a:chOff x="117360" y="2666880"/>
            <a:chExt cx="5172120" cy="3359880"/>
          </a:xfrm>
        </p:grpSpPr>
        <p:sp>
          <p:nvSpPr>
            <p:cNvPr id="116" name=""/>
            <p:cNvSpPr/>
            <p:nvPr/>
          </p:nvSpPr>
          <p:spPr>
            <a:xfrm flipH="1">
              <a:off x="2954160" y="2666880"/>
              <a:ext cx="56232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117360" y="3352680"/>
              <a:ext cx="5172120" cy="2674080"/>
              <a:chOff x="117360" y="3352680"/>
              <a:chExt cx="5172120" cy="267408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550440" y="3352680"/>
                <a:ext cx="2613960" cy="1450440"/>
                <a:chOff x="550440" y="3352680"/>
                <a:chExt cx="2613960" cy="145044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562320" y="3352680"/>
                  <a:ext cx="2602080" cy="1092240"/>
                </a:xfrm>
                <a:prstGeom prst="ellipse">
                  <a:avLst/>
                </a:prstGeom>
                <a:solidFill>
                  <a:srgbClr val="ffcc66"/>
                </a:solidFill>
                <a:ln w="284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50440" y="3571920"/>
                  <a:ext cx="21391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3200" spc="-1" strike="noStrike">
                      <a:solidFill>
                        <a:srgbClr val="000000"/>
                      </a:solidFill>
                      <a:latin typeface="Times New Roman"/>
                    </a:rPr>
                    <a:t>     </a:t>
                  </a:r>
                  <a:r>
                    <a:rPr b="1" lang="pt-BR" sz="3600" spc="-1" strike="noStrike">
                      <a:solidFill>
                        <a:srgbClr val="000000"/>
                      </a:solidFill>
                      <a:latin typeface="Times New Roman"/>
                    </a:rPr>
                    <a:t>SIGEO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818280" y="4343400"/>
                  <a:ext cx="1748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   </a:t>
                  </a: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</a:rPr>
                    <a:t>Espacia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117360" y="5689440"/>
                <a:ext cx="517212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Times New Roman"/>
                  </a:rPr>
                  <a:t>SIGEO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Times New Roman"/>
                  </a:rPr>
                  <a:t>: Sistema de Informações Georreferenciad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132480" y="2590920"/>
            <a:ext cx="8060400" cy="3845520"/>
            <a:chOff x="132480" y="2590920"/>
            <a:chExt cx="8060400" cy="3845520"/>
          </a:xfrm>
        </p:grpSpPr>
        <p:grpSp>
          <p:nvGrpSpPr>
            <p:cNvPr id="124" name=""/>
            <p:cNvGrpSpPr/>
            <p:nvPr/>
          </p:nvGrpSpPr>
          <p:grpSpPr>
            <a:xfrm>
              <a:off x="3446640" y="2590920"/>
              <a:ext cx="2673000" cy="1218960"/>
              <a:chOff x="3446640" y="2590920"/>
              <a:chExt cx="2673000" cy="1218960"/>
            </a:xfrm>
          </p:grpSpPr>
          <p:sp>
            <p:nvSpPr>
              <p:cNvPr id="125" name=""/>
              <p:cNvSpPr/>
              <p:nvPr/>
            </p:nvSpPr>
            <p:spPr>
              <a:xfrm>
                <a:off x="5416560" y="2590920"/>
                <a:ext cx="70308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446640" y="3809880"/>
                <a:ext cx="225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32480" y="3365640"/>
              <a:ext cx="8060400" cy="3070800"/>
              <a:chOff x="132480" y="3365640"/>
              <a:chExt cx="8060400" cy="307080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5827680" y="3365640"/>
                <a:ext cx="2365200" cy="1361160"/>
                <a:chOff x="5827680" y="3365640"/>
                <a:chExt cx="2365200" cy="136116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5827680" y="3365640"/>
                  <a:ext cx="2365200" cy="990360"/>
                </a:xfrm>
                <a:prstGeom prst="ellipse">
                  <a:avLst/>
                </a:prstGeom>
                <a:solidFill>
                  <a:srgbClr val="ffcc66"/>
                </a:solidFill>
                <a:ln w="284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339600" y="3524400"/>
                  <a:ext cx="1476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3600" spc="-1" strike="noStrike">
                      <a:solidFill>
                        <a:srgbClr val="000000"/>
                      </a:solidFill>
                      <a:latin typeface="Times New Roman"/>
                    </a:rPr>
                    <a:t>SQAO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6519960" y="4267080"/>
                  <a:ext cx="1163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</a:rPr>
                    <a:t>Técnic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" name=""/>
              <p:cNvSpPr/>
              <p:nvPr/>
            </p:nvSpPr>
            <p:spPr>
              <a:xfrm>
                <a:off x="132480" y="6099120"/>
                <a:ext cx="492660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Times New Roman"/>
                  </a:rPr>
                  <a:t>SQAO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Times New Roman"/>
                  </a:rPr>
                  <a:t>: Sistema Qualiquantitativo de Análise de Outorg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28240" y="1905120"/>
            <a:ext cx="8915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istema de apoio técnico à decisão sobre outor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ntrole técnico dos pleitos de outor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nálise quantitativa e qualit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r usu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r trecho do mana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r parâmetro de qualidade da á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r mê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laboração de gráficos e tabelas de resul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71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Times New Roman"/>
              </a:rPr>
              <a:t>Sistema Quali-quantitativo</a:t>
            </a:r>
            <a:br>
              <a:rPr sz="4400"/>
            </a:br>
            <a:r>
              <a:rPr b="1" i="1" lang="pt-BR" sz="4400" spc="-1" strike="noStrike">
                <a:solidFill>
                  <a:srgbClr val="000000"/>
                </a:solidFill>
                <a:latin typeface="Times New Roman"/>
              </a:rPr>
              <a:t>de Análise de Outorgas - SQA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644480" y="15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08280" y="3257640"/>
            <a:ext cx="3657600" cy="947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Planos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33520" y="3802320"/>
            <a:ext cx="2748960" cy="2718720"/>
            <a:chOff x="533520" y="3802320"/>
            <a:chExt cx="2748960" cy="2718720"/>
          </a:xfrm>
        </p:grpSpPr>
        <p:sp>
          <p:nvSpPr>
            <p:cNvPr id="141" name=""/>
            <p:cNvSpPr/>
            <p:nvPr/>
          </p:nvSpPr>
          <p:spPr>
            <a:xfrm rot="10740600">
              <a:off x="1679040" y="3809520"/>
              <a:ext cx="840240" cy="990360"/>
            </a:xfrm>
            <a:custGeom>
              <a:avLst/>
              <a:gdLst>
                <a:gd name="textAreaLeft" fmla="*/ 280080 w 840240"/>
                <a:gd name="textAreaRight" fmla="*/ 702000 w 840240"/>
                <a:gd name="textAreaTop" fmla="*/ 587160 h 990360"/>
                <a:gd name="textAreaBottom" fmla="*/ 82728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363"/>
                  </a:moveTo>
                  <a:lnTo>
                    <a:pt x="12804" y="16363"/>
                  </a:lnTo>
                  <a:lnTo>
                    <a:pt x="12804" y="7200"/>
                  </a:lnTo>
                  <a:lnTo>
                    <a:pt x="9245" y="7200"/>
                  </a:lnTo>
                  <a:lnTo>
                    <a:pt x="15423" y="0"/>
                  </a:lnTo>
                  <a:lnTo>
                    <a:pt x="21600" y="7200"/>
                  </a:lnTo>
                  <a:lnTo>
                    <a:pt x="18041" y="7200"/>
                  </a:lnTo>
                  <a:lnTo>
                    <a:pt x="180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10520" y="4876560"/>
              <a:ext cx="1832760" cy="45972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Diretriz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679040" y="5410080"/>
              <a:ext cx="457920" cy="45720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520" y="6000480"/>
              <a:ext cx="2748960" cy="520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imes New Roman"/>
                </a:rPr>
                <a:t>Enquadrament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264280" y="3727080"/>
            <a:ext cx="3879720" cy="2801880"/>
            <a:chOff x="5264280" y="3727080"/>
            <a:chExt cx="3879720" cy="2801880"/>
          </a:xfrm>
        </p:grpSpPr>
        <p:sp>
          <p:nvSpPr>
            <p:cNvPr id="146" name=""/>
            <p:cNvSpPr/>
            <p:nvPr/>
          </p:nvSpPr>
          <p:spPr>
            <a:xfrm flipH="1" rot="10859400">
              <a:off x="6595920" y="3733920"/>
              <a:ext cx="803160" cy="993600"/>
            </a:xfrm>
            <a:custGeom>
              <a:avLst/>
              <a:gdLst>
                <a:gd name="textAreaLeft" fmla="*/ 267480 w 803160"/>
                <a:gd name="textAreaRight" fmla="*/ 670680 w 803160"/>
                <a:gd name="textAreaTop" fmla="*/ 588960 h 993600"/>
                <a:gd name="textAreaBottom" fmla="*/ 830160 h 9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363"/>
                  </a:moveTo>
                  <a:lnTo>
                    <a:pt x="12804" y="16363"/>
                  </a:lnTo>
                  <a:lnTo>
                    <a:pt x="12804" y="7200"/>
                  </a:lnTo>
                  <a:lnTo>
                    <a:pt x="9245" y="7200"/>
                  </a:lnTo>
                  <a:lnTo>
                    <a:pt x="15423" y="0"/>
                  </a:lnTo>
                  <a:lnTo>
                    <a:pt x="21600" y="7200"/>
                  </a:lnTo>
                  <a:lnTo>
                    <a:pt x="18041" y="7200"/>
                  </a:lnTo>
                  <a:lnTo>
                    <a:pt x="180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30720" y="4835880"/>
              <a:ext cx="2280960" cy="45972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Banco de da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6961680" y="5415840"/>
              <a:ext cx="437760" cy="458640"/>
            </a:xfrm>
            <a:prstGeom prst="upArrow">
              <a:avLst>
                <a:gd name="adj1" fmla="val 50000"/>
                <a:gd name="adj2" fmla="val 26192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64280" y="6008400"/>
              <a:ext cx="3879720" cy="520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imes New Roman"/>
                </a:rPr>
                <a:t>Sistema de Informaçõ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095880" y="990720"/>
            <a:ext cx="2160720" cy="2725200"/>
            <a:chOff x="6095880" y="990720"/>
            <a:chExt cx="2160720" cy="2725200"/>
          </a:xfrm>
        </p:grpSpPr>
        <p:sp>
          <p:nvSpPr>
            <p:cNvPr id="151" name=""/>
            <p:cNvSpPr/>
            <p:nvPr/>
          </p:nvSpPr>
          <p:spPr>
            <a:xfrm rot="11400">
              <a:off x="6640920" y="2723760"/>
              <a:ext cx="774000" cy="990720"/>
            </a:xfrm>
            <a:custGeom>
              <a:avLst/>
              <a:gdLst>
                <a:gd name="textAreaLeft" fmla="*/ 258120 w 774000"/>
                <a:gd name="textAreaRight" fmla="*/ 646560 w 774000"/>
                <a:gd name="textAreaTop" fmla="*/ 587160 h 990720"/>
                <a:gd name="textAreaBottom" fmla="*/ 82764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363"/>
                  </a:moveTo>
                  <a:lnTo>
                    <a:pt x="12804" y="16363"/>
                  </a:lnTo>
                  <a:lnTo>
                    <a:pt x="12804" y="7200"/>
                  </a:lnTo>
                  <a:lnTo>
                    <a:pt x="9245" y="7200"/>
                  </a:lnTo>
                  <a:lnTo>
                    <a:pt x="15423" y="0"/>
                  </a:lnTo>
                  <a:lnTo>
                    <a:pt x="21600" y="7200"/>
                  </a:lnTo>
                  <a:lnTo>
                    <a:pt x="18041" y="7200"/>
                  </a:lnTo>
                  <a:lnTo>
                    <a:pt x="180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59760" y="2152440"/>
              <a:ext cx="1688400" cy="45972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Diretriz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57720" y="1581120"/>
              <a:ext cx="421920" cy="457200"/>
            </a:xfrm>
            <a:prstGeom prst="upArrow">
              <a:avLst>
                <a:gd name="adj1" fmla="val 50000"/>
                <a:gd name="adj2" fmla="val 27090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95880" y="990720"/>
              <a:ext cx="2160720" cy="5205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imes New Roman"/>
                </a:rPr>
                <a:t>Outorg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914400" y="1066680"/>
            <a:ext cx="1992240" cy="2706480"/>
            <a:chOff x="914400" y="1066680"/>
            <a:chExt cx="1992240" cy="2706480"/>
          </a:xfrm>
        </p:grpSpPr>
        <p:sp>
          <p:nvSpPr>
            <p:cNvPr id="156" name=""/>
            <p:cNvSpPr/>
            <p:nvPr/>
          </p:nvSpPr>
          <p:spPr>
            <a:xfrm flipH="1" rot="21588600">
              <a:off x="1687680" y="2781000"/>
              <a:ext cx="773640" cy="990720"/>
            </a:xfrm>
            <a:custGeom>
              <a:avLst/>
              <a:gdLst>
                <a:gd name="textAreaLeft" fmla="*/ 257760 w 773640"/>
                <a:gd name="textAreaRight" fmla="*/ 646200 w 773640"/>
                <a:gd name="textAreaTop" fmla="*/ 587160 h 990720"/>
                <a:gd name="textAreaBottom" fmla="*/ 82764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363"/>
                  </a:moveTo>
                  <a:lnTo>
                    <a:pt x="12804" y="16363"/>
                  </a:lnTo>
                  <a:lnTo>
                    <a:pt x="12804" y="7200"/>
                  </a:lnTo>
                  <a:lnTo>
                    <a:pt x="9245" y="7200"/>
                  </a:lnTo>
                  <a:lnTo>
                    <a:pt x="15423" y="0"/>
                  </a:lnTo>
                  <a:lnTo>
                    <a:pt x="21600" y="7200"/>
                  </a:lnTo>
                  <a:lnTo>
                    <a:pt x="18041" y="7200"/>
                  </a:lnTo>
                  <a:lnTo>
                    <a:pt x="180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72440" y="2228760"/>
              <a:ext cx="1687320" cy="45972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Diretriz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05320" y="1695600"/>
              <a:ext cx="421560" cy="457200"/>
            </a:xfrm>
            <a:prstGeom prst="upArrow">
              <a:avLst>
                <a:gd name="adj1" fmla="val 50000"/>
                <a:gd name="adj2" fmla="val 27114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14400" y="1066680"/>
              <a:ext cx="1992240" cy="5205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imes New Roman"/>
                </a:rPr>
                <a:t>Cobranç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369720" y="152280"/>
            <a:ext cx="844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strumentos da Política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12:02:12Z</dcterms:created>
  <dc:creator>SPOACGMI</dc:creator>
  <dc:description/>
  <dc:language>en-US</dc:language>
  <cp:lastModifiedBy>SPOACGMI</cp:lastModifiedBy>
  <dcterms:modified xsi:type="dcterms:W3CDTF">2002-04-04T12:18:40Z</dcterms:modified>
  <cp:revision>3</cp:revision>
  <dc:subject/>
  <dc:title>Slide sem título </dc:title>
</cp:coreProperties>
</file>