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1C2-8805-45DF-A1A5-4DE5EA1D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6BD-A9FE-4B7C-B29E-8A2ACF4C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AF0-7ACA-495C-A612-EB9CA709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9BFB-010E-4E9C-AD6A-A0DA0285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EE80-7104-4AAC-8D35-3D1EC22D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25E-48A2-48B7-B2EE-26CEB9D6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9E19-0422-4970-BB91-B1917D5D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226-1240-4414-AAFF-5BBF8597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EFC-6C87-472B-A427-C09776C7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DF0-E244-44A0-A03E-AB48D8E8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23E-696F-4D9C-B62D-10C0E074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C0D-9124-4263-A423-AD26094E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CCFC-140A-4902-A6B0-EB85DE0E1DC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OUTORGA DE LANÇAMENTO DE EFLUENTES 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Not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Bacia do Rio Paraíba do S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Abril d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99"/>
                </a:solidFill>
                <a:latin typeface="Tahoma"/>
              </a:rPr>
              <a:t>Monica Po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1. </a:t>
            </a:r>
            <a:r>
              <a:rPr b="1" i="1" lang="en-US" sz="3200" spc="-1" strike="noStrike">
                <a:solidFill>
                  <a:srgbClr val="ffff66"/>
                </a:solidFill>
                <a:latin typeface="Tahoma"/>
              </a:rPr>
              <a:t>Por que outorgar lançament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ão há sistema de tratamento 100%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á necessidade de reservar água para o transporte, assimilação (auto-depuração) ou diluição da carga remanesc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É a garantia da vazão alocada especificamente para manter o corpo receptor dentro dos limites ou metas de qualidade defin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É a gestão INTEG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Como faz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 processo é complexo, pois o desconhecimento é 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omeçar SIMPLES, mas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eocupar-se com poluente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nalisar Demanda Bioquímica de Oxigê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10960" y="1544400"/>
            <a:ext cx="879192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quação de dil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diluição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 = Q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efl 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. (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efl 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- 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permitida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)/(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permitida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- 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manancial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Indisponível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 = 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Diluição 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+ 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efluente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(Cálculos de deca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rivada da equação geral de mistura (balanço de mas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Tahoma"/>
              </a:rPr>
              <a:t>                  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final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 = (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.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+ 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.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)/ (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 +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ransforma” qualidade em quant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quivalente em vaz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Unifica procedimentos de outo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râmetros conservativos e não-conserv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eixe de tubos e c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52440" y="304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Por que DB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Lançamentos de matéria orgânica são a forma mais frequente de poluição no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No Paraíba do Sul, apenas 69% do esgoto é coletado e 9% da carga é remo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Isto também é verdade no resto do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657600" y="3352680"/>
            <a:ext cx="3165480" cy="2051280"/>
            <a:chOff x="3657600" y="3352680"/>
            <a:chExt cx="3165480" cy="2051280"/>
          </a:xfrm>
        </p:grpSpPr>
        <p:sp>
          <p:nvSpPr>
            <p:cNvPr id="52" name=""/>
            <p:cNvSpPr/>
            <p:nvPr/>
          </p:nvSpPr>
          <p:spPr>
            <a:xfrm>
              <a:off x="3657600" y="3352680"/>
              <a:ext cx="316548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938400" y="373392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77920" y="1438200"/>
            <a:ext cx="67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eixe de tubos e cones (Vazão indisponíve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sp>
          <p:nvSpPr>
            <p:cNvPr id="57" name=""/>
            <p:cNvSpPr/>
            <p:nvPr/>
          </p:nvSpPr>
          <p:spPr>
            <a:xfrm>
              <a:off x="297000" y="2209680"/>
              <a:ext cx="462744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8600" y="2808360"/>
              <a:ext cx="3306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62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21487800">
            <a:off x="7175520" y="518004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657600" y="2912040"/>
            <a:ext cx="5063760" cy="3488760"/>
            <a:chOff x="3657600" y="2912040"/>
            <a:chExt cx="5063760" cy="3488760"/>
          </a:xfrm>
        </p:grpSpPr>
        <p:sp>
          <p:nvSpPr>
            <p:cNvPr id="69" name=""/>
            <p:cNvSpPr/>
            <p:nvPr/>
          </p:nvSpPr>
          <p:spPr>
            <a:xfrm>
              <a:off x="3657600" y="36576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52160" y="34290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15480" y="541008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59680" y="37339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56600" y="4343400"/>
              <a:ext cx="3164760" cy="205092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837760" y="472428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38400" y="41911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7103520" y="3123720"/>
              <a:ext cx="1265760" cy="68580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10400">
              <a:off x="7360920" y="3076200"/>
              <a:ext cx="82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lux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463840" y="4586040"/>
            <a:ext cx="2295000" cy="1837800"/>
            <a:chOff x="2463840" y="4586040"/>
            <a:chExt cx="2295000" cy="1837800"/>
          </a:xfrm>
        </p:grpSpPr>
        <p:sp>
          <p:nvSpPr>
            <p:cNvPr id="79" name=""/>
            <p:cNvSpPr/>
            <p:nvPr/>
          </p:nvSpPr>
          <p:spPr>
            <a:xfrm rot="133200">
              <a:off x="414972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811400">
              <a:off x="2381760" y="5181480"/>
              <a:ext cx="245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râmetro conserva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7000" y="4679280"/>
            <a:ext cx="2769120" cy="1721520"/>
            <a:chOff x="567000" y="4679280"/>
            <a:chExt cx="2769120" cy="1721520"/>
          </a:xfrm>
        </p:grpSpPr>
        <p:sp>
          <p:nvSpPr>
            <p:cNvPr id="82" name=""/>
            <p:cNvSpPr/>
            <p:nvPr/>
          </p:nvSpPr>
          <p:spPr>
            <a:xfrm>
              <a:off x="2742480" y="6095880"/>
              <a:ext cx="28116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456800">
              <a:off x="508320" y="525744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râmetro não-conserva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7520" y="1679400"/>
            <a:ext cx="1699200" cy="1140120"/>
            <a:chOff x="47520" y="1679400"/>
            <a:chExt cx="1699200" cy="1140120"/>
          </a:xfrm>
        </p:grpSpPr>
        <p:sp>
          <p:nvSpPr>
            <p:cNvPr id="85" name=""/>
            <p:cNvSpPr/>
            <p:nvPr/>
          </p:nvSpPr>
          <p:spPr>
            <a:xfrm>
              <a:off x="47520" y="2057400"/>
              <a:ext cx="1546560" cy="762120"/>
            </a:xfrm>
            <a:custGeom>
              <a:avLst/>
              <a:gdLst>
                <a:gd name="textAreaLeft" fmla="*/ 0 w 1546560"/>
                <a:gd name="textAreaRight" fmla="*/ 1546920 w 15465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160" y="1679400"/>
              <a:ext cx="166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ança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89280" y="2459160"/>
            <a:ext cx="6403680" cy="1263600"/>
            <a:chOff x="2789280" y="2459160"/>
            <a:chExt cx="6403680" cy="1263600"/>
          </a:xfrm>
        </p:grpSpPr>
        <p:sp>
          <p:nvSpPr>
            <p:cNvPr id="88" name=""/>
            <p:cNvSpPr/>
            <p:nvPr/>
          </p:nvSpPr>
          <p:spPr>
            <a:xfrm>
              <a:off x="2789280" y="2884320"/>
              <a:ext cx="609120" cy="838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84520" y="2459160"/>
              <a:ext cx="47084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azão indisponível com a concentração máxima 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lasse de enquadramento ou do pacto de bac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130200" y="2743200"/>
              <a:ext cx="132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E os demais parâmetr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vem ser objeto de análise fu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É preciso aumentar o conhecimento sobre a bacia e sobre os usu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o cadastro deve ser pedida informação sobre outros parâme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riar sistema de informação para embasar o aperfeiçoamento d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5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E as bacias que já estão degradada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riação de metas intermediárias através da negociação de pacto entre os usu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ais metas refletem os investimentos a serem fe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ve-se dar preferência ao pacto por ser um acordo coletivo (Comit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À medida em que as metas vão sendo alcançadas, novas metas mais restritivas podem ser negoci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s outorgas serão revistas à luz das novas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2120" y="1676520"/>
            <a:ext cx="8018640" cy="4647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286240" y="4317840"/>
            <a:ext cx="341280" cy="609840"/>
            <a:chOff x="5286240" y="4317840"/>
            <a:chExt cx="341280" cy="609840"/>
          </a:xfrm>
        </p:grpSpPr>
        <p:sp>
          <p:nvSpPr>
            <p:cNvPr id="98" name=""/>
            <p:cNvSpPr/>
            <p:nvPr/>
          </p:nvSpPr>
          <p:spPr>
            <a:xfrm>
              <a:off x="5627520" y="431784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86240" y="4317840"/>
              <a:ext cx="34128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73880" y="3124080"/>
            <a:ext cx="3779280" cy="730440"/>
            <a:chOff x="1073880" y="3124080"/>
            <a:chExt cx="3779280" cy="730440"/>
          </a:xfrm>
        </p:grpSpPr>
        <p:sp>
          <p:nvSpPr>
            <p:cNvPr id="101" name=""/>
            <p:cNvSpPr/>
            <p:nvPr/>
          </p:nvSpPr>
          <p:spPr>
            <a:xfrm>
              <a:off x="4360680" y="312408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53160" y="312408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617120" y="3657600"/>
              <a:ext cx="32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73880" y="3486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085040" y="3695760"/>
            <a:ext cx="4248720" cy="838080"/>
            <a:chOff x="1085040" y="3695760"/>
            <a:chExt cx="4248720" cy="838080"/>
          </a:xfrm>
        </p:grpSpPr>
        <p:sp>
          <p:nvSpPr>
            <p:cNvPr id="106" name=""/>
            <p:cNvSpPr/>
            <p:nvPr/>
          </p:nvSpPr>
          <p:spPr>
            <a:xfrm>
              <a:off x="4841640" y="369576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99200" y="370836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616760" y="4317840"/>
              <a:ext cx="3681720" cy="25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85040" y="4165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3T04:48:45Z</dcterms:created>
  <dc:creator>Monica Porto</dc:creator>
  <dc:description/>
  <dc:language>en-US</dc:language>
  <cp:lastModifiedBy>Monica Porto</cp:lastModifiedBy>
  <dcterms:modified xsi:type="dcterms:W3CDTF">2002-04-03T11:55:42Z</dcterms:modified>
  <cp:revision>3</cp:revision>
  <dc:subject/>
  <dc:title>OUTORGA DE LANÇAMENTO DE EFLUENTES  Nota Técnica</dc:title>
</cp:coreProperties>
</file>