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AE8-C255-4F75-966F-E40A941E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1D3-51C4-473A-AC08-6D386C6A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22C-1D70-421F-926F-6C2C117E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F3B-6364-4BE5-805B-8F302A25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8B7-6F6C-4F06-99E9-F485427F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D98-2030-4312-B8C9-81F0F997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6A0-EDA4-4541-8840-CB4A2ACF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A5C-9749-417A-8EB6-4F2BB176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680-3892-4CFF-9D7F-D316730A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F85-E90E-47B8-9FA7-0C603AE2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C50-E8C2-4A6F-8620-EA924A28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8E7-854D-4B83-BC7F-5D2EBFFD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BF26-2091-453B-B19F-4F725B1EB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 conceito de outorga de diluiçã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solicitação de uso d’água ao pode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interferência na qualidade e na 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 de direito de uso: instrumento da lei 9433(uso específico, prazo, termos e condiçõ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stão do recurso hídrico” / conf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gua: bem de domínio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estadu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7663/91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ulamentação da outorga e licenciamento das obras: decreto estadual 41258 e portaria DAEE 717/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EE: órgão outorgante esta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997, regulamentado pelo decreto est 84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S OPERACION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7620120" cy="5791320"/>
          </a:xfrm>
          <a:prstGeom prst="rect">
            <a:avLst/>
          </a:prstGeom>
          <a:noFill/>
          <a:ln w="9360">
            <a:solidFill>
              <a:srgbClr val="cdffe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lidade: parametro único: DB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5,2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presenta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limite inferior: 2mg/L! CONAMA20,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LASSE 2: DBO ATÉ  5 MG/l,  OD&gt;5MG/l 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portes 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feitos multiplicativos e sinér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ortes poluidores/efluentes dif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abilidade do processo prod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tidade: vazão de refer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“condição de estiag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“vazões em marcha”/CARGAS/ ‘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variabilidade do ciclo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a qualidade!Apoio técnico e ’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RA VIABILIZ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GRAÇÃO ESTADUAL E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ILIDADE E TRANSPA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RÁT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dastros comuns e inte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poio/ integração/ ação eficaz dos sistemas de fiscalização e polícia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9000" y="-412920"/>
            <a:ext cx="365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mínio das águas: União - a solicitação de outorga deverá ser feita às autoridades outorgantes estaduais: compatibilização / integração dos sistemas de outorga estadual e feder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outorgáve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ptação superficial e subterrâ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lançamento de efluentes (dom e 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mineraçã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oridades de uso / Planos de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PRINCÍPIO BÁS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irar  “proveito” da capacidade de diluição e de autodepuração dos corpos d’águ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utodepuração é um fenômen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speita as características “naturais”, desejáveis ou “meta” para o corpo 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36720"/>
            <a:ext cx="617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TANTO: calcada na busca de uma qualidade desejada e cujos instrumentos 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planejamento: o enquad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peracionais: ação de controle(poder de polícia) e o monitoramento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LUIÇÃO LEG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ementos da gestão racional de recursos hídr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ficiência econô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ervaçã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ção de benef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nciamento da ges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tanto: -simplic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facilidade de 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ceitabilidade política e so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rincípios a serem observ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ocação dos cu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tivação ética: justiça e equ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POLUIDOR PAG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usuários de recursos naturais sujeitos à aplicação de intrum economicos/ benefício da comunidade   -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USUÁRIO PAGADOR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plicação da cobrança para os usos outorgáv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manutenção de níveis de qualidade desejáve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rotina de fiscalização e polícia: qualidade amb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9433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importância da interligação do sistema de outorga com o sistema de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torga precede o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cisão final compete ao órgão ambiental (lei federal 6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nto importante da interface dos dois sistemas: OUTORGA PARA LANÇAMENTO DE EFLUEN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391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ituição federal: e art 170 (prevalece a atividade ambi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ei de crimes (lei 9605 (art 54)...dez 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AM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AMA 20/8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2: não será permitida diluição de efluentes industriais e parágrafo úni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3; não conferir caract em desacordo.../paragr.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35...fiscalização...estadual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T 12,13,15,17 E 19, 21, 23 (est. impacto), 35, 37, 39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3672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AMA 5: o que deve ser licenciado e como funciona no ES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abast água: DA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esg san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DAIA: parte das ca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oletores/intercept: DAIA/C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etes, emissários, disp final: LP/DAIA                                                   LI/LO/Cete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9:35:43Z</dcterms:created>
  <dc:creator>CETESB</dc:creator>
  <dc:description/>
  <dc:language>en-US</dc:language>
  <cp:lastModifiedBy>CETESB</cp:lastModifiedBy>
  <cp:lastPrinted>2002-04-01T19:41:55Z</cp:lastPrinted>
  <dcterms:modified xsi:type="dcterms:W3CDTF">2002-04-02T15:00:26Z</dcterms:modified>
  <cp:revision>34</cp:revision>
  <dc:subject/>
  <dc:title>O conceito de outorga de diluição:</dc:title>
</cp:coreProperties>
</file>