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7CE6-68B5-4F57-999D-9E24FEAA8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34F7-E8F6-4B92-952F-B5EAF305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D3E5-8908-4A34-9F57-FD3B5FF92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16A6-A6C9-47A5-A76C-11797BB7D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34A1-40DD-4CC6-87B0-B481D6C8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EC96-7209-473B-BBE5-2DB6D33D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DD7B-7852-4377-B36A-729620EB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BCAE-CD19-491D-A18D-E220A9C0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4E87-7248-49C7-8BAF-5040952C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56F5-608D-4B2A-8F43-21EA3BCC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312B-77FF-4969-AA8F-05A69E6E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15F8-71AE-4C99-81AE-8F1005C0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0295-0270-464C-9C10-68ED8BC5178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OUTORGA DE LANÇAMENTO DE EFLUENTES </a:t>
            </a:r>
            <a:br>
              <a:rPr sz="4400"/>
            </a:b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Nota Téc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Bacia do Rio Paraíba do S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Abril de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99"/>
                </a:solidFill>
                <a:latin typeface="Tahoma"/>
              </a:rPr>
              <a:t>Monica Por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1. </a:t>
            </a:r>
            <a:r>
              <a:rPr b="1" i="1" lang="en-US" sz="3200" spc="-1" strike="noStrike">
                <a:solidFill>
                  <a:srgbClr val="ffff66"/>
                </a:solidFill>
                <a:latin typeface="Tahoma"/>
              </a:rPr>
              <a:t>Por que outorgar lançament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ão há sistema de tratamento 100%efi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Há necessidade de reservar água para o transporte, assimilação (auto-depuração) ou diluição da carga remanesc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É a garantia da vazão alocada especificamente para manter o corpo receptor dentro dos limites ou metas de qualidade defin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É a gestão INTEG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2. </a:t>
            </a:r>
            <a:r>
              <a:rPr b="1" i="1" lang="en-US" sz="3600" spc="-1" strike="noStrike">
                <a:solidFill>
                  <a:srgbClr val="ffff66"/>
                </a:solidFill>
                <a:latin typeface="Tahoma"/>
              </a:rPr>
              <a:t>Como faz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O processo é complexo, pois o desconhecimento é gra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omeçar SIMPLES, mas efic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eocupar-se com poluentes signific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nalisar Demanda Bioquímica de Oxigên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10960" y="1544400"/>
            <a:ext cx="879192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quação de dilui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Q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ahoma"/>
              </a:rPr>
              <a:t>diluição</a:t>
            </a: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 = Q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ahoma"/>
              </a:rPr>
              <a:t>efl </a:t>
            </a: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. (C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ahoma"/>
              </a:rPr>
              <a:t>efl </a:t>
            </a: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- C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ahoma"/>
              </a:rPr>
              <a:t>permitida</a:t>
            </a: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)/(C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ahoma"/>
              </a:rPr>
              <a:t>permitida</a:t>
            </a: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- C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ahoma"/>
              </a:rPr>
              <a:t>manancial</a:t>
            </a: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Tahoma"/>
              </a:rPr>
              <a:t>Q</a:t>
            </a:r>
            <a:r>
              <a:rPr b="1" lang="pt-BR" sz="2400" spc="-1" strike="noStrike" baseline="-25000">
                <a:solidFill>
                  <a:srgbClr val="ff0000"/>
                </a:solidFill>
                <a:latin typeface="Tahoma"/>
              </a:rPr>
              <a:t>Indisponível</a:t>
            </a:r>
            <a:r>
              <a:rPr b="1" lang="pt-BR" sz="2400" spc="-1" strike="noStrike">
                <a:solidFill>
                  <a:srgbClr val="ff0000"/>
                </a:solidFill>
                <a:latin typeface="Tahoma"/>
              </a:rPr>
              <a:t> = Q</a:t>
            </a:r>
            <a:r>
              <a:rPr b="1" lang="pt-BR" sz="2400" spc="-1" strike="noStrike" baseline="-25000">
                <a:solidFill>
                  <a:srgbClr val="ff0000"/>
                </a:solidFill>
                <a:latin typeface="Tahoma"/>
              </a:rPr>
              <a:t>Diluição </a:t>
            </a:r>
            <a:r>
              <a:rPr b="1" lang="pt-BR" sz="2400" spc="-1" strike="noStrike">
                <a:solidFill>
                  <a:srgbClr val="ff0000"/>
                </a:solidFill>
                <a:latin typeface="Tahoma"/>
              </a:rPr>
              <a:t>+ Q</a:t>
            </a:r>
            <a:r>
              <a:rPr b="1" lang="pt-BR" sz="2400" spc="-1" strike="noStrike" baseline="-25000">
                <a:solidFill>
                  <a:srgbClr val="ff0000"/>
                </a:solidFill>
                <a:latin typeface="Tahoma"/>
              </a:rPr>
              <a:t>efluente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Tahoma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(Cálculos de decaimen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Derivada da equação geral de mistura (balanço de mas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cc"/>
                </a:solidFill>
                <a:latin typeface="Tahoma"/>
              </a:rPr>
              <a:t>                   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C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final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 = (C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A 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. Q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A 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+ C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B 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. Q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B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)/ (Q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A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 + Q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B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Transforma” qualidade em quant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quivalente em vaz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Unifica procedimentos de outo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Parâmetros conservativos e não-conserv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Feixe de tubos e c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352440" y="3045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Outorga de lançamento de eflu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3. </a:t>
            </a:r>
            <a:r>
              <a:rPr b="1" i="1" lang="en-US" sz="3600" spc="-1" strike="noStrike">
                <a:solidFill>
                  <a:srgbClr val="ffff66"/>
                </a:solidFill>
                <a:latin typeface="Tahoma"/>
              </a:rPr>
              <a:t>Por que DB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Lançamentos de matéria orgânica são a forma mais frequente de poluição no 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No Paraíba do Sul, apenas 69% do esgoto é coletado e 9% da carga é remo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Isto também é verdade no resto do 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3657600" y="3352680"/>
            <a:ext cx="3165480" cy="2051280"/>
            <a:chOff x="3657600" y="3352680"/>
            <a:chExt cx="3165480" cy="2051280"/>
          </a:xfrm>
        </p:grpSpPr>
        <p:sp>
          <p:nvSpPr>
            <p:cNvPr id="52" name=""/>
            <p:cNvSpPr/>
            <p:nvPr/>
          </p:nvSpPr>
          <p:spPr>
            <a:xfrm>
              <a:off x="3657600" y="3352680"/>
              <a:ext cx="3165480" cy="2051280"/>
            </a:xfrm>
            <a:custGeom>
              <a:avLst/>
              <a:gdLst/>
              <a:ahLst/>
              <a:rect l="l" t="t" r="r" b="b"/>
              <a:pathLst>
                <a:path w="3157" h="1292">
                  <a:moveTo>
                    <a:pt x="9" y="177"/>
                  </a:moveTo>
                  <a:cubicBezTo>
                    <a:pt x="42" y="227"/>
                    <a:pt x="0" y="173"/>
                    <a:pt x="71" y="216"/>
                  </a:cubicBezTo>
                  <a:cubicBezTo>
                    <a:pt x="84" y="224"/>
                    <a:pt x="92" y="237"/>
                    <a:pt x="102" y="247"/>
                  </a:cubicBezTo>
                  <a:cubicBezTo>
                    <a:pt x="112" y="276"/>
                    <a:pt x="128" y="298"/>
                    <a:pt x="141" y="325"/>
                  </a:cubicBezTo>
                  <a:cubicBezTo>
                    <a:pt x="145" y="332"/>
                    <a:pt x="144" y="342"/>
                    <a:pt x="149" y="348"/>
                  </a:cubicBezTo>
                  <a:cubicBezTo>
                    <a:pt x="162" y="364"/>
                    <a:pt x="181" y="373"/>
                    <a:pt x="196" y="387"/>
                  </a:cubicBezTo>
                  <a:cubicBezTo>
                    <a:pt x="238" y="473"/>
                    <a:pt x="246" y="592"/>
                    <a:pt x="344" y="637"/>
                  </a:cubicBezTo>
                  <a:cubicBezTo>
                    <a:pt x="418" y="671"/>
                    <a:pt x="461" y="670"/>
                    <a:pt x="546" y="683"/>
                  </a:cubicBezTo>
                  <a:cubicBezTo>
                    <a:pt x="577" y="688"/>
                    <a:pt x="640" y="699"/>
                    <a:pt x="640" y="699"/>
                  </a:cubicBezTo>
                  <a:cubicBezTo>
                    <a:pt x="656" y="707"/>
                    <a:pt x="675" y="709"/>
                    <a:pt x="687" y="722"/>
                  </a:cubicBezTo>
                  <a:cubicBezTo>
                    <a:pt x="707" y="744"/>
                    <a:pt x="718" y="829"/>
                    <a:pt x="733" y="855"/>
                  </a:cubicBezTo>
                  <a:cubicBezTo>
                    <a:pt x="754" y="891"/>
                    <a:pt x="805" y="903"/>
                    <a:pt x="835" y="933"/>
                  </a:cubicBezTo>
                  <a:cubicBezTo>
                    <a:pt x="851" y="978"/>
                    <a:pt x="832" y="935"/>
                    <a:pt x="866" y="979"/>
                  </a:cubicBezTo>
                  <a:cubicBezTo>
                    <a:pt x="877" y="994"/>
                    <a:pt x="887" y="1010"/>
                    <a:pt x="897" y="1026"/>
                  </a:cubicBezTo>
                  <a:cubicBezTo>
                    <a:pt x="902" y="1034"/>
                    <a:pt x="904" y="1046"/>
                    <a:pt x="913" y="1050"/>
                  </a:cubicBezTo>
                  <a:cubicBezTo>
                    <a:pt x="977" y="1082"/>
                    <a:pt x="943" y="1066"/>
                    <a:pt x="1014" y="1096"/>
                  </a:cubicBezTo>
                  <a:cubicBezTo>
                    <a:pt x="1041" y="1124"/>
                    <a:pt x="1071" y="1147"/>
                    <a:pt x="1108" y="1159"/>
                  </a:cubicBezTo>
                  <a:cubicBezTo>
                    <a:pt x="1232" y="1150"/>
                    <a:pt x="1307" y="1146"/>
                    <a:pt x="1435" y="1159"/>
                  </a:cubicBezTo>
                  <a:cubicBezTo>
                    <a:pt x="1464" y="1169"/>
                    <a:pt x="1488" y="1181"/>
                    <a:pt x="1513" y="1198"/>
                  </a:cubicBezTo>
                  <a:cubicBezTo>
                    <a:pt x="1534" y="1261"/>
                    <a:pt x="1515" y="1236"/>
                    <a:pt x="1575" y="1276"/>
                  </a:cubicBezTo>
                  <a:cubicBezTo>
                    <a:pt x="1583" y="1281"/>
                    <a:pt x="1598" y="1291"/>
                    <a:pt x="1598" y="1291"/>
                  </a:cubicBezTo>
                  <a:cubicBezTo>
                    <a:pt x="1673" y="1288"/>
                    <a:pt x="1749" y="1292"/>
                    <a:pt x="1824" y="1283"/>
                  </a:cubicBezTo>
                  <a:cubicBezTo>
                    <a:pt x="1857" y="1279"/>
                    <a:pt x="1872" y="1184"/>
                    <a:pt x="1910" y="1159"/>
                  </a:cubicBezTo>
                  <a:cubicBezTo>
                    <a:pt x="1916" y="1140"/>
                    <a:pt x="1956" y="1076"/>
                    <a:pt x="1972" y="1065"/>
                  </a:cubicBezTo>
                  <a:cubicBezTo>
                    <a:pt x="2000" y="1046"/>
                    <a:pt x="2033" y="1046"/>
                    <a:pt x="2058" y="1018"/>
                  </a:cubicBezTo>
                  <a:cubicBezTo>
                    <a:pt x="2131" y="936"/>
                    <a:pt x="2067" y="985"/>
                    <a:pt x="2120" y="948"/>
                  </a:cubicBezTo>
                  <a:cubicBezTo>
                    <a:pt x="2136" y="903"/>
                    <a:pt x="2116" y="945"/>
                    <a:pt x="2152" y="909"/>
                  </a:cubicBezTo>
                  <a:cubicBezTo>
                    <a:pt x="2170" y="891"/>
                    <a:pt x="2186" y="837"/>
                    <a:pt x="2191" y="824"/>
                  </a:cubicBezTo>
                  <a:cubicBezTo>
                    <a:pt x="2196" y="639"/>
                    <a:pt x="2140" y="539"/>
                    <a:pt x="2300" y="512"/>
                  </a:cubicBezTo>
                  <a:cubicBezTo>
                    <a:pt x="2341" y="471"/>
                    <a:pt x="2383" y="450"/>
                    <a:pt x="2424" y="418"/>
                  </a:cubicBezTo>
                  <a:cubicBezTo>
                    <a:pt x="2468" y="383"/>
                    <a:pt x="2493" y="350"/>
                    <a:pt x="2549" y="333"/>
                  </a:cubicBezTo>
                  <a:cubicBezTo>
                    <a:pt x="2565" y="317"/>
                    <a:pt x="2578" y="298"/>
                    <a:pt x="2596" y="286"/>
                  </a:cubicBezTo>
                  <a:cubicBezTo>
                    <a:pt x="2617" y="272"/>
                    <a:pt x="2645" y="269"/>
                    <a:pt x="2666" y="255"/>
                  </a:cubicBezTo>
                  <a:cubicBezTo>
                    <a:pt x="2669" y="250"/>
                    <a:pt x="2692" y="212"/>
                    <a:pt x="2697" y="208"/>
                  </a:cubicBezTo>
                  <a:cubicBezTo>
                    <a:pt x="2714" y="193"/>
                    <a:pt x="2752" y="169"/>
                    <a:pt x="2752" y="169"/>
                  </a:cubicBezTo>
                  <a:cubicBezTo>
                    <a:pt x="2769" y="114"/>
                    <a:pt x="2744" y="177"/>
                    <a:pt x="2783" y="130"/>
                  </a:cubicBezTo>
                  <a:cubicBezTo>
                    <a:pt x="2833" y="70"/>
                    <a:pt x="2742" y="147"/>
                    <a:pt x="2806" y="83"/>
                  </a:cubicBezTo>
                  <a:cubicBezTo>
                    <a:pt x="2889" y="0"/>
                    <a:pt x="3040" y="60"/>
                    <a:pt x="3157" y="6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938400" y="3733920"/>
              <a:ext cx="2391480" cy="457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52440" y="304920"/>
            <a:ext cx="836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Outorga de lançamento de eflu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77920" y="1438200"/>
            <a:ext cx="67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eixe de tubos e cones (Vazão indisponíve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97000" y="2209680"/>
            <a:ext cx="4627440" cy="2051280"/>
            <a:chOff x="297000" y="2209680"/>
            <a:chExt cx="4627440" cy="2051280"/>
          </a:xfrm>
        </p:grpSpPr>
        <p:sp>
          <p:nvSpPr>
            <p:cNvPr id="57" name=""/>
            <p:cNvSpPr/>
            <p:nvPr/>
          </p:nvSpPr>
          <p:spPr>
            <a:xfrm>
              <a:off x="297000" y="2209680"/>
              <a:ext cx="4627440" cy="2051280"/>
            </a:xfrm>
            <a:custGeom>
              <a:avLst/>
              <a:gdLst/>
              <a:ahLst/>
              <a:rect l="l" t="t" r="r" b="b"/>
              <a:pathLst>
                <a:path w="3157" h="1292">
                  <a:moveTo>
                    <a:pt x="9" y="177"/>
                  </a:moveTo>
                  <a:cubicBezTo>
                    <a:pt x="42" y="227"/>
                    <a:pt x="0" y="173"/>
                    <a:pt x="71" y="216"/>
                  </a:cubicBezTo>
                  <a:cubicBezTo>
                    <a:pt x="84" y="224"/>
                    <a:pt x="92" y="237"/>
                    <a:pt x="102" y="247"/>
                  </a:cubicBezTo>
                  <a:cubicBezTo>
                    <a:pt x="112" y="276"/>
                    <a:pt x="128" y="298"/>
                    <a:pt x="141" y="325"/>
                  </a:cubicBezTo>
                  <a:cubicBezTo>
                    <a:pt x="145" y="332"/>
                    <a:pt x="144" y="342"/>
                    <a:pt x="149" y="348"/>
                  </a:cubicBezTo>
                  <a:cubicBezTo>
                    <a:pt x="162" y="364"/>
                    <a:pt x="181" y="373"/>
                    <a:pt x="196" y="387"/>
                  </a:cubicBezTo>
                  <a:cubicBezTo>
                    <a:pt x="238" y="473"/>
                    <a:pt x="246" y="592"/>
                    <a:pt x="344" y="637"/>
                  </a:cubicBezTo>
                  <a:cubicBezTo>
                    <a:pt x="418" y="671"/>
                    <a:pt x="461" y="670"/>
                    <a:pt x="546" y="683"/>
                  </a:cubicBezTo>
                  <a:cubicBezTo>
                    <a:pt x="577" y="688"/>
                    <a:pt x="640" y="699"/>
                    <a:pt x="640" y="699"/>
                  </a:cubicBezTo>
                  <a:cubicBezTo>
                    <a:pt x="656" y="707"/>
                    <a:pt x="675" y="709"/>
                    <a:pt x="687" y="722"/>
                  </a:cubicBezTo>
                  <a:cubicBezTo>
                    <a:pt x="707" y="744"/>
                    <a:pt x="718" y="829"/>
                    <a:pt x="733" y="855"/>
                  </a:cubicBezTo>
                  <a:cubicBezTo>
                    <a:pt x="754" y="891"/>
                    <a:pt x="805" y="903"/>
                    <a:pt x="835" y="933"/>
                  </a:cubicBezTo>
                  <a:cubicBezTo>
                    <a:pt x="851" y="978"/>
                    <a:pt x="832" y="935"/>
                    <a:pt x="866" y="979"/>
                  </a:cubicBezTo>
                  <a:cubicBezTo>
                    <a:pt x="877" y="994"/>
                    <a:pt x="887" y="1010"/>
                    <a:pt x="897" y="1026"/>
                  </a:cubicBezTo>
                  <a:cubicBezTo>
                    <a:pt x="902" y="1034"/>
                    <a:pt x="904" y="1046"/>
                    <a:pt x="913" y="1050"/>
                  </a:cubicBezTo>
                  <a:cubicBezTo>
                    <a:pt x="977" y="1082"/>
                    <a:pt x="943" y="1066"/>
                    <a:pt x="1014" y="1096"/>
                  </a:cubicBezTo>
                  <a:cubicBezTo>
                    <a:pt x="1041" y="1124"/>
                    <a:pt x="1071" y="1147"/>
                    <a:pt x="1108" y="1159"/>
                  </a:cubicBezTo>
                  <a:cubicBezTo>
                    <a:pt x="1232" y="1150"/>
                    <a:pt x="1307" y="1146"/>
                    <a:pt x="1435" y="1159"/>
                  </a:cubicBezTo>
                  <a:cubicBezTo>
                    <a:pt x="1464" y="1169"/>
                    <a:pt x="1488" y="1181"/>
                    <a:pt x="1513" y="1198"/>
                  </a:cubicBezTo>
                  <a:cubicBezTo>
                    <a:pt x="1534" y="1261"/>
                    <a:pt x="1515" y="1236"/>
                    <a:pt x="1575" y="1276"/>
                  </a:cubicBezTo>
                  <a:cubicBezTo>
                    <a:pt x="1583" y="1281"/>
                    <a:pt x="1598" y="1291"/>
                    <a:pt x="1598" y="1291"/>
                  </a:cubicBezTo>
                  <a:cubicBezTo>
                    <a:pt x="1673" y="1288"/>
                    <a:pt x="1749" y="1292"/>
                    <a:pt x="1824" y="1283"/>
                  </a:cubicBezTo>
                  <a:cubicBezTo>
                    <a:pt x="1857" y="1279"/>
                    <a:pt x="1872" y="1184"/>
                    <a:pt x="1910" y="1159"/>
                  </a:cubicBezTo>
                  <a:cubicBezTo>
                    <a:pt x="1916" y="1140"/>
                    <a:pt x="1956" y="1076"/>
                    <a:pt x="1972" y="1065"/>
                  </a:cubicBezTo>
                  <a:cubicBezTo>
                    <a:pt x="2000" y="1046"/>
                    <a:pt x="2033" y="1046"/>
                    <a:pt x="2058" y="1018"/>
                  </a:cubicBezTo>
                  <a:cubicBezTo>
                    <a:pt x="2131" y="936"/>
                    <a:pt x="2067" y="985"/>
                    <a:pt x="2120" y="948"/>
                  </a:cubicBezTo>
                  <a:cubicBezTo>
                    <a:pt x="2136" y="903"/>
                    <a:pt x="2116" y="945"/>
                    <a:pt x="2152" y="909"/>
                  </a:cubicBezTo>
                  <a:cubicBezTo>
                    <a:pt x="2170" y="891"/>
                    <a:pt x="2186" y="837"/>
                    <a:pt x="2191" y="824"/>
                  </a:cubicBezTo>
                  <a:cubicBezTo>
                    <a:pt x="2196" y="639"/>
                    <a:pt x="2140" y="539"/>
                    <a:pt x="2300" y="512"/>
                  </a:cubicBezTo>
                  <a:cubicBezTo>
                    <a:pt x="2341" y="471"/>
                    <a:pt x="2383" y="450"/>
                    <a:pt x="2424" y="418"/>
                  </a:cubicBezTo>
                  <a:cubicBezTo>
                    <a:pt x="2468" y="383"/>
                    <a:pt x="2493" y="350"/>
                    <a:pt x="2549" y="333"/>
                  </a:cubicBezTo>
                  <a:cubicBezTo>
                    <a:pt x="2565" y="317"/>
                    <a:pt x="2578" y="298"/>
                    <a:pt x="2596" y="286"/>
                  </a:cubicBezTo>
                  <a:cubicBezTo>
                    <a:pt x="2617" y="272"/>
                    <a:pt x="2645" y="269"/>
                    <a:pt x="2666" y="255"/>
                  </a:cubicBezTo>
                  <a:cubicBezTo>
                    <a:pt x="2669" y="250"/>
                    <a:pt x="2692" y="212"/>
                    <a:pt x="2697" y="208"/>
                  </a:cubicBezTo>
                  <a:cubicBezTo>
                    <a:pt x="2714" y="193"/>
                    <a:pt x="2752" y="169"/>
                    <a:pt x="2752" y="169"/>
                  </a:cubicBezTo>
                  <a:cubicBezTo>
                    <a:pt x="2769" y="114"/>
                    <a:pt x="2744" y="177"/>
                    <a:pt x="2783" y="130"/>
                  </a:cubicBezTo>
                  <a:cubicBezTo>
                    <a:pt x="2833" y="70"/>
                    <a:pt x="2742" y="147"/>
                    <a:pt x="2806" y="83"/>
                  </a:cubicBezTo>
                  <a:cubicBezTo>
                    <a:pt x="2889" y="0"/>
                    <a:pt x="3040" y="60"/>
                    <a:pt x="3157" y="6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88600" y="2808360"/>
              <a:ext cx="33062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503360" y="2884320"/>
            <a:ext cx="844560" cy="9907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47920" y="2808360"/>
            <a:ext cx="422280" cy="457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00280" y="2808360"/>
            <a:ext cx="2180520" cy="1447560"/>
            <a:chOff x="800280" y="2808360"/>
            <a:chExt cx="2180520" cy="1447560"/>
          </a:xfrm>
        </p:grpSpPr>
        <p:sp>
          <p:nvSpPr>
            <p:cNvPr id="62" name=""/>
            <p:cNvSpPr/>
            <p:nvPr/>
          </p:nvSpPr>
          <p:spPr>
            <a:xfrm>
              <a:off x="2558880" y="3798720"/>
              <a:ext cx="421920" cy="457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151640" y="2884320"/>
              <a:ext cx="351360" cy="381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0280" y="2808360"/>
              <a:ext cx="351360" cy="3808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347920" y="3341520"/>
              <a:ext cx="421920" cy="457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21487800">
            <a:off x="7175520" y="5180040"/>
            <a:ext cx="582480" cy="700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ac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68960" y="5854680"/>
            <a:ext cx="422280" cy="457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657600" y="2912040"/>
            <a:ext cx="5063760" cy="3488760"/>
            <a:chOff x="3657600" y="2912040"/>
            <a:chExt cx="5063760" cy="3488760"/>
          </a:xfrm>
        </p:grpSpPr>
        <p:sp>
          <p:nvSpPr>
            <p:cNvPr id="69" name=""/>
            <p:cNvSpPr/>
            <p:nvPr/>
          </p:nvSpPr>
          <p:spPr>
            <a:xfrm>
              <a:off x="3657600" y="3657600"/>
              <a:ext cx="1899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752160" y="3429000"/>
              <a:ext cx="1899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15480" y="5410080"/>
              <a:ext cx="1899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259680" y="3733920"/>
              <a:ext cx="1899000" cy="990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56600" y="4343400"/>
              <a:ext cx="3164760" cy="2050920"/>
            </a:xfrm>
            <a:custGeom>
              <a:avLst/>
              <a:gdLst/>
              <a:ahLst/>
              <a:rect l="l" t="t" r="r" b="b"/>
              <a:pathLst>
                <a:path w="3157" h="1292">
                  <a:moveTo>
                    <a:pt x="9" y="177"/>
                  </a:moveTo>
                  <a:cubicBezTo>
                    <a:pt x="42" y="227"/>
                    <a:pt x="0" y="173"/>
                    <a:pt x="71" y="216"/>
                  </a:cubicBezTo>
                  <a:cubicBezTo>
                    <a:pt x="84" y="224"/>
                    <a:pt x="92" y="237"/>
                    <a:pt x="102" y="247"/>
                  </a:cubicBezTo>
                  <a:cubicBezTo>
                    <a:pt x="112" y="276"/>
                    <a:pt x="128" y="298"/>
                    <a:pt x="141" y="325"/>
                  </a:cubicBezTo>
                  <a:cubicBezTo>
                    <a:pt x="145" y="332"/>
                    <a:pt x="144" y="342"/>
                    <a:pt x="149" y="348"/>
                  </a:cubicBezTo>
                  <a:cubicBezTo>
                    <a:pt x="162" y="364"/>
                    <a:pt x="181" y="373"/>
                    <a:pt x="196" y="387"/>
                  </a:cubicBezTo>
                  <a:cubicBezTo>
                    <a:pt x="238" y="473"/>
                    <a:pt x="246" y="592"/>
                    <a:pt x="344" y="637"/>
                  </a:cubicBezTo>
                  <a:cubicBezTo>
                    <a:pt x="418" y="671"/>
                    <a:pt x="461" y="670"/>
                    <a:pt x="546" y="683"/>
                  </a:cubicBezTo>
                  <a:cubicBezTo>
                    <a:pt x="577" y="688"/>
                    <a:pt x="640" y="699"/>
                    <a:pt x="640" y="699"/>
                  </a:cubicBezTo>
                  <a:cubicBezTo>
                    <a:pt x="656" y="707"/>
                    <a:pt x="675" y="709"/>
                    <a:pt x="687" y="722"/>
                  </a:cubicBezTo>
                  <a:cubicBezTo>
                    <a:pt x="707" y="744"/>
                    <a:pt x="718" y="829"/>
                    <a:pt x="733" y="855"/>
                  </a:cubicBezTo>
                  <a:cubicBezTo>
                    <a:pt x="754" y="891"/>
                    <a:pt x="805" y="903"/>
                    <a:pt x="835" y="933"/>
                  </a:cubicBezTo>
                  <a:cubicBezTo>
                    <a:pt x="851" y="978"/>
                    <a:pt x="832" y="935"/>
                    <a:pt x="866" y="979"/>
                  </a:cubicBezTo>
                  <a:cubicBezTo>
                    <a:pt x="877" y="994"/>
                    <a:pt x="887" y="1010"/>
                    <a:pt x="897" y="1026"/>
                  </a:cubicBezTo>
                  <a:cubicBezTo>
                    <a:pt x="902" y="1034"/>
                    <a:pt x="904" y="1046"/>
                    <a:pt x="913" y="1050"/>
                  </a:cubicBezTo>
                  <a:cubicBezTo>
                    <a:pt x="977" y="1082"/>
                    <a:pt x="943" y="1066"/>
                    <a:pt x="1014" y="1096"/>
                  </a:cubicBezTo>
                  <a:cubicBezTo>
                    <a:pt x="1041" y="1124"/>
                    <a:pt x="1071" y="1147"/>
                    <a:pt x="1108" y="1159"/>
                  </a:cubicBezTo>
                  <a:cubicBezTo>
                    <a:pt x="1232" y="1150"/>
                    <a:pt x="1307" y="1146"/>
                    <a:pt x="1435" y="1159"/>
                  </a:cubicBezTo>
                  <a:cubicBezTo>
                    <a:pt x="1464" y="1169"/>
                    <a:pt x="1488" y="1181"/>
                    <a:pt x="1513" y="1198"/>
                  </a:cubicBezTo>
                  <a:cubicBezTo>
                    <a:pt x="1534" y="1261"/>
                    <a:pt x="1515" y="1236"/>
                    <a:pt x="1575" y="1276"/>
                  </a:cubicBezTo>
                  <a:cubicBezTo>
                    <a:pt x="1583" y="1281"/>
                    <a:pt x="1598" y="1291"/>
                    <a:pt x="1598" y="1291"/>
                  </a:cubicBezTo>
                  <a:cubicBezTo>
                    <a:pt x="1673" y="1288"/>
                    <a:pt x="1749" y="1292"/>
                    <a:pt x="1824" y="1283"/>
                  </a:cubicBezTo>
                  <a:cubicBezTo>
                    <a:pt x="1857" y="1279"/>
                    <a:pt x="1872" y="1184"/>
                    <a:pt x="1910" y="1159"/>
                  </a:cubicBezTo>
                  <a:cubicBezTo>
                    <a:pt x="1916" y="1140"/>
                    <a:pt x="1956" y="1076"/>
                    <a:pt x="1972" y="1065"/>
                  </a:cubicBezTo>
                  <a:cubicBezTo>
                    <a:pt x="2000" y="1046"/>
                    <a:pt x="2033" y="1046"/>
                    <a:pt x="2058" y="1018"/>
                  </a:cubicBezTo>
                  <a:cubicBezTo>
                    <a:pt x="2131" y="936"/>
                    <a:pt x="2067" y="985"/>
                    <a:pt x="2120" y="948"/>
                  </a:cubicBezTo>
                  <a:cubicBezTo>
                    <a:pt x="2136" y="903"/>
                    <a:pt x="2116" y="945"/>
                    <a:pt x="2152" y="909"/>
                  </a:cubicBezTo>
                  <a:cubicBezTo>
                    <a:pt x="2170" y="891"/>
                    <a:pt x="2186" y="837"/>
                    <a:pt x="2191" y="824"/>
                  </a:cubicBezTo>
                  <a:cubicBezTo>
                    <a:pt x="2196" y="639"/>
                    <a:pt x="2140" y="539"/>
                    <a:pt x="2300" y="512"/>
                  </a:cubicBezTo>
                  <a:cubicBezTo>
                    <a:pt x="2341" y="471"/>
                    <a:pt x="2383" y="450"/>
                    <a:pt x="2424" y="418"/>
                  </a:cubicBezTo>
                  <a:cubicBezTo>
                    <a:pt x="2468" y="383"/>
                    <a:pt x="2493" y="350"/>
                    <a:pt x="2549" y="333"/>
                  </a:cubicBezTo>
                  <a:cubicBezTo>
                    <a:pt x="2565" y="317"/>
                    <a:pt x="2578" y="298"/>
                    <a:pt x="2596" y="286"/>
                  </a:cubicBezTo>
                  <a:cubicBezTo>
                    <a:pt x="2617" y="272"/>
                    <a:pt x="2645" y="269"/>
                    <a:pt x="2666" y="255"/>
                  </a:cubicBezTo>
                  <a:cubicBezTo>
                    <a:pt x="2669" y="250"/>
                    <a:pt x="2692" y="212"/>
                    <a:pt x="2697" y="208"/>
                  </a:cubicBezTo>
                  <a:cubicBezTo>
                    <a:pt x="2714" y="193"/>
                    <a:pt x="2752" y="169"/>
                    <a:pt x="2752" y="169"/>
                  </a:cubicBezTo>
                  <a:cubicBezTo>
                    <a:pt x="2769" y="114"/>
                    <a:pt x="2744" y="177"/>
                    <a:pt x="2783" y="130"/>
                  </a:cubicBezTo>
                  <a:cubicBezTo>
                    <a:pt x="2833" y="70"/>
                    <a:pt x="2742" y="147"/>
                    <a:pt x="2806" y="83"/>
                  </a:cubicBezTo>
                  <a:cubicBezTo>
                    <a:pt x="2889" y="0"/>
                    <a:pt x="3040" y="60"/>
                    <a:pt x="3157" y="6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5837760" y="4724280"/>
              <a:ext cx="2391480" cy="457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38400" y="4191120"/>
              <a:ext cx="1899000" cy="990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7103520" y="3123720"/>
              <a:ext cx="1265760" cy="685800"/>
            </a:xfrm>
            <a:prstGeom prst="line">
              <a:avLst/>
            </a:prstGeom>
            <a:ln w="414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10400">
              <a:off x="7360920" y="3076200"/>
              <a:ext cx="82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lux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2463840" y="4586040"/>
            <a:ext cx="2295000" cy="1837800"/>
            <a:chOff x="2463840" y="4586040"/>
            <a:chExt cx="2295000" cy="1837800"/>
          </a:xfrm>
        </p:grpSpPr>
        <p:sp>
          <p:nvSpPr>
            <p:cNvPr id="79" name=""/>
            <p:cNvSpPr/>
            <p:nvPr/>
          </p:nvSpPr>
          <p:spPr>
            <a:xfrm rot="133200">
              <a:off x="4149720" y="6019920"/>
              <a:ext cx="366480" cy="396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ac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811400">
              <a:off x="2381760" y="5181480"/>
              <a:ext cx="245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arâmetro conservativ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67000" y="4679280"/>
            <a:ext cx="2769120" cy="1721520"/>
            <a:chOff x="567000" y="4679280"/>
            <a:chExt cx="2769120" cy="1721520"/>
          </a:xfrm>
        </p:grpSpPr>
        <p:sp>
          <p:nvSpPr>
            <p:cNvPr id="82" name=""/>
            <p:cNvSpPr/>
            <p:nvPr/>
          </p:nvSpPr>
          <p:spPr>
            <a:xfrm>
              <a:off x="2742480" y="6095880"/>
              <a:ext cx="281160" cy="3049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456800">
              <a:off x="508320" y="525744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arâmetro não-conservativ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7520" y="1679400"/>
            <a:ext cx="1699200" cy="1140120"/>
            <a:chOff x="47520" y="1679400"/>
            <a:chExt cx="1699200" cy="1140120"/>
          </a:xfrm>
        </p:grpSpPr>
        <p:sp>
          <p:nvSpPr>
            <p:cNvPr id="85" name=""/>
            <p:cNvSpPr/>
            <p:nvPr/>
          </p:nvSpPr>
          <p:spPr>
            <a:xfrm>
              <a:off x="47520" y="2057400"/>
              <a:ext cx="1546560" cy="762120"/>
            </a:xfrm>
            <a:custGeom>
              <a:avLst/>
              <a:gdLst>
                <a:gd name="textAreaLeft" fmla="*/ 0 w 1546560"/>
                <a:gd name="textAreaRight" fmla="*/ 1546920 w 154656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455" y="10800"/>
                  </a:moveTo>
                  <a:arcTo wR="-8345" hR="-8345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20373" y="14728"/>
                  </a:lnTo>
                  <a:lnTo>
                    <a:pt x="16445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160" y="1679400"/>
              <a:ext cx="166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Lançamen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89280" y="2459160"/>
            <a:ext cx="6403680" cy="1263600"/>
            <a:chOff x="2789280" y="2459160"/>
            <a:chExt cx="6403680" cy="1263600"/>
          </a:xfrm>
        </p:grpSpPr>
        <p:sp>
          <p:nvSpPr>
            <p:cNvPr id="88" name=""/>
            <p:cNvSpPr/>
            <p:nvPr/>
          </p:nvSpPr>
          <p:spPr>
            <a:xfrm>
              <a:off x="2789280" y="2884320"/>
              <a:ext cx="609120" cy="8384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ac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484520" y="2459160"/>
              <a:ext cx="470844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Vazão indisponível com a concentração máxima 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lasse de enquadramento ou do pacto de bac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3130200" y="2743200"/>
              <a:ext cx="13230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4. </a:t>
            </a:r>
            <a:r>
              <a:rPr b="1" i="1" lang="en-US" sz="3600" spc="-1" strike="noStrike">
                <a:solidFill>
                  <a:srgbClr val="ffff66"/>
                </a:solidFill>
                <a:latin typeface="Tahoma"/>
              </a:rPr>
              <a:t>E os demais parâmetro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vem ser objeto de análise fu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É preciso aumentar o conhecimento sobre a bacia e sobre os usuá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o cadastro deve ser pedida informação sobre outros parâme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riar sistema de informação para embasar o aperfeiçoamento do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5. </a:t>
            </a:r>
            <a:r>
              <a:rPr b="1" i="1" lang="en-US" sz="3600" spc="-1" strike="noStrike">
                <a:solidFill>
                  <a:srgbClr val="ffff66"/>
                </a:solidFill>
                <a:latin typeface="Tahoma"/>
              </a:rPr>
              <a:t>E as bacias que já estão degradada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riação de metas intermediárias através da negociação de pacto entre os usuá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ais metas refletem os investimentos a serem fe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eve-se dar preferência ao pacto por ser um acordo coletivo (Comitê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À medida em que as metas vão sendo alcançadas, novas metas mais restritivas podem ser negoci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s outorgas serão revistas à luz das novas m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92120" y="1676520"/>
            <a:ext cx="8018640" cy="4647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52440" y="304920"/>
            <a:ext cx="836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Outorga de lançamento de eflue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286240" y="4317840"/>
            <a:ext cx="341280" cy="609840"/>
            <a:chOff x="5286240" y="4317840"/>
            <a:chExt cx="341280" cy="609840"/>
          </a:xfrm>
        </p:grpSpPr>
        <p:sp>
          <p:nvSpPr>
            <p:cNvPr id="98" name=""/>
            <p:cNvSpPr/>
            <p:nvPr/>
          </p:nvSpPr>
          <p:spPr>
            <a:xfrm>
              <a:off x="5627520" y="4317840"/>
              <a:ext cx="0" cy="609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86240" y="4317840"/>
              <a:ext cx="341280" cy="12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073880" y="3124080"/>
            <a:ext cx="3779280" cy="730440"/>
            <a:chOff x="1073880" y="3124080"/>
            <a:chExt cx="3779280" cy="730440"/>
          </a:xfrm>
        </p:grpSpPr>
        <p:sp>
          <p:nvSpPr>
            <p:cNvPr id="101" name=""/>
            <p:cNvSpPr/>
            <p:nvPr/>
          </p:nvSpPr>
          <p:spPr>
            <a:xfrm>
              <a:off x="4360680" y="3124080"/>
              <a:ext cx="4921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53160" y="3124080"/>
              <a:ext cx="0" cy="609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1617120" y="3657600"/>
              <a:ext cx="3235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73880" y="34862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085040" y="3695760"/>
            <a:ext cx="4248720" cy="838080"/>
            <a:chOff x="1085040" y="3695760"/>
            <a:chExt cx="4248720" cy="838080"/>
          </a:xfrm>
        </p:grpSpPr>
        <p:sp>
          <p:nvSpPr>
            <p:cNvPr id="106" name=""/>
            <p:cNvSpPr/>
            <p:nvPr/>
          </p:nvSpPr>
          <p:spPr>
            <a:xfrm>
              <a:off x="4841640" y="3695760"/>
              <a:ext cx="4921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99200" y="3708360"/>
              <a:ext cx="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1616760" y="4317840"/>
              <a:ext cx="3681720" cy="255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85040" y="41655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3T04:48:45Z</dcterms:created>
  <dc:creator>Monica Porto</dc:creator>
  <dc:description/>
  <dc:language>en-US</dc:language>
  <cp:lastModifiedBy>Monica Porto</cp:lastModifiedBy>
  <dcterms:modified xsi:type="dcterms:W3CDTF">2002-04-03T11:55:42Z</dcterms:modified>
  <cp:revision>3</cp:revision>
  <dc:subject/>
  <dc:title>OUTORGA DE LANÇAMENTO DE EFLUENTES  Nota Técnica</dc:title>
</cp:coreProperties>
</file>