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326-EF4E-4801-BD57-F22B0D39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EBD-D7F2-42FE-8440-46898243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5A4-7688-4A2F-88C5-8D95F791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FA0-CBC4-4442-8361-52F6B178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A5E-4E66-4C99-8F94-64E69912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476-C26C-40A5-917F-B81C3241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9A1-90EB-4308-8937-C302AA44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F39-65C5-4014-8AE3-826F2F2E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01B-E56B-4B55-924C-18EFE8FD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805-A284-4ACE-8E6B-37BB2CC4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279-8973-4B17-859B-90CB799A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0F5-1294-43D0-8854-95A9306C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9E4E-ED1E-4C76-A45A-0C5E88BDB5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OUTORGA DE LANÇAMENTO DE EFLUENTES 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Not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Bacia do Rio Paraíba do S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Abril d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ahoma"/>
              </a:rPr>
              <a:t>Monica P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i="1" lang="en-US" sz="3200" spc="-1" strike="noStrike">
                <a:solidFill>
                  <a:srgbClr val="ffff66"/>
                </a:solidFill>
                <a:latin typeface="Tahoma"/>
              </a:rPr>
              <a:t>Por que outorgar lançamen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ão há sistema de tratamento 100%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á necessidade de reservar água para o transporte, assimilação (auto-depuração) ou diluição da carga reman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arantia da vazão alocada especificamente para manter o corpo receptor dentro dos limites ou metas de qualidade defin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estão INTEG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Como faz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 processo é complexo, pois o desconhecimento é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eçar SIMPLES, ma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ocupar-se com poluente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alisar Demanda Bioquímica de Oxigê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0960" y="1544400"/>
            <a:ext cx="87919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ação de di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diluição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. 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/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manancial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Indisponível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Diluição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+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efluente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Cálculos de deca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rivada da equação geral de mistura (balanço de ma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final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= (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+ 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/ (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+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forma” qualidade em 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ivalente em vaz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nifica procedimentos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âmetros conservativos e não-conserv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eixe de tubos e c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Por que DB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Lançamentos de matéria orgânica são a forma mais frequente de poluição n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No Paraíba do Sul, apenas 69% do esgoto é coletado e 9% da carga é remo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Isto também é verdade no resto d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52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7920" y="1438200"/>
            <a:ext cx="67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eixe de tubos e cones (Vazão indisponí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57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62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57600" y="2912040"/>
            <a:ext cx="5063760" cy="3488760"/>
            <a:chOff x="3657600" y="2912040"/>
            <a:chExt cx="5063760" cy="3488760"/>
          </a:xfrm>
        </p:grpSpPr>
        <p:sp>
          <p:nvSpPr>
            <p:cNvPr id="69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10400">
              <a:off x="7360920" y="3076200"/>
              <a:ext cx="82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lu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63840" y="4586040"/>
            <a:ext cx="2295000" cy="1837800"/>
            <a:chOff x="2463840" y="4586040"/>
            <a:chExt cx="2295000" cy="1837800"/>
          </a:xfrm>
        </p:grpSpPr>
        <p:sp>
          <p:nvSpPr>
            <p:cNvPr id="79" name=""/>
            <p:cNvSpPr/>
            <p:nvPr/>
          </p:nvSpPr>
          <p:spPr>
            <a:xfrm rot="133200">
              <a:off x="414972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811400">
              <a:off x="2381760" y="5181480"/>
              <a:ext cx="245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7000" y="4679280"/>
            <a:ext cx="2769120" cy="1721520"/>
            <a:chOff x="567000" y="4679280"/>
            <a:chExt cx="2769120" cy="1721520"/>
          </a:xfrm>
        </p:grpSpPr>
        <p:sp>
          <p:nvSpPr>
            <p:cNvPr id="82" name=""/>
            <p:cNvSpPr/>
            <p:nvPr/>
          </p:nvSpPr>
          <p:spPr>
            <a:xfrm>
              <a:off x="2742480" y="6095880"/>
              <a:ext cx="28116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456800">
              <a:off x="508320" y="525744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não-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520" y="1679400"/>
            <a:ext cx="1699200" cy="1140120"/>
            <a:chOff x="47520" y="1679400"/>
            <a:chExt cx="1699200" cy="1140120"/>
          </a:xfrm>
        </p:grpSpPr>
        <p:sp>
          <p:nvSpPr>
            <p:cNvPr id="85" name=""/>
            <p:cNvSpPr/>
            <p:nvPr/>
          </p:nvSpPr>
          <p:spPr>
            <a:xfrm>
              <a:off x="47520" y="2057400"/>
              <a:ext cx="1546560" cy="762120"/>
            </a:xfrm>
            <a:custGeom>
              <a:avLst/>
              <a:gdLst>
                <a:gd name="textAreaLeft" fmla="*/ 0 w 1546560"/>
                <a:gd name="textAreaRight" fmla="*/ 1546920 w 15465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60" y="1679400"/>
              <a:ext cx="16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89280" y="2459160"/>
            <a:ext cx="6403680" cy="1263600"/>
            <a:chOff x="2789280" y="2459160"/>
            <a:chExt cx="6403680" cy="1263600"/>
          </a:xfrm>
        </p:grpSpPr>
        <p:sp>
          <p:nvSpPr>
            <p:cNvPr id="88" name=""/>
            <p:cNvSpPr/>
            <p:nvPr/>
          </p:nvSpPr>
          <p:spPr>
            <a:xfrm>
              <a:off x="2789280" y="2884320"/>
              <a:ext cx="60912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84520" y="2459160"/>
              <a:ext cx="4708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zão indisponível com a concentração máxima 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asse de enquadramento ou do pacto de ba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os demais parâmetr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vem ser objeto de análise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É preciso aumentar o conhecimento sobre a bacia e sobre 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o cadastro deve ser pedida informação sobre outros parâ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riar sistema de informação para embasar o aperfeiçoamento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5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as bacias que já estão degradad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riação de metas intermediárias através da negociação de pacto entre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is metas refletem os investimentos a serem 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-se dar preferência ao pacto por ser um acordo coletivo (Comit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À medida em que as metas vão sendo alcançadas, novas metas mais restritivas podem ser negoci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 outorgas serão revistas à luz das novas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98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101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106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48:45Z</dcterms:created>
  <dc:creator>Monica Porto</dc:creator>
  <dc:description/>
  <dc:language>en-US</dc:language>
  <cp:lastModifiedBy>Monica Porto</cp:lastModifiedBy>
  <dcterms:modified xsi:type="dcterms:W3CDTF">2002-04-03T11:55:42Z</dcterms:modified>
  <cp:revision>3</cp:revision>
  <dc:subject/>
  <dc:title>OUTORGA DE LANÇAMENTO DE EFLUENTES  Nota Técnica</dc:title>
</cp:coreProperties>
</file>