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5C2C-9C7B-4EF2-AAFD-2A92B9F3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B4BA-D261-4458-8666-9CB9E056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26C-4BD0-4B7A-823B-8C487596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4BBE-A721-471D-A2A6-7246EBAB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CB7-82EE-4428-8319-FC568E6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094-C545-46F7-979B-41DD5DF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5DE-23AB-4E7E-90F9-E71DDD4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6F6-22D5-4425-BBAE-0D05F509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27D3-1702-48D0-920E-11F46554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6F2-BCFC-4B37-BBE8-A4CE8163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6E2-25BB-47BF-BE08-C0A36DB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F20-3844-47DE-BA87-2CA093D2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0EFA-334A-4179-AD23-89F635FDE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O conceito de outorga de diluiçã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solicitação de uso d’água ao poder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interferência na qualidade e na quant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utorga de direito de uso: instrumento da lei 9433(uso específico, prazo, termos e condiçõ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stão do recurso hídrico” / conf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Água: bem de domínio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238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estadu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7663/91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gulamentação da outorga e licenciamento das obras: decreto estadual 41258 e portaria DAEE 717/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AEE: órgão outorgante esta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estadual 997, regulamentado pelo decreto est 846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OPERACIONA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7620120" cy="5791320"/>
          </a:xfrm>
          <a:prstGeom prst="rect">
            <a:avLst/>
          </a:prstGeom>
          <a:noFill/>
          <a:ln w="9360">
            <a:solidFill>
              <a:srgbClr val="cdffe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idade: parametro único: DB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5,2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representa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limite inferior: 2mg/L! CONAMA20, 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LASSE 2: DBO ATÉ  5 MG/l,  OD&gt;5MG/l 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portes localiz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eitos multiplicativos e sinér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ortes poluidores/efluentes dif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abilidade do processo prod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idade: vazão de referê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“condição de estiag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“vazões em marcha”/CARGAS/ ‘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 variabilidade do ciclo 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stão da qualidade!Apoio técnico e ’ferramenta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RA VIABILIZ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GRAÇÃO ESTADUAL E FED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ILIDADE E TRANSPA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A PR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dastros comuns e integr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poio/ integração/ ação eficaz dos sistemas de fiscalização e polícia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9000" y="-412920"/>
            <a:ext cx="3657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mínio das águas: União - a solicitação de outorga deverá ser feita às autoridades outorgantes estaduais: compatibilização / integração dos sistemas de outorga estadual e feder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s outorgávei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aptação superficial e subterrân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lançamento de efluentes (dom e 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mineraçã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ioridades de uso / Planos de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pt-BR" sz="4000" spc="-1" strike="noStrike">
                <a:solidFill>
                  <a:srgbClr val="000000"/>
                </a:solidFill>
                <a:latin typeface="Times New Roman"/>
              </a:rPr>
              <a:t>PRINCÍPIO BÁSIC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irar  “proveito” da capacidade de diluição e de autodepuração dos corpos d’águ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autodepuração é um fenômen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eita as características “naturais”, desejáveis ou “meta” para o corpo rece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5640" y="36720"/>
            <a:ext cx="6172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TANTO: calcada na busca de uma qualidade desejada e cujos instrumentos s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planejamento: o enquadr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operacionais: ação de controle(poder de polícia) e o monitoramento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LUIÇÃO LEGA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lementos da gestão racional de recursos híd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ficiência econô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servaçã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benefí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inanciamento da gest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ara tanto: -simplic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facilidade de 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ceitabilidade política e so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Princípios a serem observad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ocação dos cu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tivação ética: justiça e equ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POLUIDOR PAG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usuários de recursos naturais sujeitos à aplicação de intrum economicos/ benefício da comunidade   -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USUÁRIO PAGADOR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plicação da cobrança para os usos outorg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manutenção de níveis de qualidade desejáve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rotina de fiscalização e polícia: qualidade amb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ei 9433...INSTRUM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importância da interligação do sistema de outorga com o sistema de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utorga precede o licenciamento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cisão final compete ao órgão ambiental (lei federal 693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nto importante da interface dos dois sistemas: OUTORGA PARA LANÇAMENTO DE EFLUEN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Legislação federal de apoi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391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stituição federal: e art 170 (prevalece a atividade ambi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ei de crimes (lei 9605 (art 54)...dez 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AM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AMA 20/8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2: não será permitida diluição de efluentes industriais e parágrafo únic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23; não conferir caract em desacordo.../paragr.ú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rt 35...fiscalização...estadual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RT 12,13,15,17 E 19, 21, 23 (est. impacto), 35, 37, 3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3672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AMA 5: o que deve ser licenciado e como funciona no ES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abast água: D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sist esg san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DAIA: parte das ca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coletores/intercept: DAIA/C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etes, emissários, disp final: LP/DAIA                                                   LI/LO/Cete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766800" cy="9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6T19:35:43Z</dcterms:created>
  <dc:creator>CETESB</dc:creator>
  <dc:description/>
  <dc:language>en-US</dc:language>
  <cp:lastModifiedBy>CETESB</cp:lastModifiedBy>
  <cp:lastPrinted>2002-04-01T19:41:55Z</cp:lastPrinted>
  <dcterms:modified xsi:type="dcterms:W3CDTF">2002-04-02T15:00:26Z</dcterms:modified>
  <cp:revision>34</cp:revision>
  <dc:subject/>
  <dc:title>O conceito de outorga de diluição:</dc:title>
</cp:coreProperties>
</file>