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B096-2B98-4BE4-B157-3CCBA235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7FBC-AF59-4228-8F58-1E1B3513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BC3F-8C14-4484-BA87-F31469609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9108-7CCA-41B0-A1F2-9EEDA5610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D767-1ECA-40B0-B577-2863780E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473C-C07E-4F05-A115-00FC9274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F930-525F-43B4-8467-0CCBA5CF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C9D1-87F6-49A2-848C-9AB93372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E77B-8FC1-490B-8061-75737654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42FA-C4DC-4AFD-9231-41B2A3D9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6DD4-9674-4015-AF52-21E5EB80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BF49-F346-47A0-972A-5B507F67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3F00-F9E6-4532-A16B-57CD85E1100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428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-19080" y="6647040"/>
            <a:ext cx="9182160" cy="23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49440" y="0"/>
            <a:ext cx="2878200" cy="625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4000" y="6647040"/>
            <a:ext cx="2841480" cy="239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0920" y="98100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UNIÃO DA CÂMARA TÉCNICA DO PLANO NACIONAL DE RECURSOS HÍD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14800" y="6157080"/>
            <a:ext cx="29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rasília, janeiro de 2006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637080" y="2637000"/>
            <a:ext cx="2158920" cy="1752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843280" y="4797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Verdana"/>
              </a:rPr>
              <a:t>DIRETRIZ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5360" y="1482840"/>
            <a:ext cx="871380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Percebe-se que foram contempladas a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GB" sz="2400" spc="-1" strike="noStrike">
                <a:solidFill>
                  <a:srgbClr val="0066ff"/>
                </a:solidFill>
                <a:latin typeface="Verdana"/>
              </a:rPr>
              <a:t>Vertentes de Análi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        </a:t>
            </a:r>
            <a:r>
              <a:rPr b="1" i="1" lang="en-GB" sz="1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linha </a:t>
            </a:r>
            <a:r>
              <a:rPr b="1" i="1" lang="en-GB" sz="1400" spc="-1" strike="noStrike" u="sng">
                <a:solidFill>
                  <a:srgbClr val="333399"/>
                </a:solidFill>
                <a:uFillTx/>
                <a:latin typeface="Arial"/>
                <a:ea typeface="Lucida Sans Unicode"/>
              </a:rPr>
              <a:t>vertical</a:t>
            </a:r>
            <a:r>
              <a:rPr b="1" i="1" lang="en-GB" sz="1400" spc="-1" strike="noStrike">
                <a:solidFill>
                  <a:srgbClr val="6699ff"/>
                </a:solidFill>
                <a:latin typeface="Arial"/>
                <a:ea typeface="Lucida Sans Unicode"/>
              </a:rPr>
              <a:t>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– questões resultantes da  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teração do âmbito regional para todo o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aís (destacados os temas e questões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gionais de importância nacional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Vertente Nacional </a:t>
            </a: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linha </a:t>
            </a:r>
            <a:r>
              <a:rPr b="1" i="1" lang="en-GB" sz="1400" spc="-1" strike="noStrike" u="sng">
                <a:solidFill>
                  <a:srgbClr val="333399"/>
                </a:solidFill>
                <a:uFillTx/>
                <a:latin typeface="Arial"/>
              </a:rPr>
              <a:t>horizontal</a:t>
            </a:r>
            <a:r>
              <a:rPr b="1" i="1" lang="en-GB" sz="14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- agrega a análise de temas e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questões de pertinência n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linha </a:t>
            </a:r>
            <a:r>
              <a:rPr b="1" i="1" lang="en-GB" sz="1400" spc="-1" strike="noStrike" u="sng">
                <a:solidFill>
                  <a:srgbClr val="333399"/>
                </a:solidFill>
                <a:uFillTx/>
                <a:latin typeface="Arial"/>
                <a:ea typeface="Lucida Sans Unicode"/>
              </a:rPr>
              <a:t>transversal</a:t>
            </a:r>
            <a:r>
              <a:rPr b="1" i="1" lang="en-GB" sz="1400" spc="-1" strike="noStrike">
                <a:solidFill>
                  <a:srgbClr val="6699ff"/>
                </a:solidFill>
                <a:latin typeface="Arial"/>
                <a:ea typeface="Lucida Sans Unicode"/>
              </a:rPr>
              <a:t>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– fornece elementos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voltados para a incorporação efetiva dos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municípios ao processo de gestão das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águ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Vertente Regional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temas e questões servirão de subsídio para o desenvolvimento futuro de Planos de Recursos Hídricos de Bacias hidrográficas e de Planos Estaduais de Recursos Hídric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63640" y="3646440"/>
            <a:ext cx="576360" cy="1079640"/>
          </a:xfrm>
          <a:custGeom>
            <a:avLst/>
            <a:gdLst/>
            <a:ahLst/>
            <a:rect l="l" t="t" r="r" b="b"/>
            <a:pathLst>
              <a:path w="1601" h="3000">
                <a:moveTo>
                  <a:pt x="0" y="597"/>
                </a:moveTo>
                <a:lnTo>
                  <a:pt x="800" y="0"/>
                </a:lnTo>
                <a:lnTo>
                  <a:pt x="1600" y="597"/>
                </a:lnTo>
                <a:lnTo>
                  <a:pt x="1200" y="597"/>
                </a:lnTo>
                <a:lnTo>
                  <a:pt x="1200" y="2401"/>
                </a:lnTo>
                <a:lnTo>
                  <a:pt x="1600" y="2401"/>
                </a:lnTo>
                <a:lnTo>
                  <a:pt x="800" y="2999"/>
                </a:lnTo>
                <a:lnTo>
                  <a:pt x="0" y="2401"/>
                </a:lnTo>
                <a:lnTo>
                  <a:pt x="400" y="2401"/>
                </a:lnTo>
                <a:lnTo>
                  <a:pt x="400" y="597"/>
                </a:lnTo>
                <a:lnTo>
                  <a:pt x="0" y="597"/>
                </a:lnTo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205000"/>
            <a:ext cx="0" cy="280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88000" y="5011560"/>
            <a:ext cx="12967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88000" y="2203560"/>
            <a:ext cx="12967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95640" y="3284640"/>
            <a:ext cx="720720" cy="288720"/>
          </a:xfrm>
          <a:custGeom>
            <a:avLst/>
            <a:gdLst/>
            <a:ahLst/>
            <a:rect l="l" t="t" r="r" b="b"/>
            <a:pathLst>
              <a:path w="2004" h="804">
                <a:moveTo>
                  <a:pt x="0" y="200"/>
                </a:moveTo>
                <a:lnTo>
                  <a:pt x="1502" y="200"/>
                </a:lnTo>
                <a:lnTo>
                  <a:pt x="1502" y="0"/>
                </a:lnTo>
                <a:lnTo>
                  <a:pt x="2003" y="401"/>
                </a:lnTo>
                <a:lnTo>
                  <a:pt x="1502" y="803"/>
                </a:lnTo>
                <a:lnTo>
                  <a:pt x="1502" y="603"/>
                </a:lnTo>
                <a:lnTo>
                  <a:pt x="0" y="603"/>
                </a:lnTo>
                <a:lnTo>
                  <a:pt x="0" y="200"/>
                </a:lnTo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24360" y="4076640"/>
            <a:ext cx="720720" cy="289080"/>
          </a:xfrm>
          <a:custGeom>
            <a:avLst/>
            <a:gdLst/>
            <a:ahLst/>
            <a:rect l="l" t="t" r="r" b="b"/>
            <a:pathLst>
              <a:path w="2004" h="804">
                <a:moveTo>
                  <a:pt x="0" y="200"/>
                </a:moveTo>
                <a:lnTo>
                  <a:pt x="1502" y="200"/>
                </a:lnTo>
                <a:lnTo>
                  <a:pt x="1502" y="0"/>
                </a:lnTo>
                <a:lnTo>
                  <a:pt x="2003" y="401"/>
                </a:lnTo>
                <a:lnTo>
                  <a:pt x="1502" y="803"/>
                </a:lnTo>
                <a:lnTo>
                  <a:pt x="1502" y="602"/>
                </a:lnTo>
                <a:lnTo>
                  <a:pt x="0" y="602"/>
                </a:lnTo>
                <a:lnTo>
                  <a:pt x="0" y="200"/>
                </a:lnTo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35480" y="78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75888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Elementos para uma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“Estratégia Robust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95640" y="2492280"/>
            <a:ext cx="720720" cy="289080"/>
          </a:xfrm>
          <a:custGeom>
            <a:avLst/>
            <a:gdLst/>
            <a:ahLst/>
            <a:rect l="l" t="t" r="r" b="b"/>
            <a:pathLst>
              <a:path w="2004" h="804">
                <a:moveTo>
                  <a:pt x="0" y="200"/>
                </a:moveTo>
                <a:lnTo>
                  <a:pt x="1502" y="200"/>
                </a:lnTo>
                <a:lnTo>
                  <a:pt x="1502" y="0"/>
                </a:lnTo>
                <a:lnTo>
                  <a:pt x="2003" y="401"/>
                </a:lnTo>
                <a:lnTo>
                  <a:pt x="1502" y="803"/>
                </a:lnTo>
                <a:lnTo>
                  <a:pt x="1502" y="602"/>
                </a:lnTo>
                <a:lnTo>
                  <a:pt x="0" y="602"/>
                </a:lnTo>
                <a:lnTo>
                  <a:pt x="0" y="200"/>
                </a:lnTo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Elementos para uma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“Estratégia Robusta”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1828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.., também estão contempladas as 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variáveis portadoras de futur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as </a:t>
            </a:r>
            <a:r>
              <a:rPr b="1" lang="en-US" sz="2000" spc="-1" strike="noStrike">
                <a:solidFill>
                  <a:srgbClr val="cc3300"/>
                </a:solidFill>
                <a:latin typeface="Verdana"/>
              </a:rPr>
              <a:t>invariância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 a perspectiva de atendimento da </a:t>
            </a:r>
            <a:r>
              <a:rPr b="1" lang="en-US" sz="2000" spc="-1" strike="noStrike">
                <a:solidFill>
                  <a:srgbClr val="669900"/>
                </a:solidFill>
                <a:latin typeface="Verdana"/>
              </a:rPr>
              <a:t>multiplicidade de atores relevantes</a:t>
            </a:r>
            <a:r>
              <a:rPr b="0" lang="en-US" sz="2000" spc="-1" strike="noStrike">
                <a:solidFill>
                  <a:srgbClr val="6699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ais como identificadas no traçado dos cenários prospectivos de desenvolvimento, propiciando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lement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ra uma 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“Estratégia Robusta”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e implementação do Pla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3368520"/>
            <a:ext cx="7077240" cy="29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 enfoque principal do PNRH em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diretrizes estratégicas e de abrangência nacion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adoção de uma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atitude pró-ativ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 não apenas contemplativa, com vistas à “construção do futuro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definição sobre como serão subsidiadas decisões que reduzam incertezas críticas e proporcionem a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condução mais próxima possível do cenário desejáve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perspectiva da gest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como a consolidação do SINGREH, com suas características e predicad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3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8000" y="981000"/>
            <a:ext cx="896472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rticular-se frente a lógica dos setores usuários, com vistas a que sejam computados,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nas ações e no planejament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todos os custos envolvidos, notadamente os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aspectos sócioambientais e soluções integrada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 incorporação </a:t>
            </a:r>
            <a:r>
              <a:rPr b="0" lang="pt-BR" sz="1800" spc="-1" strike="noStrike">
                <a:solidFill>
                  <a:srgbClr val="333399"/>
                </a:solidFill>
                <a:latin typeface="Verdana"/>
              </a:rPr>
              <a:t>transversal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de diretrizes e preocupações ambientais e para com os recursos hídricos,</a:t>
            </a:r>
            <a:r>
              <a:rPr b="0" lang="pt-BR" sz="1800" spc="-1" strike="noStrike">
                <a:solidFill>
                  <a:srgbClr val="333399"/>
                </a:solidFill>
                <a:latin typeface="Verdana"/>
              </a:rPr>
              <a:t> já na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fase inicial de planejament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pt-BR" sz="1800" spc="-1" strike="noStrike">
                <a:solidFill>
                  <a:srgbClr val="333399"/>
                </a:solidFill>
                <a:latin typeface="Verdana"/>
              </a:rPr>
              <a:t>inserção orgânica de atores sociai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visando a construção de uma agenda positiva que possa assegurar padrões adequados de disponibilidades hídricas, em qualidade e quantidade, para a atual e futuras geraçõ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 superação de mecanismos tradicionais de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omando e controle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incorporando, de modo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coordenado e complementar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formas de </a:t>
            </a:r>
            <a:r>
              <a:rPr b="0" lang="pt-BR" sz="1800" spc="-1" strike="noStrike">
                <a:solidFill>
                  <a:srgbClr val="333399"/>
                </a:solidFill>
                <a:latin typeface="Verdana"/>
              </a:rPr>
              <a:t>construção de consensos sociais, instrumentos descentralizados de incentivo econômico e alternativas que promovam a adesão dos usuários a objetivos ambientais e de conservação dos recursos hídrico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 articulação intersetorial, em uma perspectiva mais ampla, que atinja o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campo das políticas macroeconômica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que sofrem, no médio e no longo prazo, com custos derivados da deterioração ambiental e das disponibilidades hídric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4000" y="1256760"/>
            <a:ext cx="8569080" cy="45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 destaque dos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temas da gestão e do planejament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notadamente quando entram em questão ações regulatórias substantivas, como forma atrativa de justificar, junto à área macroeconômica, bons investimentos em recursos hídric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3333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ações de comunicação social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visando a disseminação junto aos usuários, da percepção sobre o valor e importância da água para o desenvolvimento econômico e social do paí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 apoio de uma adequada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estratégia de implemen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do PNRH, para atender as etapas seguintes a sua formulação, como também, a organização de um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sistema de gerenciamento orientado para aferir objetivos finalísticos e resultados (ou produtos) intermediário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que lhes conferem viabilidade, mediante os adequados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indicadores de monitoramento e avali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 estabelecimento e detalhamento de como será o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processo de constante atualiz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do PNR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55640" y="69120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. Macro-diretrizes do PNR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920" y="134136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Matriz de Diretrizes  e de Demandas por Programa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 os elementos que constituem a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“Estratégia Robusta”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o PNRH, propiciam a consolidação de macro-diretrizes, organizadas em cinco conjun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16000" y="2349360"/>
            <a:ext cx="7848720" cy="42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333399"/>
                </a:solidFill>
                <a:uFillTx/>
                <a:latin typeface="Arial"/>
              </a:rPr>
              <a:t>Primeiro conju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riáveis críticas relacionadas com a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inserção do país nos contextos global, latino-americano e caribenh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para identificação e acompanhamento de demandas sobre produtos que utilizam águ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interesses geopolític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na gestão de bacias de rios transfronteiriços e fronteiriço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cumprimento de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acordos, convenções e tratados internacionai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identificação de fatores endógenos de desenvolvimento, notadamente a localização espacial de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vetores de expansão econômic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perspectiva de uma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visão integrada e integradora da gestão de recursos hídric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ponderando os aspectos hidrológicos, ambientais, socioeconômicos e político-institucionais para a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definição de unidades de planejament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de gestão e de intervenção em recursos híd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2709720"/>
            <a:ext cx="733680" cy="2303640"/>
          </a:xfrm>
          <a:custGeom>
            <a:avLst/>
            <a:gdLst>
              <a:gd name="textAreaLeft" fmla="*/ 98280 w 733680"/>
              <a:gd name="textAreaRight" fmla="*/ 635400 w 733680"/>
              <a:gd name="textAreaTop" fmla="*/ 403200 h 2303640"/>
              <a:gd name="textAreaBottom" fmla="*/ 1670400 h 23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22200" y="967320"/>
            <a:ext cx="8642520" cy="54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Verdana"/>
              </a:rPr>
              <a:t>Segundo conju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 próprio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ordenamento institucion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a gestão integrada dos recursos hídricos no Brasil (GIRH), que deve tratar do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modelo institucion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dotado, dos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instrumentos de gest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previstos e de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ações de capacitação e de comunicação soci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que confiram suporte a todos os atores envolvidos e ao funcionamento do Sistema e de suas ferramentas de atu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Verdana"/>
              </a:rPr>
              <a:t>Terceiro conju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ta das articulações intersetoriais, inter e intra-institucionais, reconhecidamente essenciais para a efetividade da GIRH, contemplando três abordagens principa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usca de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coordenação e convergência de açõ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como focos mais específicos, em temas que apresentem sombreamento de competências, com interesse para a gestão dos recursos hídrico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uso múltiplo e integrado das água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voltadas para a mitigação e solução de problemas; 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ordagens setoriais específicas com forte sobreposição com aspectos setoriais que apresentem elevados impactos sobre os recursos hídrico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9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2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5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8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1" dur="2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17440" y="1083240"/>
            <a:ext cx="8675640" cy="49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Verdana"/>
              </a:rPr>
              <a:t>Quarto conjunto</a:t>
            </a:r>
            <a:r>
              <a:rPr b="1" i="1" lang="en-US" sz="1800" spc="-1" strike="noStrike">
                <a:solidFill>
                  <a:srgbClr val="333399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a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perspectiva espaci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definindo unidades geográficas de intervenção, onde os limites não necessariamente coincidem com os de uma bacia hidrográfica,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requerendo ações e atividades ajustadas à natureza e tipologia de problemas regionai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aracterísticos e exigindo, por conseqüência, que as linhas de atuação dos programas e subprogramas já propostos, venham a sofrer uma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especializaç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eterminada por realidades específic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empla, particularmente,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áreas geográficas com forte apelo simbólic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oncernente às temáticas ambiental e dos recursos híd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, finalmente,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Verdana"/>
              </a:rPr>
              <a:t>Quinto conju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z respeito ao modelo de gerenciamento executivo e de monitoramento e avaliação da implementação do PNR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8000" y="1268280"/>
            <a:ext cx="8964720" cy="4908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Verdana"/>
              </a:rPr>
              <a:t>Roteiro da Apresen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1. O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Objetivo Geral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o Pla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Aspectos Metodológico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Bases Conceituai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para a Formulação de Diretrizes do PNR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Definição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Tentativa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o Plano Nacional de Recursos Hídr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Objetivos Estratégico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do Pla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5. Elementos para uma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“Estratégia Robust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6.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Macro-diretrize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do PNR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8000" y="907920"/>
            <a:ext cx="8856720" cy="228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1. O</a:t>
            </a: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 Objetivo Geral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do PN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Estabelecer um pacto nacional para a definição de diretrizes e políticas públicas, voltadas para a melhoria da oferta de água, em qualidade e quantidade, gerenciando as demandas e considerando ser a água um elemento estruturante para a implementação das políticas setoriais, sob a ótica do desenvolvimento sustentável e da inclusão soci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3716280"/>
            <a:ext cx="770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6600"/>
                </a:solidFill>
                <a:latin typeface="Verdana"/>
              </a:rPr>
              <a:t>Os problemas que se colocam s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(i) como empreender ao processo de formulação de diretrizes que orientem e consubstanciem o pacto nacional do Plano; 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(ii) sendo o PNRH um dos instrumentos da Política Nacional de Recursos Hídricos, como tratar a relativa antecipação do Plano em relação ao Sistema Nacional de Gerenciamento de Recursos Hídricos (SINGREH)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8000" y="4221000"/>
            <a:ext cx="733320" cy="1935360"/>
          </a:xfrm>
          <a:custGeom>
            <a:avLst/>
            <a:gdLst>
              <a:gd name="textAreaLeft" fmla="*/ 98280 w 733320"/>
              <a:gd name="textAreaRight" fmla="*/ 635040 w 733320"/>
              <a:gd name="textAreaTop" fmla="*/ 338400 h 1935360"/>
              <a:gd name="textAreaBottom" fmla="*/ 1403280 h 193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6040" y="69228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Aspectos Metodológico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Bases Conceituai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para a Formulação de Diretrizes do PN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84464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ace às questões expostas, dois cuidados metodológicos se apresentam de imedia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11280" y="4365720"/>
            <a:ext cx="61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...em grande medida, o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Verdana"/>
              </a:rPr>
              <a:t>Sistema Institucional conformará o PNRH e não o Plano delimitará as possibilidades do Sistema, sem que tal perspectiva implique em limitações ou no congelamento de adaptações progressivas no desenho institucional previsto para o Sistema.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2708280"/>
            <a:ext cx="741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3300"/>
                </a:solidFill>
                <a:latin typeface="Verdana"/>
              </a:rPr>
              <a:t>a formulação de diretrizes deve guardar estreita coerência com a Política Nacional de Recursos Hídricos; 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3300"/>
                </a:solidFill>
                <a:latin typeface="Verdana"/>
              </a:rPr>
              <a:t>deve-se buscar a mútua sinergia entre a implementação do Plano e a construção simultânea do SINGREH, ou sej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2565360"/>
            <a:ext cx="863640" cy="792360"/>
          </a:xfrm>
          <a:custGeom>
            <a:avLst/>
            <a:gdLst>
              <a:gd name="textAreaLeft" fmla="*/ 135000 w 863640"/>
              <a:gd name="textAreaRight" fmla="*/ 756000 w 863640"/>
              <a:gd name="textAreaTop" fmla="*/ 198000 h 792360"/>
              <a:gd name="textAreaBottom" fmla="*/ 594360 h 792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3429000"/>
            <a:ext cx="863640" cy="774720"/>
          </a:xfrm>
          <a:custGeom>
            <a:avLst/>
            <a:gdLst>
              <a:gd name="textAreaLeft" fmla="*/ 135000 w 863640"/>
              <a:gd name="textAreaRight" fmla="*/ 756000 w 863640"/>
              <a:gd name="textAreaTop" fmla="*/ 193680 h 774720"/>
              <a:gd name="textAreaBottom" fmla="*/ 581040 h 77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4292640"/>
            <a:ext cx="733680" cy="1368360"/>
          </a:xfrm>
          <a:custGeom>
            <a:avLst/>
            <a:gdLst>
              <a:gd name="textAreaLeft" fmla="*/ 98280 w 733680"/>
              <a:gd name="textAreaRight" fmla="*/ 635400 w 733680"/>
              <a:gd name="textAreaTop" fmla="*/ 239400 h 1368360"/>
              <a:gd name="textAreaBottom" fmla="*/ 99216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Aspectos Metodológico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Bases Conceituai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para a Formulação de Diretrizes do PN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21844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 que a observância da Política e a edificação do SINGREH sejam empreendidos, o PNRH deve manter características de permanente flexibilidad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..em outros termos, o Plano não deve ser entendido como um episódio, mas como 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4240" y="4321800"/>
            <a:ext cx="2921040" cy="764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Verdana"/>
              </a:rPr>
              <a:t>PROCE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88000" y="3573360"/>
            <a:ext cx="3887640" cy="1465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ssencialmente </a:t>
            </a:r>
            <a:r>
              <a:rPr b="1" i="1" lang="en-GB" sz="1800" spc="-1" strike="noStrike">
                <a:solidFill>
                  <a:srgbClr val="000000"/>
                </a:solidFill>
                <a:latin typeface="Verdana"/>
              </a:rPr>
              <a:t>dinâmico, flexível, permanente, participativo e sob uma abordagem integrada e multi-disciplinar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16360" y="522936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...não obstante a necessidade de contemplar os atributos previstos nos artigos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7º e 8º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da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Lei Nacional nº 9.433/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32000" y="3573360"/>
            <a:ext cx="3240000" cy="722520"/>
          </a:xfrm>
          <a:custGeom>
            <a:avLst/>
            <a:gdLst>
              <a:gd name="textAreaLeft" fmla="*/ 0 w 3240000"/>
              <a:gd name="textAreaRight" fmla="*/ 3240360 w 3240000"/>
              <a:gd name="textAreaTop" fmla="*/ 0 h 722520"/>
              <a:gd name="textAreaBottom" fmla="*/ 722880 h 722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484360" y="5228640"/>
            <a:ext cx="2016360" cy="863640"/>
          </a:xfrm>
          <a:custGeom>
            <a:avLst/>
            <a:gdLst>
              <a:gd name="textAreaLeft" fmla="*/ 0 w 2016360"/>
              <a:gd name="textAreaRight" fmla="*/ 2016720 w 2016360"/>
              <a:gd name="textAreaTop" fmla="*/ -360 h 863640"/>
              <a:gd name="textAreaBottom" fmla="*/ 8636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486320" y="792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6000" y="1844640"/>
            <a:ext cx="8964360" cy="45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No que concerne à compatibilidade frente à Política Nacional de Recursos Hídricos, é importante pontu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a gestão </a:t>
            </a: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descentralizada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e </a:t>
            </a: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participativa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ão apenas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desconcentrar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mas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descentralizar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fetivamen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a descentralização pela via do apoio às </a:t>
            </a: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dinâmicas existentes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e à construção de </a:t>
            </a: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capacidades locais endógenas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a cada regi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princípio da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ubsidiariedad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o fortalecimento do conceito de </a:t>
            </a: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federalismo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incorporação de legítima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overnanç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junto à necessária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overnabilidad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do Plan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a superação positiva e cooperativa de problemas derivados da dupla dominialidade dos corpos hídricos, mediante as devidas </a:t>
            </a: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articulações inter-institucionais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e </a:t>
            </a: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ações integradas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83664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Aspectos Metodológico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Bases Conceituai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para a Formulação de Diretrizes do PN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701280"/>
            <a:ext cx="856908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Definição Tentativa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do Plano Nacional de Recursos Híd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42560" y="1844280"/>
            <a:ext cx="7921800" cy="4103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BR" sz="2000" spc="-1" strike="noStrike">
                <a:solidFill>
                  <a:srgbClr val="cc3300"/>
                </a:solidFill>
                <a:latin typeface="Verdana"/>
              </a:rPr>
              <a:t>o conjunto estratégico de ações e relações interinstitucionais, instrumentos de política, informações e ferramentas de apoio à decisão, ações de comunicação social, fontes de financiamento e, também, intervenções físicas </a:t>
            </a:r>
            <a:r>
              <a:rPr b="0" i="1" lang="pt-BR" sz="2000" spc="-1" strike="noStrike" u="sng">
                <a:solidFill>
                  <a:srgbClr val="cc3300"/>
                </a:solidFill>
                <a:uFillTx/>
                <a:latin typeface="Verdana"/>
              </a:rPr>
              <a:t>seletivas</a:t>
            </a:r>
            <a:r>
              <a:rPr b="0" i="1" lang="pt-BR" sz="2000" spc="-1" strike="noStrike">
                <a:solidFill>
                  <a:srgbClr val="cc3300"/>
                </a:solidFill>
                <a:latin typeface="Verdana"/>
              </a:rPr>
              <a:t> que, ao serem implementadas pela União, </a:t>
            </a:r>
            <a:r>
              <a:rPr b="0" i="1" lang="pt-BR" sz="2000" spc="-1" strike="noStrike" u="sng">
                <a:solidFill>
                  <a:srgbClr val="cc3300"/>
                </a:solidFill>
                <a:uFillTx/>
                <a:latin typeface="Verdana"/>
              </a:rPr>
              <a:t>possibilitam</a:t>
            </a:r>
            <a:r>
              <a:rPr b="0" i="1" lang="pt-BR" sz="2000" spc="-1" strike="noStrike">
                <a:solidFill>
                  <a:srgbClr val="cc3300"/>
                </a:solidFill>
                <a:latin typeface="Verdana"/>
              </a:rPr>
              <a:t> e </a:t>
            </a:r>
            <a:r>
              <a:rPr b="0" i="1" lang="pt-BR" sz="2000" spc="-1" strike="noStrike" u="sng">
                <a:solidFill>
                  <a:srgbClr val="cc3300"/>
                </a:solidFill>
                <a:uFillTx/>
                <a:latin typeface="Verdana"/>
              </a:rPr>
              <a:t>potencializam</a:t>
            </a:r>
            <a:r>
              <a:rPr b="0" i="1" lang="pt-BR" sz="2000" spc="-1" strike="noStrike">
                <a:solidFill>
                  <a:srgbClr val="cc3300"/>
                </a:solidFill>
                <a:latin typeface="Verdana"/>
              </a:rPr>
              <a:t> o equacionamento e as soluções regionais ou locais de problemas relativos aos recursos hídricos e, simultaneamente, estruturam uma </a:t>
            </a:r>
            <a:r>
              <a:rPr b="1" i="1" lang="pt-BR" sz="2000" spc="-1" strike="noStrike" u="sng">
                <a:solidFill>
                  <a:srgbClr val="cc3300"/>
                </a:solidFill>
                <a:uFillTx/>
                <a:latin typeface="Verdana"/>
              </a:rPr>
              <a:t>ótica nacional</a:t>
            </a:r>
            <a:r>
              <a:rPr b="0" i="1" lang="pt-BR" sz="2000" spc="-1" strike="noStrike">
                <a:solidFill>
                  <a:srgbClr val="cc3300"/>
                </a:solidFill>
                <a:latin typeface="Verdana"/>
              </a:rPr>
              <a:t> indispensável ao seu efetivo gerenciamento, respeitadas as diretrizes de descentralização e o princípio da subsidiariedade, como predicados inerentes ao SINGREH que se quer edifica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2060640"/>
            <a:ext cx="720720" cy="2448000"/>
          </a:xfrm>
          <a:custGeom>
            <a:avLst/>
            <a:gdLst>
              <a:gd name="textAreaLeft" fmla="*/ 96480 w 720720"/>
              <a:gd name="textAreaRight" fmla="*/ 624240 w 720720"/>
              <a:gd name="textAreaTop" fmla="*/ 428400 h 2448000"/>
              <a:gd name="textAreaBottom" fmla="*/ 1774800 h 24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84600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 Objetivos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Estratégicos do Pl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presentam </a:t>
            </a:r>
            <a:r>
              <a:rPr b="1" i="1" lang="en-US" sz="2000" spc="-1" strike="noStrike">
                <a:solidFill>
                  <a:srgbClr val="0066ff"/>
                </a:solidFill>
                <a:latin typeface="Verdana"/>
              </a:rPr>
              <a:t>o que se pretende alcançar com a implementação do PNRH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e orientam a definição das suas estratégias, conformadas em diretrizes, programas e me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emplam </a:t>
            </a:r>
            <a:r>
              <a:rPr b="1" lang="en-US" sz="2000" spc="-1" strike="noStrike">
                <a:solidFill>
                  <a:srgbClr val="cc3300"/>
                </a:solidFill>
                <a:latin typeface="Verdana"/>
              </a:rPr>
              <a:t>três dimensões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92360" y="3789360"/>
            <a:ext cx="698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pt-BR" sz="1800" spc="-1" strike="noStrike">
                <a:solidFill>
                  <a:srgbClr val="333399"/>
                </a:solidFill>
                <a:latin typeface="Arial"/>
              </a:rPr>
              <a:t>melhoria das disponibilidades hídricas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, superficiais e subterrâneas, em qualidade e em quantidad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pt-BR" sz="1800" spc="-1" strike="noStrike">
                <a:solidFill>
                  <a:srgbClr val="cc3300"/>
                </a:solidFill>
                <a:latin typeface="Arial"/>
              </a:rPr>
              <a:t>redução dos conflitos reais</a:t>
            </a:r>
            <a:r>
              <a:rPr b="1" i="1" lang="pt-BR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pt-BR" sz="1800" spc="-1" strike="noStrike">
                <a:solidFill>
                  <a:srgbClr val="cc3300"/>
                </a:solidFill>
                <a:latin typeface="Arial"/>
              </a:rPr>
              <a:t>e potenciais de uso da água</a:t>
            </a:r>
            <a:r>
              <a:rPr b="1" i="1" lang="pt-BR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como também, a </a:t>
            </a:r>
            <a:r>
              <a:rPr b="1" i="1" lang="pt-BR" sz="1800" spc="-1" strike="noStrike">
                <a:solidFill>
                  <a:srgbClr val="cc3300"/>
                </a:solidFill>
                <a:latin typeface="Arial"/>
              </a:rPr>
              <a:t>mitigação de efeitos de eventos hidrológicos críticos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a percepção </a:t>
            </a:r>
            <a:r>
              <a:rPr b="1" i="1" lang="pt-BR" sz="1800" spc="-1" strike="noStrike">
                <a:solidFill>
                  <a:srgbClr val="333399"/>
                </a:solidFill>
                <a:latin typeface="Arial"/>
              </a:rPr>
              <a:t>da conservação da água como valor socioambiental relevante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3716280"/>
            <a:ext cx="976320" cy="6494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62360 h 649440"/>
              <a:gd name="textAreaBottom" fmla="*/ 487080 h 649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680" y="4651200"/>
            <a:ext cx="975960" cy="649440"/>
          </a:xfrm>
          <a:custGeom>
            <a:avLst/>
            <a:gdLst>
              <a:gd name="textAreaLeft" fmla="*/ 152280 w 975960"/>
              <a:gd name="textAreaRight" fmla="*/ 854280 w 975960"/>
              <a:gd name="textAreaTop" fmla="*/ 162360 h 649440"/>
              <a:gd name="textAreaBottom" fmla="*/ 487080 h 649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1680" y="5587920"/>
            <a:ext cx="975960" cy="649440"/>
          </a:xfrm>
          <a:custGeom>
            <a:avLst/>
            <a:gdLst>
              <a:gd name="textAreaLeft" fmla="*/ 152280 w 975960"/>
              <a:gd name="textAreaRight" fmla="*/ 854280 w 975960"/>
              <a:gd name="textAreaTop" fmla="*/ 162360 h 649440"/>
              <a:gd name="textAreaBottom" fmla="*/ 487080 h 649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-450720" y="13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899640" tIns="-899280" bIns="-899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450720" y="1378080"/>
            <a:ext cx="799920" cy="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450720" y="4452840"/>
            <a:ext cx="9144000" cy="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8000" y="5950080"/>
            <a:ext cx="8964720" cy="580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Verdana"/>
                <a:ea typeface="Times New Roman"/>
              </a:rPr>
              <a:t>...que constituem a base para a consolidação dos programas que devem estruturar o Plano Nacional de Recursos Hídricos (PNR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84520" y="1846440"/>
            <a:ext cx="799920" cy="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1200240"/>
          <a:ext cx="8567640" cy="4605120"/>
        </p:xfrm>
        <a:graphic>
          <a:graphicData uri="http://schemas.openxmlformats.org/drawingml/2006/table">
            <a:tbl>
              <a:tblPr/>
              <a:tblGrid>
                <a:gridCol w="2070000"/>
                <a:gridCol w="1230480"/>
                <a:gridCol w="3252600"/>
                <a:gridCol w="20145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spectivas de Análi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ropiciam a sistematização de diretrizes, recomendações e princípios metodológicos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... </a:t>
                      </a:r>
                      <a:r>
                        <a:rPr b="1" lang="en-US" sz="16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agrupadas segundo temas de interesse do Pl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duzidas em possíve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Macro-diretriz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Linhas Programát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ceitos e Políticas Regentes das Ações do PNR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erção Espacial e Cenários Prospectivos de Desenvolvi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ureza e/ou tipologia dos Problemas d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exto Intersetorial da Gestão d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utras Abordagens Temát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627280" y="1844640"/>
            <a:ext cx="647640" cy="3816360"/>
          </a:xfrm>
          <a:prstGeom prst="rightArrowCallout">
            <a:avLst>
              <a:gd name="adj1" fmla="val 147331"/>
              <a:gd name="adj2" fmla="val 147318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4174560" y="2744640"/>
            <a:ext cx="2232000" cy="172692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726920"/>
              <a:gd name="textAreaBottom" fmla="*/ 1727280 h 17269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59436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Elementos para uma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“Estratégia Robust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9:19:56Z</dcterms:created>
  <dc:creator>Fátima</dc:creator>
  <dc:description/>
  <dc:language>en-US</dc:language>
  <cp:lastModifiedBy>srh</cp:lastModifiedBy>
  <dcterms:modified xsi:type="dcterms:W3CDTF">2006-01-14T01:29:11Z</dcterms:modified>
  <cp:revision>158</cp:revision>
  <dc:subject/>
  <dc:title>Slide 1</dc:title>
</cp:coreProperties>
</file>