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61B-D0A3-43F9-8480-2CFEBA8A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6AB-BDF1-47C0-9750-0475C5A9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A15-8E27-488B-96C8-497EBD5C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3A2-C1B4-49D5-84E8-EE4192D7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C566-6F63-4796-915D-EADB54B1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99F1-DC9C-4538-9CCF-CA27E573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9BC8-66C1-4D6D-BD2B-7DF00A19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CBFA-A86A-4C7E-8381-8B79D040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8F88-31A6-4C80-BE59-7C7D0A4D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84D6-8F6E-4E8B-9971-CD1D76B7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D307-8729-4823-BFC3-B3687243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B05-AA7A-4E35-8E24-D64421E7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A78D-3FB8-4EDD-BD3C-C30308A3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17B0-7858-4C7C-93D4-F9A6D81A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7D56-672B-43AB-A0A3-27A6D6D9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E9CA-75E6-493E-B8F6-6A6E6980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2F0B-A3D3-42E1-B9CF-2302D221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CBC-4EE6-4990-87AD-8E9BCB21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A7B-BBB9-4A73-8E98-4F5194A7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019-93B1-400C-8873-5FE538D5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687-984E-429A-8E1E-BC9B28ED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04C-EA3D-4E87-937F-89A4C2A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CEE-FB8E-4102-90B1-EB1DF9E7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AB8-BCA7-4622-8C07-33DC10A3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B161-1D16-4BCF-B7C8-4A5D0E8CD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A92E-3598-4D1B-8CB1-1FBF20D02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98100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37080" y="2852640"/>
            <a:ext cx="2158920" cy="1752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5084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GRAMAS NACIONAIS E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7002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6 - Planos de Recursos Hídricos e Enquadra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s Hídricos em Classes de U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9242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7 – Aplicação de Instrumentos Econômicos à Gestã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brança, outros instrumentos econômicos, mecanism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nsação financei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005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8 – Sistema Nacional de Informações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9 - Apoio ao Desenvolvimento de Sistemas de Suporte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oio técnico à solução de conflit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105264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V. Desenvolvimento Tecnológico, Capacita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unicação Social em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3464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V.1 – Desenvolvimento e Consolidação de Conhecimento e de Avanç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ógicos em Gestã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articulado ao CT-Hidro – atuar nas lacunas de conhecimento, inov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643200"/>
            <a:ext cx="8280360" cy="1152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2 – Capacitação e Educação Ambiental com Foco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rmar multiplicadores, educação ambiental, articulação com ME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usão de boas prátic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3 – Comunicação Social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ifusão, formação de redes, ações específicas para envolvimento de municípi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765000"/>
            <a:ext cx="828036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V. Programa de Articulação Intersetorial, Interinstitu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 Intra-institucional da Gestão de Recursos Hídr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131920"/>
            <a:ext cx="8280360" cy="8654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1 – Avaliação de Impactos Setoriais na 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357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.2 – Compatibilização e Integração de Projetos Setoriais e In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Diretrizes de Interesse para a GI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69228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. Programa de Aproveitamento Múltiplo e Cont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d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484280"/>
            <a:ext cx="8280360" cy="720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1 – Gestão em Áreas Sujeitas a Eventos Hidrológicos Cr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141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3 – Gestão de Demandas, Resolução de Confli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o Múltiplo e Integrad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07664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4 – Intervenções Integradas em Saneamento e Gestão Ambient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no Meio Urban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terfaces com a área de recurs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ídricos, RH como fonte complementar, instrumentos, sinergias Min. C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08464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5 – Ações Integradas de Conservação de Solos e Águ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ejo de Micro-bacias no Meio Ru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349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2 –Gestão da Oferta, Ampliação, Racionalização e Reuso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59500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6 – Estudos sobre Critérios e Objetivos Múltiplos voltados à Definiç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ões Operativas em Reservatórios de Geração Hidrelét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76356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. Programas Setoriais voltados aos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131920"/>
            <a:ext cx="828036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1 – Despoluição de Bacias Hidrográ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aspectos técnicos dos sistemas de trat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sociadas a metas de avanço do SINGREH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8280360" cy="10792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2 – Otimização do Uso da Água em Cultivos Irri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modernização das práticas de irrigação, otimização de regr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peracionais, articulação MI e MAPA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765000"/>
            <a:ext cx="8280360" cy="935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I. Programa Nacional de Águas Subterrâ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91628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o Gerenciamento Cost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06864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. Programa de Gestão Ambiental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ídricos na Região Amazô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363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. Programa de Conservação das Águas no Pant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300640"/>
            <a:ext cx="828036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. Programa de Gestão Sustentável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 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vivência com o Semi-árido Brasil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8000" y="2563920"/>
            <a:ext cx="896472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I. Programa de Gerenciamento Executivo e de Monitoramento e Avaliação da Implement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 PNR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6206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70028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concepção de indicadores deverá considerar a dimensão e a diversidade sócioambiental do País, a complexidade institucional em que se insere o PNRH e os seus propósitos em relação à GIRH        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653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abelecer um foco para os trabalhos de implementação, monitoramento e avaliação do Pl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716280"/>
            <a:ext cx="35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da gama de 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302724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533232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106880"/>
            <a:ext cx="485640" cy="617400"/>
          </a:xfrm>
          <a:prstGeom prst="downArrow">
            <a:avLst>
              <a:gd name="adj1" fmla="val 50000"/>
              <a:gd name="adj2" fmla="val 31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5950080"/>
            <a:ext cx="914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Sistema de Gerenciamento Orientado para Resultados (SIGEOR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8000" y="6195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m subsídio a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GEOR propõe-s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stema de Implantação, Monitoramento e Avalia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8360" y="155736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8360" y="76500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8000" y="1019160"/>
            <a:ext cx="8964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ESTRUTURA DE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CRIÇÃO GERAL DOS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 METAS DO PLANO NACIONAL DE RECURSOS HÍDR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8000" y="5493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S METAS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200960"/>
            <a:ext cx="8785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diretrize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orientam a tomada de decisão traduzida em programas e subprograma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program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stabelecem os marcos operacionais para o alcance dos objetivos, geral e estratégic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vinculadas aos indicadores de monitoramento e avaliação, são estabelecidas para aferir os resultados intermediários, alimentando a construção do ciclo virtuoso do planejamento-ação-indução-controle-aperfeiçoament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devem traduzir a efetividade das ações propostas e ser estabelecidas de forma realísticas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ara a formulação d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são consideradas cinco variáveis: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specificidade; mensurabilidade; exeqüibilidade; relevância e tempo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bem como os fundamentos que estabeleceram os marcos referenciais para a elaboração do PNR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1414440"/>
            <a:ext cx="878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ptou-se por privilegiar, no horizonte emergencial, a formulação de metas de performance e de processo em relação às metas de result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porque o alcance dos objetivos finalísticos, essência do Plano Nacional de Recursos Hídricos, está intimamente relacionado a ações de diversos agentes políticos e sociais, com agendas próp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as metas exeqüíveis na fase inicial que impulsiona a implementação do PNRH, se atêm aos processos de construção efetiva das parce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8000" y="814320"/>
          <a:ext cx="8869320" cy="5710320"/>
        </p:xfrm>
        <a:graphic>
          <a:graphicData uri="http://schemas.openxmlformats.org/drawingml/2006/table">
            <a:tbl>
              <a:tblPr/>
              <a:tblGrid>
                <a:gridCol w="3039840"/>
                <a:gridCol w="5829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Elaborar e aprovar no âmbito do CNRH documento denominado Estratégia de Implement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do após a aprovação do PNRH, definindo como materializar as propostos do Pla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rumentos econômicos e os mecanismos institucionais, extra-SINGREH, a serem adotad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ção de fontes orçamentárias e de financiament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canismos de integração entre SISNAMA e SINGREH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talecimento de inserção do SINGREH nas demais políticas públ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 Desenvolver, propor e aprovar o SIGEOR, no âmbito do C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ruturação do SIGEOR em consonância com as competências da SRH/MMA, ANA e CNRH, visando o controle e à avaliação do PNR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- Detalhar, no nível operacional, e implementar o Sistema de Implantação, Monitoramento e Avaliação do PNRH e o Sub-sistema de Informações de Monitoramento e Avali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sociado a essa tarefa está o início da implementação do programa estabelecido para 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 Programa III -Desenvolvimento e Implementação de Instrumentos de Gestão de Recursos Hídrico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, detalhado na meta 4 apresentada a segu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4920" y="708120"/>
          <a:ext cx="9144000" cy="6033960"/>
        </p:xfrm>
        <a:graphic>
          <a:graphicData uri="http://schemas.openxmlformats.org/drawingml/2006/table">
            <a:tbl>
              <a:tblPr/>
              <a:tblGrid>
                <a:gridCol w="3305160"/>
                <a:gridCol w="5838840"/>
              </a:tblGrid>
              <a:tr h="60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- Implementar as ações para a efetivação programa estabelecido para o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 - Programa III -Desenvolvimento e Implementação de Instrumentos de Gestão de Recursos Hídricos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- Cadastro Nacional de Usos e Usuári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- Rede Hidrológica Quali-Quantitativa Nac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- Processamento, Armazenamento, Interpretação e Difusão de Informação Hidrológic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- Sistema Nacional de Informações de Recursos Hídr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- Apoio ao Desenvolvimento de Sistemas de Suporte à Decisão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forços humanos e orçamentários para o fortalecimento e implementação das ações para a viabilidade de implementação dos 5 Subprogramas, devendo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esentar ao CNRH um cronograma físico-financeiro no qual deverão estar descritas metas de resultados para cada um dos 9 subprogramas, incluindo atores, responsáveis, fontes orçamentárias e de financiamento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mento da capacidade, eficiência e eficácia do Sistema Nacional de Informaçõ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57040" y="811080"/>
          <a:ext cx="8778960" cy="5713560"/>
        </p:xfrm>
        <a:graphic>
          <a:graphicData uri="http://schemas.openxmlformats.org/drawingml/2006/table">
            <a:tbl>
              <a:tblPr/>
              <a:tblGrid>
                <a:gridCol w="3235320"/>
                <a:gridCol w="5543640"/>
              </a:tblGrid>
              <a:tr h="57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 Detalhar, no nível operacional, os Programas e Subprogramas estabelecidos e aprovados, juntamente com o PNRH, para os Componentes Gestão Nacional e Gerenciamento Integ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studos Estratégicos sobre Recursos Hídricos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senvolvimento Institucional da GIRH no Brasil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I 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e Implementação de Instrumentos de Gestão de Recursos Hídricos  e 4 dos seus 9 Subprograma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Tecnológico, Capacitação e Comunicação Social em Recursos Hídricos e seus 3 Subprogram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 e Intra-institucional da GI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Articulação Intersetorial, Inter e Intra-institucional da Gestão de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Usos Múltiplos e Gestão Integrada de Recursos Hídricos e seus 6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Setoriais voltados aos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79280" y="1003320"/>
          <a:ext cx="8820360" cy="3476520"/>
        </p:xfrm>
        <a:graphic>
          <a:graphicData uri="http://schemas.openxmlformats.org/drawingml/2006/table">
            <a:tbl>
              <a:tblPr/>
              <a:tblGrid>
                <a:gridCol w="882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- Detalhar, no nível operacional, os Programas e Subprogramas estabelecidos e aprovados, juntamente com o PNRH, para o Componente de Programas Regionais de Recursos Hídrico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I: Programa Nacional de Águas Subterrâ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X: Gestão de Recursos Hídricos Integrados ao Gerenciamento Cost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: Gestão Ambiental de Recursos Hídricos na Região Amazô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: Conservação das Águas no Pant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I: Gestão Sustentável de Recursos Hídricos e Convivência com o Semi-árido Brasil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000" y="620640"/>
            <a:ext cx="90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Verdana"/>
              </a:rPr>
              <a:t>A ESTRUTURA DE PROGRAMAS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9400" y="1557360"/>
            <a:ext cx="88866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PNRH foi estruturado em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4 componentes, 13 programas e 30 sub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m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tado para o  ordenamento institucional da GIRH no Brasil, para os instrumentos da política e ações de capacitação e comunicaçã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gund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as relacionados aos setores usuários e aos usos múltiplos dos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erc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pressa ações em Situações Especiais de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uart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aliações sistemáticas do processo de implementação do Plano Nacional de Recursos Hídricos e do alcance de seu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45200" y="1405080"/>
            <a:ext cx="1990800" cy="48322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>
                  <a:alpha val="38039"/>
                </a:srgbClr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RECUR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484280"/>
            <a:ext cx="455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1 –Desenvolvimento da GIRH no Bras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637000"/>
            <a:ext cx="4609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omponente 2 – Articulação Intersetorial, Interinstitucional e Intrainstitucional da GI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3880" y="4294080"/>
            <a:ext cx="4218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3 – Programas Regionais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688000"/>
            <a:ext cx="42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4 –Gerenciamento de Implementação do PN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356544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125800"/>
            <a:ext cx="635040" cy="43956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514980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633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rutura de Programa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358920"/>
          <a:ext cx="9144000" cy="6514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estão Integrada dos Recursos Hídricos - -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. Programa de Estudos Estratégicos sobr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. Programa de Desenvolvimento Institucional da 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. Programa de Desenvolvimento e Implementação de Instrumentos de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V. Desenvolvimento Tecnológico, Capacitação e Comunicação Social em Recursos Hídr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institucional e Intrainstitucional da GI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. Programa de Articulação Intersetorial, Interinstitucional e Intrainstitucion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. Programa de Usos Múltiplos e Gestão Integrada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. Programas Setoriais voltados aos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Programas Regionai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. Programa Nacional de Águas Subterrân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. Programa de Gestão de Recursos Hídricos Integrados ao Gerenciamento Cost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 Programa de Gestão Ambiental de Recursos Hídricos na Região Amazô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. Programa de Conservação das Águas no Pant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. Programa de Gestão Sustentável de Recursos Hídricos e Convivência com o Semi-árido Brasil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Gerenciament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I. Programa de Gerenciamento Executivo e de Monitoramento e Avaliaçã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4800600" y="5911920"/>
            <a:ext cx="750960" cy="457200"/>
          </a:xfrm>
          <a:prstGeom prst="wedgeRectCallout">
            <a:avLst>
              <a:gd name="adj1" fmla="val -58708"/>
              <a:gd name="adj2" fmla="val -103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ções Gerenciais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565440" y="76320"/>
            <a:ext cx="9144000" cy="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3565440" y="76320"/>
            <a:ext cx="3314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1600" y="1658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1600" y="1117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1600" y="1881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1600" y="273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920" y="155520"/>
          <a:ext cx="8370720" cy="6729480"/>
        </p:xfrm>
        <a:graphic>
          <a:graphicData uri="http://schemas.openxmlformats.org/drawingml/2006/table">
            <a:tbl>
              <a:tblPr/>
              <a:tblGrid>
                <a:gridCol w="649080"/>
                <a:gridCol w="2692440"/>
                <a:gridCol w="1714320"/>
                <a:gridCol w="1371600"/>
                <a:gridCol w="1943280"/>
              </a:tblGrid>
              <a:tr h="792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ão Tempo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ções e objetivos ao longo do 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13">
                  <a:txBody>
                    <a:bodyPr lIns="18000" rIns="90000" tIns="46800" bIns="46800" anchor="b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ões Técnicas e Grau de Ên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udos Estratégicos sobr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variáveis críticas e estratégicas, transversais ao Pla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alizar periodicamente os estudos, acompanhando alterações de fatores estratég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Institucional da GIRH no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alar as bases institucionais e legais do SINGREH e dos SEGR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ferir sustentabilidade aos Sistemas Nacional e Estadu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corporar ajustes e inovaçõ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e Implementação de Instrumentos de Gestão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lementar os instrumentos que conferem efetividade à GI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ção continuada de ajustes, aprimoramento e inovaçã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Tecnológico, Capacitação e Comunicação Social em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o transversal continuado à implementação dos programas e interação dos atores sociais junto ao PN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ticulação Intersetorial, Inter e Intra-institucional da Gestão de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e interferir de modo pró-ativo em investimentos de setores usuár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ter a articulação intersetorial, inter e intra-institucio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sos Múltiplos e Gestão Integrada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r a oferta e a demanda, gerir o s eventos críticos e conflitos por usos múltiplos, mantendo a coordenação e integração de ações institucionais e estrutur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Setoriais voltados aos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estruturais com ênfases em temas setoriais prioritários, na perspectiva dos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Regionais em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integradas em regiões que exigem abordagens especializad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mento, Monitoramento e Avaliação da Execução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ar a execução, monitorar e avaliar os avanços obtidos nos produtos intermediários e nos resultados substantivos do Plano, subsidiando adequações periódic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2360" y="1197000"/>
            <a:ext cx="358920" cy="5616720"/>
          </a:xfrm>
          <a:prstGeom prst="downArrow">
            <a:avLst>
              <a:gd name="adj1" fmla="val 50000"/>
              <a:gd name="adj2" fmla="val 3912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33360"/>
            <a:ext cx="7632720" cy="431640"/>
          </a:xfrm>
          <a:prstGeom prst="rightArrow">
            <a:avLst>
              <a:gd name="adj1" fmla="val 50000"/>
              <a:gd name="adj2" fmla="val 442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8360" y="765000"/>
            <a:ext cx="684360" cy="3025800"/>
          </a:xfrm>
          <a:prstGeom prst="leftArrowCallout">
            <a:avLst>
              <a:gd name="adj1" fmla="val 110544"/>
              <a:gd name="adj2" fmla="val 110534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Institucionais Estrut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3860640"/>
            <a:ext cx="684360" cy="2017800"/>
          </a:xfrm>
          <a:prstGeom prst="leftArrowCallout">
            <a:avLst>
              <a:gd name="adj1" fmla="val 73718"/>
              <a:gd name="adj2" fmla="val 73711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Físcas e Institu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8360" y="5877000"/>
            <a:ext cx="684360" cy="1008000"/>
          </a:xfrm>
          <a:prstGeom prst="leftArrowCallout">
            <a:avLst>
              <a:gd name="adj1" fmla="val 36826"/>
              <a:gd name="adj2" fmla="val 36823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ções Gerenci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grama de Estudos Estratégicos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844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1 - Estudos Estratégicos sobre Contexto Macro-econômico Global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ção Geopolítica da GIRH no Contexto Latino-americano e Caribe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292572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2 - Estudos Estratégicos sobre Cenários Nacionai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nvolvimento e Impactos Regionais que afeta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4078440"/>
            <a:ext cx="8280360" cy="122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.3 – Implementação de Acordos Internacionais em Corpos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fronteiriços e Desenvolvi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mentos de Gestão e de Apoio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rtilhados com países vizinh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58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4 – Estudos para a Definição de Unidades Territoriais pa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ação de Modelos Institucionais e Respe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os de Gestão de Recursos Hídr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. Programa de Desenvolviment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 GIRH no Bras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7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1 - Organização e Apoio ao SINGREH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tuação dos entes do Sistem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mites, articulação, formas de interação dos Planos, representação, representatividade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997360"/>
            <a:ext cx="8280360" cy="93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2 – Apoio à Organização de SEGR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convênios de cooperação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14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3 – Adequação, Complementação e Convergência do Marco Leg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c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sfera federal e estad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300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4 - Sustentabilidade Econômico-Financeira da Gest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fontes de receita e financiamento, linhas de crédi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ações que promovam a GIR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700280"/>
            <a:ext cx="8280360" cy="57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1 – Cadastro Nacional de Usos e Usu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49228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I.2 - Rede Hidrológica Quali-quantitativa Nacional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expansão, modernizaçã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dequação, operação  e manutenção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egração com redes setoriais, referências de método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3573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3 - Processamento, Armazenamento, Interpretação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usão de Informação Hidro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65300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4 – Metodologias e Sistemas de Outorg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itos de Us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5805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5 – Fiscalização do Us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.</cp:lastModifiedBy>
  <dcterms:modified xsi:type="dcterms:W3CDTF">2006-01-12T14:18:50Z</dcterms:modified>
  <cp:revision>162</cp:revision>
  <dc:subject/>
  <dc:title>Slide 1</dc:title>
</cp:coreProperties>
</file>