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97D-5CD5-4F84-B913-0DBF9EDC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185-E298-4A9A-B9F7-8E404DF7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6EE-37BF-4854-B3B0-0AD1A9E7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0DD-1C9D-4197-8D31-3A65F9E1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CA9-5FE3-42DD-9CD5-52A0EBC6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841-45BF-4A32-9DD0-A186BE9C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D03-6437-4A3A-BD0E-FE3B5339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B0B-634A-4887-A2B3-7247DBF0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742-35B4-40FD-BA3C-6F727BEB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938-6F10-4EC3-81D3-0A9C099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E0D-4B57-417B-B72A-1C57C799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FBA-51D3-4497-89D7-C2807F22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BC0-5790-4B91-8DC2-0B32738801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7080" y="2637000"/>
            <a:ext cx="215892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1482840"/>
            <a:ext cx="871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cebe-se que foram contempladas a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Verdana"/>
              </a:rPr>
              <a:t>Vertentes de Anál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vertic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rizont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transvers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646440"/>
            <a:ext cx="576360" cy="107964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011560"/>
            <a:ext cx="1296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203560"/>
            <a:ext cx="129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54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758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9228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, também estão contempladas as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ariáveis portadoras de futu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s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invariânc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perspectiva de atendimento da </a:t>
            </a:r>
            <a:r>
              <a:rPr b="1" lang="en-US" sz="2000" spc="-1" strike="noStrike">
                <a:solidFill>
                  <a:srgbClr val="669900"/>
                </a:solidFill>
                <a:latin typeface="Verdana"/>
              </a:rPr>
              <a:t>multiplicidade de atores relevantes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is como identificadas no traçado dos cenários prospectivos de desenvolvimento, propician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uma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68520"/>
            <a:ext cx="7077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nfoque principal do PNRH em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retrizes estratégicas e de abrangência na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adoção de um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titude pró-ati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não apenas contemplativa, com vistas à “construção do futur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finição sobre como serão subsidiadas decisões que reduzam incertezas críticas e proporcionem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dução mais próxima possível do cenário desejáv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da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a consolidação do SINGREH, com suas características e pred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981000"/>
            <a:ext cx="89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r-se frente a lógica dos setores usuários, com vistas a que sejam computados,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nas ações e n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todos os custos envolvidos, notadamente 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spectos sócioambientais e soluções integr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corporação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transversal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diretrizes e preocupações ambientais e para com os recursos hídricos,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 já n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fase inicial de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inserção orgânica de atores sociai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visando a construção de uma agenda positiva que possa assegurar padrões adequados de disponibilidades hídricas, em qualidade e quantidade, para a atual e futuras ger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superação de mecanismos tradicionais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 e control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incorporando, de mod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oordenado e complement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formas de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construção de consensos sociais, instrumentos descentralizados de incentivo econômico e alternativas que promovam a adesão dos usuários a objetivos ambientais e de conservação dos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articulação intersetorial, em uma perspectiva mais ampla, que atinja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ampo das políticas macroeconôm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que sofrem, no médio e no longo prazo, com custos derivados da deterioração ambiental e das disponibilidades híd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256760"/>
            <a:ext cx="85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destaque 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temas da gestão e d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tadamente quando entram em questão ações regulatórias substantivas, como forma atrativa de justificar, junto à área macroeconômica, bons investimentos em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ções de comunicação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visando a disseminação junto aos usuários, da percepção sobre o valor e importância da água para o desenvolvimento econômico e social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apoio de uma adequad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estratégia de implemen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, para atender as etapas seguintes a sua formulação, como também, a organização de um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sistema de gerenciamento orientado para aferir objetivos finalísticos e resultados (ou produtos) intermediá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lhes conferem viabilidade, mediante os adequa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indicadores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estabelecimento e detalhamento de como será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processo de constante atualiz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691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Macro-diretrizes do PN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1341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triz de Diretrizes  e de Demandas por Program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os elementos que constituem 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 PNRH, propiciam a consolidação de macro-diretrizes, organizadas em cinco conju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8487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333399"/>
                </a:solidFill>
                <a:uFillTx/>
                <a:latin typeface="Arial"/>
              </a:rPr>
              <a:t>Prim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críticas relacionadas com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erção do país nos contextos global, latino-americano e caribe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identificação e acompanhamento de demandas sobre produtos que utilizam á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eresses geopolí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umprime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ordos, convenções e tratados internac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dentificação de fatores endógenos de desenvolvimento, notadamente a localização espacial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etores de expansão econô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erspectiva de um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isão integrada e integradora da gestão de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onderando os aspectos hidrológicos, ambientais, socioeconômicos e político-institucionais para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efinição de unidades de planej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gestão e de intervenção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709720"/>
            <a:ext cx="733680" cy="2303640"/>
          </a:xfrm>
          <a:custGeom>
            <a:avLst/>
            <a:gdLst>
              <a:gd name="textAreaLeft" fmla="*/ 98280 w 733680"/>
              <a:gd name="textAreaRight" fmla="*/ 635400 w 7336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967320"/>
            <a:ext cx="86425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egund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róprio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rdenament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 gestão integrada dos recursos hídricos no Brasil (GIRH), que deve tratar do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odel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dotado, dos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nstrumentos de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vistos e de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ções de capacitação e de comunicação so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que confiram suporte a todos os atores envolvidos e ao funcionamento do Sistema e de suas ferramentas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Terc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ta das articulações intersetoriais, inter e intra-institucionais, reconhecidamente essenciais para a efetividade da GIRH, contemplando três abordagen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de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oordenação e convergência de a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focos mais específicos, em temas que apresentem sombreamento de competências, com interesse para a gestão dos recursos híd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uso múltiplo e integrado das águ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oltadas para a mitigação e solução de problema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rdagens setoriais específicas com forte sobreposição com aspectos setoriais que apresentem elevados impactos sobre os recursos hídric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" y="1083240"/>
            <a:ext cx="8675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arto conjunto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espa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finindo unidades geográficas de intervenção, onde os limites não necessariamente coincidem com os de uma bacia hidrográfica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requerendo ações e atividades ajustadas à natureza e tipologia de problemas regiona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acterísticos e exigindo, por conseqüência, que as linhas de atuação dos programas e subprogramas já propostos, venham a sofrer um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specializ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terminada por realidades específ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mpla, particularmente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áreas geográficas com forte apelo simból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cernente às temáticas ambiental e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, finalme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int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z respeito ao modelo de gerenciamento executivo e de monitoramento e avaliação da implementação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268280"/>
            <a:ext cx="8964720" cy="49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Roteiro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O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 Ger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efini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Tentativ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s Estraté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cro-diretriz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07920"/>
            <a:ext cx="8856720" cy="228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. O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Objetivo Geral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Verdana"/>
              </a:rPr>
              <a:t>Os problemas que se colocam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) como empreender ao processo de formulação de diretrizes que orientem e consubstanciem o pacto nacional do Plano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i) sendo o PNRH um dos instrumentos da Política Nacional de Recursos Hídricos, como tratar a relativa antecipação do Plano em relação ao Sistema Nacional de Gerenciamento de Recursos Hídricos (SINGREH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221000"/>
            <a:ext cx="733320" cy="1935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38400 h 1935360"/>
              <a:gd name="textAreaBottom" fmla="*/ 140328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844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e às questões expostas, dois cuidados metodológicos se apresentam de imedi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36572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istema Institucional conformará o PNRH e não o Plano delimitará as possibilidades do Sistema, sem que tal perspectiva implique em limitações ou no congelamento de adaptações progressivas no desenho institucional previsto para o Sistema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082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deve guardar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deve-se buscar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565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29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9264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 que a observância da Política e a edificação do SINGREH sejam empreendidos, o PNRH deve manter características de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4321800"/>
            <a:ext cx="29210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573360"/>
            <a:ext cx="388764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229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não obstante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acional nº 9.433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573360"/>
            <a:ext cx="3240000" cy="7225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5228640"/>
            <a:ext cx="2016360" cy="863640"/>
          </a:xfrm>
          <a:custGeom>
            <a:avLst/>
            <a:gdLst>
              <a:gd name="textAreaLeft" fmla="*/ 0 w 2016360"/>
              <a:gd name="textAreaRight" fmla="*/ 2016720 w 201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86320" y="79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1844640"/>
            <a:ext cx="89643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 que concerne à compatibilidade frente à Política Nacional de Recursos Hídricos, é importante pon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gestão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escentralizad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participativ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pen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oncentr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m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entraliz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fetiv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descentralização pela via do apoio à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nâmicas existente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à construçã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capacidades locais endógen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a ca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ncípio d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bsidiarie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o fortalecimento do conceit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federalismo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corporação de legítim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ç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à necessár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bil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superação positiva e cooperativa de problemas derivados da dupla dominialidade dos corpos hídricos, mediante as devida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rticulações inter-institucionai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ções integrad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ição Tent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o Plan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o conjunto estratégico de ações e relações interinstitucionais, instrumentos de política, informações e ferramentas de apoio à decisão, ações de comunicação social, fontes de financiamento e, também, intervenções físicas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seletivas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que, ao serem implementadas pela União,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ssibilit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e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tencializ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o equacionamento e as soluções regionais ou locais de problemas relativos aos recursos hídricos e, simultaneamente, estruturam uma </a:t>
            </a:r>
            <a:r>
              <a:rPr b="1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ótica nacional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indispensável ao seu efetivo gerenciamento, respeitadas as diretrizes de descentralização e o princípio da subsidiariedade, como predicados inerentes ao SINGREH que se quer edific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720720" cy="2448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Objetivos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am </a:t>
            </a:r>
            <a:r>
              <a:rPr b="1" i="1" lang="en-US" sz="2000" spc="-1" strike="noStrike">
                <a:solidFill>
                  <a:srgbClr val="0066ff"/>
                </a:solidFill>
                <a:latin typeface="Verdana"/>
              </a:rPr>
              <a:t>o que se pretende alcançar com a implementação do PNR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 orientam a definição das suas estratégias, conformadas em diretrizes, programa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mplam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três dimensõ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378936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melhoria das disponibilidades hídrica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da conservação da água como valor socioambiental relevante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976320" cy="6494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465120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58792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450720" y="13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99640" tIns="-89928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0720" y="137808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50720" y="44528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950080"/>
            <a:ext cx="89647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...que constituem a base para a consolidação dos programas que devem estruturar o Plano Nacional de Recursos Hídricos (PNR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4520" y="184644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200240"/>
          <a:ext cx="8567640" cy="4605120"/>
        </p:xfrm>
        <a:graphic>
          <a:graphicData uri="http://schemas.openxmlformats.org/drawingml/2006/table">
            <a:tbl>
              <a:tblPr/>
              <a:tblGrid>
                <a:gridCol w="2070000"/>
                <a:gridCol w="1230480"/>
                <a:gridCol w="3252600"/>
                <a:gridCol w="2014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s de Aná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piciam a sistematização de diretrizes, recomendações e princípios metodológicos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... </a:t>
                      </a: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agrupadas segundo temas de interesse do P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duzidas em possíve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acro-diretri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Linhas Program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itos e Políticas Regentes das Ações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spacial e Cenários Prospectivos de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za e/ou tipologia dos Problema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o Intersetori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as Abordagens 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627280" y="1844640"/>
            <a:ext cx="647640" cy="3816360"/>
          </a:xfrm>
          <a:prstGeom prst="rightArrowCallout">
            <a:avLst>
              <a:gd name="adj1" fmla="val 147331"/>
              <a:gd name="adj2" fmla="val 147318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174560" y="2744640"/>
            <a:ext cx="2232000" cy="17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94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srh</cp:lastModifiedBy>
  <dcterms:modified xsi:type="dcterms:W3CDTF">2006-01-14T01:29:11Z</dcterms:modified>
  <cp:revision>158</cp:revision>
  <dc:subject/>
  <dc:title>Slide 1</dc:title>
</cp:coreProperties>
</file>