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4FC-B495-4A49-943A-2A0BBB98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DA3-D6F5-4F3D-AD85-0AA20FAA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D67-3D88-46AB-BE3A-690E4FFA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FF0-6D89-492D-B82F-6F4733A4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E3E2-A7AB-49D8-A6D4-F67E797E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20DF-8F80-434D-AC4D-0D2B7F0E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BE40-A69C-4E19-8C96-D8A76CEC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D077-F0A8-444A-B024-45321FAC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F8E5-BF3B-4FE2-9AF4-76EC8B36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1CEC-1B3C-41AF-B5A6-0D297523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FE02-FD03-4877-B7F1-87FC7E72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3DC-61A1-4F5E-AF51-9763E731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AEF4-7C82-49BB-B945-A6173C7E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70B9-E217-4249-A6A4-7EFCF13B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FC90-B1C5-4061-A4EC-F2495853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C612-61EF-4C50-B1A8-7DDAE3CE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0B63-D3C1-48C1-8874-9EDF92AC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C12-44B0-4C1E-9D12-1BD76937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FA2-1EC5-4F42-A4C9-C0E734BE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EB3-F5FB-471B-B4BD-86AE4DCA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15C-D103-4686-AB08-8C4E820C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F14-ABD1-4FD7-8E56-8D2A328D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7FE-0E4D-4E11-A7BE-88334B1E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DA2-C3EA-4F93-AB18-9AA5E709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0F8C-3A6F-4B0C-BE09-F17D49018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9D22-7352-4357-B1B6-FF6A804CD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98100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UNIÃO DA CÂMARA TÉCNICA DO PLANO NACIONAL DE RECURSOS HÍD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14800" y="61570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sília, janeiro de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37080" y="2852640"/>
            <a:ext cx="2158920" cy="1752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508464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GRAMAS NACIONAIS E M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76500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I. Programa de Desenvolvimento e Implementaç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rumentos de Gestã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ntinu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700280"/>
            <a:ext cx="8280360" cy="865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6 - Planos de Recursos Hídricos e Enquadrame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s Hídricos em Classes de U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92428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7 – Aplicação de Instrumentos Econômicos à Gestã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ídrico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brança, outros instrumentos econômicos, mecanism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nsação financei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005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8 – Sistema Nacional de Informações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5229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9 - Apoio ao Desenvolvimento de Sistemas de Suporte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oio técnico à solução de conflito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1052640"/>
            <a:ext cx="8280360" cy="649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V. Desenvolvimento Tecnológico, Capacitaçã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unicação Social em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346480"/>
            <a:ext cx="8280360" cy="865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V.1 – Desenvolvimento e Consolidação de Conhecimento e de Avanç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ógicos em Gestã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articulado ao CT-Hidro – atuar nas lacunas de conhecimento, inov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3643200"/>
            <a:ext cx="8280360" cy="1152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2 – Capacitação e Educação Ambiental com Foco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ormar multiplicadores, educação ambiental, articulação com ME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usão de boas prátic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5229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3 – Comunicação Social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ifusão, formação de redes, ações específicas para envolvimento de municípi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765000"/>
            <a:ext cx="828036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V. Programa de Articulação Intersetorial, Interinstituc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e Intra-institucional da Gestão de Recursos Hídric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2131920"/>
            <a:ext cx="8280360" cy="8654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.1 – Avaliação de Impactos Setoriais na Gestã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335772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.2 – Compatibilização e Integração de Projetos Setoriais e Incorpo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Diretrizes de Interesse para a GI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9640" y="692280"/>
            <a:ext cx="8280360" cy="649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. Programa de Aproveitamento Múltiplo e Contr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d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484280"/>
            <a:ext cx="8280360" cy="720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1 – Gestão em Áreas Sujeitas a Eventos Hidrológicos Cr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314172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3 – Gestão de Demandas, Resolução de Confli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o Múltiplo e Integrad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4076640"/>
            <a:ext cx="8280360" cy="936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4 – Intervenções Integradas em Saneamento e Gestão Ambienta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ídricos no Meio Urban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terfaces com a área de recurs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ídricos, RH como fonte complementar, instrumentos, sinergias Min. C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084640"/>
            <a:ext cx="8280360" cy="792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5 – Ações Integradas de Conservação de Solos e Água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ejo de Micro-bacias no Meio Ru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349360"/>
            <a:ext cx="8280360" cy="648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2 –Gestão da Oferta, Ampliação, Racionalização e Reuso de Á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595008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6 – Estudos sobre Critérios e Objetivos Múltiplos voltados à Definiçã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ções Operativas em Reservatórios de Geração Hidrelét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76356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I. Programas Setoriais voltados aos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131920"/>
            <a:ext cx="8280360" cy="1081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I.1 – Despoluição de Bacias Hidrográ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aspectos técnicos dos sistemas de tratamen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sociadas a metas de avanço do SINGREH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8280360" cy="10792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I.2 – Otimização do Uso da Água em Cultivos Irrig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modernização das práticas de irrigação, otimização de regr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peracionais, articulação MI e MAPA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765000"/>
            <a:ext cx="8280360" cy="935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II. Programa Nacional de Águas Subterrâ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916280"/>
            <a:ext cx="8280360" cy="865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X. Programa de Gestão de Recursos Hídricos Integ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o Gerenciamento Cost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3068640"/>
            <a:ext cx="8280360" cy="865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. Programa de Gestão Ambiental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ídricos na Região Amazô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4363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. Programa de Conservação das Águas no Pant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300640"/>
            <a:ext cx="828036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I. Programa de Gestão Sustentável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ursos Hídricos 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vivência com o Semi-árido Brasil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8000" y="2563920"/>
            <a:ext cx="896472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II. Programa de Gerenciamento Executivo e de Monitoramento e Avaliação da Implement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 PNR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8000" y="6206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GERENCIAMENTO E SISTEMÁTICA DE MONITORAMENTO E AVALI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700280"/>
            <a:ext cx="89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concepção de indicadores deverá considerar a dimensão e a diversidade sócioambiental do País, a complexidade institucional em que se insere o PNRH e os seus propósitos em relação à GIRH        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65300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tabelecer um foco para os trabalhos de implementação, monitoramento e avaliação do Pl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3716280"/>
            <a:ext cx="35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da gama de a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84720" y="3027240"/>
            <a:ext cx="485640" cy="617760"/>
          </a:xfrm>
          <a:prstGeom prst="downArrow">
            <a:avLst>
              <a:gd name="adj1" fmla="val 50000"/>
              <a:gd name="adj2" fmla="val 31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5332320"/>
            <a:ext cx="485640" cy="617760"/>
          </a:xfrm>
          <a:prstGeom prst="downArrow">
            <a:avLst>
              <a:gd name="adj1" fmla="val 50000"/>
              <a:gd name="adj2" fmla="val 31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4720" y="4106880"/>
            <a:ext cx="485640" cy="617400"/>
          </a:xfrm>
          <a:prstGeom prst="downArrow">
            <a:avLst>
              <a:gd name="adj1" fmla="val 50000"/>
              <a:gd name="adj2" fmla="val 31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5950080"/>
            <a:ext cx="914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Sistema de Gerenciamento Orientado para Resultados (SIGEOR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8000" y="61956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m subsídio ao </a:t>
            </a:r>
            <a:r>
              <a:rPr b="1" lang="en-US" sz="2200" spc="-1" strike="noStrike">
                <a:solidFill>
                  <a:srgbClr val="0066ff"/>
                </a:solidFill>
                <a:latin typeface="Verdana"/>
              </a:rPr>
              <a:t>SIGEOR propõe-s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en-US" sz="2200" spc="-1" strike="noStrike">
                <a:solidFill>
                  <a:srgbClr val="0066ff"/>
                </a:solidFill>
                <a:latin typeface="Verdana"/>
              </a:rPr>
              <a:t>Sistema de Implantação, Monitoramento e Avaliaçã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NR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08360" y="155736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ANA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8360" y="76500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ANA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8000" y="1019160"/>
            <a:ext cx="89647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ESTRUTURA DE PROGRAMAS DO PLANO NACIONAL DE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CRIÇÃO GERAL DOS PROGRAMAS DO PLANO NACIONAL DE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RENCIAMENTO E SISTEMÁTICA DE MONITORAMENTO E AVALI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 METAS DO PLANO NACIONAL DE RECURSOS HÍDR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8000" y="5493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S METAS D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200960"/>
            <a:ext cx="87854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diretrize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orientam a tomada de decisão traduzida em programas e subprograma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o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program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estabelecem os marcos operacionais para o alcance dos objetivos, geral e estratégico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, vinculadas aos indicadores de monitoramento e avaliação, são estabelecidas para aferir os resultados intermediários, alimentando a construção do ciclo virtuoso do planejamento-ação-indução-controle-aperfeiçoament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devem traduzir a efetividade das ações propostas e ser estabelecidas de forma realísticas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para a formulação d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são consideradas cinco variáveis: </a:t>
            </a: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especificidade; mensurabilidade; exeqüibilidade; relevância e tempo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, bem como os fundamentos que estabeleceram os marcos referenciais para a elaboração do PNRH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1414440"/>
            <a:ext cx="8785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ptou-se por privilegiar, no horizonte emergencial, a formulação de metas de performance e de processo em relação às metas de result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... porque o alcance dos objetivos finalísticos, essência do Plano Nacional de Recursos Hídricos, está intimamente relacionado a ações de diversos agentes políticos e sociais, com agendas próp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... as metas exeqüíveis na fase inicial que impulsiona a implementação do PNRH, se atêm aos processos de construção efetiva das parcer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8000" y="814320"/>
          <a:ext cx="8869320" cy="5710320"/>
        </p:xfrm>
        <a:graphic>
          <a:graphicData uri="http://schemas.openxmlformats.org/drawingml/2006/table">
            <a:tbl>
              <a:tblPr/>
              <a:tblGrid>
                <a:gridCol w="3039840"/>
                <a:gridCol w="5829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Elaborar e aprovar no âmbito do CNRH documento denominado Estratégia de Implementação do P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do após a aprovação do PNRH, definindo como materializar as propostos do Pla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strumentos econômicos e os mecanismos institucionais, extra-SINGREH, a serem adotad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ntificação de fontes orçamentárias e de financiamento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canismos de integração entre SISNAMA e SINGREH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rtalecimento de inserção do SINGREH nas demais políticas públ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- Desenvolver, propor e aprovar o SIGEOR, no âmbito do C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ruturação do SIGEOR em consonância com as competências da SRH/MMA, ANA e CNRH, visando o controle e à avaliação do PNR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- Detalhar, no nível operacional, e implementar o Sistema de Implantação, Monitoramento e Avaliação do PNRH e o Sub-sistema de Informações de Monitoramento e Avaliação do P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sociado a essa tarefa está o início da implementação do programa estabelecido para 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: Programa III -Desenvolvimento e Implementação de Instrumentos de Gestão de Recursos Hídrico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 5 dos seus 9 Subprograma, detalhado na meta 4 apresentada a segu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8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4920" y="708120"/>
          <a:ext cx="9144000" cy="6033960"/>
        </p:xfrm>
        <a:graphic>
          <a:graphicData uri="http://schemas.openxmlformats.org/drawingml/2006/table">
            <a:tbl>
              <a:tblPr/>
              <a:tblGrid>
                <a:gridCol w="3305160"/>
                <a:gridCol w="5838840"/>
              </a:tblGrid>
              <a:tr h="60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- Implementar as ações para a efetivação programa estabelecido para o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 - Programa III -Desenvolvimento e Implementação de Instrumentos de Gestão de Recursos Hídricos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 5 dos seus 9 Subprograma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- Cadastro Nacional de Usos e Usuário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- Rede Hidrológica Quali-Quantitativa Nacio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i- Processamento, Armazenamento, Interpretação e Difusão de Informação Hidrológic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i- Sistema Nacional de Informações de Recursos Hídr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x- Apoio ao Desenvolvimento de Sistemas de Suporte à Decisão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forços humanos e orçamentários para o fortalecimento e implementação das ações para a viabilidade de implementação dos 5 Subprogramas, devendo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presentar ao CNRH um cronograma físico-financeiro no qual deverão estar descritas metas de resultados para cada um dos 9 subprogramas, incluindo atores, responsáveis, fontes orçamentárias e de financiamento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mento da capacidade, eficiência e eficácia do Sistema Nacional de Informaçõ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57040" y="811080"/>
          <a:ext cx="8778960" cy="5713560"/>
        </p:xfrm>
        <a:graphic>
          <a:graphicData uri="http://schemas.openxmlformats.org/drawingml/2006/table">
            <a:tbl>
              <a:tblPr/>
              <a:tblGrid>
                <a:gridCol w="3235320"/>
                <a:gridCol w="5543640"/>
              </a:tblGrid>
              <a:tr h="57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 Detalhar, no nível operacional, os Programas e Subprogramas estabelecidos e aprovados, juntamente com o PNRH, para os Componentes Gestão Nacional e Gerenciamento Integ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studos Estratégicos sobre Recursos Hídricos e seus 4 Subprogram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esenvolvimento Institucional da GIRH no Brasil e seus 4 Subprogram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II 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envolvimento e Implementação de Instrumentos de Gestão de Recursos Hídricos  e 4 dos seus 9 Subprograma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V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envolvimento Tecnológico, Capacitação e Comunicação Social em Recursos Hídricos e seus 3 Subprogram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a Articulação Intersetorial, Inter e Intra-institucional da GI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de Articulação Intersetorial, Inter e Intra-institucional da Gestão de Recursos Hídricos e seus 2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de Usos Múltiplos e Gestão Integrada de Recursos Hídricos e seus 6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I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s Setoriais voltados aos Recursos Hídricos e seus 2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79280" y="1003320"/>
          <a:ext cx="8820360" cy="3476520"/>
        </p:xfrm>
        <a:graphic>
          <a:graphicData uri="http://schemas.openxmlformats.org/drawingml/2006/table">
            <a:tbl>
              <a:tblPr/>
              <a:tblGrid>
                <a:gridCol w="882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1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 - Detalhar, no nível operacional, os Programas e Subprogramas estabelecidos e aprovados, juntamente com o PNRH, para o Componente de Programas Regionais de Recursos Hídrico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II: Programa Nacional de Águas Subterrân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X: Gestão de Recursos Hídricos Integrados ao Gerenciamento Cost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: Gestão Ambiental de Recursos Hídricos na Região Amazô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I: Conservação das Águas no Pant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II: Gestão Sustentável de Recursos Hídricos e Convivência com o Semi-árido Brasil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8000" y="620640"/>
            <a:ext cx="90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Verdana"/>
              </a:rPr>
              <a:t>A ESTRUTURA DE PROGRAMAS DO PLANO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9400" y="1557360"/>
            <a:ext cx="88866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 PNRH foi estruturado em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4 componentes, 13 programas e 30 sub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meir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tado para o  ordenamento institucional da GIRH no Brasil, para os instrumentos da política e ações de capacitação e comunicação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gund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as relacionados aos setores usuários e aos usos múltiplos dos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erceir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pressa ações em Situações Especiais de 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Quart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valiações sistemáticas do processo de implementação do Plano Nacional de Recursos Hídricos e do alcance de seu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245200" y="1405080"/>
            <a:ext cx="1990800" cy="48322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>
                  <a:alpha val="38039"/>
                </a:srgbClr>
              </a:gs>
              <a:gs pos="100000">
                <a:srgbClr val="5e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RECUR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484280"/>
            <a:ext cx="455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1 –Desenvolvimento da GIRH no Bras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637000"/>
            <a:ext cx="4609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Componente 2 – Articulação Intersetorial, Interinstitucional e Intrainstitucional da GI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3880" y="4294080"/>
            <a:ext cx="4218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3 – Programas Regionais de Recurso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688000"/>
            <a:ext cx="42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4 –Gerenciamento de Implementação do PN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3565440"/>
            <a:ext cx="635040" cy="43992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2125800"/>
            <a:ext cx="635040" cy="43956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5149800"/>
            <a:ext cx="635040" cy="43992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6336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rutura de Programa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358920"/>
          <a:ext cx="9144000" cy="6514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0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estão Integrada dos Recursos Hídricos - -GIRH no 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. Programa de Estudos Estratégicos sobr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. Programa de Desenvolvimento Institucional da GIRH no 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I. Programa de Desenvolvimento e Implementação de Instrumentos de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V. Desenvolvimento Tecnológico, Capacitação e Comunicação Social em Recursos Hídr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a Articulação Intersetorial, Interinstitucional e Intrainstitucional da GI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. Programa de Articulação Intersetorial, Interinstitucional e Intrainstitucional da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. Programa de Usos Múltiplos e Gestão Integrada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. Programas Setoriais voltados aos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Programas Regionais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I. Programa Nacional de Águas Subterrân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X. Programa de Gestão de Recursos Hídricos Integrados ao Gerenciamento Cost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 Programa de Gestão Ambiental de Recursos Hídricos na Região Amazô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. Programa de Conservação das Águas no Panta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I. Programa de Gestão Sustentável de Recursos Hídricos e Convivência com o Semi-árido Brasil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Gerenciamento da Implementação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II. Programa de Gerenciamento Executivo e de Monitoramento e Avaliação da Implementação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V="1">
            <a:off x="4800600" y="5911920"/>
            <a:ext cx="750960" cy="457200"/>
          </a:xfrm>
          <a:prstGeom prst="wedgeRectCallout">
            <a:avLst>
              <a:gd name="adj1" fmla="val -58708"/>
              <a:gd name="adj2" fmla="val -103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ções Gerenciais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3565440" y="76320"/>
            <a:ext cx="9144000" cy="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3565440" y="76320"/>
            <a:ext cx="3314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3565440" y="76320"/>
            <a:ext cx="50292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565440" y="76320"/>
            <a:ext cx="50292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1600" y="1658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1600" y="1117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1600" y="1881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1600" y="273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4920" y="155520"/>
          <a:ext cx="8370720" cy="6729480"/>
        </p:xfrm>
        <a:graphic>
          <a:graphicData uri="http://schemas.openxmlformats.org/drawingml/2006/table">
            <a:tbl>
              <a:tblPr/>
              <a:tblGrid>
                <a:gridCol w="649080"/>
                <a:gridCol w="2692440"/>
                <a:gridCol w="1714320"/>
                <a:gridCol w="1371600"/>
                <a:gridCol w="1943280"/>
              </a:tblGrid>
              <a:tr h="792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ensão Tempo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s do PN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ções e objetivos ao longo do t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13">
                  <a:txBody>
                    <a:bodyPr lIns="18000" rIns="90000" tIns="46800" bIns="46800" anchor="b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ensões Técnicas e Grau de Ên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udos Estratégicos sobr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dentificar variáveis críticas e estratégicas, transversais ao Pla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alizar periodicamente os estudos, acompanhando alterações de fatores estratég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Institucional da GIRH no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stalar as bases institucionais e legais do SINGREH e dos SEGR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ferir sustentabilidade aos Sistemas Nacional e Estadua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corporar ajustes e inovaçõ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e Implementação de Instrumentos de Gestão d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lementar os instrumentos que conferem efetividade à GIR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ção continuada de ajustes, aprimoramento e inovaçã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Tecnológico, Capacitação e Comunicação Social em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oio transversal continuado à implementação dos programas e interação dos atores sociais junto ao PNR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ticulação Intersetorial, Inter e Intra-institucional da Gestão de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dentificar e interferir de modo pró-ativo em investimentos de setores usuár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ter a articulação intersetorial, inter e intra-institucio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sos Múltiplos e Gestão Integrada d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renciar a oferta e a demanda, gerir o s eventos críticos e conflitos por usos múltiplos, mantendo a coordenação e integração de ações institucionais e estrutura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s Setoriais voltados aos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mover ações estruturais com ênfases em temas setoriais prioritários, na perspectiva dos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s Regionais em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mover ações integradas em regiões que exigem abordagens especializad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renciamento, Monitoramento e Avaliação da Execução do PN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oiar a execução, monitorar e avaliar os avanços obtidos nos produtos intermediários e nos resultados substantivos do Plano, subsidiando adequações periódic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52360" y="1197000"/>
            <a:ext cx="358920" cy="5616720"/>
          </a:xfrm>
          <a:prstGeom prst="downArrow">
            <a:avLst>
              <a:gd name="adj1" fmla="val 50000"/>
              <a:gd name="adj2" fmla="val 3912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333360"/>
            <a:ext cx="7632720" cy="431640"/>
          </a:xfrm>
          <a:prstGeom prst="rightArrow">
            <a:avLst>
              <a:gd name="adj1" fmla="val 50000"/>
              <a:gd name="adj2" fmla="val 4420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8360" y="765000"/>
            <a:ext cx="684360" cy="3025800"/>
          </a:xfrm>
          <a:prstGeom prst="leftArrowCallout">
            <a:avLst>
              <a:gd name="adj1" fmla="val 110544"/>
              <a:gd name="adj2" fmla="val 110534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ções Institucionais Estrut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8360" y="3860640"/>
            <a:ext cx="684360" cy="2017800"/>
          </a:xfrm>
          <a:prstGeom prst="leftArrowCallout">
            <a:avLst>
              <a:gd name="adj1" fmla="val 73718"/>
              <a:gd name="adj2" fmla="val 73711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ções Físcas e Institucion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8360" y="5877000"/>
            <a:ext cx="684360" cy="1008000"/>
          </a:xfrm>
          <a:prstGeom prst="leftArrowCallout">
            <a:avLst>
              <a:gd name="adj1" fmla="val 36826"/>
              <a:gd name="adj2" fmla="val 36823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ções Gerenci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907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grama de Estudos Estratégicos so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84464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1 - Estudos Estratégicos sobre Contexto Macro-econômico Global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ção Geopolítica da GIRH no Contexto Latino-americano e Cariben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2925720"/>
            <a:ext cx="8280360" cy="936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2 - Estudos Estratégicos sobre Cenários Nacionai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nvolvimento e Impactos Regionais que afeta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ã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4078440"/>
            <a:ext cx="8280360" cy="122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.3 – Implementação de Acordos Internacionais em Corpos de Á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ansfronteiriços e Desenvolvime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mentos de Gestão e de Apoio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rtilhados com países vizinh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5589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4 – Estudos para a Definição de Unidades Territoriais par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ação de Modelos Institucionais e Respec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mentos de Gestão de Recursos Hídr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907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. Programa de Desenvolvimento I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 GIRH no Bras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917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1 - Organização e Apoio ao SINGREH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atuação dos entes do Sistem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mites, articulação, formas de interação dos Planos, representação, representatividade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997360"/>
            <a:ext cx="8280360" cy="936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.2 – Apoio à Organização de SEGR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convênios de cooperação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149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3 – Adequação, Complementação e Convergência do Marco Lega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c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sfera federal e estad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530064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.4 - Sustentabilidade Econômico-Financeira da Gestã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fontes de receita e financiamento, linhas de crédi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ações que promovam a GIR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76500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I. Programa de Desenvolvimento e Implementaç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rumentos de Gestã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700280"/>
            <a:ext cx="8280360" cy="576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1 – Cadastro Nacional de Usos e Usuá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492280"/>
            <a:ext cx="8280360" cy="792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I.2 - Rede Hidrológica Quali-quantitativa Nacional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expansão, modernizaçã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dequação, operação  e manutenção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egração com redes setoriais, referências de métodos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3573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3 - Processamento, Armazenamento, Interpretação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usão de Informação Hidroló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465300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4 – Metodologias e Sistemas de Outorg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itos de Us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5805360"/>
            <a:ext cx="8280360" cy="648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5 – Fiscalização do Us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9:19:56Z</dcterms:created>
  <dc:creator>Fátima</dc:creator>
  <dc:description/>
  <dc:language>en-US</dc:language>
  <cp:lastModifiedBy>.</cp:lastModifiedBy>
  <dcterms:modified xsi:type="dcterms:W3CDTF">2006-01-12T14:18:50Z</dcterms:modified>
  <cp:revision>162</cp:revision>
  <dc:subject/>
  <dc:title>Slide 1</dc:title>
</cp:coreProperties>
</file>