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9B24-7BDC-41E5-84DF-87103322C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554D-C93F-417E-8B44-DDF9BEC5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5C5-BF00-44F7-9A8F-DE210338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BB32-BEDD-466E-A755-FBB406FC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F56-AA94-4636-B1DC-937ECFA1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BF0-4AF0-4DA2-ACFF-1701F5E2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E50-1A2F-4930-B12F-5D1A8A38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A785-100E-4AA6-8E5D-28491FAEF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184-899F-467A-BA97-1ADF7F34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3303-4CBB-4746-93E4-79B44EA7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1DA-93D0-4BE4-A125-30D04762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843D-A5F2-4CD4-9DF5-3ACDFA07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68D6-6BFB-4AD7-9199-8BC1B97C26F5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98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UNIÃO DA CÂMARA TÉCNICA DO PLANO NACIONAL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14800" y="61570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sília, janeiro de 200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637080" y="2637000"/>
            <a:ext cx="2158920" cy="175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43280" y="4797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Verdana"/>
              </a:rPr>
              <a:t>DIRETRIZ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5360" y="1482840"/>
            <a:ext cx="8713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ercebe-se que foram contempladas a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66ff"/>
                </a:solidFill>
                <a:latin typeface="Verdana"/>
              </a:rPr>
              <a:t>Vertentes de Anál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        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nha </a:t>
            </a:r>
            <a:r>
              <a:rPr b="1" i="1" lang="en-GB" sz="1400" spc="-1" strike="noStrike" u="sng">
                <a:solidFill>
                  <a:srgbClr val="333399"/>
                </a:solidFill>
                <a:uFillTx/>
                <a:latin typeface="Arial"/>
                <a:ea typeface="Lucida Sans Unicode"/>
              </a:rPr>
              <a:t>vertical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  <a:ea typeface="Lucida Sans Unicode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questões resultantes da  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ação do âmbito regional para todo o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ís (destacados os temas e questõe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gionais de importância nacional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Vertente Nacional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linha </a:t>
            </a:r>
            <a:r>
              <a:rPr b="1" i="1" lang="en-GB" sz="1400" spc="-1" strike="noStrike" u="sng">
                <a:solidFill>
                  <a:srgbClr val="333399"/>
                </a:solidFill>
                <a:uFillTx/>
                <a:latin typeface="Arial"/>
              </a:rPr>
              <a:t>horizontal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- agrega a análise de temas e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questões de pertinência 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nha </a:t>
            </a:r>
            <a:r>
              <a:rPr b="1" i="1" lang="en-GB" sz="1400" spc="-1" strike="noStrike" u="sng">
                <a:solidFill>
                  <a:srgbClr val="333399"/>
                </a:solidFill>
                <a:uFillTx/>
                <a:latin typeface="Arial"/>
                <a:ea typeface="Lucida Sans Unicode"/>
              </a:rPr>
              <a:t>transversal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  <a:ea typeface="Lucida Sans Unicode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fornece elemento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oltados para a incorporação efetiva do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nicípios ao processo de gestão da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águ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Vertente Regional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emas e questões servirão de subsídio para o desenvolvimento futuro de Planos de Recursos Hídricos de Bacias hidrográficas e de Planos Estaduais de Recursos Hídric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3646440"/>
            <a:ext cx="576360" cy="1079640"/>
          </a:xfrm>
          <a:custGeom>
            <a:avLst/>
            <a:gdLst/>
            <a:ahLst/>
            <a:rect l="l" t="t" r="r" b="b"/>
            <a:pathLst>
              <a:path w="1601" h="3000">
                <a:moveTo>
                  <a:pt x="0" y="597"/>
                </a:moveTo>
                <a:lnTo>
                  <a:pt x="800" y="0"/>
                </a:lnTo>
                <a:lnTo>
                  <a:pt x="1600" y="597"/>
                </a:lnTo>
                <a:lnTo>
                  <a:pt x="1200" y="597"/>
                </a:lnTo>
                <a:lnTo>
                  <a:pt x="1200" y="2401"/>
                </a:lnTo>
                <a:lnTo>
                  <a:pt x="1600" y="2401"/>
                </a:lnTo>
                <a:lnTo>
                  <a:pt x="800" y="2999"/>
                </a:lnTo>
                <a:lnTo>
                  <a:pt x="0" y="2401"/>
                </a:lnTo>
                <a:lnTo>
                  <a:pt x="400" y="2401"/>
                </a:lnTo>
                <a:lnTo>
                  <a:pt x="400" y="597"/>
                </a:lnTo>
                <a:lnTo>
                  <a:pt x="0" y="597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205000"/>
            <a:ext cx="0" cy="28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5011560"/>
            <a:ext cx="12967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2203560"/>
            <a:ext cx="1296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95640" y="3284640"/>
            <a:ext cx="720720" cy="28872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3"/>
                </a:lnTo>
                <a:lnTo>
                  <a:pt x="0" y="603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4076640"/>
            <a:ext cx="720720" cy="28908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2"/>
                </a:lnTo>
                <a:lnTo>
                  <a:pt x="0" y="602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3548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7588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2492280"/>
            <a:ext cx="720720" cy="28908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2"/>
                </a:lnTo>
                <a:lnTo>
                  <a:pt x="0" y="602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1828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, também estão contempladas as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variáveis portadoras de futur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s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invariânci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 a perspectiva de atendimento da </a:t>
            </a:r>
            <a:r>
              <a:rPr b="1" lang="en-US" sz="2000" spc="-1" strike="noStrike">
                <a:solidFill>
                  <a:srgbClr val="669900"/>
                </a:solidFill>
                <a:latin typeface="Verdana"/>
              </a:rPr>
              <a:t>multiplicidade de atores relevantes</a:t>
            </a:r>
            <a:r>
              <a:rPr b="0" lang="en-US" sz="2000" spc="-1" strike="noStrike">
                <a:solidFill>
                  <a:srgbClr val="6699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ais como identificadas no traçado dos cenários prospectivos de desenvolvimento, propiciand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ement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 uma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 implementação do Pl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368520"/>
            <a:ext cx="707724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enfoque principal do PNRH em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diretrizes estratégicas e de abrangência naci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adoção de um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atitude pró-ativ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 não apenas contemplativa, com vistas à “construção do futuro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definição sobre como serão subsidiadas decisões que reduzam incertezas críticas e proporcionem 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condução mais próxima possível do cenário desejáve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perspectiva da gest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omo a consolidação do SINGREH, com suas características e predic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8000" y="981000"/>
            <a:ext cx="896472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rticular-se frente a lógica dos setores usuários, com vistas a que sejam computados,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nas ações e no planejament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todos os custos envolvidos, notadamente os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aspectos sócioambientais e soluções integrada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incorporação 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transversal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 diretrizes e preocupações ambientais e para com os recursos hídricos,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 já na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fase inicial de planejament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inserção orgânica de atores sociai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visando a construção de uma agenda positiva que possa assegurar padrões adequados de disponibilidades hídricas, em qualidade e quantidade, para a atual e futuras geraçõ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superação de mecanismos tradicionais de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ando e controle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incorporando, de modo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coordenado e complementar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formas de 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construção de consensos sociais, instrumentos descentralizados de incentivo econômico e alternativas que promovam a adesão dos usuários a objetivos ambientais e de conservação dos 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articulação intersetorial, em uma perspectiva mais ampla, que atinja o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campo das políticas macroeconômica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que sofrem, no médio e no longo prazo, com custos derivados da deterioração ambiental e das disponibilidades hídr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256760"/>
            <a:ext cx="8569080" cy="45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destaque dos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temas da gestão e do planejament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notadamente quando entram em questão ações regulatórias substantivas, como forma atrativa de justificar, junto à área macroeconômica, bons investimentos em recursos hídr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ações de comunicação socia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visando a disseminação junto aos usuários, da percepção sobre o valor e importância da água para o desenvolvimento econômico e social do paí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apoio de uma adequada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estratégia de implemen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PNRH, para atender as etapas seguintes a sua formulação, como também, a organização de um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sistema de gerenciamento orientado para aferir objetivos finalísticos e resultados (ou produtos) intermediári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que lhes conferem viabilidade, mediante os adequados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indicadores de monitoramento e avali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estabelecimento e detalhamento de como será o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processo de constante atualiz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PN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6912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 Macro-diretrizes do PNR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920" y="13413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atriz de Diretrizes  e de Demandas por Programa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 os elementos que constituem a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o PNRH, propiciam a consolidação de macro-diretrizes, organizadas em cinco conju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2349360"/>
            <a:ext cx="784872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333399"/>
                </a:solidFill>
                <a:uFillTx/>
                <a:latin typeface="Arial"/>
              </a:rPr>
              <a:t>Primeir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iáveis críticas relacionadas com 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nserção do país nos contextos global, latino-americano e caribenh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ara identificação e acompanhamento de demandas sobre produtos que utilizam águ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nteresses geopolí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a gestão de bacias de rios transfronteiriços e fronteiriç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umprimento d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cordos, convenções e tratados internacionai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identificação de fatores endógenos de desenvolvimento, notadamente a localização espacial d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vetores de expansão econôm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erspectiva de um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visão integrada e integradora da gestão de 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onderando os aspectos hidrológicos, ambientais, socioeconômicos e político-institucionais para 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definição de unidades de planejamen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de gestão e de intervenção em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2709720"/>
            <a:ext cx="733680" cy="2303640"/>
          </a:xfrm>
          <a:custGeom>
            <a:avLst/>
            <a:gdLst>
              <a:gd name="textAreaLeft" fmla="*/ 98280 w 733680"/>
              <a:gd name="textAreaRight" fmla="*/ 635400 w 733680"/>
              <a:gd name="textAreaTop" fmla="*/ 403200 h 2303640"/>
              <a:gd name="textAreaBottom" fmla="*/ 167040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2200" y="967320"/>
            <a:ext cx="8642520" cy="54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Segund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próprio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ordenamento instituci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a gestão integrada dos recursos hídricos no Brasil (GIRH), que deve tratar do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odelo instituci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dotado, dos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instrumentos de gest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evistos e de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ações de capacitação e de comunicação soci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que confiram suporte a todos os atores envolvidos e ao funcionamento do Sistema e de suas ferramentas de atu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Terceir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ta das articulações intersetoriais, inter e intra-institucionais, reconhecidamente essenciais para a efetividade da GIRH, contemplando três abordagens principa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ca de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coordenação e convergência de açõ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omo focos mais específicos, em temas que apresentem sombreamento de competências, com interesse para a gestão dos recursos hídric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uso múltiplo e integrado das água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voltadas para a mitigação e solução de problemas;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ordagens setoriais específicas com forte sobreposição com aspectos setoriais que apresentem elevados impactos sobre os recursos hídrico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7440" y="1083240"/>
            <a:ext cx="867564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Quarto conjunto</a:t>
            </a:r>
            <a:r>
              <a:rPr b="1" i="1" lang="en-US" sz="18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perspectiva espaci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definindo unidades geográficas de intervenção, onde os limites não necessariamente coincidem com os de uma bacia hidrográfica,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requerendo ações e atividades ajustadas à natureza e tipologia de problemas regionai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racterísticos e exigindo, por conseqüência, que as linhas de atuação dos programas e subprogramas já propostos, venham a sofrer uma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especializ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eterminada por realidades específ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empla, particularmente,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áreas geográficas com forte apelo simbólic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ncernente às temáticas ambiental e d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, finalmente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Quint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z respeito ao modelo de gerenciamento executivo e de monitoramento e avaliação da implementação do PN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1268280"/>
            <a:ext cx="8964720" cy="4908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Verdana"/>
              </a:rPr>
              <a:t>Roteiro d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. O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Objetivo Geral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 Pl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Definição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Tentativa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 Plano Nacional de Recursos Hídr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Objetivos Estratégico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o Pl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Macro-diretrize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o PNR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8000" y="907920"/>
            <a:ext cx="8856720" cy="228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1. O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 Objetivo Geral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Estabelecer um pacto nacional para a definição de diretrizes e políticas públicas, voltadas para a melhoria da oferta de água, em qualidade e quantidade, gerenciando as demandas e considerando ser a água um elemento estruturante para a implementação das políticas setoriais, sob a ótica do desenvolvimento sustentável e da inclusão soci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3716280"/>
            <a:ext cx="77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Verdana"/>
              </a:rPr>
              <a:t>Os problemas que se colocam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i) como empreender ao processo de formulação de diretrizes que orientem e consubstanciem o pacto nacional do Plano;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ii) sendo o PNRH um dos instrumentos da Política Nacional de Recursos Hídricos, como tratar a relativa antecipação do Plano em relação ao Sistema Nacional de Gerenciamento de Recursos Hídricos (SINGREH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4221000"/>
            <a:ext cx="733320" cy="1935360"/>
          </a:xfrm>
          <a:custGeom>
            <a:avLst/>
            <a:gdLst>
              <a:gd name="textAreaLeft" fmla="*/ 98280 w 733320"/>
              <a:gd name="textAreaRight" fmla="*/ 635040 w 733320"/>
              <a:gd name="textAreaTop" fmla="*/ 338400 h 1935360"/>
              <a:gd name="textAreaBottom" fmla="*/ 1403280 h 193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604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844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ace às questões expostas, dois cuidados metodológicos se apresentam de imedi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4365720"/>
            <a:ext cx="61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...em grande medida, o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Sistema Institucional conformará o PNRH e não o Plano delimitará as possibilidades do Sistema, sem que tal perspectiva implique em limitações ou no congelamento de adaptações progressivas no desenho institucional previsto para o Sistema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270828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a formulação de diretrizes deve guardar estreita coerência com a Política Nacional de Recursos Hídricos;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deve-se buscar a mútua sinergia entre a implementação do Plano e a construção simultânea do SINGREH, ou sej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2565360"/>
            <a:ext cx="863640" cy="792360"/>
          </a:xfrm>
          <a:custGeom>
            <a:avLst/>
            <a:gdLst>
              <a:gd name="textAreaLeft" fmla="*/ 135000 w 863640"/>
              <a:gd name="textAreaRight" fmla="*/ 756000 w 863640"/>
              <a:gd name="textAreaTop" fmla="*/ 198000 h 792360"/>
              <a:gd name="textAreaBottom" fmla="*/ 594360 h 792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3429000"/>
            <a:ext cx="863640" cy="774720"/>
          </a:xfrm>
          <a:custGeom>
            <a:avLst/>
            <a:gdLst>
              <a:gd name="textAreaLeft" fmla="*/ 135000 w 863640"/>
              <a:gd name="textAreaRight" fmla="*/ 756000 w 863640"/>
              <a:gd name="textAreaTop" fmla="*/ 193680 h 774720"/>
              <a:gd name="textAreaBottom" fmla="*/ 581040 h 77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292640"/>
            <a:ext cx="733680" cy="1368360"/>
          </a:xfrm>
          <a:custGeom>
            <a:avLst/>
            <a:gdLst>
              <a:gd name="textAreaLeft" fmla="*/ 98280 w 733680"/>
              <a:gd name="textAreaRight" fmla="*/ 635400 w 73368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218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 que a observância da Política e a edificação do SINGREH sejam empreendidos, o PNRH deve manter características de permanente flexibilida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em outros termos, o Plano não deve ser entendido como um episódio, mas como 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4240" y="4321800"/>
            <a:ext cx="2921040" cy="76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Verdana"/>
              </a:rPr>
              <a:t>PROC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3573360"/>
            <a:ext cx="3887640" cy="1465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sencialmente 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dinâmico, flexível, permanente, participativo e sob uma abordagem integrada e multi-disciplinar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522936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...não obstante a necessidade de contemplar os atributos previstos nos artigos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7º e 8º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d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ei Nacional nº 9.433/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3573360"/>
            <a:ext cx="3240000" cy="72252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722520"/>
              <a:gd name="textAreaBottom" fmla="*/ 722880 h 722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484360" y="5228640"/>
            <a:ext cx="2016360" cy="863640"/>
          </a:xfrm>
          <a:custGeom>
            <a:avLst/>
            <a:gdLst>
              <a:gd name="textAreaLeft" fmla="*/ 0 w 2016360"/>
              <a:gd name="textAreaRight" fmla="*/ 2016720 w 2016360"/>
              <a:gd name="textAreaTop" fmla="*/ -360 h 863640"/>
              <a:gd name="textAreaBottom" fmla="*/ 8636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86320" y="79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000" y="1844640"/>
            <a:ext cx="89643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o que concerne à compatibilidade frente à Política Nacional de Recursos Hídricos, é importante pontu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a gestão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descentralizada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participativa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apenas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sconcentra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mas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scentraliza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fetivame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a descentralização pela via do apoio às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dinâmicas existente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e à construção d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capacidades locais endógena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a cada regi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rincípio d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ubsidiarieda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o fortalecimento do conceito d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federalismo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incorporação de legítim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ç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junto à necessári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bilida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o Pla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a superação positiva e cooperativa de problemas derivados da dupla dominialidade dos corpos hídricos, mediante as devidas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articulações inter-institucionai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ações integrada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8366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701280"/>
            <a:ext cx="856908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efinição Tentativ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do Plano Nacional de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921800" cy="410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o conjunto estratégico de ações e relações interinstitucionais, instrumentos de política, informações e ferramentas de apoio à decisão, ações de comunicação social, fontes de financiamento e, também, intervenções físicas </a:t>
            </a:r>
            <a:r>
              <a:rPr b="0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seletivas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que, ao serem implementadas pela União, </a:t>
            </a:r>
            <a:r>
              <a:rPr b="0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possibilitam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e </a:t>
            </a:r>
            <a:r>
              <a:rPr b="0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potencializam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o equacionamento e as soluções regionais ou locais de problemas relativos aos recursos hídricos e, simultaneamente, estruturam uma </a:t>
            </a:r>
            <a:r>
              <a:rPr b="1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ótica nacional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indispensável ao seu efetivo gerenciamento, respeitadas as diretrizes de descentralização e o princípio da subsidiariedade, como predicados inerentes ao SINGREH que se quer edific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060640"/>
            <a:ext cx="720720" cy="2448000"/>
          </a:xfrm>
          <a:custGeom>
            <a:avLst/>
            <a:gdLst>
              <a:gd name="textAreaLeft" fmla="*/ 96480 w 720720"/>
              <a:gd name="textAreaRight" fmla="*/ 624240 w 720720"/>
              <a:gd name="textAreaTop" fmla="*/ 428400 h 2448000"/>
              <a:gd name="textAreaBottom" fmla="*/ 177480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84600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Objetivos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Estratégicos do 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presentam </a:t>
            </a:r>
            <a:r>
              <a:rPr b="1" i="1" lang="en-US" sz="2000" spc="-1" strike="noStrike">
                <a:solidFill>
                  <a:srgbClr val="0066ff"/>
                </a:solidFill>
                <a:latin typeface="Verdana"/>
              </a:rPr>
              <a:t>o que se pretende alcançar com a implementação do PNR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e orientam a definição das suas estratégias, conformadas em diretrizes, programas e m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emplam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três dimensõe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3789360"/>
            <a:ext cx="698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melhoria das disponibilidades hídricas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, superficiais e subterrâneas, em qualidade e em quanti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1800" spc="-1" strike="noStrike">
                <a:solidFill>
                  <a:srgbClr val="cc3300"/>
                </a:solidFill>
                <a:latin typeface="Arial"/>
              </a:rPr>
              <a:t>redução dos conflitos reais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cc3300"/>
                </a:solidFill>
                <a:latin typeface="Arial"/>
              </a:rPr>
              <a:t>e potenciais de uso da água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omo também, a </a:t>
            </a:r>
            <a:r>
              <a:rPr b="1" i="1" lang="pt-BR" sz="1800" spc="-1" strike="noStrike">
                <a:solidFill>
                  <a:srgbClr val="cc3300"/>
                </a:solidFill>
                <a:latin typeface="Arial"/>
              </a:rPr>
              <a:t>mitigação de efeitos de eventos hidrológicos críticos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 percepção 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da conservação da água como valor socioambiental relevante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3716280"/>
            <a:ext cx="976320" cy="6494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680" y="4651200"/>
            <a:ext cx="975960" cy="649440"/>
          </a:xfrm>
          <a:custGeom>
            <a:avLst/>
            <a:gdLst>
              <a:gd name="textAreaLeft" fmla="*/ 152280 w 975960"/>
              <a:gd name="textAreaRight" fmla="*/ 854280 w 97596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680" y="5587920"/>
            <a:ext cx="975960" cy="649440"/>
          </a:xfrm>
          <a:custGeom>
            <a:avLst/>
            <a:gdLst>
              <a:gd name="textAreaLeft" fmla="*/ 152280 w 975960"/>
              <a:gd name="textAreaRight" fmla="*/ 854280 w 97596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450720" y="13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899640" tIns="-899280" bIns="-899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450720" y="1378080"/>
            <a:ext cx="79992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450720" y="4452840"/>
            <a:ext cx="914400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5950080"/>
            <a:ext cx="89647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  <a:ea typeface="Times New Roman"/>
              </a:rPr>
              <a:t>...que constituem a base para a consolidação dos programas que devem estruturar o Plano Nacional de Recursos Hídricos (PNR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84520" y="1846440"/>
            <a:ext cx="79992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1200240"/>
          <a:ext cx="8567640" cy="4605120"/>
        </p:xfrm>
        <a:graphic>
          <a:graphicData uri="http://schemas.openxmlformats.org/drawingml/2006/table">
            <a:tbl>
              <a:tblPr/>
              <a:tblGrid>
                <a:gridCol w="2070000"/>
                <a:gridCol w="1230480"/>
                <a:gridCol w="3252600"/>
                <a:gridCol w="2014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pectivas de Anál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ropiciam a sistematização de diretrizes, recomendações e princípios metodológicos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... </a:t>
                      </a: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agrupadas segundo temas de interesse do Pl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duzidas em possíve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Macro-diretriz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Linhas Programá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itos e Políticas Regentes das Ações do PN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spacial e Cenários Prospectivos de Desenvolvi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za e/ou tipologia dos Problemas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xto Intersetorial da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ras Abordagens Temá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627280" y="1844640"/>
            <a:ext cx="647640" cy="3816360"/>
          </a:xfrm>
          <a:prstGeom prst="rightArrowCallout">
            <a:avLst>
              <a:gd name="adj1" fmla="val 147331"/>
              <a:gd name="adj2" fmla="val 147318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4174560" y="2744640"/>
            <a:ext cx="2232000" cy="172692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594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9:19:56Z</dcterms:created>
  <dc:creator>Fátima</dc:creator>
  <dc:description/>
  <dc:language>en-US</dc:language>
  <cp:lastModifiedBy>srh</cp:lastModifiedBy>
  <dcterms:modified xsi:type="dcterms:W3CDTF">2006-01-14T01:29:11Z</dcterms:modified>
  <cp:revision>158</cp:revision>
  <dc:subject/>
  <dc:title>Slide 1</dc:title>
</cp:coreProperties>
</file>