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68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2680" spc="-1" strike="noStrike">
                <a:solidFill>
                  <a:srgbClr val="000000"/>
                </a:solidFill>
                <a:latin typeface="Arial"/>
                <a:ea typeface="Lucida Sans Unicode"/>
              </a:rPr>
              <a:t>Representantes na Oficina da Sociedade Civil</a:t>
            </a:r>
          </a:p>
        </c:rich>
      </c:tx>
      <c:layout>
        <c:manualLayout>
          <c:xMode val="edge"/>
          <c:yMode val="edge"/>
          <c:x val="0.0842728175888731"/>
          <c:y val="0.01345931615797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53431817200121"/>
          <c:y val="0.132010060498946"/>
          <c:w val="0.823592933350611"/>
          <c:h val="0.8474610835429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E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Pt>
            <c:idx val="1"/>
            <c:invertIfNegative val="0"/>
            <c:spPr>
              <a:solidFill>
                <a:srgbClr val="993366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invertIfNegative val="0"/>
            <c:spPr>
              <a:solidFill>
                <a:srgbClr val="33cc66"/>
              </a:solidFill>
              <a:ln w="0">
                <a:solidFill>
                  <a:srgbClr val="000000"/>
                </a:solidFill>
              </a:ln>
            </c:spPr>
          </c:dPt>
          <c:dPt>
            <c:idx val="3"/>
            <c:invertIfNegative val="0"/>
            <c:spPr>
              <a:solidFill>
                <a:srgbClr val="ffffcc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13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3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32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32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ER</c:v>
                </c:pt>
                <c:pt idx="1">
                  <c:v>CNRH / Câmara Técnica</c:v>
                </c:pt>
                <c:pt idx="2">
                  <c:v>FBOMS</c:v>
                </c:pt>
                <c:pt idx="3">
                  <c:v>Outro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2</c:v>
                </c:pt>
                <c:pt idx="1">
                  <c:v>13</c:v>
                </c:pt>
                <c:pt idx="2">
                  <c:v>22</c:v>
                </c:pt>
                <c:pt idx="3">
                  <c:v>27</c:v>
                </c:pt>
              </c:numCache>
            </c:numRef>
          </c:val>
        </c:ser>
        <c:gapWidth val="100"/>
        <c:overlap val="0"/>
        <c:axId val="63825308"/>
        <c:axId val="61286190"/>
      </c:barChart>
      <c:catAx>
        <c:axId val="63825308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187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  <a:r>
                  <a:rPr b="0" sz="187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Representação</a:t>
                </a:r>
              </a:p>
            </c:rich>
          </c:tx>
          <c:layout>
            <c:manualLayout>
              <c:xMode val="edge"/>
              <c:yMode val="edge"/>
              <c:x val="0.408319295062848"/>
              <c:y val="0.913941948202026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5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61286190"/>
        <c:crossesAt val="0"/>
        <c:auto val="1"/>
        <c:lblAlgn val="ctr"/>
        <c:lblOffset val="100"/>
        <c:noMultiLvlLbl val="0"/>
      </c:catAx>
      <c:valAx>
        <c:axId val="61286190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0" sz="187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  <a:r>
                  <a:rPr b="0" sz="187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Nº de Participantes</a:t>
                </a:r>
              </a:p>
            </c:rich>
          </c:tx>
          <c:layout>
            <c:manualLayout>
              <c:xMode val="edge"/>
              <c:yMode val="edge"/>
              <c:x val="0.0425035635609693"/>
              <c:y val="0.270817755421113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5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63825308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e6e6e6"/>
    </a:solidFill>
    <a:ln w="72000">
      <a:solidFill>
        <a:srgbClr val="000000"/>
      </a:solidFill>
      <a:round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Título principal</a:t>
            </a:r>
          </a:p>
        </c:rich>
      </c:tx>
      <c:layout>
        <c:manualLayout>
          <c:xMode val="edge"/>
          <c:yMode val="edge"/>
          <c:x val="0.313723091976517"/>
          <c:y val="0.0195914964568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5694716242661"/>
          <c:y val="0.132694178129776"/>
          <c:w val="0.753424657534247"/>
          <c:h val="0.84688064471307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na 3 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3336"/>
        <c:axId val="14100190"/>
      </c:barChart>
      <c:catAx>
        <c:axId val="4103336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14100190"/>
        <c:crossesAt val="0"/>
        <c:auto val="1"/>
        <c:lblAlgn val="ctr"/>
        <c:lblOffset val="100"/>
        <c:noMultiLvlLbl val="0"/>
      </c:catAx>
      <c:valAx>
        <c:axId val="14100190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4103336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12255381604697"/>
          <c:y val="0.428928720300125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600" spc="-1" strike="noStrike">
              <a:solidFill>
                <a:srgbClr val="000000"/>
              </a:solidFill>
              <a:latin typeface="Arial"/>
              <a:ea typeface="Lucida Sans Unicode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68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1" sz="268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mentos da Sociedade Civil</a:t>
            </a:r>
          </a:p>
        </c:rich>
      </c:tx>
      <c:layout>
        <c:manualLayout>
          <c:xMode val="edge"/>
          <c:yMode val="edge"/>
          <c:x val="0.222516450008024"/>
          <c:y val="0.019607843137254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07414540202"/>
          <c:y val="0.133536173089926"/>
          <c:w val="0.959998395121168"/>
          <c:h val="0.84651791751183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categories</c:f>
              <c:strCache>
                <c:ptCount val="1"/>
                <c:pt idx="0">
                  <c:v>Entidades Técnico Científica Organizações Ambientais e Movimentos Sociais Governo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Pt>
            <c:idx val="1"/>
            <c:invertIfNegative val="0"/>
            <c:spPr>
              <a:solidFill>
                <a:srgbClr val="94476b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invertIfNegative val="0"/>
            <c:spPr>
              <a:solidFill>
                <a:srgbClr val="33cc66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123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23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23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label 0</c:f>
              <c:strCache>
                <c:ptCount val="1"/>
                <c:pt idx="0">
                  <c:v>Linha 18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53</c:v>
                </c:pt>
                <c:pt idx="2">
                  <c:v>22</c:v>
                </c:pt>
              </c:numCache>
            </c:numRef>
          </c:val>
        </c:ser>
        <c:gapWidth val="100"/>
        <c:overlap val="0"/>
        <c:axId val="40678668"/>
        <c:axId val="76352654"/>
      </c:barChart>
      <c:catAx>
        <c:axId val="40678668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1" sz="186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  <a:r>
                  <a:rPr b="1" sz="186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Segmentos</a:t>
                </a:r>
              </a:p>
            </c:rich>
          </c:tx>
          <c:layout>
            <c:manualLayout>
              <c:xMode val="edge"/>
              <c:yMode val="edge"/>
              <c:x val="0.398330926015086"/>
              <c:y val="0.922177146720757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44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76352654"/>
        <c:crossesAt val="0"/>
        <c:auto val="1"/>
        <c:lblAlgn val="ctr"/>
        <c:lblOffset val="100"/>
        <c:noMultiLvlLbl val="0"/>
      </c:catAx>
      <c:valAx>
        <c:axId val="76352654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title>
          <c:tx>
            <c:rich>
              <a:bodyPr rot="-5400000"/>
              <a:lstStyle/>
              <a:p>
                <a:pPr>
                  <a:defRPr b="1" sz="186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  <a:r>
                  <a:rPr b="1" sz="1860" spc="-1" strike="noStrike">
                    <a:solidFill>
                      <a:srgbClr val="000000"/>
                    </a:solidFill>
                    <a:latin typeface="Arial"/>
                    <a:ea typeface="Lucida Sans Unicode"/>
                  </a:rPr>
                  <a:t>Nº Participantes</a:t>
                </a:r>
              </a:p>
            </c:rich>
          </c:tx>
          <c:layout>
            <c:manualLayout>
              <c:xMode val="edge"/>
              <c:yMode val="edge"/>
              <c:x val="0.019940619483229"/>
              <c:y val="0.261866125760649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44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40678668"/>
        <c:crosses val="min"/>
        <c:crossBetween val="between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solidFill>
      <a:srgbClr val="e6e6e6"/>
    </a:solidFill>
    <a:ln w="72000">
      <a:solidFill>
        <a:srgbClr val="000000"/>
      </a:solidFill>
      <a:round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Título principal</a:t>
            </a:r>
          </a:p>
        </c:rich>
      </c:tx>
      <c:layout>
        <c:manualLayout>
          <c:xMode val="edge"/>
          <c:yMode val="edge"/>
          <c:x val="0.313723091976517"/>
          <c:y val="0.0195914964568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5694716242661"/>
          <c:y val="0.132694178129776"/>
          <c:w val="0.753424657534247"/>
          <c:h val="0.84688064471307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na 3 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93126"/>
        <c:axId val="13802964"/>
      </c:barChart>
      <c:catAx>
        <c:axId val="64693126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13802964"/>
        <c:crossesAt val="0"/>
        <c:auto val="1"/>
        <c:lblAlgn val="ctr"/>
        <c:lblOffset val="100"/>
        <c:noMultiLvlLbl val="0"/>
      </c:catAx>
      <c:valAx>
        <c:axId val="13802964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64693126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12255381604697"/>
          <c:y val="0.428928720300125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600" spc="-1" strike="noStrike">
              <a:solidFill>
                <a:srgbClr val="000000"/>
              </a:solidFill>
              <a:latin typeface="Arial"/>
              <a:ea typeface="Lucida Sans Unicode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Título principal</a:t>
            </a:r>
          </a:p>
        </c:rich>
      </c:tx>
      <c:layout>
        <c:manualLayout>
          <c:xMode val="edge"/>
          <c:yMode val="edge"/>
          <c:x val="0.313723091976517"/>
          <c:y val="0.0195914964568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5694716242661"/>
          <c:y val="0.132694178129776"/>
          <c:w val="0.753424657534247"/>
          <c:h val="0.84688064471307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1 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2 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na 3 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Linha 1</c:v>
                </c:pt>
                <c:pt idx="1">
                  <c:v>Linha 2</c:v>
                </c:pt>
                <c:pt idx="2">
                  <c:v>Linha 3</c:v>
                </c:pt>
                <c:pt idx="3">
                  <c:v>Linh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41526"/>
        <c:axId val="73392382"/>
      </c:barChart>
      <c:catAx>
        <c:axId val="47241526"/>
        <c:scaling>
          <c:orientation val="minMax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73392382"/>
        <c:crossesAt val="0"/>
        <c:auto val="1"/>
        <c:lblAlgn val="ctr"/>
        <c:lblOffset val="100"/>
        <c:noMultiLvlLbl val="0"/>
      </c:catAx>
      <c:valAx>
        <c:axId val="73392382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70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</a:p>
        </c:txPr>
        <c:crossAx val="47241526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812255381604697"/>
          <c:y val="0.428928720300125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600" spc="-1" strike="noStrike">
              <a:solidFill>
                <a:srgbClr val="000000"/>
              </a:solidFill>
              <a:latin typeface="Arial"/>
              <a:ea typeface="Lucida Sans Unicode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370" spc="-1" strike="noStrike">
                <a:solidFill>
                  <a:srgbClr val="000000"/>
                </a:solidFill>
                <a:latin typeface="Arial"/>
                <a:ea typeface="Lucida Sans Unicode"/>
              </a:defRPr>
            </a:pPr>
            <a:r>
              <a:rPr b="0" sz="2370" spc="-1" strike="noStrike">
                <a:solidFill>
                  <a:srgbClr val="000000"/>
                </a:solidFill>
                <a:latin typeface="Arial"/>
                <a:ea typeface="Lucida Sans Unicode"/>
              </a:rPr>
              <a:t>Gênero na Oficina da Sociedade Civil</a:t>
            </a:r>
          </a:p>
        </c:rich>
      </c:tx>
      <c:layout>
        <c:manualLayout>
          <c:xMode val="edge"/>
          <c:yMode val="edge"/>
          <c:x val="0.151825467497774"/>
          <c:y val="0.01955199753675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"/>
          <c:y val="0.0110845970287122"/>
          <c:w val="1"/>
          <c:h val="0.988915402971288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Linha 18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explosion val="0"/>
          <c:dPt>
            <c:idx val="0"/>
            <c:explosion val="10"/>
            <c:spPr>
              <a:solidFill>
                <a:srgbClr val="9999ff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spPr>
              <a:solidFill>
                <a:srgbClr val="ff00ff"/>
              </a:solidFill>
              <a:ln w="0">
                <a:solidFill>
                  <a:srgbClr val="000000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defRPr>
                  </a:pPr>
                </a:p>
              </c:txPr>
              <c:showLegendKey val="1"/>
              <c:showVal val="0"/>
              <c:showCatName val="0"/>
              <c:showSerName val="0"/>
              <c:showPercent val="1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1" sz="10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defRPr>
                  </a:pPr>
                </a:p>
              </c:txPr>
              <c:showLegendKey val="1"/>
              <c:showVal val="0"/>
              <c:showCatName val="0"/>
              <c:showSerName val="0"/>
              <c:showPercent val="1"/>
              <c:separator> </c:separator>
            </c:dLbl>
            <c:txPr>
              <a:bodyPr wrap="none"/>
              <a:lstStyle/>
              <a:p>
                <a:pPr>
                  <a:defRPr b="0" sz="1370" spc="-1" strike="noStrike">
                    <a:solidFill>
                      <a:srgbClr val="000000"/>
                    </a:solidFill>
                    <a:latin typeface="Arial"/>
                    <a:ea typeface="Lucida Sans Unicode"/>
                  </a:defRPr>
                </a:pPr>
              </a:p>
            </c:txPr>
            <c:showLegendKey val="0"/>
            <c:showVal val="0"/>
            <c:showCatName val="1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Coluna C</c:v>
                </c:pt>
                <c:pt idx="1">
                  <c:v>Coluna D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67</c:v>
                </c:pt>
                <c:pt idx="1">
                  <c:v>37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0"/>
  </c:chart>
  <c:spPr>
    <a:solidFill>
      <a:srgbClr val="e6e6e6"/>
    </a:solidFill>
    <a:ln w="72000">
      <a:solidFill>
        <a:srgbClr val="000000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3600" y="190656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4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768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3600" y="4156200"/>
            <a:ext cx="25102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400" y="495000"/>
            <a:ext cx="779616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415620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906560"/>
            <a:ext cx="380448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400" y="4156200"/>
            <a:ext cx="7796160" cy="20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7961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616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chart" Target="../charts/chart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30240" y="1666800"/>
            <a:ext cx="5550120" cy="2900880"/>
            <a:chOff x="1830240" y="1666800"/>
            <a:chExt cx="5550120" cy="2900880"/>
          </a:xfrm>
        </p:grpSpPr>
        <p:sp>
          <p:nvSpPr>
            <p:cNvPr id="43" name=""/>
            <p:cNvSpPr/>
            <p:nvPr/>
          </p:nvSpPr>
          <p:spPr>
            <a:xfrm>
              <a:off x="1830240" y="1666800"/>
              <a:ext cx="5550120" cy="2448000"/>
            </a:xfrm>
            <a:prstGeom prst="roundRect">
              <a:avLst>
                <a:gd name="adj" fmla="val 6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30240" y="1666800"/>
              <a:ext cx="5550120" cy="29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Ministério do Meio Ambiente</a:t>
              </a:r>
              <a:br>
                <a:rPr sz="2800"/>
              </a:br>
              <a:br>
                <a:rPr sz="2800"/>
              </a:b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Secretaria de Recursos Hídricos  </a:t>
              </a:r>
              <a:br>
                <a:rPr sz="2800"/>
              </a:br>
              <a:br>
                <a:rPr sz="2800"/>
              </a:b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SRH/MMA </a:t>
              </a:r>
              <a:br>
                <a:rPr sz="2800"/>
              </a:b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2822400" y="7232760"/>
          <a:ext cx="2879640" cy="25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173240" y="1635120"/>
          <a:ext cx="6765840" cy="4168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61" name=""/>
          <p:cNvSpPr/>
          <p:nvPr/>
        </p:nvSpPr>
        <p:spPr>
          <a:xfrm>
            <a:off x="5992920" y="368460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ULHE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57280" y="393696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OM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946240" y="2987640"/>
          <a:ext cx="3251520" cy="8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6240" y="2987640"/>
                    <a:ext cx="32515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06200" y="920880"/>
          <a:ext cx="8877600" cy="565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" y="920880"/>
                    <a:ext cx="88776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93680" y="1782360"/>
            <a:ext cx="8361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cializ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formações referentes ao processo de construção do PNRH e sobre o  SINGRE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otencializ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participação da sociedade civil no processo de construção do PNRH mediante o fortalecimento da representação dos vários atores soc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dentific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s principais problemas e potencialidades das 12 regiões hidrográficas do País no que se refere ao SINGREH, ao PNRH e à Água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evant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bsídios para a construção do PNR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3760" y="42372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Resultados Esp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99880" y="1393560"/>
            <a:ext cx="84852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Articulação dos representantes da sociedade civil no Conselho Nacional de Recursos Hídricos, na CT-PNRH e nas CERs com os demais atores sociai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Mobilização dos participantes para atuar no processo de elaboração do PNRH a partir das instâncias de participação previstas no SINGRE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laboração de uma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Agenda da Sociedade Civil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para o processo de construção do PNR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Identificação de sugestões para o fortalecimento do SINGREH e do processo de construção PNRH;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istematização dos aspectos relevantes relacionados aos recursos hídricos das 12 regiões hidrográficas brasileiras.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Resultados Alcançados (1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29920" y="1774800"/>
            <a:ext cx="780732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ncontro e articulação dos representantes da sociedade civil nas diferentes instâncias colegiadas que deverão debater o PNRH – CNRH, CT-PNRH e C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tinuidade e ampliação do processo contínuo de mobilização da sociedade na construção do PNR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vantamento de lacunas e aspectos relevantes para enriquecer o processo de mobilização social no âmbito do PNR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gestões concretas para o fortalecimento do SINGREH,  a partir do incremento da prática da representativ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Resultados Alcançado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635120"/>
            <a:ext cx="844848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Aprofundamento na discussão sobre a participação no âmbito da construção de políticas públicas. Foram levantados aspectos genéricos da discussão tendo como foco a questão </a:t>
            </a: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da participação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, extrapolando a especificidade do SINGRE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Identificação, para cada uma das 12 regiões hidrográficas, dos seguintes po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- aspectos relevantes sobre a questão da águ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- principais desafios para a implementação do SINGRE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- estratégia dos representantes da sociedade civil para dar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eqüência ao processo de mobilização para a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strução do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PNRH e para a consolidação do SINGRE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53520" y="1994040"/>
            <a:ext cx="8642520" cy="39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ara apresentação dos resultados, foram identificados comuns exemplos a partir dos trabalhos dos grupos, para o tema -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incipais desafios para a implementação do SINGRE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á apresentado, também, um exemplo de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genda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m a 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stratégia dos representantes da sociedade civil para dar seqüência ao processo de mobilização para a construção do PNRH e para a consolidação do SINGRE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1960" indent="0" algn="ctr">
              <a:lnSpc>
                <a:spcPct val="93000"/>
              </a:lnSpc>
              <a:buNone/>
              <a:tabLst>
                <a:tab algn="l" pos="0"/>
                <a:tab algn="l" pos="56196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47680" y="1634760"/>
            <a:ext cx="8431200" cy="46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Principais desafios para a implementação do SINGRE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mentar o processo de participação social de forma comprometida, através do empoderamento da sociedade civil e garantindo sua presença na definição da aplicação dos investimentos para os serviços e obras de recursos hídricos e de mei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or eqüidade de força nas instâncias de participação do SINGREH, reforçando a descentralização da tomada de decisão, através da redefinição dos critérios de representatividade nos conselhos (nacional e estadual), tornado-os mais deliberativos e paritári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1960" indent="0" algn="ctr">
              <a:lnSpc>
                <a:spcPct val="93000"/>
              </a:lnSpc>
              <a:buNone/>
              <a:tabLst>
                <a:tab algn="l" pos="0"/>
                <a:tab algn="l" pos="56196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95120" y="1600200"/>
            <a:ext cx="841248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Principais desafios para a implementação do SINGREH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;(cont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ar um processo de comunicação com foco na forma de apresentação, processamento e retorno da informação, buscando clareza e linguagem acessível para tod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cializar dados e informações referentes à gestão de Recursos Hídricos e do Meio Ambi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imular implantação dos comitês de baci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rantir que os recursos oriundos da cobrança sejam revertidos para gestão de recursos hídricos e do meio ambi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1960" indent="0" algn="ctr">
              <a:lnSpc>
                <a:spcPct val="93000"/>
              </a:lnSpc>
              <a:buNone/>
              <a:tabLst>
                <a:tab algn="l" pos="0"/>
                <a:tab algn="l" pos="56196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2600" y="1447560"/>
            <a:ext cx="8570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Principais desafios para a implementação do SINGREH;(cont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talecer articulação entre o Sistema Nacional e Estaduais de Recursos Hídricos, bem como entre o CNRH, os CERHs e os Comitês de Bacia Hidrográ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rmonizar, compatibilizar e integrar as ações governamentais nos vários níveis e setores, transpondo a incompatibilidade aparente da estrutura da Política Nacional de recursos hídricos com o quadro administrativo brasil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iar estratégias para a sustentabilidade financeira do SINGRE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8280" y="1730160"/>
            <a:ext cx="8466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icina Nacional da Sociedade Civil n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Ampliando o Debate em Torno das Águas d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17 a 19 de fevereiro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ados Prelimi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61960" indent="0" algn="ctr">
              <a:lnSpc>
                <a:spcPct val="93000"/>
              </a:lnSpc>
              <a:buNone/>
              <a:tabLst>
                <a:tab algn="l" pos="0"/>
                <a:tab algn="l" pos="561960"/>
                <a:tab algn="l" pos="1009800"/>
                <a:tab algn="l" pos="1459080"/>
                <a:tab algn="l" pos="1908000"/>
                <a:tab algn="l" pos="2357280"/>
                <a:tab algn="l" pos="2806560"/>
                <a:tab algn="l" pos="3255840"/>
                <a:tab algn="l" pos="3705120"/>
                <a:tab algn="l" pos="4154400"/>
                <a:tab algn="l" pos="4603680"/>
                <a:tab algn="l" pos="5052960"/>
                <a:tab algn="l" pos="5502240"/>
                <a:tab algn="l" pos="5951520"/>
                <a:tab algn="l" pos="6400800"/>
                <a:tab algn="l" pos="6850080"/>
                <a:tab algn="l" pos="7299360"/>
                <a:tab algn="l" pos="7748640"/>
                <a:tab algn="l" pos="8197920"/>
                <a:tab algn="l" pos="8647200"/>
                <a:tab algn="l" pos="909648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Resultados Alcançados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Exemplo de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8840" y="10065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6240" y="2187360"/>
            <a:ext cx="8361360" cy="31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vantar subsídios para auxiliar no estabelecimento dos cenários para os recursos hídricos, e de diretrizes, metas e programas pelo PNRH com base no planejamento dos segmentos usuários, tanto públicos como priv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s Especí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4960" y="1476000"/>
            <a:ext cx="8361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ve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s participantes em relação ao processo estabelecido para a construção 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NRH mediante a socialização das informações referente ao mesmo e ao SINGRE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-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pli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participação do segmento usuário no processo de construção do PNR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nte o fortalecimento da representação dos vários atores soc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dentific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s principais problemas e potencialidades das 12 regiões hidrográficas  do País no que se refere ao SINGREH, e à Á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5960" y="30168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s Específico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200" y="1147320"/>
            <a:ext cx="8933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evant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ubsídios para a construção do PNRH, quais sej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identificação dos principais fatores relacionados 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água que interferem na dinâmica dos setores usu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icação dos fatores ambientais, tecnológico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ítico-sociais, legais e macro-econômicos que estã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correndo e que deverão apontar alteraçõ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tivas no comportamento dos set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identificação de experiências de compatibilização 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os de recursos hídricos bem sucedida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 outros tópicos julgados relevantes pelos seto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uários da á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3760" y="1341000"/>
            <a:ext cx="78087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il dos Participa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08120" y="1251000"/>
          <a:ext cx="7818480" cy="4782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-2822400" y="7232760"/>
          <a:ext cx="2879640" cy="25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85840" y="1174680"/>
          <a:ext cx="8462880" cy="4816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-2822400" y="7232760"/>
          <a:ext cx="2879640" cy="25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28600" y="882720"/>
          <a:ext cx="9794880" cy="6018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82720"/>
                    <a:ext cx="979488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