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1040" y="495000"/>
            <a:ext cx="779940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7994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71040" y="4158000"/>
            <a:ext cx="77994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71040" y="495000"/>
            <a:ext cx="779940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592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7760" y="1906560"/>
            <a:ext cx="380592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71040" y="4158000"/>
            <a:ext cx="380592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7760" y="4158000"/>
            <a:ext cx="380592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1040" y="495000"/>
            <a:ext cx="779940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25110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8040" y="1906560"/>
            <a:ext cx="25110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5040" y="1906560"/>
            <a:ext cx="25110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71040" y="4158000"/>
            <a:ext cx="25110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8040" y="4158000"/>
            <a:ext cx="25110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5040" y="4158000"/>
            <a:ext cx="25110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71040" y="495000"/>
            <a:ext cx="779940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71040" y="1906560"/>
            <a:ext cx="77994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71040" y="495000"/>
            <a:ext cx="779940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7994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1040" y="495000"/>
            <a:ext cx="779940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592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7760" y="1906560"/>
            <a:ext cx="380592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1040" y="495000"/>
            <a:ext cx="779940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71040" y="495000"/>
            <a:ext cx="7799400" cy="59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1040" y="495000"/>
            <a:ext cx="779940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592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760" y="1906560"/>
            <a:ext cx="380592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71040" y="4158000"/>
            <a:ext cx="380592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1040" y="495000"/>
            <a:ext cx="779940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592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760" y="1906560"/>
            <a:ext cx="380592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7760" y="4158000"/>
            <a:ext cx="380592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1040" y="495000"/>
            <a:ext cx="779940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592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7760" y="1906560"/>
            <a:ext cx="380592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71040" y="4158000"/>
            <a:ext cx="779940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428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-19080" y="6647040"/>
            <a:ext cx="9182160" cy="23796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1549440" y="0"/>
            <a:ext cx="2878200" cy="62532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5"/>
          <a:stretch/>
        </p:blipFill>
        <p:spPr>
          <a:xfrm>
            <a:off x="324000" y="6647040"/>
            <a:ext cx="2841480" cy="239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71040" y="495000"/>
            <a:ext cx="779940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71040" y="1906560"/>
            <a:ext cx="77994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99520" y="1142640"/>
            <a:ext cx="8466120" cy="48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2112"/>
              </a:spcBef>
              <a:spcAft>
                <a:spcPts val="1063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ficina Nacional dos Usuários da Águ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2112"/>
              </a:spcBef>
              <a:spcAft>
                <a:spcPts val="1063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2112"/>
              </a:spcBef>
              <a:spcAft>
                <a:spcPts val="1063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Ampliando o Debate em Torno das Águas do Bras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112"/>
              </a:spcBef>
              <a:spcAft>
                <a:spcPts val="1063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112"/>
              </a:spcBef>
              <a:spcAft>
                <a:spcPts val="1063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posta  de Estrutu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112"/>
              </a:spcBef>
              <a:spcAft>
                <a:spcPts val="1063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8840" y="1006560"/>
            <a:ext cx="780732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 Narrow"/>
                <a:ea typeface="Lucida Sans Unicode"/>
              </a:rPr>
              <a:t>Objetivo G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46240" y="2187360"/>
            <a:ext cx="8361360" cy="31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Levantar subsídios para auxiliar no estabelecimento dos cenários para os recursos hídricos, e de diretrizes, metas e programas pelo PNRH com base no planejamento dos segmentos usuários, tanto públicos como priv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1040" y="495360"/>
            <a:ext cx="780732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 Narrow"/>
                <a:ea typeface="Lucida Sans Unicode"/>
              </a:rPr>
              <a:t>Objetivos Específic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64960" y="1476000"/>
            <a:ext cx="83613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-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ivela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s participantes em relação ao processo estabelecido para a construção d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NRH mediante a socialização das informações referente ao mesmo e ao SINGRE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-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mplia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 participação do segmento usuário no processo de construção do PNRH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diante o fortalecimento da representação dos vários atores sociai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-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Identifica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s principais problemas e potencialidades das 12 regiões hidrográficas  do País no que se refere ao SINGREH, e à Águ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05960" y="301680"/>
            <a:ext cx="780732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 Narrow"/>
                <a:ea typeface="Lucida Sans Unicode"/>
              </a:rPr>
              <a:t>Objetivos Específicos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200" y="1147320"/>
            <a:ext cx="893304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 -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Levanta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ubsídios para a construção do PNRH, quais sej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) identificação dos principais fatores relacionados à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água que interferem na dinâmica dos setores usuári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) identificação dos fatores ambientais, tecnológicos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lítico-sociais, legais e macro-econômicos que estã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correndo e que deverão apontar alteraçõ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ignificativas no comportamento dos setor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) identificação de experiências de compatibilização d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sos de recursos hídricos bem sucedidas;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)  outros tópicos julgados relevantes pelos setor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suários da águ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