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516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96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516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96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71040" y="490320"/>
            <a:ext cx="779148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0516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396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710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0516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396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040" y="490320"/>
            <a:ext cx="779148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2664000"/>
            <a:chOff x="0" y="0"/>
            <a:chExt cx="9128160" cy="2664000"/>
          </a:xfrm>
        </p:grpSpPr>
        <p:graphicFrame>
          <p:nvGraphicFramePr>
            <p:cNvPr id="1" name=""/>
            <p:cNvGraphicFramePr/>
            <p:nvPr/>
          </p:nvGraphicFramePr>
          <p:xfrm>
            <a:off x="0" y="0"/>
            <a:ext cx="912816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9128160" cy="26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7147080" y="836640"/>
              <a:ext cx="198108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609480" y="836640"/>
              <a:ext cx="604044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5400" indent="-268200">
              <a:spcBef>
                <a:spcPts val="799"/>
              </a:spcBef>
              <a:buClr>
                <a:srgbClr val="000099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708360" y="1828800"/>
            <a:ext cx="44640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0099"/>
                </a:solidFill>
                <a:latin typeface="Times New Roman"/>
              </a:rPr>
              <a:t>MINISTÉRIO DO ME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0099"/>
                </a:solidFill>
                <a:latin typeface="Times New Roman"/>
              </a:rPr>
              <a:t>Secretaria de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0099"/>
                </a:solidFill>
                <a:latin typeface="Times New Roman"/>
              </a:rPr>
              <a:t>Plano Nacional de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737080" cy="228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3886200"/>
            <a:ext cx="806436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36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NCURSO PÚBLICO PARA CONTRATAÇÃO DE CONSUL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GB" sz="2800" spc="-1" strike="noStrike">
                <a:solidFill>
                  <a:srgbClr val="280099"/>
                </a:solidFill>
                <a:latin typeface="Times New Roman"/>
              </a:rPr>
              <a:t>Projeto BRA/OEA/01/002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Brasília - Março  d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74320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429000"/>
            <a:ext cx="784836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tar, pelo Programa BRA/OEA/01/002, técnicos especialistas para desenvolverem estudos em 4 Regiões Hidrográficas (Amazônica, Tocantins-Araguaia, Parnaíba e Paraná), com a finalidade de subsidiar a elaboração do Plano Nacional de Recursos Hídricos –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828800"/>
            <a:ext cx="7772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7c80"/>
                </a:solidFill>
                <a:latin typeface="Times New Roman"/>
              </a:rPr>
              <a:t>SEGUNDA PUBL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3048120"/>
            <a:ext cx="792000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85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Jornal Correio Braziliense - em 03/03/20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Jornal de Tocantins - em 04/03/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Jornal do Estado do Paraná - em 04/03/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3300"/>
                </a:solidFill>
                <a:latin typeface="Times New Roman"/>
              </a:rPr>
              <a:t>Site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htt//pnrh-cnrh-srh.gov.b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L</a:t>
            </a:r>
            <a:r>
              <a:rPr b="1" i="1" lang="en-GB" sz="2000" spc="-1" strike="noStrike">
                <a:solidFill>
                  <a:srgbClr val="003300"/>
                </a:solidFill>
                <a:latin typeface="Times New Roman"/>
              </a:rPr>
              <a:t>ista de discussão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da Associação Brasileira de Recursos Hídricos - AB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Comunicação com as CE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36232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DIVULGAÇÃO DO ED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3440" y="2252520"/>
            <a:ext cx="814716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7 (setenta e sete) técnicos especialistas enviaram seus currículos.</a:t>
            </a:r>
            <a:br>
              <a:rPr sz="2000"/>
            </a:b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 1º Fase:  avaliação da documentação -  38 (trinta e oito) candidatos não foram classif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 2º Fase: avaliação dos requisitos básicos - 5 (cinco) candidatos não foram classif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º Fase: análise curricular conforme diretrizes estabelecidas no ed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7652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ÁLISE DOS CURR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06440" y="2057400"/>
            <a:ext cx="844848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87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AMAZÔ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ziano Pantoja Filizola Júnior - 92,6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ARAGUAIA- TOCANT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izete José Tokarski - 89,8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PARNAÍ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sé Ribamar da Costa Silva - 77,6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PARANÁ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é Luiz Bonacin Silva - 89,8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46844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ESULTAD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295280" y="1895400"/>
            <a:ext cx="6782040" cy="397080"/>
            <a:chOff x="1295280" y="1895400"/>
            <a:chExt cx="6782040" cy="397080"/>
          </a:xfrm>
        </p:grpSpPr>
        <p:sp>
          <p:nvSpPr>
            <p:cNvPr id="109" name=""/>
            <p:cNvSpPr/>
            <p:nvPr/>
          </p:nvSpPr>
          <p:spPr>
            <a:xfrm>
              <a:off x="1295280" y="1905120"/>
              <a:ext cx="6782040" cy="3776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1895400"/>
              <a:ext cx="6782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00"/>
                  </a:solidFill>
                  <a:latin typeface="Times New Roman"/>
                </a:rPr>
                <a:t>DIVULGAÇÃO DOS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1400" y="2819520"/>
            <a:ext cx="7793280" cy="3390840"/>
            <a:chOff x="671400" y="2819520"/>
            <a:chExt cx="7793280" cy="3390840"/>
          </a:xfrm>
        </p:grpSpPr>
        <p:sp>
          <p:nvSpPr>
            <p:cNvPr id="112" name=""/>
            <p:cNvSpPr/>
            <p:nvPr/>
          </p:nvSpPr>
          <p:spPr>
            <a:xfrm>
              <a:off x="671400" y="2819520"/>
              <a:ext cx="7793280" cy="339084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400" y="2819520"/>
              <a:ext cx="7793280" cy="23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25440" indent="-325440" algn="just">
                <a:lnSpc>
                  <a:spcPct val="95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46040"/>
                  <a:tab algn="l" pos="895320"/>
                  <a:tab algn="l" pos="1344600"/>
                  <a:tab algn="l" pos="1793880"/>
                  <a:tab algn="l" pos="2243160"/>
                  <a:tab algn="l" pos="2692440"/>
                  <a:tab algn="l" pos="3141720"/>
                  <a:tab algn="l" pos="3591000"/>
                  <a:tab algn="l" pos="4040280"/>
                  <a:tab algn="l" pos="4489560"/>
                  <a:tab algn="l" pos="4938840"/>
                  <a:tab algn="l" pos="5388120"/>
                  <a:tab algn="l" pos="5837400"/>
                  <a:tab algn="l" pos="6286680"/>
                  <a:tab algn="l" pos="6735600"/>
                  <a:tab algn="l" pos="7184880"/>
                  <a:tab algn="l" pos="7634160"/>
                  <a:tab algn="l" pos="8083440"/>
                  <a:tab algn="l" pos="8532720"/>
                  <a:tab algn="l" pos="89820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5440" indent="-3254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3366ff"/>
                </a:buClr>
                <a:buSzPct val="80000"/>
                <a:buFont typeface="Wingdings" charset="2"/>
                <a:buChar char=""/>
                <a:tabLst>
                  <a:tab algn="l" pos="446040"/>
                  <a:tab algn="l" pos="895320"/>
                  <a:tab algn="l" pos="1344600"/>
                  <a:tab algn="l" pos="1793880"/>
                  <a:tab algn="l" pos="2243160"/>
                  <a:tab algn="l" pos="2692440"/>
                  <a:tab algn="l" pos="3141720"/>
                  <a:tab algn="l" pos="3591000"/>
                  <a:tab algn="l" pos="4040280"/>
                  <a:tab algn="l" pos="4489560"/>
                  <a:tab algn="l" pos="4938840"/>
                  <a:tab algn="l" pos="5388120"/>
                  <a:tab algn="l" pos="5837400"/>
                  <a:tab algn="l" pos="6286680"/>
                  <a:tab algn="l" pos="6735600"/>
                  <a:tab algn="l" pos="7184880"/>
                  <a:tab algn="l" pos="7634160"/>
                  <a:tab algn="l" pos="8083440"/>
                  <a:tab algn="l" pos="8532720"/>
                  <a:tab algn="l" pos="89820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o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s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do PNRH a relação dos classificad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5440" indent="-3254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3366ff"/>
                </a:buClr>
                <a:buSzPct val="80000"/>
                <a:buFont typeface="Wingdings" charset="2"/>
                <a:buChar char=""/>
                <a:tabLst>
                  <a:tab algn="l" pos="446040"/>
                  <a:tab algn="l" pos="895320"/>
                  <a:tab algn="l" pos="1344600"/>
                  <a:tab algn="l" pos="1793880"/>
                  <a:tab algn="l" pos="2243160"/>
                  <a:tab algn="l" pos="2692440"/>
                  <a:tab algn="l" pos="3141720"/>
                  <a:tab algn="l" pos="3591000"/>
                  <a:tab algn="l" pos="4040280"/>
                  <a:tab algn="l" pos="4489560"/>
                  <a:tab algn="l" pos="4938840"/>
                  <a:tab algn="l" pos="5388120"/>
                  <a:tab algn="l" pos="5837400"/>
                  <a:tab algn="l" pos="6286680"/>
                  <a:tab algn="l" pos="6735600"/>
                  <a:tab algn="l" pos="7184880"/>
                  <a:tab algn="l" pos="7634160"/>
                  <a:tab algn="l" pos="8083440"/>
                  <a:tab algn="l" pos="8532720"/>
                  <a:tab algn="l" pos="89820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omunicação Oficial aos classific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5440" indent="-325440">
                <a:lnSpc>
                  <a:spcPct val="100000"/>
                </a:lnSpc>
                <a:spcBef>
                  <a:spcPts val="799"/>
                </a:spcBef>
                <a:buClr>
                  <a:srgbClr val="3366ff"/>
                </a:buClr>
                <a:buSzPct val="80000"/>
                <a:buFont typeface="Wingdings" charset="2"/>
                <a:buChar char=""/>
                <a:tabLst>
                  <a:tab algn="l" pos="446040"/>
                  <a:tab algn="l" pos="895320"/>
                  <a:tab algn="l" pos="1344600"/>
                  <a:tab algn="l" pos="1793880"/>
                  <a:tab algn="l" pos="2243160"/>
                  <a:tab algn="l" pos="2692440"/>
                  <a:tab algn="l" pos="3141720"/>
                  <a:tab algn="l" pos="3591000"/>
                  <a:tab algn="l" pos="4040280"/>
                  <a:tab algn="l" pos="4489560"/>
                  <a:tab algn="l" pos="4938840"/>
                  <a:tab algn="l" pos="5388120"/>
                  <a:tab algn="l" pos="5837400"/>
                  <a:tab algn="l" pos="6286680"/>
                  <a:tab algn="l" pos="6735600"/>
                  <a:tab algn="l" pos="7184880"/>
                  <a:tab algn="l" pos="7634160"/>
                  <a:tab algn="l" pos="8083440"/>
                  <a:tab algn="l" pos="8532720"/>
                  <a:tab algn="l" pos="89820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o Diário Oficial da União - publicação do extrato de contr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51460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276720"/>
            <a:ext cx="7848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tar, pelo Programa BRA/OEA/01/002, técnicos especialistas para desenvolverem estudos em 12 Regiões Hidrográficas, com a finalidade de subsidiar a elaboração do Plano Nacional de Recursos Hídricos –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6320" y="1676520"/>
            <a:ext cx="5123880" cy="5479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7c80"/>
                </a:solidFill>
                <a:latin typeface="Times New Roman"/>
              </a:rPr>
              <a:t>PRIMEIRA PUBL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429000"/>
            <a:ext cx="792000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Jornal Correio Braziliense - em 04/02/2005 </a:t>
            </a:r>
            <a:br>
              <a:rPr sz="2000"/>
            </a:b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Diário Oficial da União - em 09/02/2005</a:t>
            </a:r>
            <a:br>
              <a:rPr sz="2000"/>
            </a:b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3300"/>
                </a:solidFill>
                <a:latin typeface="Times New Roman"/>
              </a:rPr>
              <a:t>Site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htt//pnrh-cnrh-srh.gov.br</a:t>
            </a:r>
            <a:br>
              <a:rPr sz="2000"/>
            </a:b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3300"/>
                </a:solidFill>
                <a:latin typeface="Times New Roman"/>
              </a:rPr>
              <a:t>Lista de discussão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da Associação Brasileira de Recursos Hídricos - ABRH</a:t>
            </a:r>
            <a:br>
              <a:rPr sz="2000"/>
            </a:b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Comunicação com as CE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36232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DIVULGAÇÃO DO ED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33440" y="2252520"/>
            <a:ext cx="814716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8 (trinta e oito) técnicos especialistas enviaram seus currículos.</a:t>
            </a:r>
            <a:br>
              <a:rPr sz="2000"/>
            </a:b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 1º Fase:  avaliação da documentação -  8 (oito) candidatos não foram classif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 2º Fase: avaliação dos requisitos básicos - 5 (cinco) candidatos não foram classif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º Fase: análise curricular conforme diretrizes estabelecidas no ed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7652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ÁLISE DOS CURR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6440" y="2057400"/>
            <a:ext cx="844848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85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ATLÂNTICO NORDESTE OCI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úcio Antônio Alves de Macêdo – 94,4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ATLÂNTICO NORDESTE ORI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dro Antônio Molinas – 92,0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SÃO FRANC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rnando Antonio Rodriguez – 93,0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46844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ESULTAD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133720"/>
            <a:ext cx="84312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ATLÂNTICO LE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sac Góes de Queiroz – 83,2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ATLÂNTICO SUD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co Antônio Fernandez Pereira da Silva – 80,6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URUGU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dnei Gusmão Agra – 88,8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0520" y="1523880"/>
            <a:ext cx="5745600" cy="49140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ESULTADO FINAL (continu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743200"/>
            <a:ext cx="843120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87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ATLÂNTIC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lson Neto de Freitas – 89,6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: PARAGU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uri César Barbosa Pereira – 96,40 p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828800"/>
            <a:ext cx="6215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ESULTADO FINAL (continu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86516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OBSERVAÇÃO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1400" y="2819160"/>
            <a:ext cx="77932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s Regiões Hidrográficas: Amazônica, Tocantins-Araguaia, e Paraná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ão houve candidato inscrito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ão do Parnaí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 único candidato que se apresentou não atendeu a exigência explicitada no edital (Art.37, inciso XVI, da Constituição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890360"/>
            <a:ext cx="67820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DIVULGAÇÃO DOS RESULTADO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2819160"/>
            <a:ext cx="77932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0" algn="just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440" indent="-325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o PNRH a relação dos classificados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440" indent="-325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unicação Oficial aos classificad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Diário Oficial da União - publicação do extrato de contra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