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2680" spc="-1" strike="noStrike">
                <a:solidFill>
                  <a:srgbClr val="000000"/>
                </a:solidFill>
                <a:latin typeface="Arial"/>
                <a:ea typeface="Lucida Sans Unicode"/>
              </a:defRPr>
            </a:pPr>
            <a:r>
              <a:rPr b="0" sz="2680" spc="-1" strike="noStrike">
                <a:solidFill>
                  <a:srgbClr val="000000"/>
                </a:solidFill>
                <a:latin typeface="Arial"/>
                <a:ea typeface="Lucida Sans Unicode"/>
              </a:rPr>
              <a:t>Representantes na Oficina da Sociedade Civil</a:t>
            </a:r>
          </a:p>
        </c:rich>
      </c:tx>
      <c:layout>
        <c:manualLayout>
          <c:xMode val="edge"/>
          <c:yMode val="edge"/>
          <c:x val="0.0842728175888731"/>
          <c:y val="0.013459316157977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53431817200121"/>
          <c:y val="0.132010060498946"/>
          <c:w val="0.823592933350611"/>
          <c:h val="0.84746108354292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E</c:v>
                </c:pt>
              </c:strCache>
            </c:strRef>
          </c:tx>
          <c:spPr>
            <a:solidFill>
              <a:srgbClr val="9999ff"/>
            </a:solidFill>
            <a:ln w="0">
              <a:solidFill>
                <a:srgbClr val="000000"/>
              </a:solidFill>
            </a:ln>
          </c:spPr>
          <c:invertIfNegative val="0"/>
          <c:dPt>
            <c:idx val="1"/>
            <c:invertIfNegative val="0"/>
            <c:spPr>
              <a:solidFill>
                <a:srgbClr val="993366"/>
              </a:solidFill>
              <a:ln w="0">
                <a:solidFill>
                  <a:srgbClr val="000000"/>
                </a:solidFill>
              </a:ln>
            </c:spPr>
          </c:dPt>
          <c:dPt>
            <c:idx val="2"/>
            <c:invertIfNegative val="0"/>
            <c:spPr>
              <a:solidFill>
                <a:srgbClr val="33cc66"/>
              </a:solidFill>
              <a:ln w="0">
                <a:solidFill>
                  <a:srgbClr val="000000"/>
                </a:solidFill>
              </a:ln>
            </c:spPr>
          </c:dPt>
          <c:dPt>
            <c:idx val="3"/>
            <c:invertIfNegative val="0"/>
            <c:spPr>
              <a:solidFill>
                <a:srgbClr val="ffffcc"/>
              </a:solidFill>
              <a:ln w="0">
                <a:solidFill>
                  <a:srgbClr val="000000"/>
                </a:solidFill>
              </a:ln>
            </c:spPr>
          </c:dPt>
          <c:dLbls>
            <c:dLbl>
              <c:idx val="1"/>
              <c:txPr>
                <a:bodyPr wrap="none"/>
                <a:lstStyle/>
                <a:p>
                  <a:pPr>
                    <a:defRPr b="0" sz="132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32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132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320" spc="-1" strike="noStrike">
                    <a:solidFill>
                      <a:srgbClr val="000000"/>
                    </a:solidFill>
                    <a:latin typeface="Arial"/>
                    <a:ea typeface="Lucida Sans Unicode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ER</c:v>
                </c:pt>
                <c:pt idx="1">
                  <c:v>CNRH / Câmara Técnica</c:v>
                </c:pt>
                <c:pt idx="2">
                  <c:v>FBOMS</c:v>
                </c:pt>
                <c:pt idx="3">
                  <c:v>Outro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2</c:v>
                </c:pt>
                <c:pt idx="1">
                  <c:v>13</c:v>
                </c:pt>
                <c:pt idx="2">
                  <c:v>22</c:v>
                </c:pt>
                <c:pt idx="3">
                  <c:v>27</c:v>
                </c:pt>
              </c:numCache>
            </c:numRef>
          </c:val>
        </c:ser>
        <c:gapWidth val="100"/>
        <c:overlap val="0"/>
        <c:axId val="81556200"/>
        <c:axId val="4808903"/>
      </c:barChart>
      <c:catAx>
        <c:axId val="81556200"/>
        <c:scaling>
          <c:orientation val="minMax"/>
        </c:scaling>
        <c:delete val="0"/>
        <c:axPos val="b"/>
        <c:title>
          <c:tx>
            <c:rich>
              <a:bodyPr rot="0"/>
              <a:lstStyle/>
              <a:p>
                <a:pPr>
                  <a:defRPr b="0" sz="1870" spc="-1" strike="noStrike">
                    <a:solidFill>
                      <a:srgbClr val="000000"/>
                    </a:solidFill>
                    <a:latin typeface="Arial"/>
                    <a:ea typeface="Lucida Sans Unicode"/>
                  </a:defRPr>
                </a:pPr>
                <a:r>
                  <a:rPr b="0" sz="1870" spc="-1" strike="noStrike">
                    <a:solidFill>
                      <a:srgbClr val="000000"/>
                    </a:solidFill>
                    <a:latin typeface="Arial"/>
                    <a:ea typeface="Lucida Sans Unicode"/>
                  </a:rPr>
                  <a:t>Representação</a:t>
                </a:r>
              </a:p>
            </c:rich>
          </c:tx>
          <c:layout>
            <c:manualLayout>
              <c:xMode val="edge"/>
              <c:yMode val="edge"/>
              <c:x val="0.408319295062848"/>
              <c:y val="0.913941948202026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1"/>
        <c:majorTickMark val="out"/>
        <c:minorTickMark val="none"/>
        <c:tickLblPos val="low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1500" spc="-1" strike="noStrike">
                <a:solidFill>
                  <a:srgbClr val="000000"/>
                </a:solidFill>
                <a:latin typeface="Arial"/>
                <a:ea typeface="Lucida Sans Unicode"/>
              </a:defRPr>
            </a:pPr>
          </a:p>
        </c:txPr>
        <c:crossAx val="4808903"/>
        <c:crossesAt val="0"/>
        <c:auto val="1"/>
        <c:lblAlgn val="ctr"/>
        <c:lblOffset val="100"/>
        <c:noMultiLvlLbl val="0"/>
      </c:catAx>
      <c:valAx>
        <c:axId val="4808903"/>
        <c:scaling>
          <c:orientation val="minMax"/>
        </c:scaling>
        <c:delete val="0"/>
        <c:axPos val="l"/>
        <c:majorGridlines>
          <c:spPr>
            <a:ln w="0">
              <a:solidFill>
                <a:srgbClr val="000000"/>
              </a:solidFill>
            </a:ln>
          </c:spPr>
        </c:majorGridlines>
        <c:title>
          <c:tx>
            <c:rich>
              <a:bodyPr rot="-5400000"/>
              <a:lstStyle/>
              <a:p>
                <a:pPr>
                  <a:defRPr b="0" sz="1870" spc="-1" strike="noStrike">
                    <a:solidFill>
                      <a:srgbClr val="000000"/>
                    </a:solidFill>
                    <a:latin typeface="Arial"/>
                    <a:ea typeface="Lucida Sans Unicode"/>
                  </a:defRPr>
                </a:pPr>
                <a:r>
                  <a:rPr b="0" sz="1870" spc="-1" strike="noStrike">
                    <a:solidFill>
                      <a:srgbClr val="000000"/>
                    </a:solidFill>
                    <a:latin typeface="Arial"/>
                    <a:ea typeface="Lucida Sans Unicode"/>
                  </a:rPr>
                  <a:t>Nº de Participantes</a:t>
                </a:r>
              </a:p>
            </c:rich>
          </c:tx>
          <c:layout>
            <c:manualLayout>
              <c:xMode val="edge"/>
              <c:yMode val="edge"/>
              <c:x val="0.0425035635609693"/>
              <c:y val="0.270817755421113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1"/>
        <c:majorTickMark val="out"/>
        <c:minorTickMark val="none"/>
        <c:tickLblPos val="nextTo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1500" spc="-1" strike="noStrike">
                <a:solidFill>
                  <a:srgbClr val="000000"/>
                </a:solidFill>
                <a:latin typeface="Arial"/>
                <a:ea typeface="Lucida Sans Unicode"/>
              </a:defRPr>
            </a:pPr>
          </a:p>
        </c:txPr>
        <c:crossAx val="81556200"/>
        <c:crosses val="min"/>
        <c:crossBetween val="between"/>
      </c:valAx>
      <c:spPr>
        <a:noFill/>
        <a:ln w="0">
          <a:noFill/>
        </a:ln>
      </c:spPr>
    </c:plotArea>
    <c:plotVisOnly val="0"/>
    <c:dispBlanksAs val="gap"/>
  </c:chart>
  <c:spPr>
    <a:solidFill>
      <a:srgbClr val="e6e6e6"/>
    </a:solidFill>
    <a:ln w="72000">
      <a:solidFill>
        <a:srgbClr val="000000"/>
      </a:solidFill>
      <a:round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300" spc="-1" strike="noStrike">
                <a:solidFill>
                  <a:srgbClr val="000000"/>
                </a:solidFill>
                <a:latin typeface="Arial"/>
                <a:ea typeface="Lucida Sans Unicode"/>
              </a:defRPr>
            </a:pPr>
            <a:r>
              <a:rPr b="0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Título principal</a:t>
            </a:r>
          </a:p>
        </c:rich>
      </c:tx>
      <c:layout>
        <c:manualLayout>
          <c:xMode val="edge"/>
          <c:yMode val="edge"/>
          <c:x val="0.313723091976517"/>
          <c:y val="0.019591496456857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5694716242661"/>
          <c:y val="0.132694178129776"/>
          <c:w val="0.753424657534247"/>
          <c:h val="0.846880644713075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1 </c:v>
                </c:pt>
              </c:strCache>
            </c:strRef>
          </c:tx>
          <c:spPr>
            <a:solidFill>
              <a:srgbClr val="9999ff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  <a:ea typeface="Lucida Sans Unicode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Linha 1</c:v>
                </c:pt>
                <c:pt idx="1">
                  <c:v>Linha 2</c:v>
                </c:pt>
                <c:pt idx="2">
                  <c:v>Linha 3</c:v>
                </c:pt>
                <c:pt idx="3">
                  <c:v>Linha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2 </c:v>
                </c:pt>
              </c:strCache>
            </c:strRef>
          </c:tx>
          <c:spPr>
            <a:solidFill>
              <a:srgbClr val="99336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  <a:ea typeface="Lucida Sans Unicode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Linha 1</c:v>
                </c:pt>
                <c:pt idx="1">
                  <c:v>Linha 2</c:v>
                </c:pt>
                <c:pt idx="2">
                  <c:v>Linha 3</c:v>
                </c:pt>
                <c:pt idx="3">
                  <c:v>Linha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na 3 </c:v>
                </c:pt>
              </c:strCache>
            </c:strRef>
          </c:tx>
          <c:spPr>
            <a:solidFill>
              <a:srgbClr val="ffffcc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  <a:ea typeface="Lucida Sans Unicode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Linha 1</c:v>
                </c:pt>
                <c:pt idx="1">
                  <c:v>Linha 2</c:v>
                </c:pt>
                <c:pt idx="2">
                  <c:v>Linha 3</c:v>
                </c:pt>
                <c:pt idx="3">
                  <c:v>Linha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060393"/>
        <c:axId val="80934913"/>
      </c:barChart>
      <c:catAx>
        <c:axId val="79060393"/>
        <c:scaling>
          <c:orientation val="minMax"/>
        </c:scaling>
        <c:delete val="0"/>
        <c:axPos val="b"/>
        <c:numFmt formatCode="General" sourceLinked="1"/>
        <c:majorTickMark val="out"/>
        <c:minorTickMark val="none"/>
        <c:tickLblPos val="low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700" spc="-1" strike="noStrike">
                <a:solidFill>
                  <a:srgbClr val="000000"/>
                </a:solidFill>
                <a:latin typeface="Arial"/>
                <a:ea typeface="Lucida Sans Unicode"/>
              </a:defRPr>
            </a:pPr>
          </a:p>
        </c:txPr>
        <c:crossAx val="80934913"/>
        <c:crossesAt val="0"/>
        <c:auto val="1"/>
        <c:lblAlgn val="ctr"/>
        <c:lblOffset val="100"/>
        <c:noMultiLvlLbl val="0"/>
      </c:catAx>
      <c:valAx>
        <c:axId val="80934913"/>
        <c:scaling>
          <c:orientation val="minMax"/>
        </c:scaling>
        <c:delete val="0"/>
        <c:axPos val="l"/>
        <c:majorGridlines>
          <c:spPr>
            <a:ln w="0">
              <a:solidFill>
                <a:srgbClr val="000000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700" spc="-1" strike="noStrike">
                <a:solidFill>
                  <a:srgbClr val="000000"/>
                </a:solidFill>
                <a:latin typeface="Arial"/>
                <a:ea typeface="Lucida Sans Unicode"/>
              </a:defRPr>
            </a:pPr>
          </a:p>
        </c:txPr>
        <c:crossAx val="79060393"/>
        <c:crosses val="min"/>
        <c:crossBetween val="between"/>
      </c:valAx>
      <c:spPr>
        <a:noFill/>
        <a:ln w="0">
          <a:noFill/>
        </a:ln>
      </c:spPr>
    </c:plotArea>
    <c:legend>
      <c:legendPos val="r"/>
      <c:layout>
        <c:manualLayout>
          <c:xMode val="edge"/>
          <c:yMode val="edge"/>
          <c:x val="0.812255381604697"/>
          <c:y val="0.428928720300125"/>
        </c:manualLayout>
      </c:layout>
      <c:overlay val="0"/>
      <c:spPr>
        <a:noFill/>
        <a:ln w="0">
          <a:solidFill>
            <a:srgbClr val="000000"/>
          </a:solidFill>
        </a:ln>
      </c:spPr>
      <c:txPr>
        <a:bodyPr/>
        <a:lstStyle/>
        <a:p>
          <a:pPr>
            <a:defRPr b="0" sz="600" spc="-1" strike="noStrike">
              <a:solidFill>
                <a:srgbClr val="000000"/>
              </a:solidFill>
              <a:latin typeface="Arial"/>
              <a:ea typeface="Lucida Sans Unicode"/>
            </a:defRPr>
          </a:pPr>
        </a:p>
      </c:txPr>
    </c:legend>
    <c:plotVisOnly val="0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680" spc="-1" strike="noStrike">
                <a:solidFill>
                  <a:srgbClr val="000000"/>
                </a:solidFill>
                <a:latin typeface="Arial"/>
                <a:ea typeface="Lucida Sans Unicode"/>
              </a:defRPr>
            </a:pPr>
            <a:r>
              <a:rPr b="1" sz="2680" spc="-1" strike="noStrike">
                <a:solidFill>
                  <a:srgbClr val="000000"/>
                </a:solidFill>
                <a:latin typeface="Arial"/>
                <a:ea typeface="Lucida Sans Unicode"/>
              </a:rPr>
              <a:t>Segmentos da Sociedade Civil</a:t>
            </a:r>
          </a:p>
        </c:rich>
      </c:tx>
      <c:layout>
        <c:manualLayout>
          <c:xMode val="edge"/>
          <c:yMode val="edge"/>
          <c:x val="0.222516450008024"/>
          <c:y val="0.0196078431372549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807414540202"/>
          <c:y val="0.133536173089926"/>
          <c:w val="0.959998395121168"/>
          <c:h val="0.84651791751183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categories</c:f>
              <c:strCache>
                <c:ptCount val="1"/>
                <c:pt idx="0">
                  <c:v>Entidades Técnico Científica Organizações Ambientais e Movimentos Sociais Governo</c:v>
                </c:pt>
              </c:strCache>
            </c:strRef>
          </c:tx>
          <c:spPr>
            <a:solidFill>
              <a:srgbClr val="9999ff"/>
            </a:solidFill>
            <a:ln w="0">
              <a:solidFill>
                <a:srgbClr val="000000"/>
              </a:solidFill>
            </a:ln>
          </c:spPr>
          <c:invertIfNegative val="0"/>
          <c:dPt>
            <c:idx val="1"/>
            <c:invertIfNegative val="0"/>
            <c:spPr>
              <a:solidFill>
                <a:srgbClr val="94476b"/>
              </a:solidFill>
              <a:ln w="0">
                <a:solidFill>
                  <a:srgbClr val="000000"/>
                </a:solidFill>
              </a:ln>
            </c:spPr>
          </c:dPt>
          <c:dPt>
            <c:idx val="2"/>
            <c:invertIfNegative val="0"/>
            <c:spPr>
              <a:solidFill>
                <a:srgbClr val="33cc66"/>
              </a:solidFill>
              <a:ln w="0">
                <a:solidFill>
                  <a:srgbClr val="000000"/>
                </a:solidFill>
              </a:ln>
            </c:spPr>
          </c:dPt>
          <c:dLbls>
            <c:dLbl>
              <c:idx val="1"/>
              <c:txPr>
                <a:bodyPr wrap="none"/>
                <a:lstStyle/>
                <a:p>
                  <a:pPr>
                    <a:defRPr b="0" sz="123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23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230" spc="-1" strike="noStrike">
                    <a:solidFill>
                      <a:srgbClr val="000000"/>
                    </a:solidFill>
                    <a:latin typeface="Arial"/>
                    <a:ea typeface="Lucida Sans Unicode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label 0</c:f>
              <c:strCache>
                <c:ptCount val="1"/>
                <c:pt idx="0">
                  <c:v>Linha 18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29</c:v>
                </c:pt>
                <c:pt idx="1">
                  <c:v>53</c:v>
                </c:pt>
                <c:pt idx="2">
                  <c:v>22</c:v>
                </c:pt>
              </c:numCache>
            </c:numRef>
          </c:val>
        </c:ser>
        <c:gapWidth val="100"/>
        <c:overlap val="0"/>
        <c:axId val="99603682"/>
        <c:axId val="13382209"/>
      </c:barChart>
      <c:catAx>
        <c:axId val="99603682"/>
        <c:scaling>
          <c:orientation val="minMax"/>
        </c:scaling>
        <c:delete val="0"/>
        <c:axPos val="b"/>
        <c:title>
          <c:tx>
            <c:rich>
              <a:bodyPr rot="0"/>
              <a:lstStyle/>
              <a:p>
                <a:pPr>
                  <a:defRPr b="1" sz="1860" spc="-1" strike="noStrike">
                    <a:solidFill>
                      <a:srgbClr val="000000"/>
                    </a:solidFill>
                    <a:latin typeface="Arial"/>
                    <a:ea typeface="Lucida Sans Unicode"/>
                  </a:defRPr>
                </a:pPr>
                <a:r>
                  <a:rPr b="1" sz="1860" spc="-1" strike="noStrike">
                    <a:solidFill>
                      <a:srgbClr val="000000"/>
                    </a:solidFill>
                    <a:latin typeface="Arial"/>
                    <a:ea typeface="Lucida Sans Unicode"/>
                  </a:rPr>
                  <a:t>Segmentos</a:t>
                </a:r>
              </a:p>
            </c:rich>
          </c:tx>
          <c:layout>
            <c:manualLayout>
              <c:xMode val="edge"/>
              <c:yMode val="edge"/>
              <c:x val="0.398330926015086"/>
              <c:y val="0.922177146720757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1"/>
        <c:majorTickMark val="out"/>
        <c:minorTickMark val="none"/>
        <c:tickLblPos val="low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1440" spc="-1" strike="noStrike">
                <a:solidFill>
                  <a:srgbClr val="000000"/>
                </a:solidFill>
                <a:latin typeface="Arial"/>
                <a:ea typeface="Lucida Sans Unicode"/>
              </a:defRPr>
            </a:pPr>
          </a:p>
        </c:txPr>
        <c:crossAx val="13382209"/>
        <c:crossesAt val="0"/>
        <c:auto val="1"/>
        <c:lblAlgn val="ctr"/>
        <c:lblOffset val="100"/>
        <c:noMultiLvlLbl val="0"/>
      </c:catAx>
      <c:valAx>
        <c:axId val="13382209"/>
        <c:scaling>
          <c:orientation val="minMax"/>
        </c:scaling>
        <c:delete val="0"/>
        <c:axPos val="l"/>
        <c:majorGridlines>
          <c:spPr>
            <a:ln w="0">
              <a:solidFill>
                <a:srgbClr val="000000"/>
              </a:solidFill>
            </a:ln>
          </c:spPr>
        </c:majorGridlines>
        <c:title>
          <c:tx>
            <c:rich>
              <a:bodyPr rot="-5400000"/>
              <a:lstStyle/>
              <a:p>
                <a:pPr>
                  <a:defRPr b="1" sz="1860" spc="-1" strike="noStrike">
                    <a:solidFill>
                      <a:srgbClr val="000000"/>
                    </a:solidFill>
                    <a:latin typeface="Arial"/>
                    <a:ea typeface="Lucida Sans Unicode"/>
                  </a:defRPr>
                </a:pPr>
                <a:r>
                  <a:rPr b="1" sz="1860" spc="-1" strike="noStrike">
                    <a:solidFill>
                      <a:srgbClr val="000000"/>
                    </a:solidFill>
                    <a:latin typeface="Arial"/>
                    <a:ea typeface="Lucida Sans Unicode"/>
                  </a:rPr>
                  <a:t>Nº Participantes</a:t>
                </a:r>
              </a:p>
            </c:rich>
          </c:tx>
          <c:layout>
            <c:manualLayout>
              <c:xMode val="edge"/>
              <c:yMode val="edge"/>
              <c:x val="0.019940619483229"/>
              <c:y val="0.261866125760649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1"/>
        <c:majorTickMark val="out"/>
        <c:minorTickMark val="none"/>
        <c:tickLblPos val="nextTo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1440" spc="-1" strike="noStrike">
                <a:solidFill>
                  <a:srgbClr val="000000"/>
                </a:solidFill>
                <a:latin typeface="Arial"/>
                <a:ea typeface="Lucida Sans Unicode"/>
              </a:defRPr>
            </a:pPr>
          </a:p>
        </c:txPr>
        <c:crossAx val="99603682"/>
        <c:crosses val="min"/>
        <c:crossBetween val="between"/>
      </c:valAx>
      <c:spPr>
        <a:noFill/>
        <a:ln w="0">
          <a:solidFill>
            <a:srgbClr val="000000"/>
          </a:solidFill>
        </a:ln>
      </c:spPr>
    </c:plotArea>
    <c:plotVisOnly val="0"/>
    <c:dispBlanksAs val="gap"/>
  </c:chart>
  <c:spPr>
    <a:solidFill>
      <a:srgbClr val="e6e6e6"/>
    </a:solidFill>
    <a:ln w="72000">
      <a:solidFill>
        <a:srgbClr val="000000"/>
      </a:solidFill>
      <a:round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300" spc="-1" strike="noStrike">
                <a:solidFill>
                  <a:srgbClr val="000000"/>
                </a:solidFill>
                <a:latin typeface="Arial"/>
                <a:ea typeface="Lucida Sans Unicode"/>
              </a:defRPr>
            </a:pPr>
            <a:r>
              <a:rPr b="0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Título principal</a:t>
            </a:r>
          </a:p>
        </c:rich>
      </c:tx>
      <c:layout>
        <c:manualLayout>
          <c:xMode val="edge"/>
          <c:yMode val="edge"/>
          <c:x val="0.313723091976517"/>
          <c:y val="0.019591496456857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5694716242661"/>
          <c:y val="0.132694178129776"/>
          <c:w val="0.753424657534247"/>
          <c:h val="0.846880644713075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1 </c:v>
                </c:pt>
              </c:strCache>
            </c:strRef>
          </c:tx>
          <c:spPr>
            <a:solidFill>
              <a:srgbClr val="9999ff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  <a:ea typeface="Lucida Sans Unicode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Linha 1</c:v>
                </c:pt>
                <c:pt idx="1">
                  <c:v>Linha 2</c:v>
                </c:pt>
                <c:pt idx="2">
                  <c:v>Linha 3</c:v>
                </c:pt>
                <c:pt idx="3">
                  <c:v>Linha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2 </c:v>
                </c:pt>
              </c:strCache>
            </c:strRef>
          </c:tx>
          <c:spPr>
            <a:solidFill>
              <a:srgbClr val="99336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  <a:ea typeface="Lucida Sans Unicode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Linha 1</c:v>
                </c:pt>
                <c:pt idx="1">
                  <c:v>Linha 2</c:v>
                </c:pt>
                <c:pt idx="2">
                  <c:v>Linha 3</c:v>
                </c:pt>
                <c:pt idx="3">
                  <c:v>Linha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na 3 </c:v>
                </c:pt>
              </c:strCache>
            </c:strRef>
          </c:tx>
          <c:spPr>
            <a:solidFill>
              <a:srgbClr val="ffffcc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  <a:ea typeface="Lucida Sans Unicode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Linha 1</c:v>
                </c:pt>
                <c:pt idx="1">
                  <c:v>Linha 2</c:v>
                </c:pt>
                <c:pt idx="2">
                  <c:v>Linha 3</c:v>
                </c:pt>
                <c:pt idx="3">
                  <c:v>Linha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534930"/>
        <c:axId val="94068656"/>
      </c:barChart>
      <c:catAx>
        <c:axId val="39534930"/>
        <c:scaling>
          <c:orientation val="minMax"/>
        </c:scaling>
        <c:delete val="0"/>
        <c:axPos val="b"/>
        <c:numFmt formatCode="General" sourceLinked="1"/>
        <c:majorTickMark val="out"/>
        <c:minorTickMark val="none"/>
        <c:tickLblPos val="low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700" spc="-1" strike="noStrike">
                <a:solidFill>
                  <a:srgbClr val="000000"/>
                </a:solidFill>
                <a:latin typeface="Arial"/>
                <a:ea typeface="Lucida Sans Unicode"/>
              </a:defRPr>
            </a:pPr>
          </a:p>
        </c:txPr>
        <c:crossAx val="94068656"/>
        <c:crossesAt val="0"/>
        <c:auto val="1"/>
        <c:lblAlgn val="ctr"/>
        <c:lblOffset val="100"/>
        <c:noMultiLvlLbl val="0"/>
      </c:catAx>
      <c:valAx>
        <c:axId val="94068656"/>
        <c:scaling>
          <c:orientation val="minMax"/>
        </c:scaling>
        <c:delete val="0"/>
        <c:axPos val="l"/>
        <c:majorGridlines>
          <c:spPr>
            <a:ln w="0">
              <a:solidFill>
                <a:srgbClr val="000000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700" spc="-1" strike="noStrike">
                <a:solidFill>
                  <a:srgbClr val="000000"/>
                </a:solidFill>
                <a:latin typeface="Arial"/>
                <a:ea typeface="Lucida Sans Unicode"/>
              </a:defRPr>
            </a:pPr>
          </a:p>
        </c:txPr>
        <c:crossAx val="39534930"/>
        <c:crosses val="min"/>
        <c:crossBetween val="between"/>
      </c:valAx>
      <c:spPr>
        <a:noFill/>
        <a:ln w="0">
          <a:noFill/>
        </a:ln>
      </c:spPr>
    </c:plotArea>
    <c:legend>
      <c:legendPos val="r"/>
      <c:layout>
        <c:manualLayout>
          <c:xMode val="edge"/>
          <c:yMode val="edge"/>
          <c:x val="0.812255381604697"/>
          <c:y val="0.428928720300125"/>
        </c:manualLayout>
      </c:layout>
      <c:overlay val="0"/>
      <c:spPr>
        <a:noFill/>
        <a:ln w="0">
          <a:solidFill>
            <a:srgbClr val="000000"/>
          </a:solidFill>
        </a:ln>
      </c:spPr>
      <c:txPr>
        <a:bodyPr/>
        <a:lstStyle/>
        <a:p>
          <a:pPr>
            <a:defRPr b="0" sz="600" spc="-1" strike="noStrike">
              <a:solidFill>
                <a:srgbClr val="000000"/>
              </a:solidFill>
              <a:latin typeface="Arial"/>
              <a:ea typeface="Lucida Sans Unicode"/>
            </a:defRPr>
          </a:pPr>
        </a:p>
      </c:txPr>
    </c:legend>
    <c:plotVisOnly val="0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300" spc="-1" strike="noStrike">
                <a:solidFill>
                  <a:srgbClr val="000000"/>
                </a:solidFill>
                <a:latin typeface="Arial"/>
                <a:ea typeface="Lucida Sans Unicode"/>
              </a:defRPr>
            </a:pPr>
            <a:r>
              <a:rPr b="0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Título principal</a:t>
            </a:r>
          </a:p>
        </c:rich>
      </c:tx>
      <c:layout>
        <c:manualLayout>
          <c:xMode val="edge"/>
          <c:yMode val="edge"/>
          <c:x val="0.313723091976517"/>
          <c:y val="0.019591496456857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5694716242661"/>
          <c:y val="0.132694178129776"/>
          <c:w val="0.753424657534247"/>
          <c:h val="0.846880644713075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1 </c:v>
                </c:pt>
              </c:strCache>
            </c:strRef>
          </c:tx>
          <c:spPr>
            <a:solidFill>
              <a:srgbClr val="9999ff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  <a:ea typeface="Lucida Sans Unicode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Linha 1</c:v>
                </c:pt>
                <c:pt idx="1">
                  <c:v>Linha 2</c:v>
                </c:pt>
                <c:pt idx="2">
                  <c:v>Linha 3</c:v>
                </c:pt>
                <c:pt idx="3">
                  <c:v>Linha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2 </c:v>
                </c:pt>
              </c:strCache>
            </c:strRef>
          </c:tx>
          <c:spPr>
            <a:solidFill>
              <a:srgbClr val="99336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  <a:ea typeface="Lucida Sans Unicode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Linha 1</c:v>
                </c:pt>
                <c:pt idx="1">
                  <c:v>Linha 2</c:v>
                </c:pt>
                <c:pt idx="2">
                  <c:v>Linha 3</c:v>
                </c:pt>
                <c:pt idx="3">
                  <c:v>Linha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na 3 </c:v>
                </c:pt>
              </c:strCache>
            </c:strRef>
          </c:tx>
          <c:spPr>
            <a:solidFill>
              <a:srgbClr val="ffffcc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  <a:ea typeface="Lucida Sans Unicode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Linha 1</c:v>
                </c:pt>
                <c:pt idx="1">
                  <c:v>Linha 2</c:v>
                </c:pt>
                <c:pt idx="2">
                  <c:v>Linha 3</c:v>
                </c:pt>
                <c:pt idx="3">
                  <c:v>Linha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374914"/>
        <c:axId val="16446224"/>
      </c:barChart>
      <c:catAx>
        <c:axId val="45374914"/>
        <c:scaling>
          <c:orientation val="minMax"/>
        </c:scaling>
        <c:delete val="0"/>
        <c:axPos val="b"/>
        <c:numFmt formatCode="General" sourceLinked="1"/>
        <c:majorTickMark val="out"/>
        <c:minorTickMark val="none"/>
        <c:tickLblPos val="low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700" spc="-1" strike="noStrike">
                <a:solidFill>
                  <a:srgbClr val="000000"/>
                </a:solidFill>
                <a:latin typeface="Arial"/>
                <a:ea typeface="Lucida Sans Unicode"/>
              </a:defRPr>
            </a:pPr>
          </a:p>
        </c:txPr>
        <c:crossAx val="16446224"/>
        <c:crossesAt val="0"/>
        <c:auto val="1"/>
        <c:lblAlgn val="ctr"/>
        <c:lblOffset val="100"/>
        <c:noMultiLvlLbl val="0"/>
      </c:catAx>
      <c:valAx>
        <c:axId val="16446224"/>
        <c:scaling>
          <c:orientation val="minMax"/>
        </c:scaling>
        <c:delete val="0"/>
        <c:axPos val="l"/>
        <c:majorGridlines>
          <c:spPr>
            <a:ln w="0">
              <a:solidFill>
                <a:srgbClr val="000000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700" spc="-1" strike="noStrike">
                <a:solidFill>
                  <a:srgbClr val="000000"/>
                </a:solidFill>
                <a:latin typeface="Arial"/>
                <a:ea typeface="Lucida Sans Unicode"/>
              </a:defRPr>
            </a:pPr>
          </a:p>
        </c:txPr>
        <c:crossAx val="45374914"/>
        <c:crosses val="min"/>
        <c:crossBetween val="between"/>
      </c:valAx>
      <c:spPr>
        <a:noFill/>
        <a:ln w="0">
          <a:noFill/>
        </a:ln>
      </c:spPr>
    </c:plotArea>
    <c:legend>
      <c:legendPos val="r"/>
      <c:layout>
        <c:manualLayout>
          <c:xMode val="edge"/>
          <c:yMode val="edge"/>
          <c:x val="0.812255381604697"/>
          <c:y val="0.428928720300125"/>
        </c:manualLayout>
      </c:layout>
      <c:overlay val="0"/>
      <c:spPr>
        <a:noFill/>
        <a:ln w="0">
          <a:solidFill>
            <a:srgbClr val="000000"/>
          </a:solidFill>
        </a:ln>
      </c:spPr>
      <c:txPr>
        <a:bodyPr/>
        <a:lstStyle/>
        <a:p>
          <a:pPr>
            <a:defRPr b="0" sz="600" spc="-1" strike="noStrike">
              <a:solidFill>
                <a:srgbClr val="000000"/>
              </a:solidFill>
              <a:latin typeface="Arial"/>
              <a:ea typeface="Lucida Sans Unicode"/>
            </a:defRPr>
          </a:pPr>
        </a:p>
      </c:txPr>
    </c:legend>
    <c:plotVisOnly val="0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2370" spc="-1" strike="noStrike">
                <a:solidFill>
                  <a:srgbClr val="000000"/>
                </a:solidFill>
                <a:latin typeface="Arial"/>
                <a:ea typeface="Lucida Sans Unicode"/>
              </a:defRPr>
            </a:pPr>
            <a:r>
              <a:rPr b="0" sz="2370" spc="-1" strike="noStrike">
                <a:solidFill>
                  <a:srgbClr val="000000"/>
                </a:solidFill>
                <a:latin typeface="Arial"/>
                <a:ea typeface="Lucida Sans Unicode"/>
              </a:rPr>
              <a:t>Gênero na Oficina da Sociedade Civil</a:t>
            </a:r>
          </a:p>
        </c:rich>
      </c:tx>
      <c:layout>
        <c:manualLayout>
          <c:xMode val="edge"/>
          <c:yMode val="edge"/>
          <c:x val="0.151825467497774"/>
          <c:y val="0.019551997536756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"/>
          <c:y val="0.0110845970287122"/>
          <c:w val="1"/>
          <c:h val="0.988915402971288"/>
        </c:manualLayout>
      </c:layout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Linha 18</c:v>
                </c:pt>
              </c:strCache>
            </c:strRef>
          </c:tx>
          <c:spPr>
            <a:solidFill>
              <a:srgbClr val="9999ff"/>
            </a:solidFill>
            <a:ln w="0">
              <a:solidFill>
                <a:srgbClr val="000000"/>
              </a:solidFill>
            </a:ln>
          </c:spPr>
          <c:explosion val="0"/>
          <c:dPt>
            <c:idx val="0"/>
            <c:explosion val="10"/>
            <c:spPr>
              <a:solidFill>
                <a:srgbClr val="9999ff"/>
              </a:solidFill>
              <a:ln w="0">
                <a:solidFill>
                  <a:srgbClr val="000000"/>
                </a:solidFill>
              </a:ln>
            </c:spPr>
          </c:dPt>
          <c:dPt>
            <c:idx val="1"/>
            <c:spPr>
              <a:solidFill>
                <a:srgbClr val="ff00ff"/>
              </a:solidFill>
              <a:ln w="0">
                <a:solidFill>
                  <a:srgbClr val="000000"/>
                </a:solidFill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1" sz="10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defRPr>
                  </a:pPr>
                </a:p>
              </c:txPr>
              <c:showLegendKey val="1"/>
              <c:showVal val="0"/>
              <c:showCatName val="0"/>
              <c:showSerName val="0"/>
              <c:showPercent val="1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1" sz="10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defRPr>
                  </a:pPr>
                </a:p>
              </c:txPr>
              <c:showLegendKey val="1"/>
              <c:showVal val="0"/>
              <c:showCatName val="0"/>
              <c:showSerName val="0"/>
              <c:showPercent val="1"/>
              <c:separator> </c:separator>
            </c:dLbl>
            <c:txPr>
              <a:bodyPr wrap="none"/>
              <a:lstStyle/>
              <a:p>
                <a:pPr>
                  <a:defRPr b="0" sz="1370" spc="-1" strike="noStrike">
                    <a:solidFill>
                      <a:srgbClr val="000000"/>
                    </a:solidFill>
                    <a:latin typeface="Arial"/>
                    <a:ea typeface="Lucida Sans Unicode"/>
                  </a:defRPr>
                </a:pPr>
              </a:p>
            </c:txPr>
            <c:showLegendKey val="0"/>
            <c:showVal val="0"/>
            <c:showCatName val="1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2"/>
                <c:pt idx="0">
                  <c:v>Coluna C</c:v>
                </c:pt>
                <c:pt idx="1">
                  <c:v>Coluna D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67</c:v>
                </c:pt>
                <c:pt idx="1">
                  <c:v>37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plotVisOnly val="0"/>
  </c:chart>
  <c:spPr>
    <a:solidFill>
      <a:srgbClr val="e6e6e6"/>
    </a:solidFill>
    <a:ln w="72000">
      <a:solidFill>
        <a:srgbClr val="000000"/>
      </a:solidFill>
      <a:round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1400" y="49500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1400" y="4156200"/>
            <a:ext cx="77961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1400" y="49500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1400" y="415620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6320" y="415620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1400" y="49500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02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7680" y="1906560"/>
            <a:ext cx="25102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3600" y="1906560"/>
            <a:ext cx="25102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71400" y="4156200"/>
            <a:ext cx="25102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7680" y="4156200"/>
            <a:ext cx="25102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3600" y="4156200"/>
            <a:ext cx="25102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1400" y="49500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616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1400" y="49500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400" y="49500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400" y="49500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1400" y="495000"/>
            <a:ext cx="7796160" cy="59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400" y="49500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71400" y="415620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1400" y="49500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6320" y="415620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1400" y="49500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71400" y="4156200"/>
            <a:ext cx="77961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428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-19080" y="6647040"/>
            <a:ext cx="9182160" cy="23796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1549440" y="0"/>
            <a:ext cx="2878200" cy="62532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324000" y="6647040"/>
            <a:ext cx="2841480" cy="23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1400" y="49500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616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chart" Target="../charts/chart6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chart" Target="../charts/chart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830240" y="1666800"/>
            <a:ext cx="5550120" cy="2900880"/>
            <a:chOff x="1830240" y="1666800"/>
            <a:chExt cx="5550120" cy="2900880"/>
          </a:xfrm>
        </p:grpSpPr>
        <p:sp>
          <p:nvSpPr>
            <p:cNvPr id="43" name=""/>
            <p:cNvSpPr/>
            <p:nvPr/>
          </p:nvSpPr>
          <p:spPr>
            <a:xfrm>
              <a:off x="1830240" y="1666800"/>
              <a:ext cx="5550120" cy="2448000"/>
            </a:xfrm>
            <a:prstGeom prst="roundRect">
              <a:avLst>
                <a:gd name="adj" fmla="val 6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30240" y="1666800"/>
              <a:ext cx="5550120" cy="29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99"/>
                  </a:solidFill>
                  <a:latin typeface="Times New Roman"/>
                </a:rPr>
                <a:t>Ministério do Meio Ambiente</a:t>
              </a:r>
              <a:br>
                <a:rPr sz="2800"/>
              </a:br>
              <a:br>
                <a:rPr sz="2800"/>
              </a:br>
              <a:r>
                <a:rPr b="0" lang="en-GB" sz="2800" spc="-1" strike="noStrike">
                  <a:solidFill>
                    <a:srgbClr val="333399"/>
                  </a:solidFill>
                  <a:latin typeface="Times New Roman"/>
                </a:rPr>
                <a:t> Secretaria de Recursos Hídricos  </a:t>
              </a:r>
              <a:br>
                <a:rPr sz="2800"/>
              </a:br>
              <a:br>
                <a:rPr sz="2800"/>
              </a:br>
              <a:r>
                <a:rPr b="0" lang="en-GB" sz="2800" spc="-1" strike="noStrike">
                  <a:solidFill>
                    <a:srgbClr val="333399"/>
                  </a:solidFill>
                  <a:latin typeface="Times New Roman"/>
                </a:rPr>
                <a:t>SRH/MMA </a:t>
              </a:r>
              <a:br>
                <a:rPr sz="2800"/>
              </a:b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-2822400" y="7232760"/>
          <a:ext cx="2879640" cy="25192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1173240" y="1635120"/>
          <a:ext cx="6765840" cy="4168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61" name=""/>
          <p:cNvSpPr/>
          <p:nvPr/>
        </p:nvSpPr>
        <p:spPr>
          <a:xfrm>
            <a:off x="5992920" y="3684600"/>
            <a:ext cx="1546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ULHE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57280" y="3936960"/>
            <a:ext cx="1546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HOME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946240" y="2987640"/>
          <a:ext cx="3251520" cy="81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46240" y="2987640"/>
                    <a:ext cx="325152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106200" y="920880"/>
          <a:ext cx="8877600" cy="5657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200" y="920880"/>
                    <a:ext cx="8877600" cy="56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040" y="495360"/>
            <a:ext cx="780732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Narrow"/>
                <a:ea typeface="Lucida Sans Unicode"/>
              </a:rPr>
              <a:t>Objetivos Especí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93680" y="1782360"/>
            <a:ext cx="8361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ocializ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formações referentes ao processo de construção do PNRH e sobre o  SINGRE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otencializ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 participação da sociedade civil no processo de construção do PNRH mediante o fortalecimento da representação dos vários atores socia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dentific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s principais problemas e potencialidades das 12 regiões hidrográficas do País no que se refere ao SINGREH, ao PNRH e à Água;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Levant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ubsídios para a construção do PNR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3760" y="423720"/>
            <a:ext cx="780732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Narrow"/>
                <a:ea typeface="Lucida Sans Unicode"/>
              </a:rPr>
              <a:t>Resultados Espe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299880" y="1393560"/>
            <a:ext cx="848520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Articulação dos representantes da sociedade civil no Conselho Nacional de Recursos Hídricos, na CT-PNRH e nas CERs com os demais atores sociai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Mobilização dos participantes para atuar no processo de elaboração do PNRH a partir das instâncias de participação previstas no SINGREH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Elaboração de uma 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Agenda da Sociedade Civil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para o processo de construção do PNRH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Identificação de sugestões para o fortalecimento do SINGREH e do processo de construção PNRH; 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Sistematização dos aspectos relevantes relacionados aos recursos hídricos das 12 regiões hidrográficas brasileiras.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040" y="495360"/>
            <a:ext cx="780732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 Narrow"/>
                <a:ea typeface="Lucida Sans Unicode"/>
              </a:rPr>
              <a:t>Resultados Alcançados (1</a:t>
            </a: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Lucida Sans Unicode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29920" y="1774800"/>
            <a:ext cx="7807320" cy="42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Encontro e articulação dos representantes da sociedade civil nas diferentes instâncias colegiadas que deverão debater o PNRH – CNRH, CT-PNRH e C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ontinuidade e ampliação do processo contínuo de mobilização da sociedade na construção do PNR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evantamento de lacunas e aspectos relevantes para enriquecer o processo de mobilização social no âmbito do PNR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ugestões concretas para o fortalecimento do SINGREH,  a partir do incremento da prática da representativida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040" y="495360"/>
            <a:ext cx="780732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 Narrow"/>
                <a:ea typeface="Lucida Sans Unicode"/>
              </a:rPr>
              <a:t>Resultados Alcançado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680" y="1635120"/>
            <a:ext cx="844848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Aprofundamento na discussão sobre a participação no âmbito da construção de políticas públicas. Foram levantados aspectos genéricos da discussão tendo como foco a questão 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da participação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, extrapolando a especificidade do SINGRE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Identificação, para cada uma das 12 regiões hidrográficas, dos seguintes pont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- aspectos relevantes sobre a questão da águ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- principais desafios para a implementação do SINGREH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- estratégia dos representantes da sociedade civil para dar 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seqüência ao processo de mobilização para a 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strução do 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PNRH e para a consolidação do SINGRE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040" y="495360"/>
            <a:ext cx="780732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Lucida Sans Unicode"/>
              </a:rPr>
              <a:t>Resultados Alcançados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353520" y="1994040"/>
            <a:ext cx="8642520" cy="39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Para apresentação dos resultados, foram identificados comuns exemplos a partir dos trabalhos dos grupos, para o tema - 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incipais desafios para a implementação do SINGRE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rá apresentado, também, um exemplo de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genda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om a 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estratégia dos representantes da sociedade civil para dar seqüência ao processo de mobilização para a construção do PNRH e para a consolidação do SINGRE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1040" y="495360"/>
            <a:ext cx="780732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61960" indent="0" algn="ctr">
              <a:lnSpc>
                <a:spcPct val="93000"/>
              </a:lnSpc>
              <a:buNone/>
              <a:tabLst>
                <a:tab algn="l" pos="0"/>
                <a:tab algn="l" pos="561960"/>
                <a:tab algn="l" pos="1009800"/>
                <a:tab algn="l" pos="1459080"/>
                <a:tab algn="l" pos="1908000"/>
                <a:tab algn="l" pos="2357280"/>
                <a:tab algn="l" pos="2806560"/>
                <a:tab algn="l" pos="3255840"/>
                <a:tab algn="l" pos="3705120"/>
                <a:tab algn="l" pos="4154400"/>
                <a:tab algn="l" pos="4603680"/>
                <a:tab algn="l" pos="5052960"/>
                <a:tab algn="l" pos="5502240"/>
                <a:tab algn="l" pos="5951520"/>
                <a:tab algn="l" pos="6400800"/>
                <a:tab algn="l" pos="6850080"/>
                <a:tab algn="l" pos="7299360"/>
                <a:tab algn="l" pos="7748640"/>
                <a:tab algn="l" pos="8197920"/>
                <a:tab algn="l" pos="8647200"/>
                <a:tab algn="l" pos="9096480"/>
                <a:tab algn="l" pos="954576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Lucida Sans Unicode"/>
              </a:rPr>
              <a:t>Resultados Alcançados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247680" y="1634760"/>
            <a:ext cx="8431200" cy="46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Principais desafios para a implementação do SINGRE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crementar o processo de participação social de forma comprometida, através do empoderamento da sociedade civil e garantindo sua presença na definição da aplicação dos investimentos para os serviços e obras de recursos hídricos e de meio ambi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ior eqüidade de força nas instâncias de participação do SINGREH, reforçando a descentralização da tomada de decisão, através da redefinição dos critérios de representatividade nos conselhos (nacional e estadual), tornado-os mais deliberativos e paritári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1040" y="495360"/>
            <a:ext cx="780732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61960" indent="0" algn="ctr">
              <a:lnSpc>
                <a:spcPct val="93000"/>
              </a:lnSpc>
              <a:buNone/>
              <a:tabLst>
                <a:tab algn="l" pos="0"/>
                <a:tab algn="l" pos="561960"/>
                <a:tab algn="l" pos="1009800"/>
                <a:tab algn="l" pos="1459080"/>
                <a:tab algn="l" pos="1908000"/>
                <a:tab algn="l" pos="2357280"/>
                <a:tab algn="l" pos="2806560"/>
                <a:tab algn="l" pos="3255840"/>
                <a:tab algn="l" pos="3705120"/>
                <a:tab algn="l" pos="4154400"/>
                <a:tab algn="l" pos="4603680"/>
                <a:tab algn="l" pos="5052960"/>
                <a:tab algn="l" pos="5502240"/>
                <a:tab algn="l" pos="5951520"/>
                <a:tab algn="l" pos="6400800"/>
                <a:tab algn="l" pos="6850080"/>
                <a:tab algn="l" pos="7299360"/>
                <a:tab algn="l" pos="7748640"/>
                <a:tab algn="l" pos="8197920"/>
                <a:tab algn="l" pos="8647200"/>
                <a:tab algn="l" pos="9096480"/>
                <a:tab algn="l" pos="954576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Lucida Sans Unicode"/>
              </a:rPr>
              <a:t>Resultados Alcançados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95120" y="1600200"/>
            <a:ext cx="841248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Principais desafios para a implementação do SINGREH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;(cont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mplementar um processo de comunicação com foco na forma de apresentação, processamento e retorno da informação, buscando clareza e linguagem acessível para todo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ocializar dados e informações referentes à gestão de Recursos Hídricos e do Meio Ambient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stimular implantação dos comitês de bacia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arantir que os recursos oriundos da cobrança sejam revertidos para gestão de recursos hídricos e do meio ambient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040" y="495360"/>
            <a:ext cx="780732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61960" indent="0" algn="ctr">
              <a:lnSpc>
                <a:spcPct val="93000"/>
              </a:lnSpc>
              <a:buNone/>
              <a:tabLst>
                <a:tab algn="l" pos="0"/>
                <a:tab algn="l" pos="561960"/>
                <a:tab algn="l" pos="1009800"/>
                <a:tab algn="l" pos="1459080"/>
                <a:tab algn="l" pos="1908000"/>
                <a:tab algn="l" pos="2357280"/>
                <a:tab algn="l" pos="2806560"/>
                <a:tab algn="l" pos="3255840"/>
                <a:tab algn="l" pos="3705120"/>
                <a:tab algn="l" pos="4154400"/>
                <a:tab algn="l" pos="4603680"/>
                <a:tab algn="l" pos="5052960"/>
                <a:tab algn="l" pos="5502240"/>
                <a:tab algn="l" pos="5951520"/>
                <a:tab algn="l" pos="6400800"/>
                <a:tab algn="l" pos="6850080"/>
                <a:tab algn="l" pos="7299360"/>
                <a:tab algn="l" pos="7748640"/>
                <a:tab algn="l" pos="8197920"/>
                <a:tab algn="l" pos="8647200"/>
                <a:tab algn="l" pos="9096480"/>
                <a:tab algn="l" pos="954576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Lucida Sans Unicode"/>
              </a:rPr>
              <a:t>Resultados Alcançados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82600" y="1447560"/>
            <a:ext cx="8570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Principais desafios para a implementação do SINGREH;(cont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rtalecer articulação entre o Sistema Nacional e Estaduais de Recursos Hídricos, bem como entre o CNRH, os CERHs e os Comitês de Bacia Hidrográf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armonizar, compatibilizar e integrar as ações governamentais nos vários níveis e setores, transpondo a incompatibilidade aparente da estrutura da Política Nacional de recursos hídricos com o quadro administrativo brasileir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riar estratégias para a sustentabilidade financeira do SINGRE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8280" y="1730160"/>
            <a:ext cx="84661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2112"/>
              </a:spcBef>
              <a:spcAft>
                <a:spcPts val="1063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ficina Nacional da Sociedade Civil no PNR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12"/>
              </a:spcBef>
              <a:spcAft>
                <a:spcPts val="1063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Ampliando o Debate em Torno das Águas do 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12"/>
              </a:spcBef>
              <a:spcAft>
                <a:spcPts val="1063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17 a 19 de fevereiro de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12"/>
              </a:spcBef>
              <a:spcAft>
                <a:spcPts val="1063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sultados Prelimina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12"/>
              </a:spcBef>
              <a:spcAft>
                <a:spcPts val="1063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1040" y="495360"/>
            <a:ext cx="780732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61960" indent="0" algn="ctr">
              <a:lnSpc>
                <a:spcPct val="93000"/>
              </a:lnSpc>
              <a:buNone/>
              <a:tabLst>
                <a:tab algn="l" pos="0"/>
                <a:tab algn="l" pos="561960"/>
                <a:tab algn="l" pos="1009800"/>
                <a:tab algn="l" pos="1459080"/>
                <a:tab algn="l" pos="1908000"/>
                <a:tab algn="l" pos="2357280"/>
                <a:tab algn="l" pos="2806560"/>
                <a:tab algn="l" pos="3255840"/>
                <a:tab algn="l" pos="3705120"/>
                <a:tab algn="l" pos="4154400"/>
                <a:tab algn="l" pos="4603680"/>
                <a:tab algn="l" pos="5052960"/>
                <a:tab algn="l" pos="5502240"/>
                <a:tab algn="l" pos="5951520"/>
                <a:tab algn="l" pos="6400800"/>
                <a:tab algn="l" pos="6850080"/>
                <a:tab algn="l" pos="7299360"/>
                <a:tab algn="l" pos="7748640"/>
                <a:tab algn="l" pos="8197920"/>
                <a:tab algn="l" pos="8647200"/>
                <a:tab algn="l" pos="9096480"/>
                <a:tab algn="l" pos="954576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Lucida Sans Unicode"/>
              </a:rPr>
              <a:t>Resultados Alcançados 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Lucida Sans Unicode"/>
              </a:rPr>
              <a:t>Exemplo de age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8840" y="1006560"/>
            <a:ext cx="780732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Narrow"/>
                <a:ea typeface="Lucida Sans Unicode"/>
              </a:rPr>
              <a:t>Objetivo G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6240" y="2187360"/>
            <a:ext cx="8361360" cy="31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Levantar subsídios para auxiliar no estabelecimento dos cenários para os recursos hídricos, e de diretrizes, metas e programas pelo PNRH com base no planejamento dos segmentos usuários, tanto públicos como priv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495360"/>
            <a:ext cx="780732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Narrow"/>
                <a:ea typeface="Lucida Sans Unicode"/>
              </a:rPr>
              <a:t>Objetivos Específic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64960" y="1476000"/>
            <a:ext cx="83613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-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ivel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s participantes em relação ao processo estabelecido para a construção d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NRH mediante a socialização das informações referente ao mesmo e ao SINGRE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-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mpli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 participação do segmento usuário no processo de construção do PNRH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diante o fortalecimento da representação dos vários atores socia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-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dentific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s principais problemas e potencialidades das 12 regiões hidrográficas  do País no que se refere ao SINGREH, e à Ág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5960" y="301680"/>
            <a:ext cx="780732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Narrow"/>
                <a:ea typeface="Lucida Sans Unicode"/>
              </a:rPr>
              <a:t>Objetivos Específico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200" y="1147320"/>
            <a:ext cx="8933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 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Levant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ubsídios para a construção do PNRH, quais sej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) identificação dos principais fatores relacionados à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água que interferem na dinâmica dos setores usuári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) identificação dos fatores ambientais, tecnológicos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lítico-sociais, legais e macro-econômicos que estã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correndo e que deverão apontar alteraçõ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gnificativas no comportamento dos seto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) identificação de experiências de compatibilização d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os de recursos hídricos bem sucedidas;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)  outros tópicos julgados relevantes pelos setor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uários da ág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53760" y="1341000"/>
            <a:ext cx="78087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il dos Participan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08120" y="1251000"/>
          <a:ext cx="7818480" cy="47829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-2822400" y="7232760"/>
          <a:ext cx="2879640" cy="25192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285840" y="1174680"/>
          <a:ext cx="8462880" cy="48164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-2822400" y="7232760"/>
          <a:ext cx="2879640" cy="25192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228600" y="882720"/>
          <a:ext cx="9794880" cy="6018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882720"/>
                    <a:ext cx="979488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