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49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34960" y="9107280"/>
            <a:ext cx="31654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3FB2-9EE7-45E6-8817-49B47AC08F5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4135320" y="9107640"/>
            <a:ext cx="31654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198-ECC5-4E95-B6B5-212155ED7DA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35320" y="9107640"/>
            <a:ext cx="31654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445B-2B49-4A77-8B18-3826E41DABC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02F-2A1C-4DC2-896F-8426B3EA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648-1EBB-43A3-B83C-149BFFBD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588-E542-4FF9-8EC0-7160E6E1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E3C-FE63-4F26-80F2-6260BBC7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ADA-41AE-41AB-B53E-4157F338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51A-9FA3-4718-854A-EBE54799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473-00DC-4711-AEFB-796A1F8E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A9F-D134-4C71-A684-445B173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04A-BDA0-4CC6-8E0D-DC29830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303-BF9A-401C-8205-64C88FBD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EF1-EDBA-4795-ADF4-92E3D62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FAB-24E9-4C5E-9B2B-FC9A0824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1579-38A6-4848-8D49-F6B8FB8E8A6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6081614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152280"/>
            <a:ext cx="884556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NSTITUTO  RIO  GRANDENSE  DO  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alery Pugatch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51)3288.041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ugatch@irga.rs.gov.b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www.irga.rs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0" y="609588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Tahoma"/>
              </a:rPr>
              <a:t>IRGA – Estação Experimental do Arr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Tahoma"/>
              </a:rPr>
              <a:t>Cachoeirinha,  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071720" y="395280"/>
            <a:ext cx="7772400" cy="63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Lei  4.771 /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ódigo Fl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Art. 2º. Consideram-se de preservação permanente, pelo só efeito desta Lei, as florestas e demais form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vegetação natural situa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Arial"/>
              </a:rPr>
              <a:t>a) ao longo dos rios ou de outro qualquer curso d'água, em faixa marginal cuja largura mínima se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1 - de 5 (cinco) metros para os rios de menos de 10 (dez) metros de larg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2 - igual à metade da largura dos cursos que meçam de 10 (dez) a 200 (duzentos) metr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distancia entre as marge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3 - de 100 (cem) metros para todos os cursos cuja largura seja superior a 200 (duzentos) 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( Não  define  Curso  Dágu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609100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571680" y="1009800"/>
            <a:ext cx="800100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azões  para  Canal  de  Irrig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ão  ser  Curso  Dágu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- Necessita   Outorga  para  exi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- É  uma construção de Engenharia (projeto c/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- Não é uma drenagem natural  (talv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- Não tem Bacia de Contrib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- Necessita manutenções periódicas com máqui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-  Tem vazão e velocidades definidas (calcul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- Funciona apenas 3 meses por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785880" y="642960"/>
            <a:ext cx="7772400" cy="70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nama  302 /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Art 3º Constitui Área de Preservação Permanente a área com largura mínima, em projeção horizontal, no entorno dos reservatórios artificiais, medida a partir do nível máximo normal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I - trinta metros para os reservatórios artificiais situados em áreas urbanas consolidadas e c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metros para áreas rur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II - quinze metros, no mínimo, para os reservatórios artificiais de geração de energia elétrica com até dez hectares, sem prejuízo da compensação 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III - quinze metros, no mínimo, para reservatórios artificiais não utilizados em abastecimento público ou geração de energia elétrica, com até vinte hectares de superfície e localizados em área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85880" y="642960"/>
            <a:ext cx="777240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nama  302 /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89" name="Retângulo 3"/>
          <p:cNvSpPr/>
          <p:nvPr/>
        </p:nvSpPr>
        <p:spPr>
          <a:xfrm>
            <a:off x="2286000" y="172080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§ 6º Não se aplicam as disposições deste artigo às acumulações artificiais de água, inferiore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cinco hectares de superfície, desde que não resultantes do barramento ou represame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00"/>
                </a:solidFill>
                <a:uFillTx/>
                <a:latin typeface="Arial"/>
              </a:rPr>
              <a:t>cursos d`água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 não localizadas em Área de Preservação Permanente, à exceção daqu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destinadas ao abasteciment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000080" y="1143000"/>
            <a:ext cx="777240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nama  302 /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3"/>
          <p:cNvSpPr/>
          <p:nvPr/>
        </p:nvSpPr>
        <p:spPr>
          <a:xfrm>
            <a:off x="2714760" y="2571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Também  atribui várias definiçõ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oré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00"/>
                </a:solidFill>
                <a:uFillTx/>
                <a:latin typeface="Arial"/>
              </a:rPr>
              <a:t>Não  define  Curso  D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286000" y="2400480"/>
            <a:ext cx="63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20060910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1928880" y="1571760"/>
            <a:ext cx="670536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ificuldade  de  Implantação  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Novos  Açudes  para  Irri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vido  à existência  de 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m   “Cursos  Dágua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286000" y="2400480"/>
            <a:ext cx="632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20060910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928880" y="1571760"/>
            <a:ext cx="670536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esmo  assi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 implantação de novos  aç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Gera  metragem de  APPs no se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Superiores  às 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214280" y="517680"/>
            <a:ext cx="75582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FICINA  10  ANOS  CNRH   ( 200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opos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*  Que seja definido claramente o que é  Curso  D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*  Que sejam levados em conta os diferentes biomas existentes no país em suas 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0609100099"/>
          <p:cNvPicPr/>
          <p:nvPr/>
        </p:nvPicPr>
        <p:blipFill>
          <a:blip r:embed="rId1"/>
          <a:stretch/>
        </p:blipFill>
        <p:spPr>
          <a:xfrm>
            <a:off x="-357120" y="0"/>
            <a:ext cx="9648720" cy="7101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666880" y="533520"/>
            <a:ext cx="64771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38080" y="471600"/>
            <a:ext cx="8305920" cy="67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oposta   de  Definição  de  Curso  Dágu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A mesma  da  Assembléia Legislativa 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curso de água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: fluxo natural de água, não totalmente dependente do escoamento superficial da vizinhança imediata, com a presença de uma ou mais nascentes, correndo em leito entre margens visíve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vazão contínua, desembocando em curs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água maior, lago ou mar, podendo també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esaparecer  sob a superfície do solo, s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também considerados cursos de água a corr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ribeirão, a ribeira, o regato, o arro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riacho, o córrego, o boqueir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sanga e o laje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IrgaLogo100x91Sharp"/>
          <p:cNvPicPr/>
          <p:nvPr/>
        </p:nvPicPr>
        <p:blipFill>
          <a:blip r:embed="rId2"/>
          <a:stretch/>
        </p:blipFill>
        <p:spPr>
          <a:xfrm>
            <a:off x="8153280" y="1429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006081614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152280"/>
            <a:ext cx="884556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NSTITUTO  RIO  GRANDENSE  DO  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Valery Pugatch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51)3288.041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ugatch@irga.rs.gov.b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www.irga.rs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3"/>
          <p:cNvSpPr/>
          <p:nvPr/>
        </p:nvSpPr>
        <p:spPr>
          <a:xfrm>
            <a:off x="14292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Tahoma"/>
              </a:rPr>
              <a:t>IRGA – Estação Experimental do Arro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Tahoma"/>
              </a:rPr>
              <a:t>Cachoeirinha,  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914400" y="1219320"/>
            <a:ext cx="777240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BRASIL:        12  Milhões  T  de  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Rio  Grande  do  Sul:     7  Milhões  T  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(   &gt;  60 %  da produção nacional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2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27"/>
          <p:cNvSpPr/>
          <p:nvPr/>
        </p:nvSpPr>
        <p:spPr>
          <a:xfrm>
            <a:off x="228600" y="5486400"/>
            <a:ext cx="861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371600" y="4876920"/>
            <a:ext cx="746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29"/>
          <p:cNvSpPr/>
          <p:nvPr/>
        </p:nvSpPr>
        <p:spPr>
          <a:xfrm>
            <a:off x="370512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030"/>
          <p:cNvGraphicFramePr/>
          <p:nvPr/>
        </p:nvGraphicFramePr>
        <p:xfrm>
          <a:off x="7162920" y="6248520"/>
          <a:ext cx="173340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248520"/>
                    <a:ext cx="1733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1031"/>
          <p:cNvSpPr/>
          <p:nvPr/>
        </p:nvSpPr>
        <p:spPr>
          <a:xfrm>
            <a:off x="370512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2"/>
          <p:cNvSpPr/>
          <p:nvPr/>
        </p:nvSpPr>
        <p:spPr>
          <a:xfrm>
            <a:off x="408636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033"/>
          <p:cNvGraphicFramePr/>
          <p:nvPr/>
        </p:nvGraphicFramePr>
        <p:xfrm>
          <a:off x="304920" y="5867280"/>
          <a:ext cx="97128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0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867280"/>
                    <a:ext cx="971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34" descr="BaciasRS20050429SingleGif"/>
          <p:cNvPicPr/>
          <p:nvPr/>
        </p:nvPicPr>
        <p:blipFill>
          <a:blip r:embed="rId5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15"/>
          <p:cNvSpPr/>
          <p:nvPr/>
        </p:nvSpPr>
        <p:spPr>
          <a:xfrm>
            <a:off x="357120" y="5143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Um  Milhão  de  Hec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100%  irrig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24000" y="476280"/>
            <a:ext cx="843912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200703011049StephanPugatch"/>
          <p:cNvPicPr/>
          <p:nvPr/>
        </p:nvPicPr>
        <p:blipFill>
          <a:blip r:embed="rId1"/>
          <a:stretch/>
        </p:blipFill>
        <p:spPr>
          <a:xfrm>
            <a:off x="0" y="-14292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285920" y="1714680"/>
            <a:ext cx="8077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ângulo 5"/>
          <p:cNvSpPr/>
          <p:nvPr/>
        </p:nvSpPr>
        <p:spPr>
          <a:xfrm>
            <a:off x="0" y="61437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00"/>
                </a:solidFill>
                <a:latin typeface="Tahoma"/>
              </a:rPr>
              <a:t>Barragem do Capan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00"/>
                </a:solidFill>
                <a:latin typeface="Tahoma"/>
              </a:rPr>
              <a:t>Cachoeira do Sul,  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7"/>
          <p:cNvSpPr/>
          <p:nvPr/>
        </p:nvSpPr>
        <p:spPr>
          <a:xfrm>
            <a:off x="1643040" y="2714760"/>
            <a:ext cx="59292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Aproximad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10.000  barragens  de  irrig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E  dezenas de milhares d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1" lang="pt-BR" sz="3200" spc="-1" strike="noStrike">
                <a:solidFill>
                  <a:srgbClr val="ffff00"/>
                </a:solidFill>
                <a:latin typeface="Garamond"/>
              </a:rPr>
              <a:t>de  canais  de  irrig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785880" y="1071720"/>
            <a:ext cx="7772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m 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m  função da necessida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Licenciamento  Ambiental,   Outorg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antação  de  AP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oi  criada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omissão  de  Recursos Hídricos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eio 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214280" y="1143000"/>
            <a:ext cx="7772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Planejamento  Estratégic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Do  Setor  de  Produção  de  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eta  Fin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btenção  da  ISO  1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85880" y="1071720"/>
            <a:ext cx="7772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etas  Intermediár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Definição   de  Curso  Dágu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m função de exigências de 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m    Canais  de  Irri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85840" y="1071720"/>
            <a:ext cx="827244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Conama  303/200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rt. 3º Constitui Área de Preservação Permanente a área situa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 - em faixa marginal, medida a partir do nível mais alto, em projeção horizontal, com largura mínima,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trinta metros, para o </a:t>
            </a:r>
            <a:r>
              <a:rPr b="0" lang="pt-BR" sz="1600" spc="-1" strike="noStrike" u="sng">
                <a:solidFill>
                  <a:srgbClr val="ffff00"/>
                </a:solidFill>
                <a:uFillTx/>
                <a:latin typeface="Arial"/>
              </a:rPr>
              <a:t>curso d`água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com menos de dez metros de larg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b) cinqüenta metros, para o </a:t>
            </a:r>
            <a:r>
              <a:rPr b="0" lang="pt-BR" sz="1600" spc="-1" strike="noStrike" u="sng">
                <a:solidFill>
                  <a:srgbClr val="ffff00"/>
                </a:solidFill>
                <a:uFillTx/>
                <a:latin typeface="Arial"/>
              </a:rPr>
              <a:t>curso d`água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om dez a cinqüenta metros de larg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) cem metros, para o </a:t>
            </a:r>
            <a:r>
              <a:rPr b="0" lang="pt-BR" sz="1600" spc="-1" strike="noStrike" u="sng">
                <a:solidFill>
                  <a:srgbClr val="ffff00"/>
                </a:solidFill>
                <a:uFillTx/>
                <a:latin typeface="Arial"/>
              </a:rPr>
              <a:t>curso d`água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om cinqüenta a duzentos metros de larg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d) duzentos metros, para o </a:t>
            </a:r>
            <a:r>
              <a:rPr b="0" lang="pt-BR" sz="1600" spc="-1" strike="noStrike" u="sng">
                <a:solidFill>
                  <a:srgbClr val="ffff00"/>
                </a:solidFill>
                <a:uFillTx/>
                <a:latin typeface="Arial"/>
              </a:rPr>
              <a:t>curso d`água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om duzentos a seiscentos metros de larg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) quinhentos metros, para o </a:t>
            </a:r>
            <a:r>
              <a:rPr b="0" lang="pt-BR" sz="1600" spc="-1" strike="noStrike" u="sng">
                <a:solidFill>
                  <a:srgbClr val="ffff00"/>
                </a:solidFill>
                <a:uFillTx/>
                <a:latin typeface="Arial"/>
              </a:rPr>
              <a:t>curso d`água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om mais de seiscentos metros de larg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785880" y="1071720"/>
            <a:ext cx="7772400" cy="53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Art. 2º Para os efeitos desta Resolução, são adotadas as seguintes defin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I - nível mais alto: nível alcançado por ocasião da cheia sazonal do curso d`águ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II - nascente ou olho d`água: local onde aflora naturalm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III – vereda,  morro,  montanha, base de morro, linha de cumeada, restinga, manguezal, duna, tabuleiro,  chapada, escarpa,  área urbana consolid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00"/>
                </a:solidFill>
                <a:uFillTx/>
                <a:latin typeface="Arial"/>
              </a:rPr>
              <a:t>Não  é  definido   Curso  Dágu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IrgaLogo100x91Sharp"/>
          <p:cNvPicPr/>
          <p:nvPr/>
        </p:nvPicPr>
        <p:blipFill>
          <a:blip r:embed="rId1"/>
          <a:stretch/>
        </p:blipFill>
        <p:spPr>
          <a:xfrm>
            <a:off x="0" y="59515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6:16:52Z</dcterms:created>
  <dc:creator>Valery</dc:creator>
  <dc:description/>
  <dc:language>en-US</dc:language>
  <cp:lastModifiedBy>Valery Pugatch</cp:lastModifiedBy>
  <dcterms:modified xsi:type="dcterms:W3CDTF">2009-11-29T21:44:34Z</dcterms:modified>
  <cp:revision>89</cp:revision>
  <dc:subject/>
  <dc:title>Slide 1</dc:title>
</cp:coreProperties>
</file>