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0D37-20CE-438B-A925-657B46C04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D4CF-DC6A-4663-BCE5-3B56ACC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96D4-A5F0-439B-9278-F768F63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31BA-3F59-4C2C-BF55-D35A57298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7CC1-0D0F-413E-87A4-1F3A849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B455-1B87-4BB8-83DC-176D03A7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D265-4795-46AF-B33F-A96A2A1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EA9D-4D09-4978-A48D-C3227646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62F3-C357-492A-B5A5-583AEE94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12D8-97A8-41A3-9AB6-208E94F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6387-2C05-4DF9-B8EA-C32F5568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4588-60C2-44F4-8E72-1AAC0EC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CD47-162B-4F5F-B0C9-B13173DBE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O DESAFIO DA IMPLANTAÇÃO DA IMPLEMENTAÇÃO DA LEI N° 10.881, DE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1104840"/>
            <a:ext cx="4800600" cy="78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35440" y="3645000"/>
            <a:ext cx="49528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NDREA FRANCOMANO –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2247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IFICADO PROCESSO DE SELEÇÃO DE PESSO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048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2080" y="600084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87400" y="2457360"/>
            <a:ext cx="563904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362320"/>
            <a:ext cx="459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Maio  – Avaliação AGEVAP (CA+COPP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01680" y="4815000"/>
            <a:ext cx="56581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Oficina CEIVAP /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9080" y="321948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48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AGÊNCIA NACIONAL DE ÁGU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7960" y="685800"/>
            <a:ext cx="860904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1351080"/>
            <a:ext cx="40384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1390680"/>
            <a:ext cx="4267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1,7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M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CIMEN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5 MAR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RROGAÇÃO 31 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SÃO CON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048280"/>
            <a:ext cx="367668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T CACG + AGEVAP +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2920" y="5181480"/>
            <a:ext cx="45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74336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1390680"/>
            <a:ext cx="4267080" cy="2871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RPO TÉCNICO: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ORDENADOR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ORDENADOR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SPECIALISTA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DE SOB COMOD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92440" y="4503600"/>
            <a:ext cx="4267080" cy="2037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PROCES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PESSO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OS RECUR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APLICAR OS RECUR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PRESTAR CONTA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40328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1390680"/>
            <a:ext cx="4267080" cy="203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ORMAS PESSO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245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464/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121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8920" y="4008600"/>
            <a:ext cx="508644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ISSÃO DE AVAL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ELATÓRI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EVISÃO DE METAS E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ALENDÁRIO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AJUSTES CONTRATU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1415880"/>
            <a:ext cx="4267080" cy="162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ORMAS COMPR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244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424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57360" y="1162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RANSFERÊNCIA DOS RECURSOS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46280" y="1866960"/>
          <a:ext cx="604188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6280" y="1866960"/>
                    <a:ext cx="604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2103480"/>
            <a:ext cx="727704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POIOS CONTÍNUOS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ADMINISTR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TÉCNICOS DA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NTERLOCUÇÃO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NFORMAÇÕE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TREINAMENTO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5600" y="2368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4240" y="32702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45120" y="2368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16520" y="32702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07000" y="23875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64240" y="36320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CGTI-SPOA</cp:lastModifiedBy>
  <dcterms:modified xsi:type="dcterms:W3CDTF">2006-05-16T14:13:08Z</dcterms:modified>
  <cp:revision>824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