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7516-672A-4ABB-90F7-C3BEE4699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F161-8D0B-4A3A-BADA-0786CF8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F3AC-0CDF-4491-8CF3-58C5426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4351-8AE1-4449-82B8-F75E324B4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DA9F-C44C-440F-9041-DAA41C65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6633-05B8-40FF-95D3-0436BD6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1EF7-2C00-473A-BA73-AA4E7E67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7FCD-58C3-42AA-8D46-82AB842A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A823-3E78-4E31-A545-0FCF1409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F01E-8BD8-473E-BE1A-05CF3C9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0AA3-16AA-4CA4-A477-B25F64D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66DA-691F-4CC1-99F5-D55C3A2A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7BFE-6DC6-44E5-B0CF-856905273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O DESAFIO DA IMPLANTAÇÃO DA IMPLEMENTAÇÃO DA LEI N° 10.881, DE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62280" y="1104840"/>
            <a:ext cx="4800600" cy="785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35440" y="3645000"/>
            <a:ext cx="49528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NDREA FRANCOMANO –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2247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IFICADO PROCESSO DE SELEÇÃO DE PESSO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048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2080" y="600084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2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87400" y="2457360"/>
            <a:ext cx="563904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362320"/>
            <a:ext cx="459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Maio  – Avaliação AGEVAP (CA+COPP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01680" y="4815000"/>
            <a:ext cx="56581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Oficina CEIVAP /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29080" y="321948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482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AGÊNCIA NACIONAL DE ÁGU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7960" y="685800"/>
            <a:ext cx="8609040" cy="59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1351080"/>
            <a:ext cx="4038480" cy="2819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1390680"/>
            <a:ext cx="4267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1,7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EM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CIMENTO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5 MAR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RROGAÇÃO 31 D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SÃO CON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048280"/>
            <a:ext cx="367668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T CACG + AGEVAP +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52920" y="5181480"/>
            <a:ext cx="459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74336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080" y="1390680"/>
            <a:ext cx="4267080" cy="2871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RPO TÉCNICO: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ORDENADOR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OORDENADOR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SPECIALISTA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DE SOB COMOD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92440" y="4503600"/>
            <a:ext cx="4267080" cy="2037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PROCES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PESSO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GERIR OS RECUR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APLICAR OS RECURS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O PRESTAR CONTA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40328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1390680"/>
            <a:ext cx="4267080" cy="203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ORMAS PESSO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245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464/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121/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8920" y="4008600"/>
            <a:ext cx="508644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OMISSÃO DE AVAL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ELATÓRIO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REVISÃO DE METAS E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CALENDÁRIO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AJUSTES CONTRATU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1415880"/>
            <a:ext cx="4267080" cy="162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ORMAS COMPR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244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ESOLUÇÃO Nº 424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57360" y="1162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RANSFERÊNCIA DOS RECURSOS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46280" y="1866960"/>
          <a:ext cx="604188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6280" y="1866960"/>
                    <a:ext cx="604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2103480"/>
            <a:ext cx="727704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POIOS CONTÍNUOS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ADMINISTR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TÉCNICOS DA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NTERLOCUÇÃO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INFORMAÇÕE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7b46d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b46d0"/>
                </a:solidFill>
                <a:latin typeface="Arial"/>
              </a:rPr>
              <a:t>TREINAMENTO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5600" y="2368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4240" y="32702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45120" y="23684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16520" y="32702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07000" y="23875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64240" y="36320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CGTI-SPOA</cp:lastModifiedBy>
  <dcterms:modified xsi:type="dcterms:W3CDTF">2006-05-16T14:13:08Z</dcterms:modified>
  <cp:revision>824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