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403-29A0-43BF-B679-9CF99BB2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1AE-F780-4F4B-B71F-F618BF6B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496-5E7C-46AD-B68C-94299DE7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B39-BF24-440B-BDC0-4E43A2EF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E0EC-18D2-4403-817F-30D3E403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70C-E413-44DC-A43E-7D173B1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B6A-0E2C-4318-A05C-E37B3E2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BC5F-F4A1-4530-968D-7F0A358D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507A-9B76-4FEC-94A4-39E2EEB0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9F86-504F-4474-B9E9-D7F56BE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ECD6-A4EB-4A8D-83AF-7ED1CFDE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563-4730-4A53-8B8E-5A931296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4103-2973-48A6-B625-3F3A770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AD9-6713-4646-9E0E-AB72514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05E3-C98C-41ED-A5E0-83291A4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FD3-3FFB-4CD2-A3BE-2C82DF42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892-EE27-4DE2-81DC-8B31AC8B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B97-32C0-459D-B9FA-A79F01E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1A9-B641-489E-8193-3A1FBCC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845-DD38-4058-AF42-2AC07D9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973-DE58-40A8-812B-50EAD3E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860-1F0C-43F9-9E7F-0587D55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68A-2553-4310-9B0E-875D6EB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6D5-59E9-417D-BB27-1AD3BD11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4FC6-BBCB-4A6D-8464-8F430840AE7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Brasil - Um país de to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111600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99F-B345-4EE5-B532-EA8AE48CDA7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ario.almeida@dnpm.gov.br" TargetMode="External"/><Relationship Id="rId2" Type="http://schemas.openxmlformats.org/officeDocument/2006/relationships/hyperlink" Target="mailto:Dario.almeida@dnpm.gov.br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656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CNRH - CTPOAR</a:t>
            </a:r>
            <a:br>
              <a:rPr sz="32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GRUPO DE TRABALHO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57720"/>
            <a:ext cx="82087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Eng. de Minas Dário Moraes de Almeida DNPM/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09/08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5950080"/>
            <a:ext cx="7199280" cy="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-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276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Propo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2670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084640"/>
            <a:ext cx="631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Result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79520"/>
            <a:ext cx="8610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COMPOSIÇÃO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GOV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SOCIE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USUÁRIOS </a:t>
            </a:r>
            <a:r>
              <a:rPr b="1" i="1" lang="pt-BR" sz="2800" spc="-1" strike="noStrike">
                <a:solidFill>
                  <a:srgbClr val="ffffff"/>
                </a:solidFill>
                <a:latin typeface="Arial Black"/>
              </a:rPr>
              <a:t>(EMPRESAS MINER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6028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HISTÓRICO DAS REUNI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 DE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CRITÉ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DETALHAMENTO DO PU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QUESTIONAMEN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479520"/>
            <a:ext cx="8610480" cy="70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JURÍD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ROPOSTA DE RESOL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MANUAL TÉCN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TERMO DE REFERÊ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79520"/>
            <a:ext cx="8610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TÉCN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O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ETALH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REGIONA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OCUMENTOS REFERENTES             A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INCIPAIS QUESTIONAMEN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852640"/>
            <a:ext cx="860436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JURÍD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CLASSIFICAÇÃO  DE POR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IMPACTOS  N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79520"/>
            <a:ext cx="88390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OPOSIÇÕES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SIMPL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DOCUMENTOS TÉCNICOS (R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SUÁRIOS MÚLTI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MANUTENÇÃO  DA     QUALIDADE 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TILIZAÇÃO RACIONAL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79520"/>
            <a:ext cx="8610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QUEST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ff0033"/>
                </a:solidFill>
                <a:uFillTx/>
                <a:latin typeface="Arial Black"/>
              </a:rPr>
              <a:t>d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1"/>
              </a:rPr>
              <a:t>ario.almeida@dnpm.gov.b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2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(048) 216 23 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00:56:08Z</dcterms:created>
  <dc:creator>Peterson</dc:creator>
  <dc:description/>
  <dc:language>en-US</dc:language>
  <cp:lastModifiedBy>CGTI-SPOA</cp:lastModifiedBy>
  <cp:lastPrinted>2002-05-06T11:43:08Z</cp:lastPrinted>
  <dcterms:modified xsi:type="dcterms:W3CDTF">2005-08-15T20:07:50Z</dcterms:modified>
  <cp:revision>43</cp:revision>
  <dc:subject/>
  <dc:title>Apresentação do PowerPoint</dc:title>
</cp:coreProperties>
</file>