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6E94-BEC9-4A77-8592-0E6E8D4C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07E7-5D5E-40A2-B07F-6F5AD084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B4A8-47F1-45D7-AF0E-DBD6CD72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3127-FA9E-41EB-A8CB-09F52F31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86FD-99ED-492F-B3FA-44908A6B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73A4-6640-413B-995A-B002E945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A613-4E3D-4E78-BF3D-C8AEE942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639F-A40E-4C0D-A902-845448C7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FC40-C76B-4EF0-9D73-48F420B4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EBF0-0CAE-4E98-9E99-6F28A13F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C4D6-4667-47B8-ADF1-26C75020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D11-6E9F-43F9-915D-687ECEC1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B708-8F4E-4083-8253-CEA98123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D328-D57D-48B2-90E4-452F7C4A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68DE-1CF3-4EB9-A09C-A325CA2C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C713-F8B2-4DA3-860D-91785672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E98A-C34D-4684-98BF-37B537BE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C3B2-E3A1-46A4-BB3E-7798C0A2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6C59-1A26-45AF-B004-E4B45D3B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E0A-427B-4EA0-BE22-C044757F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AB1B-1151-4D9B-BD7D-BFC06BAF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60B-D0A4-4753-81A7-FB4E3F74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C3D-0F41-405D-AB31-55841E37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5A48-DC44-4DB0-B460-705BFDAF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rasil.gov.br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A1A1-678F-4EF4-813F-B1E8CFB070E1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Brasil - Um país de todo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28000" y="6237360"/>
            <a:ext cx="1116000" cy="40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AECA-4E35-4802-B0F3-7FACF6B86CA7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Dario.almeida@dnpm.gov.br" TargetMode="External"/><Relationship Id="rId2" Type="http://schemas.openxmlformats.org/officeDocument/2006/relationships/hyperlink" Target="mailto:Dario.almeida@dnpm.gov.br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486560" cy="1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pt-BR" sz="3200" spc="-1" strike="noStrike">
                <a:solidFill>
                  <a:srgbClr val="ffff00"/>
                </a:solidFill>
                <a:latin typeface="Arial Black"/>
              </a:rPr>
              <a:t>CNRH - CTPOAR</a:t>
            </a:r>
            <a:br>
              <a:rPr sz="3200"/>
            </a:br>
            <a:r>
              <a:rPr b="1" i="1" lang="pt-BR" sz="3200" spc="-1" strike="noStrike">
                <a:solidFill>
                  <a:srgbClr val="ffff00"/>
                </a:solidFill>
                <a:latin typeface="Arial Black"/>
              </a:rPr>
              <a:t>GRUPO DE TRABALHO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pt-BR" sz="4400" spc="-1" strike="noStrike">
                <a:solidFill>
                  <a:srgbClr val="00ffff"/>
                </a:solidFill>
                <a:latin typeface="Arial Black"/>
              </a:rPr>
              <a:t>Plano de Utilização da Água na Mineração PU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692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3357720"/>
            <a:ext cx="820872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 Unicode MS"/>
              </a:rPr>
              <a:t>Eng. de Minas Dário Moraes de Almeida DNPM/S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 Unicode MS"/>
              </a:rPr>
              <a:t>09/08/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4360" y="5950080"/>
            <a:ext cx="7199280" cy="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pt-BR" sz="4400" spc="-1" strike="noStrike">
                <a:solidFill>
                  <a:srgbClr val="00ffff"/>
                </a:solidFill>
                <a:latin typeface="Arial Black"/>
              </a:rPr>
              <a:t>Plano de Utilização da Água na Mineração - PU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692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2767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Propost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27280" y="42670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Metodolog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35280" y="5084640"/>
            <a:ext cx="631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Resultad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479520"/>
            <a:ext cx="8610480" cy="50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COMPOSIÇÃO DO G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GOVER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SOCIEDA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USUÁRIOS </a:t>
            </a:r>
            <a:r>
              <a:rPr b="1" i="1" lang="pt-BR" sz="2800" spc="-1" strike="noStrike">
                <a:solidFill>
                  <a:srgbClr val="ffffff"/>
                </a:solidFill>
                <a:latin typeface="Arial Black"/>
              </a:rPr>
              <a:t>(EMPRESAS MINERAÇÃ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60280"/>
            <a:ext cx="83818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HISTÓRICO DAS REUNIÕ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METODOLOGIA DE TRABALH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CRITÉRI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DETALHAMENTO DO PU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QUESTIONAMEN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479520"/>
            <a:ext cx="8610480" cy="70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ASPECTOS JURÍDIC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PROPOSTA DE RESOLUÇÃ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MANUAL TÉCN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TERMO DE REFERÊ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479520"/>
            <a:ext cx="861048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ASPECTOS TÉCNIC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PORT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DETALHAMEN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ASPECTOS REGIONA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DOCUMENTOS REFERENTES             AOS RECURSOS HÍDR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PRINCIPAIS QUESTIONAMENT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2852640"/>
            <a:ext cx="8604360" cy="35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ASPECTOS JURÍD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CLASSIFICAÇÃO  DE POR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IMPACTOS  NOS RECURSOS HÍDR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479520"/>
            <a:ext cx="8839080" cy="55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PROPOSIÇÕES DO G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SIMPLIFIC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DOCUMENTOS TÉCNICOS (R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USUÁRIOS MÚLTIP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MANUTENÇÃO  DA     QUALIDADE  DOS RECURSOS HÍD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UTILIZAÇÃO RACIONAL DOS RECURSOS HÍD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479520"/>
            <a:ext cx="86104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QUESTIONAMENT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 u="sng">
                <a:solidFill>
                  <a:srgbClr val="ff0033"/>
                </a:solidFill>
                <a:uFillTx/>
                <a:latin typeface="Arial Black"/>
              </a:rPr>
              <a:t>d</a:t>
            </a:r>
            <a:r>
              <a:rPr b="0" lang="pt-BR" sz="3600" spc="-1" strike="noStrike" u="sng">
                <a:solidFill>
                  <a:srgbClr val="ff0033"/>
                </a:solidFill>
                <a:uFillTx/>
                <a:latin typeface="Arial Black"/>
                <a:hlinkClick r:id="rId1"/>
              </a:rPr>
              <a:t>ario.almeida@dnpm.gov.b</a:t>
            </a:r>
            <a:r>
              <a:rPr b="0" lang="pt-BR" sz="3600" spc="-1" strike="noStrike" u="sng">
                <a:solidFill>
                  <a:srgbClr val="ff0033"/>
                </a:solidFill>
                <a:uFillTx/>
                <a:latin typeface="Arial Black"/>
                <a:hlinkClick r:id="rId2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(048) 216 23 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3T00:56:08Z</dcterms:created>
  <dc:creator>Peterson</dc:creator>
  <dc:description/>
  <dc:language>en-US</dc:language>
  <cp:lastModifiedBy>CGTI-SPOA</cp:lastModifiedBy>
  <cp:lastPrinted>2002-05-06T11:43:08Z</cp:lastPrinted>
  <dcterms:modified xsi:type="dcterms:W3CDTF">2005-08-15T20:07:50Z</dcterms:modified>
  <cp:revision>43</cp:revision>
  <dc:subject/>
  <dc:title>Apresentação do PowerPoint</dc:title>
</cp:coreProperties>
</file>