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E7E-1C36-49E4-B038-5766C611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B35-576B-41AA-9700-9F1C86C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196-1D55-4C65-ABDB-31258B2B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4B4-662E-4262-BAAF-765C227F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AAD-BA43-422C-B0DA-A4AFAE0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197-5839-4010-8F5B-E326710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0E3-F152-4B77-BCA6-1FFB7E44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6B6-4CE0-4156-B37F-1EAC31F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BC3-C971-4737-AC6F-1029899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E57-D021-40E6-B73D-A682AA5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7B7-DA70-4031-AA58-B5F5DA3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1F5-04E5-40B1-8E09-1C99633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70A9-A873-47E9-9E5B-DE1B941E8D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Secretaria Nacional </a:t>
            </a:r>
            <a:br>
              <a:rPr sz="4400"/>
            </a:b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opulação Total por Região Metropolitana – Sede e Demais Municípios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centual de Domicílios com Renda do Chefe de Família Inferior a 1 Salário Mínimo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Renda Familiar Per Capita Média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Humano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Municípios com População Inferior a 20 mil Habitante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Urbano Médio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077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00"/>
                </a:solidFill>
                <a:latin typeface="Times New Roman"/>
              </a:rPr>
              <a:t>Índice de Desenvolvimento Humano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inistério das Cidad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Execu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Habi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Transporte e Mo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San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Programas Urb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990720"/>
          <a:ext cx="82296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16765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2880" y="16765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LHO 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Brasil: População Total 200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5800" y="1981080"/>
          <a:ext cx="88390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839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ular, articular e apoiar uma rede de parceiros por meio de processos participativos e democráticos, contribuindo para organização humanizada do espaço urbano, ampliando o acesso à terra urbanizada e transformando a cultura da exclusão territorial e degradação ambiental das cidades brasilei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formular e propor programas urbanos voltados para o conjunto dos municípios brasileiros, em consonância com as demais políticas setoriais, e em articulação o Conselho Nacional de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formular e propor a Política Nacional de Desenvolvimento Urbano em consonância com as políticas de habitação, saneamento e mobilidade urbana, em articulação com o Conselho das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companhar e avaliar a implementação da Política Nacional de Desenvolviment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o e de programas especiais urbanos, em consonância com a Secretaria Execut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- coordenar, acompanhar e avaliar a implementação dos instrumentos e programas de apoio à gestão, ao planejamento urbano e ao manejo do sol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- propor e promover ações de universalização do acesso à terra urbanizada, por parte dos moradores da 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- promover a articulação e parcerias com os produtores de informação nos níveis federal, estadual e municipal, bem como, provenientes de organizações não govername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- apoiar em articulação com a Secretaria Executiva a integração de ações e programas desenvolvidos pelo Ministério e pelos demais órgãos federais, municipais, estaduais e Distrito Fede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- coordenar, acompanhar e avaliar a implementação de normas, procedimentos e programas relacionados à regularização fundiária urba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- propor, promover e coordenar as ações voltadas para a gestão das regiões metropolitanas, aglomerações urbanas e microrregiõ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 propor, promover e coordenar as ações de desenvolvimento local em pequenas cidades, incentivando a formação do associativismo e cooperativism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- promover a articulação com as instituições e órgãos de apoio ao desenvolviment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 - propor e promover mecanismos de participação e controle social das ações voltadas para gestão e planejament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- propor diretrizes nacionais para o financiamento dos programas urban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 - coordenar e apoiar as atividades referentes à gestão urbana no Conselho Nacional das C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gram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e ao Planejamento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Regularização Fundi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ção de Risco em Encostas Urb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bilitação e Reconversão de Áreas Cent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Metropolitana ao Associativismo 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Gestão e ao Planejamento Territor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emplar a diversidade dos municípios brasileiros, complementando ou suplementando a ação dos governos municipais e estaduais priorizando o combate às desigualdades inter e intra-reg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entivar a formação de instâncias de integração entre municí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 município para o planejamento urbano e territorial como processo permanente para romper a lógica da ilegalidade e da ocupação precária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s atores da sociedade civil e do poder público para a gestão democrática, incentivando a sua participação na formulação de políticas, no planejamento e na gestão do terri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pacitar o município para a implementação do Estatuto da Cidade como instrumento fundamental para o desenvolvimento urbano socialmente justo e ambientalmente equilib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r uma Rede de assistência técnica composta de entidades e instituições comprometidas com a implementação do Estatuto da Cidade e com experiência no apoio à gestão municipal particip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Regularização Fundiá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overno federal está elaborando um Programa de Regularização Fundiária Sustentável com o objetiv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 e/ou suplement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ção dos governos muni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ndo de for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dire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s  casos em que os assentamentos a serem regularizados estejam situados 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as de propriedade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ções do Governo Federal tem como referências conceituais políticas-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sso à ter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feito jurídico da função social e ambiental da Propriedade (tanto privada quanto pública) e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à mora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à segurança da posse como direitos humanos fundament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premacia 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Público sobre o Direito Priv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regulação da ordem urbanística e na interpretação e aplicação do Estatuto da Cida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ompreensão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za cura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 programas de regular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Gerai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 os municípios na implementação do Estatuto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ação do acesso, por parte da população de menor renda, à terra urbaniz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a integração, em todos os níveis de governo, de programas de regularização (urbanização e legalização) com políticas includentes de planejamento urba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e maneira integrada do direitos sociais e constitucionais de moradia e preservação ambiental, qualidade de vida humana e preservação de recursos natur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Caracterização Geral:</a:t>
            </a:r>
            <a:br>
              <a:rPr sz="4400"/>
            </a:b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emográfico dos Municípios Brasileiro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981080"/>
          <a:ext cx="8152920" cy="441936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44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5360" y="2344680"/>
            <a:ext cx="6353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os novos direitos e sua plena utilização, enfatizando que são formas de direito real de propr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zar soluções coletivas a problemas que são col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a remoção dos obstáculos da legislação federal fundiária, cartorária, urbanística e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ar parcerias com  a sociedade civil, promovendo ampla participação popular em todas as etapas das intervenções de regularização fundiá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ção de uma rede de instituições não governamentais e entidades profissional que atuem no apoio técnico à gestão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Linhas de Ação / Sub-progr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terras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próprios municipais, estaduais e propriedades privadas com base no Estatuto da C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ções Complementa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lizar o cadastramento do patrimônio da União, com ênfase nas áreas afetadas pela MP 2.220/01 (Concessão Especial de Uso para Fins de Mora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oio técnico e financeiro para a realização de cadastros municipais que registrem a identificação, o mapeamento das irregularidad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 Assistência técnica e jurídica aos municípios para montagem e/ou aperfeiçoamento de programas municipais de regularização fundiá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stemas de informações que identifiquem regimes de posse para subsidiar análises e revisões políticas no sentido de provê-las, acompanha-las e avalia-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vulgação junto aos municípios e à sociedade das ações do Ministério e do escopo dos programas disponíveis, fontes de recursos existentes e da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CONTENÇÃO DE OCUPAÇÃO DE RISCO EM ENCOSTAS URBAN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 a ação municipal, posto que as prefeituras são o agente capaz e com atribuições e responsabilidade para implementar os programas de gerenciament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 experiência já disponível nos vários municípios brasileiros que têm priorizado a ação preventiva de defesa civil nos programas de gestã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r a capacitação técnica disponível nas universidades e institutos de pesquisa em várias regiões d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-se na participação popular, por meio de núcleos de defesa civil formados entre a população moradora de áreas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ular e compatibilizar internamente a ação vários órgãos do Governo Federal envolvidos, em particular o Ministério das Cidades, Ministério de Integração Nacional, Ministério de Minas e Energia e Ministério do Meio Ambiente, de modo a congregar esforços e competência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REABILITAÇÃO/REPOVOAMENTO DE ÁREAS URBANAS CONSOLIDAD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envolvimento da tipologia de áreas a serem objeto de tratamento específico, em conformidade com os fatores que lhes tenham produz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ulação e desenvolvimento de planos de ação voltados para o tratamento destas áre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aboração e implementação de acordos de cooperação entre os órgãos da administração pública envolv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POIO</a:t>
            </a:r>
            <a:r>
              <a:rPr b="1" lang="en-US" sz="4000" spc="-1" strike="noStrike" u="sng">
                <a:solidFill>
                  <a:srgbClr val="808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À GESTÃO METROPOLITANA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ear as iniciativas atuais de gestão e o “estado da arte” da qu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bilização e promoção de fóruns de discussão nas várias 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atação de parâmetros para criação de fundos de investimentos nas regiões metropoli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SISTEMA NACIONAL DE INDICADORES URBANOS – SNIU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plemento especial da PNAD, que atinge 126 mil domicílios, para apuração de informações relacionadas às questõ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erfeiçoamento da Pesquisa de Informações Municipais – MUNIC, agregando informações de interesse do Ministério da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ticulação do sistema de informações sobre as cidades com o Cadastro Único das Políticas Sociais (em elaboração pelo comitê de Políticas Sociais do governo), de forma a identificar territórios de concentração de pobreza n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AR TRATAMENTO EQUÂNIME AOS MUNICÍPIOS CONSIDERANDO SEU GRANDE NÚMERO, SUA DIVERSIDADE E A DISTÂNCIA FÍSICA/ POLÍTICA/ ADMINISTR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enfrentar distor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acto Federativo: estimular redes de articulação municipal e discutir as bases de um novo pacto federativo que diminua as diferenças inter-regionais, como contribuição para o aperfeiçoamento da Constituição Fed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rdem Democrática: estimular redes de participação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773360"/>
            <a:ext cx="7561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éri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ção e prio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hecer as diferenças: estudar a tipologia e redes de municípios/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ear e atuar em áreas mais vulneráveis do ponto de vista sóci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r istemas de indução e incentivo à contrapartida de Municípios e Es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os/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canais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Informação: criar programa diário na Radiobrás; formar telecentros ou centros de informação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Descentralização da ação da Secretaria para o apoio ao planejamento e gestão:  integrando e utilizando a estrutura da CAIXA; criar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ir com critérios territoriais para grupo interministerial de associativismo muni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por Faixa Populacional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773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230560"/>
            <a:ext cx="84582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717560"/>
            <a:ext cx="7696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Taxa Média de Crescimento Anual – 1991 a 2001 (%)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5:06:32Z</dcterms:created>
  <dc:creator>Sedu</dc:creator>
  <dc:description/>
  <dc:language>en-US</dc:language>
  <cp:lastModifiedBy>OtilieMP</cp:lastModifiedBy>
  <dcterms:modified xsi:type="dcterms:W3CDTF">2003-06-03T21:23:12Z</dcterms:modified>
  <cp:revision>22</cp:revision>
  <dc:subject/>
  <dc:title>Secretaria de Programas Urbanos</dc:title>
</cp:coreProperties>
</file>