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A6A-6806-450A-A0A1-DE8EF198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CB5-EA01-4C19-B5AD-82DCEE0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420-53C1-4C15-B2ED-9B08CC8B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FB2-2E15-4C1E-BAE0-687FA91F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9A0-1CFE-4CDE-B742-5E1D9826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775-A977-45ED-B95C-B93204E7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718-117D-4A37-B287-E1BBDA64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93E-C932-479A-8384-88E50194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436-A7C5-40BF-81CD-C86A67F3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FB9-6AC2-4C02-A13B-8A9EB9B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9B1-8232-466E-A7E6-93A06D9C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54A-E1D9-437B-BDF8-D298A40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1EB3-CB66-4D1F-A528-5469FDF35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77600" cy="75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2:38:08Z</dcterms:created>
  <dc:creator>User</dc:creator>
  <dc:description/>
  <dc:language>en-US</dc:language>
  <cp:lastModifiedBy>SRH</cp:lastModifiedBy>
  <dcterms:modified xsi:type="dcterms:W3CDTF">2002-12-10T16:46:24Z</dcterms:modified>
  <cp:revision>1</cp:revision>
  <dc:subject/>
  <dc:title>Apresentação do PowerPoint</dc:title>
</cp:coreProperties>
</file>