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EAC-DA22-4FFB-8FF3-F67660E3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27C-EDDF-4E5B-A838-4528208E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ADE-FBDA-471A-B539-52D99E2E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839-B54F-4419-96D9-414524C8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7DB-97F1-479D-A364-C8C31F33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46A6-D64B-4A70-817C-6003CCF3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0227-0637-4BE0-8982-54F6E3A1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80B-9427-4C91-B1D8-9873636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0135-7B0A-445B-BFC3-407C361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0CFE-9E27-43AA-BEAF-FD38F4E7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FFB2-82A9-4AB0-9447-0F1117E2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7D6-30E4-448F-A317-389339C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2E4-D39D-4FCC-8E80-1157D58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48E9-991C-41E0-8F61-1F598CD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ACFA-EB7C-44DD-A09A-F884C1D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B422-BE80-4E24-AA9D-D4DE89E5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009C-FEE6-4FD4-BE02-4BA197DB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8F9-031C-4D10-BD28-66B1452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43C-7CB9-4C20-AAE7-4FEC5E75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730-CD79-4397-B796-7C75C3C0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3EE-7CB2-4DF5-A19B-955FC18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292-7A9D-4099-A5C8-5606B18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95B-A370-4C73-A299-FAE5289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7D1-5968-404F-8A42-D5AC9A26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D08-C942-44C6-884E-37CB8AC23A2E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79C-8B30-4844-9A87-B9DA0BF3677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B84-973B-4D4E-971F-E20733638D87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748E-BC2F-4FDE-9468-3DC5D1858D9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990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cc"/>
                </a:solidFill>
                <a:latin typeface="Arial Narrow"/>
              </a:rPr>
              <a:t>A Constituição do CEIVAP e a Resolução CNRH n.º 5/2000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274320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audio Serricch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A7A7-1427-4825-B06C-DDD9006C74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6E05BC8-8D6D-472C-9E8D-452D7E5222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presentaç</a:t>
            </a:r>
            <a:r>
              <a:rPr b="1" lang="pt-BR" sz="4800" spc="-1" strike="noStrike">
                <a:solidFill>
                  <a:srgbClr val="ffffcc"/>
                </a:solidFill>
                <a:latin typeface="Arial Narrow"/>
              </a:rPr>
              <a:t>ã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alestra apresentada no Seminário “Diretrizes gerais para a instituição e funcionamento de Comitês de bacias hidrográficas”, CNRH, Brasília, 10 de dezembro d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laudio Serricchio – coordenador do escritório técnic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702-2E21-498A-8871-689732727D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74839-1E07-4DC9-A7FE-502005D35B7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Tópico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cria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Lei 943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adequação do CEIVAP à Resolução CNRH n.º 0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 experiência da renovação da composição do CEIV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Os demais passos do CEIVAP junto ao CNR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onclusões e recomend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47A-CB8B-4B3A-8440-B025D0983A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2EDCE-7F1A-41BB-87DB-C49DC7C090EC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criação do CEIVA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o pelo Decreto n.º 1842, de 22/03/1996, do Presidente da Re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stalado em 18/12/1997, com 39 membros, nomeados pelas Portarias 343 de 24/10/96 e 264 de 1/12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riadas Câmaras Técnicas Institucional e de Planejamento, em 28/01/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augurado o escritório-sede em 10/12/98, em Resende/R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B9D-090B-4A07-BA19-DA87490F72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7C67B-6194-47A6-9111-5915222094C9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adequação do CEIVAP à 9433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à Lei 9433, de  08/01/1997, diante das definições das competências dos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lterações no Regimento Interno, em 9/12/99, ampliando a composição do CEIVAP para 57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alização dos primeiros fóruns públicos, em SP, RJ e MG,  para preenchimento de 18 novas va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E6B-F293-4353-BE0E-DBE9588AE3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98D39-26CA-4009-BC96-F62E95A1C42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dequação à Resolução n.º 05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Necessidade de adequação do CEIVAP à Resolução CNRH n.º 05, de 10/04/2000, que estabelece diretrizes para comitês de b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Rediscussão e alterações no Regimento Interno do CEIVAP, em 21/07/00, ampliando a sua composição para 60 memb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juste final na represent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usuários: 24 membros  (40 %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poder público: 21 membros  (35 %), sendo 3 da União, 9 dos estados e 9 dos municíp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Arial"/>
              </a:rPr>
              <a:t>- organizações civis: 15 membros  (25 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94E-5AA6-49C7-8788-47455B28F6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4D590-BD34-45DF-98D0-CBE44D7285FA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A experiência da renovação da composição do CEIVAP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laboração de regulamento e editais públicos em SP, RJ e MG, convocando o processo eleitoral para: municípios, usuários e organizações civis (formalidade e publicida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Realização de fóruns para cada segmento, em cada estado, para a escolha dos representantes pelos seus pares (municípios, usuários e organizações civi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Proposição de critérios de escolha considerand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os diversos setores de cada seg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- as distribuição espacial da representação, contemplando as diversas regiões e sub-ba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vanços na mobilização e representatividade do CEI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9F4-CA0C-4D45-ACEA-CDA1CA801A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5E18E-2DA8-4F7A-ABBD-8D92B42EEE13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Os demais passos do CEIVAP junto ao CNRH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cobrança pelo uso da água na bacia do rio Paraíba do Sul: n.º 03, de 16/03/2001; n.º 08, de 6/12/2001 e n.º 15, de 4/11/2002, que resultaram nas Resoluções CNRH n.º 19, de 15/03/2002 e n.º 27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Submeteu à aprovação do CNRH as suas Deliberações sobre a criação da agência de águas da bacia do rio Paraíba do Sul: n.º 05, de 16/03/2001 e n.º 12, de 20/06/2002, que resultaram na Resolução CNRH n.º 26, de 29/12/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127-7695-4BC9-9DF1-51BD06BB5D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40CEB-9C2F-4E0E-9CFB-6118B9B7C177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cc"/>
                </a:solidFill>
                <a:latin typeface="Arial Narrow"/>
              </a:rPr>
              <a:t>Conclusões e Recomendaçõ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Estão em fase avançada de implantação na bacia do rio Paraíba do Sul, os principais instrumentos necessários à gestão sustentável de R.H.:  Comitê, PRH, Agência, Outorga e Cobrança, sendo estratégica a sua con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preciso reiterar o caráter dos comitês como espaço de representação dos interesses relacionados ao usos múltiplos das águas (em detrimento da visão e demandas crescentes de representação política region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regulamentar o relacionamento formal e as competências entre comitês de bacias de diferentes níve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É necessário definir os atos dos comitês que exijam publicação no D.O. da União e os procedimentos para tanto, de modo a assegurar a sua legalidade e public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IVAP - Comitê para Integração da Bacia Hidrográfica do Rio Paraíba do Su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B33-DE57-460A-ADF0-3C0C2AE1E0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E3E29-6010-4204-8C91-7A0606CB996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Serricchio</cp:lastModifiedBy>
  <dcterms:modified xsi:type="dcterms:W3CDTF">2002-12-09T21:29:25Z</dcterms:modified>
  <cp:revision>7</cp:revision>
  <dc:subject/>
  <dc:title>Apresentação do PowerPoint</dc:title>
</cp:coreProperties>
</file>