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11.png" ContentType="image/png"/>
  <Override PartName="/ppt/media/image9.jpeg" ContentType="image/jpeg"/>
  <Override PartName="/ppt/media/image29.wmf" ContentType="image/x-wmf"/>
  <Override PartName="/ppt/media/image31.wmf" ContentType="image/x-wmf"/>
  <Override PartName="/ppt/media/image7.jpeg" ContentType="image/jpeg"/>
  <Override PartName="/ppt/media/image38.wmf" ContentType="image/x-wmf"/>
  <Override PartName="/ppt/media/image4.jpeg" ContentType="image/jpeg"/>
  <Override PartName="/ppt/media/image3.jpeg" ContentType="image/jpeg"/>
  <Override PartName="/ppt/media/image28.wmf" ContentType="image/x-wmf"/>
  <Override PartName="/ppt/media/image50.wmf" ContentType="image/x-wmf"/>
  <Override PartName="/ppt/media/image1.jpeg" ContentType="image/jpeg"/>
  <Override PartName="/ppt/media/image10.png" ContentType="image/png"/>
  <Override PartName="/ppt/media/image15.wmf" ContentType="image/x-wmf"/>
  <Override PartName="/ppt/media/image14.wmf" ContentType="image/x-wmf"/>
  <Override PartName="/ppt/media/image53.png" ContentType="image/png"/>
  <Override PartName="/ppt/media/image16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6.jpeg" ContentType="image/jpeg"/>
  <Override PartName="/ppt/media/image58.wmf" ContentType="image/x-wmf"/>
  <Override PartName="/ppt/media/image60.jpeg" ContentType="image/jpeg"/>
  <Override PartName="/ppt/media/image21.wmf" ContentType="image/x-wmf"/>
  <Override PartName="/ppt/media/image22.wmf" ContentType="image/x-wmf"/>
  <Override PartName="/ppt/media/image57.wmf" ContentType="image/x-wmf"/>
  <Override PartName="/ppt/media/image20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2.wmf" ContentType="image/x-wmf"/>
  <Override PartName="/ppt/media/image49.wmf" ContentType="image/x-wmf"/>
  <Override PartName="/ppt/media/image23.wmf" ContentType="image/x-wmf"/>
  <Override PartName="/ppt/media/image51.jpeg" ContentType="image/jpeg"/>
  <Override PartName="/ppt/media/image8.jpeg" ContentType="image/jpeg"/>
  <Override PartName="/ppt/media/image41.wmf" ContentType="image/x-wmf"/>
  <Override PartName="/ppt/media/image13.wmf" ContentType="image/x-wmf"/>
  <Override PartName="/ppt/media/image52.png" ContentType="image/png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59.jpeg" ContentType="image/jpeg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54.wmf" ContentType="image/x-wmf"/>
  <Override PartName="/ppt/media/image55.jpeg" ContentType="image/jpeg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5.bin" ContentType="application/vnd.openxmlformats-officedocument.oleObject"/>
  <Override PartName="/ppt/embeddings/oleObject1.xlsx" ContentType="application/vnd.openxmlformats-officedocument.spreadsheetml.shee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648-A758-4722-BBDC-023F96D5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C3F-0BF3-4F8B-BB7E-38808887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237-F318-4B5C-9987-FA3EAAD5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B5D-B960-4BAD-B750-E5E7D8FC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5AA-CD11-48C3-A1B3-1CDF3510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D8F-501D-40D3-9117-33D64E25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22D-A6C9-42B4-BB80-4A314015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05D-66F5-4C4D-B2AF-5C9A6105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5D4-F770-4A69-9E66-63687517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0B6-E999-476A-A8E7-00BDCB0C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EF0-433A-4527-89DC-E550473A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E78-6B32-4053-A1F0-51E7C440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5A7D-6EE6-49C6-B7F2-940C259E1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5.jpeg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5.jpeg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7.wmf"/><Relationship Id="rId39" Type="http://schemas.openxmlformats.org/officeDocument/2006/relationships/image" Target="../media/image38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9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40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1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2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3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44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5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6.wmf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45.wmf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47.wmf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48.wmf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49.wmf"/><Relationship Id="rId6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Secretaria" descr=""/>
          <p:cNvPicPr/>
          <p:nvPr/>
        </p:nvPicPr>
        <p:blipFill>
          <a:blip r:embed="rId1"/>
          <a:stretch/>
        </p:blipFill>
        <p:spPr>
          <a:xfrm>
            <a:off x="762120" y="5948280"/>
            <a:ext cx="1676160" cy="452520"/>
          </a:xfrm>
          <a:prstGeom prst="rect">
            <a:avLst/>
          </a:prstGeom>
          <a:ln w="0">
            <a:noFill/>
          </a:ln>
        </p:spPr>
      </p:pic>
      <p:pic>
        <p:nvPicPr>
          <p:cNvPr id="42" name="LogoGoverno" descr=""/>
          <p:cNvPicPr/>
          <p:nvPr/>
        </p:nvPicPr>
        <p:blipFill>
          <a:blip r:embed="rId2"/>
          <a:stretch/>
        </p:blipFill>
        <p:spPr>
          <a:xfrm>
            <a:off x="7086600" y="5468760"/>
            <a:ext cx="1106640" cy="11606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04920" y="2286000"/>
            <a:ext cx="9183600" cy="2743200"/>
            <a:chOff x="304920" y="2286000"/>
            <a:chExt cx="9183600" cy="2743200"/>
          </a:xfrm>
        </p:grpSpPr>
        <p:pic>
          <p:nvPicPr>
            <p:cNvPr id="44" name="LogoDaee" descr=""/>
            <p:cNvPicPr/>
            <p:nvPr/>
          </p:nvPicPr>
          <p:blipFill>
            <a:blip r:embed="rId3"/>
            <a:stretch/>
          </p:blipFill>
          <p:spPr>
            <a:xfrm>
              <a:off x="304920" y="2286000"/>
              <a:ext cx="2322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935440" y="3069720"/>
              <a:ext cx="6553080" cy="7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180000" anchor="ctr">
              <a:sp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Eng° Carlos Eduardo Nascimento Alencast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762120" y="0"/>
            <a:ext cx="7848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itês de Bacias Hidrográfic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BHLogo1" descr=""/>
          <p:cNvPicPr/>
          <p:nvPr/>
        </p:nvPicPr>
        <p:blipFill>
          <a:blip r:embed="rId4"/>
          <a:stretch/>
        </p:blipFill>
        <p:spPr>
          <a:xfrm>
            <a:off x="4114800" y="5638680"/>
            <a:ext cx="906480" cy="90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762120" y="533520"/>
            <a:ext cx="6172200" cy="441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6160"/>
            <a:ext cx="89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0" y="6019920"/>
            <a:ext cx="9144000" cy="609480"/>
            <a:chOff x="0" y="6019920"/>
            <a:chExt cx="9144000" cy="609480"/>
          </a:xfrm>
        </p:grpSpPr>
        <p:sp>
          <p:nvSpPr>
            <p:cNvPr id="282" name=""/>
            <p:cNvSpPr/>
            <p:nvPr/>
          </p:nvSpPr>
          <p:spPr>
            <a:xfrm>
              <a:off x="0" y="6019920"/>
              <a:ext cx="9144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3" name="band_sp" descr=""/>
            <p:cNvPicPr/>
            <p:nvPr/>
          </p:nvPicPr>
          <p:blipFill>
            <a:blip r:embed="rId1"/>
            <a:stretch/>
          </p:blipFill>
          <p:spPr>
            <a:xfrm>
              <a:off x="7848720" y="6172200"/>
              <a:ext cx="9316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DAEE_LOGOcor" descr=""/>
            <p:cNvPicPr/>
            <p:nvPr/>
          </p:nvPicPr>
          <p:blipFill>
            <a:blip r:embed="rId2"/>
            <a:stretch/>
          </p:blipFill>
          <p:spPr>
            <a:xfrm>
              <a:off x="457200" y="6095880"/>
              <a:ext cx="398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371600" y="6248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762120" y="609120"/>
            <a:ext cx="662940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OMITÊS DE BACIA HIDROGRÁFICA – CBH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457200"/>
            <a:ext cx="8229600" cy="5486400"/>
            <a:chOff x="533520" y="457200"/>
            <a:chExt cx="8229600" cy="5486400"/>
          </a:xfrm>
        </p:grpSpPr>
        <p:graphicFrame>
          <p:nvGraphicFramePr>
            <p:cNvPr id="288" name=""/>
            <p:cNvGraphicFramePr/>
            <p:nvPr/>
          </p:nvGraphicFramePr>
          <p:xfrm>
            <a:off x="533520" y="457200"/>
            <a:ext cx="8229600" cy="548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457200"/>
                      <a:ext cx="8229600" cy="548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0" name=""/>
            <p:cNvGrpSpPr/>
            <p:nvPr/>
          </p:nvGrpSpPr>
          <p:grpSpPr>
            <a:xfrm>
              <a:off x="762120" y="838080"/>
              <a:ext cx="6227640" cy="723960"/>
              <a:chOff x="762120" y="838080"/>
              <a:chExt cx="6227640" cy="723960"/>
            </a:xfrm>
          </p:grpSpPr>
          <p:graphicFrame>
            <p:nvGraphicFramePr>
              <p:cNvPr id="291" name=""/>
              <p:cNvGraphicFramePr/>
              <p:nvPr/>
            </p:nvGraphicFramePr>
            <p:xfrm>
              <a:off x="762120" y="838080"/>
              <a:ext cx="644400" cy="561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9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62120" y="838080"/>
                        <a:ext cx="64440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3" name=""/>
              <p:cNvSpPr/>
              <p:nvPr/>
            </p:nvSpPr>
            <p:spPr>
              <a:xfrm>
                <a:off x="1676520" y="990720"/>
                <a:ext cx="531324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omposição: Definida pelos Estatutos obedecida a paridade de votos entre os 3 segmen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762120" y="1447920"/>
              <a:ext cx="6227640" cy="601920"/>
              <a:chOff x="762120" y="1447920"/>
              <a:chExt cx="6227640" cy="601920"/>
            </a:xfrm>
          </p:grpSpPr>
          <p:graphicFrame>
            <p:nvGraphicFramePr>
              <p:cNvPr id="295" name=""/>
              <p:cNvGraphicFramePr/>
              <p:nvPr/>
            </p:nvGraphicFramePr>
            <p:xfrm>
              <a:off x="762120" y="1447920"/>
              <a:ext cx="644400" cy="5616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9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62120" y="1447920"/>
                        <a:ext cx="644400" cy="56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7" name=""/>
              <p:cNvSpPr/>
              <p:nvPr/>
            </p:nvSpPr>
            <p:spPr>
              <a:xfrm>
                <a:off x="1676520" y="1721880"/>
                <a:ext cx="5313240" cy="32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ecisões: Maioria Simples de vo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762120" y="2210760"/>
              <a:ext cx="6227640" cy="1058040"/>
              <a:chOff x="762120" y="2210760"/>
              <a:chExt cx="6227640" cy="1058040"/>
            </a:xfrm>
          </p:grpSpPr>
          <p:graphicFrame>
            <p:nvGraphicFramePr>
              <p:cNvPr id="299" name=""/>
              <p:cNvGraphicFramePr/>
              <p:nvPr/>
            </p:nvGraphicFramePr>
            <p:xfrm>
              <a:off x="762120" y="2301480"/>
              <a:ext cx="644400" cy="5619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0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2120" y="2301480"/>
                        <a:ext cx="64440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1" name=""/>
              <p:cNvSpPr/>
              <p:nvPr/>
            </p:nvSpPr>
            <p:spPr>
              <a:xfrm>
                <a:off x="1676520" y="2210760"/>
                <a:ext cx="531324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ireção: A Diretoria É Composta Por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190440" algn="just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resid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190440" algn="just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ice-Presid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190440" algn="just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cretário Executiv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838080" y="3506760"/>
              <a:ext cx="6227640" cy="1301400"/>
              <a:chOff x="838080" y="3506760"/>
              <a:chExt cx="6227640" cy="1301400"/>
            </a:xfrm>
          </p:grpSpPr>
          <p:graphicFrame>
            <p:nvGraphicFramePr>
              <p:cNvPr id="303" name=""/>
              <p:cNvGraphicFramePr/>
              <p:nvPr/>
            </p:nvGraphicFramePr>
            <p:xfrm>
              <a:off x="838080" y="3719160"/>
              <a:ext cx="644400" cy="5616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0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38080" y="3719160"/>
                        <a:ext cx="644400" cy="56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5" name=""/>
              <p:cNvSpPr/>
              <p:nvPr/>
            </p:nvSpPr>
            <p:spPr>
              <a:xfrm>
                <a:off x="1752480" y="3506760"/>
                <a:ext cx="5313240" cy="13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or acordo, sem regra formal, tem a seguinte estrutura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9540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residente: Prefei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9540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ice-Presidente: Sociedade Civ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indent="9540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cretário Executivo: Esta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j017744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838080" y="304920"/>
            <a:ext cx="1981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ROGRAMA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INVEST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304920"/>
            <a:ext cx="1981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L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TA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00800" y="304920"/>
            <a:ext cx="198108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ELATÓRIO ANU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E SITU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1314360" y="971280"/>
            <a:ext cx="1219320" cy="201924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LAN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BA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129528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ROJETO DE 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0800" y="129528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ROPOSTAS PARA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ORÇAMENTO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2362320"/>
            <a:ext cx="1981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ASSEMBLÉ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LEGISL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2362320"/>
            <a:ext cx="243828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ÓRGÃO DE PLANEJ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ERAL DO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342900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3505320"/>
            <a:ext cx="3124080" cy="144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badi MT Condensed Light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badi MT Condensed Light"/>
              </a:rPr>
              <a:t>PROJETOS DE LE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ORÇAMENT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LEI DE DIRETRIZES ORÇAMENTÁ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PLANO PURI-AN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4419720"/>
            <a:ext cx="24382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badi MT Condensed Light"/>
              </a:rPr>
              <a:t>... ATRAVÉS DOS ÓRGÃ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badi MT Condensed Light"/>
              </a:rPr>
              <a:t>EXECUT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MUNICÍP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SOCIEDADE CI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5334120"/>
            <a:ext cx="35053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... RESULTARÃO OS PROJETOS, O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 SERVIÇOS EM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3048120"/>
            <a:ext cx="16765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638680"/>
            <a:ext cx="16765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ATE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CU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4343400"/>
            <a:ext cx="16765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COBRANÇ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ELO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33720" y="2895480"/>
            <a:ext cx="53316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3505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6019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1143000"/>
            <a:ext cx="53352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1066680"/>
            <a:ext cx="53352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62920" y="1066680"/>
            <a:ext cx="53316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62920" y="2057400"/>
            <a:ext cx="53316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2057400"/>
            <a:ext cx="53352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124080"/>
            <a:ext cx="53316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3124080"/>
            <a:ext cx="53352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43400" y="4191120"/>
            <a:ext cx="53352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5867280"/>
            <a:ext cx="2666880" cy="533520"/>
          </a:xfrm>
          <a:prstGeom prst="rightArrow">
            <a:avLst>
              <a:gd name="adj1" fmla="val 50000"/>
              <a:gd name="adj2" fmla="val 12496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809880"/>
            <a:ext cx="22860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133400">
            <a:off x="5410080" y="4876920"/>
            <a:ext cx="5335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6019920"/>
            <a:ext cx="9144000" cy="609480"/>
            <a:chOff x="0" y="6019920"/>
            <a:chExt cx="9144000" cy="609480"/>
          </a:xfrm>
        </p:grpSpPr>
        <p:sp>
          <p:nvSpPr>
            <p:cNvPr id="338" name=""/>
            <p:cNvSpPr/>
            <p:nvPr/>
          </p:nvSpPr>
          <p:spPr>
            <a:xfrm>
              <a:off x="0" y="6019920"/>
              <a:ext cx="9144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9" name="band_sp" descr=""/>
            <p:cNvPicPr/>
            <p:nvPr/>
          </p:nvPicPr>
          <p:blipFill>
            <a:blip r:embed="rId1"/>
            <a:stretch/>
          </p:blipFill>
          <p:spPr>
            <a:xfrm>
              <a:off x="7848720" y="6172200"/>
              <a:ext cx="9316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DAEE_LOGOcor" descr=""/>
            <p:cNvPicPr/>
            <p:nvPr/>
          </p:nvPicPr>
          <p:blipFill>
            <a:blip r:embed="rId2"/>
            <a:stretch/>
          </p:blipFill>
          <p:spPr>
            <a:xfrm>
              <a:off x="457200" y="6095880"/>
              <a:ext cx="398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371600" y="6248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A POLÍTICA DE RECURSOS HÍDRICOS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336840" y="311040"/>
            <a:ext cx="18734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36840" y="615960"/>
            <a:ext cx="1873440" cy="307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36840" y="923760"/>
            <a:ext cx="1873440" cy="303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68560" y="915840"/>
            <a:ext cx="933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PLA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36840" y="1227240"/>
            <a:ext cx="187344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36840" y="1531800"/>
            <a:ext cx="1873440" cy="303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99200" y="3189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62200" y="3160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65600" y="316080"/>
            <a:ext cx="103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O que faz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99200" y="5205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62200" y="5176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67040" y="517680"/>
            <a:ext cx="72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Por quê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99200" y="7254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62200" y="7221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5960" y="722160"/>
            <a:ext cx="118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Quando faz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99200" y="9270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62200" y="923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64880" y="923760"/>
            <a:ext cx="116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Quanto cust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98840" y="1325520"/>
            <a:ext cx="50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95640" y="13222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68640" y="1527120"/>
            <a:ext cx="145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VESTI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2400" y="3049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2400" y="3049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8520" y="304920"/>
            <a:ext cx="119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9408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9408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2892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2892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36840" y="304920"/>
            <a:ext cx="1873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1028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10280" y="304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2400" y="311040"/>
            <a:ext cx="612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94080" y="311040"/>
            <a:ext cx="792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28920" y="311040"/>
            <a:ext cx="792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10280" y="311040"/>
            <a:ext cx="792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92400" y="1838160"/>
            <a:ext cx="61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1838160"/>
            <a:ext cx="79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25680" y="1838160"/>
            <a:ext cx="324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28920" y="1838160"/>
            <a:ext cx="79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36840" y="1838160"/>
            <a:ext cx="187020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2400" y="1846440"/>
            <a:ext cx="61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94080" y="1846440"/>
            <a:ext cx="79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36840" y="2157480"/>
            <a:ext cx="1873440" cy="303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36840" y="2460600"/>
            <a:ext cx="18734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41480" y="2454120"/>
            <a:ext cx="1188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SISTE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36840" y="2765520"/>
            <a:ext cx="1873440" cy="30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51160" y="276084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36840" y="3071880"/>
            <a:ext cx="187344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72080" y="3065400"/>
            <a:ext cx="1126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GEST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36840" y="3376440"/>
            <a:ext cx="1873440" cy="303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99200" y="21607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62200" y="215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2157480"/>
            <a:ext cx="87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Quem faz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99200" y="23652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62200" y="23623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3800" y="2362320"/>
            <a:ext cx="57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Com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75560" y="2556000"/>
            <a:ext cx="83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9440" y="2760840"/>
            <a:ext cx="173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ARTICIPAÇÃO D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79880" y="2962440"/>
            <a:ext cx="74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S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69800" y="3168720"/>
            <a:ext cx="12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+ MUNICÍP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73760" y="3368520"/>
            <a:ext cx="109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+ USU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92400" y="214956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94080" y="21495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25680" y="2149560"/>
            <a:ext cx="3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28920" y="21495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36840" y="2149560"/>
            <a:ext cx="1870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07040" y="2149560"/>
            <a:ext cx="3240" cy="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10280" y="21495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92400" y="2157480"/>
            <a:ext cx="61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94080" y="21574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28920" y="21574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10280" y="21574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2400" y="367992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94080" y="36799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25680" y="3679920"/>
            <a:ext cx="3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28920" y="36799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36840" y="3679920"/>
            <a:ext cx="1870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92400" y="3687840"/>
            <a:ext cx="61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94080" y="3687840"/>
            <a:ext cx="79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8520" y="311040"/>
            <a:ext cx="4932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47840" y="311040"/>
            <a:ext cx="30492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6200000">
            <a:off x="594720" y="2694240"/>
            <a:ext cx="1838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MECANISM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52760" y="311040"/>
            <a:ext cx="30456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6200000">
            <a:off x="1631880" y="269424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57320" y="311040"/>
            <a:ext cx="30312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6200000">
            <a:off x="1137240" y="26956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IMPLANTAÇ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60440" y="311040"/>
            <a:ext cx="20160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62040" y="311040"/>
            <a:ext cx="32040" cy="5214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36840" y="3998880"/>
            <a:ext cx="1873440" cy="30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36840" y="4305240"/>
            <a:ext cx="18734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336840" y="4610160"/>
            <a:ext cx="1873440" cy="303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4240" y="4603680"/>
            <a:ext cx="94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10000"/>
                </a:solidFill>
                <a:latin typeface="Arial"/>
              </a:rPr>
              <a:t>FUN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336840" y="4913280"/>
            <a:ext cx="18734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36840" y="5218200"/>
            <a:ext cx="1873440" cy="307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99200" y="40053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62200" y="40021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3080" y="4002120"/>
            <a:ext cx="12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E os Recurs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74120" y="4402080"/>
            <a:ext cx="153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RIA O SU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71240" y="4603680"/>
            <a:ext cx="128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INANCEIRO 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875200" y="4808520"/>
            <a:ext cx="112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ÍTIC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877720" y="5010120"/>
            <a:ext cx="100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75560" y="5214960"/>
            <a:ext cx="87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ÍD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92400" y="399096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94080" y="39909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25680" y="3990960"/>
            <a:ext cx="3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28920" y="39909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36840" y="3990960"/>
            <a:ext cx="1870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07040" y="3990960"/>
            <a:ext cx="3240" cy="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9909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92400" y="3998880"/>
            <a:ext cx="61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92400" y="552132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92400" y="552132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98520" y="5521320"/>
            <a:ext cx="1195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94080" y="39988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9408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28920" y="39988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2892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2892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36840" y="5521320"/>
            <a:ext cx="1873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10280" y="3998880"/>
            <a:ext cx="7920" cy="152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1028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10280" y="5521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92720" y="1336680"/>
            <a:ext cx="317520" cy="212760"/>
          </a:xfrm>
          <a:custGeom>
            <a:avLst/>
            <a:gdLst/>
            <a:ahLst/>
            <a:rect l="l" t="t" r="r" b="b"/>
            <a:pathLst>
              <a:path w="200" h="134">
                <a:moveTo>
                  <a:pt x="151" y="0"/>
                </a:moveTo>
                <a:lnTo>
                  <a:pt x="151" y="34"/>
                </a:lnTo>
                <a:lnTo>
                  <a:pt x="0" y="34"/>
                </a:lnTo>
                <a:lnTo>
                  <a:pt x="0" y="100"/>
                </a:lnTo>
                <a:lnTo>
                  <a:pt x="151" y="100"/>
                </a:lnTo>
                <a:lnTo>
                  <a:pt x="151" y="134"/>
                </a:lnTo>
                <a:lnTo>
                  <a:pt x="200" y="67"/>
                </a:lnTo>
                <a:lnTo>
                  <a:pt x="151" y="0"/>
                </a:lnTo>
                <a:close/>
              </a:path>
            </a:pathLst>
          </a:custGeom>
          <a:solidFill>
            <a:srgbClr val="3366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95960" y="2610000"/>
            <a:ext cx="317520" cy="210960"/>
          </a:xfrm>
          <a:custGeom>
            <a:avLst/>
            <a:gdLst/>
            <a:ahLst/>
            <a:rect l="l" t="t" r="r" b="b"/>
            <a:pathLst>
              <a:path w="200" h="133">
                <a:moveTo>
                  <a:pt x="151" y="0"/>
                </a:moveTo>
                <a:lnTo>
                  <a:pt x="151" y="33"/>
                </a:lnTo>
                <a:lnTo>
                  <a:pt x="0" y="33"/>
                </a:lnTo>
                <a:lnTo>
                  <a:pt x="0" y="100"/>
                </a:lnTo>
                <a:lnTo>
                  <a:pt x="151" y="100"/>
                </a:lnTo>
                <a:lnTo>
                  <a:pt x="151" y="133"/>
                </a:lnTo>
                <a:lnTo>
                  <a:pt x="200" y="67"/>
                </a:lnTo>
                <a:lnTo>
                  <a:pt x="151" y="0"/>
                </a:lnTo>
                <a:close/>
              </a:path>
            </a:pathLst>
          </a:custGeom>
          <a:solidFill>
            <a:srgbClr val="3366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95960" y="4411800"/>
            <a:ext cx="317520" cy="212760"/>
          </a:xfrm>
          <a:custGeom>
            <a:avLst/>
            <a:gdLst/>
            <a:ahLst/>
            <a:rect l="l" t="t" r="r" b="b"/>
            <a:pathLst>
              <a:path w="200" h="134">
                <a:moveTo>
                  <a:pt x="151" y="0"/>
                </a:moveTo>
                <a:lnTo>
                  <a:pt x="151" y="34"/>
                </a:lnTo>
                <a:lnTo>
                  <a:pt x="0" y="34"/>
                </a:lnTo>
                <a:lnTo>
                  <a:pt x="0" y="100"/>
                </a:lnTo>
                <a:lnTo>
                  <a:pt x="151" y="100"/>
                </a:lnTo>
                <a:lnTo>
                  <a:pt x="151" y="134"/>
                </a:lnTo>
                <a:lnTo>
                  <a:pt x="200" y="67"/>
                </a:lnTo>
                <a:lnTo>
                  <a:pt x="151" y="0"/>
                </a:lnTo>
                <a:close/>
              </a:path>
            </a:pathLst>
          </a:custGeom>
          <a:solidFill>
            <a:srgbClr val="3366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19680" y="2927520"/>
            <a:ext cx="106560" cy="636480"/>
          </a:xfrm>
          <a:custGeom>
            <a:avLst/>
            <a:gdLst/>
            <a:ahLst/>
            <a:rect l="l" t="t" r="r" b="b"/>
            <a:pathLst>
              <a:path w="67" h="401">
                <a:moveTo>
                  <a:pt x="67" y="0"/>
                </a:moveTo>
                <a:lnTo>
                  <a:pt x="54" y="2"/>
                </a:lnTo>
                <a:lnTo>
                  <a:pt x="45" y="11"/>
                </a:lnTo>
                <a:lnTo>
                  <a:pt x="36" y="20"/>
                </a:lnTo>
                <a:lnTo>
                  <a:pt x="34" y="34"/>
                </a:lnTo>
                <a:lnTo>
                  <a:pt x="34" y="167"/>
                </a:lnTo>
                <a:lnTo>
                  <a:pt x="31" y="180"/>
                </a:lnTo>
                <a:lnTo>
                  <a:pt x="25" y="192"/>
                </a:lnTo>
                <a:lnTo>
                  <a:pt x="14" y="198"/>
                </a:lnTo>
                <a:lnTo>
                  <a:pt x="0" y="201"/>
                </a:lnTo>
                <a:lnTo>
                  <a:pt x="14" y="203"/>
                </a:lnTo>
                <a:lnTo>
                  <a:pt x="25" y="212"/>
                </a:lnTo>
                <a:lnTo>
                  <a:pt x="31" y="221"/>
                </a:lnTo>
                <a:lnTo>
                  <a:pt x="34" y="234"/>
                </a:lnTo>
                <a:lnTo>
                  <a:pt x="34" y="368"/>
                </a:lnTo>
                <a:lnTo>
                  <a:pt x="36" y="381"/>
                </a:lnTo>
                <a:lnTo>
                  <a:pt x="45" y="392"/>
                </a:lnTo>
                <a:lnTo>
                  <a:pt x="54" y="399"/>
                </a:lnTo>
                <a:lnTo>
                  <a:pt x="67" y="40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536920" y="961920"/>
            <a:ext cx="742680" cy="117720"/>
            <a:chOff x="2536920" y="961920"/>
            <a:chExt cx="742680" cy="117720"/>
          </a:xfrm>
        </p:grpSpPr>
        <p:sp>
          <p:nvSpPr>
            <p:cNvPr id="470" name=""/>
            <p:cNvSpPr/>
            <p:nvPr/>
          </p:nvSpPr>
          <p:spPr>
            <a:xfrm>
              <a:off x="2536920" y="1019160"/>
              <a:ext cx="63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66920" y="961920"/>
              <a:ext cx="112680" cy="11772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0" y="74"/>
                  </a:moveTo>
                  <a:lnTo>
                    <a:pt x="71" y="36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536920" y="2871720"/>
            <a:ext cx="742680" cy="115920"/>
            <a:chOff x="2536920" y="2871720"/>
            <a:chExt cx="742680" cy="115920"/>
          </a:xfrm>
        </p:grpSpPr>
        <p:sp>
          <p:nvSpPr>
            <p:cNvPr id="473" name=""/>
            <p:cNvSpPr/>
            <p:nvPr/>
          </p:nvSpPr>
          <p:spPr>
            <a:xfrm>
              <a:off x="2536920" y="2927520"/>
              <a:ext cx="63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66920" y="2871720"/>
              <a:ext cx="112680" cy="11592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0" y="73"/>
                  </a:moveTo>
                  <a:lnTo>
                    <a:pt x="71" y="35"/>
                  </a:lnTo>
                  <a:lnTo>
                    <a:pt x="0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536920" y="4673520"/>
            <a:ext cx="742680" cy="117720"/>
            <a:chOff x="2536920" y="4673520"/>
            <a:chExt cx="742680" cy="117720"/>
          </a:xfrm>
        </p:grpSpPr>
        <p:sp>
          <p:nvSpPr>
            <p:cNvPr id="476" name=""/>
            <p:cNvSpPr/>
            <p:nvPr/>
          </p:nvSpPr>
          <p:spPr>
            <a:xfrm>
              <a:off x="2536920" y="4730760"/>
              <a:ext cx="63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66920" y="4673520"/>
              <a:ext cx="112680" cy="11772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0" y="74"/>
                  </a:moveTo>
                  <a:lnTo>
                    <a:pt x="71" y="36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21_CBH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band_sp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931680" cy="449280"/>
          </a:xfrm>
          <a:prstGeom prst="rect">
            <a:avLst/>
          </a:prstGeom>
          <a:ln w="0">
            <a:noFill/>
          </a:ln>
        </p:spPr>
      </p:pic>
      <p:pic>
        <p:nvPicPr>
          <p:cNvPr id="481" name="DAEE_LOGOcor" descr=""/>
          <p:cNvPicPr/>
          <p:nvPr/>
        </p:nvPicPr>
        <p:blipFill>
          <a:blip r:embed="rId3"/>
          <a:stretch/>
        </p:blipFill>
        <p:spPr>
          <a:xfrm>
            <a:off x="457200" y="6095880"/>
            <a:ext cx="398520" cy="533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91440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UNIDADES DE GERENCIAMENTO DE RECURSOS HÍD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3885840" y="1981080"/>
            <a:ext cx="1295280" cy="0"/>
            <a:chOff x="3885840" y="1981080"/>
            <a:chExt cx="1295280" cy="0"/>
          </a:xfrm>
        </p:grpSpPr>
        <p:sp>
          <p:nvSpPr>
            <p:cNvPr id="484" name=""/>
            <p:cNvSpPr/>
            <p:nvPr/>
          </p:nvSpPr>
          <p:spPr>
            <a:xfrm>
              <a:off x="4495680" y="1981080"/>
              <a:ext cx="685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3885840" y="1981080"/>
              <a:ext cx="609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0" y="-360"/>
            <a:ext cx="89154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.. E OS CRITÉRIOS ADOTADOS NA DIVISÃO HIDROGRÁFICA S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38080" y="1295280"/>
            <a:ext cx="8001000" cy="2286000"/>
            <a:chOff x="838080" y="1295280"/>
            <a:chExt cx="8001000" cy="2286000"/>
          </a:xfrm>
        </p:grpSpPr>
        <p:sp>
          <p:nvSpPr>
            <p:cNvPr id="488" name=""/>
            <p:cNvSpPr/>
            <p:nvPr/>
          </p:nvSpPr>
          <p:spPr>
            <a:xfrm>
              <a:off x="838080" y="1295280"/>
              <a:ext cx="2895840" cy="160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62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badi MT Condensed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badi MT Condensed Light"/>
                </a:rPr>
                <a:t>Área Menor que 25.000 km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badi MT Condensed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badi MT Condensed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badi MT Condensed Light"/>
                </a:rPr>
                <a:t>Cerca de 50 Municíp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57800" y="1295280"/>
              <a:ext cx="3581280" cy="228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E, ainda, considerações sobr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- Divisor de água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- Clima, Uso do Solo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- Hidrologia, Aqüífero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- Perfil sócio-econômic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205740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33920" y="2133360"/>
              <a:ext cx="0" cy="129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14400" y="2895480"/>
              <a:ext cx="685800" cy="533520"/>
            </a:xfrm>
            <a:prstGeom prst="leftArrow">
              <a:avLst>
                <a:gd name="adj1" fmla="val 50000"/>
                <a:gd name="adj2" fmla="val 3213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19520" y="2895480"/>
              <a:ext cx="687240" cy="533520"/>
            </a:xfrm>
            <a:prstGeom prst="rightArrow">
              <a:avLst>
                <a:gd name="adj1" fmla="val 50000"/>
                <a:gd name="adj2" fmla="val 3220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6520" y="297180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~300 k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5" name="22UG_rios" descr=""/>
          <p:cNvPicPr/>
          <p:nvPr/>
        </p:nvPicPr>
        <p:blipFill>
          <a:blip r:embed="rId1"/>
          <a:stretch/>
        </p:blipFill>
        <p:spPr>
          <a:xfrm>
            <a:off x="2438280" y="3505320"/>
            <a:ext cx="4222800" cy="2830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04920" y="137160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O procedimento de instalação do CBH-PARDO constituiu-se um Grupo Executivo Regional, pela mobilização dos 3 segmentos alvos, (Estado, Sociedade Civil e Prefeitura) e por meio de várias reuniões, seminários e encontros desenvolvi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0492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Handwriting"/>
              </a:rPr>
              <a:t>INSTALAÇÃO DO COMITÊ DA BACIA HIDROGRÁFICA DO P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0" y="6019920"/>
            <a:ext cx="9144000" cy="761760"/>
            <a:chOff x="0" y="6019920"/>
            <a:chExt cx="9144000" cy="761760"/>
          </a:xfrm>
        </p:grpSpPr>
        <p:sp>
          <p:nvSpPr>
            <p:cNvPr id="501" name=""/>
            <p:cNvSpPr/>
            <p:nvPr/>
          </p:nvSpPr>
          <p:spPr>
            <a:xfrm>
              <a:off x="2057400" y="6248520"/>
              <a:ext cx="525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COMITÊ DA BACIA HIDROGRÁFICA DO P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0" y="6019920"/>
              <a:ext cx="9144000" cy="761760"/>
              <a:chOff x="0" y="6019920"/>
              <a:chExt cx="9144000" cy="76176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4" name="CBHLogo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6095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INSTRUCOES%2520DA%25Fehidror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6172200"/>
                <a:ext cx="1057320" cy="43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2743200" y="2895480"/>
            <a:ext cx="4584600" cy="311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04920" y="137160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artindo-se de um estatuto básico, elaborou-se seu ESTATUTO, “adaptado” pelos participantes às características e interesses locais e um primeiro DIAGNÓSTICO DA SITUAÇÃO DOS RECURSOS HÍDRICOS DA BACIA. Contatos com prefeitos e técnicos atuantes no setor de recursos hídricos dos setores públicos e privado serviram para o esclarecimento sobre o papel e atribuições do comitê, sua importância política e administrativa para a região na qual o mesmo se inse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Handwriting"/>
              </a:rPr>
              <a:t>INSTALAÇÃO DO COMITÊ DA BACIA HIDROGRÁFICA DO P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0" y="6019920"/>
            <a:ext cx="9144000" cy="761760"/>
            <a:chOff x="0" y="6019920"/>
            <a:chExt cx="9144000" cy="761760"/>
          </a:xfrm>
        </p:grpSpPr>
        <p:sp>
          <p:nvSpPr>
            <p:cNvPr id="510" name=""/>
            <p:cNvSpPr/>
            <p:nvPr/>
          </p:nvSpPr>
          <p:spPr>
            <a:xfrm>
              <a:off x="2057400" y="6248520"/>
              <a:ext cx="525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COMITÊ DA BACIA HIDROGRÁFICA DO P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0" y="6019920"/>
              <a:ext cx="9144000" cy="761760"/>
              <a:chOff x="0" y="6019920"/>
              <a:chExt cx="9144000" cy="76176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3" name="CBHLogo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6095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INSTRUCOES%2520DA%25Fehidror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6172200"/>
                <a:ext cx="1057320" cy="43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581280" y="1066680"/>
            <a:ext cx="2362320" cy="129564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noAutofit/>
          </a:bodyPr>
          <a:p>
            <a:pPr marL="284040" indent="-284040" algn="ctr">
              <a:lnSpc>
                <a:spcPct val="120000"/>
              </a:lnSpc>
              <a:spcBef>
                <a:spcPts val="1301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GRUPO EXEC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ETE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95680" y="2438280"/>
            <a:ext cx="289080" cy="447840"/>
          </a:xfrm>
          <a:prstGeom prst="downArrow">
            <a:avLst>
              <a:gd name="adj1" fmla="val 50000"/>
              <a:gd name="adj2" fmla="val 38730"/>
            </a:avLst>
          </a:prstGeom>
          <a:solidFill>
            <a:srgbClr val="ff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81280" y="3048120"/>
            <a:ext cx="2362320" cy="129528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172800" bIns="82800" anchor="t">
            <a:noAutofit/>
          </a:bodyPr>
          <a:p>
            <a:pPr marL="284040" indent="-284040">
              <a:lnSpc>
                <a:spcPct val="120000"/>
              </a:lnSpc>
              <a:spcBef>
                <a:spcPts val="437"/>
              </a:spcBef>
              <a:spcAft>
                <a:spcPts val="176"/>
              </a:spcAft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UNI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spcBef>
                <a:spcPts val="437"/>
              </a:spcBef>
              <a:spcAft>
                <a:spcPts val="176"/>
              </a:spcAft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MIN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spcBef>
                <a:spcPts val="437"/>
              </a:spcBef>
              <a:spcAft>
                <a:spcPts val="176"/>
              </a:spcAft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CON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4495680"/>
            <a:ext cx="2362320" cy="129564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136800" bIns="82800" anchor="t">
            <a:noAutofit/>
          </a:bodyPr>
          <a:p>
            <a:pPr marL="284040" indent="-284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STAT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SI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TOR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RIBUI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5880" y="4495680"/>
            <a:ext cx="2362320" cy="129564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208800" bIns="100800" anchor="t">
            <a:noAutofit/>
          </a:bodyPr>
          <a:p>
            <a:pPr marL="284040" indent="-2840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UGR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ACTER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TRIZ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0" y="6019920"/>
            <a:ext cx="9144000" cy="761760"/>
            <a:chOff x="0" y="6019920"/>
            <a:chExt cx="9144000" cy="761760"/>
          </a:xfrm>
        </p:grpSpPr>
        <p:sp>
          <p:nvSpPr>
            <p:cNvPr id="522" name=""/>
            <p:cNvSpPr/>
            <p:nvPr/>
          </p:nvSpPr>
          <p:spPr>
            <a:xfrm>
              <a:off x="2057400" y="6248520"/>
              <a:ext cx="525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COMITÊ DA BACIA HIDROGRÁFICA DO P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0" y="6019920"/>
              <a:ext cx="9144000" cy="761760"/>
              <a:chOff x="0" y="6019920"/>
              <a:chExt cx="9144000" cy="76176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5" name="CBHLogo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6095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INSTRUCOES%2520DA%25Fehidror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6172200"/>
                <a:ext cx="1057320" cy="43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7" name=""/>
          <p:cNvSpPr/>
          <p:nvPr/>
        </p:nvSpPr>
        <p:spPr>
          <a:xfrm>
            <a:off x="53352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000000"/>
                </a:solidFill>
                <a:latin typeface="Lucida Handwriting"/>
              </a:rPr>
              <a:t>INSTALAÇÃO E FUNCIONAMENTO </a:t>
            </a:r>
            <a:br>
              <a:rPr sz="2800"/>
            </a:br>
            <a:r>
              <a:rPr b="1" i="1" sz="2800" spc="-1" strike="noStrike">
                <a:solidFill>
                  <a:srgbClr val="000000"/>
                </a:solidFill>
                <a:latin typeface="Lucida Handwriting"/>
              </a:rPr>
              <a:t>DO CBH-P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0800000">
            <a:off x="1295280" y="3200400"/>
            <a:ext cx="1067040" cy="91440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76680" bIns="76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rot="10800000">
            <a:off x="7161840" y="3200400"/>
            <a:ext cx="1066680" cy="914400"/>
          </a:xfrm>
          <a:custGeom>
            <a:avLst/>
            <a:gdLst>
              <a:gd name="textAreaLeft" fmla="*/ 355320 w 1066680"/>
              <a:gd name="textAreaRight" fmla="*/ 913320 w 106668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76680" bIns="76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6324480" y="914400"/>
            <a:ext cx="2514600" cy="19000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6858000" y="1219320"/>
            <a:ext cx="137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STATU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BH-PA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2639880" y="669960"/>
            <a:ext cx="4751640" cy="5045040"/>
          </a:xfrm>
          <a:custGeom>
            <a:avLst/>
            <a:gdLst/>
            <a:ahLst/>
            <a:rect l="l" t="t" r="r" b="b"/>
            <a:pathLst>
              <a:path w="3658" h="5459">
                <a:moveTo>
                  <a:pt x="1031" y="122"/>
                </a:moveTo>
                <a:lnTo>
                  <a:pt x="1036" y="121"/>
                </a:lnTo>
                <a:lnTo>
                  <a:pt x="1041" y="119"/>
                </a:lnTo>
                <a:lnTo>
                  <a:pt x="1045" y="117"/>
                </a:lnTo>
                <a:lnTo>
                  <a:pt x="1051" y="116"/>
                </a:lnTo>
                <a:lnTo>
                  <a:pt x="1055" y="114"/>
                </a:lnTo>
                <a:lnTo>
                  <a:pt x="1060" y="114"/>
                </a:lnTo>
                <a:lnTo>
                  <a:pt x="1065" y="116"/>
                </a:lnTo>
                <a:lnTo>
                  <a:pt x="1069" y="118"/>
                </a:lnTo>
                <a:lnTo>
                  <a:pt x="1042" y="133"/>
                </a:lnTo>
                <a:lnTo>
                  <a:pt x="1053" y="150"/>
                </a:lnTo>
                <a:lnTo>
                  <a:pt x="1065" y="166"/>
                </a:lnTo>
                <a:lnTo>
                  <a:pt x="1076" y="183"/>
                </a:lnTo>
                <a:lnTo>
                  <a:pt x="1088" y="200"/>
                </a:lnTo>
                <a:lnTo>
                  <a:pt x="1099" y="218"/>
                </a:lnTo>
                <a:lnTo>
                  <a:pt x="1109" y="235"/>
                </a:lnTo>
                <a:lnTo>
                  <a:pt x="1120" y="252"/>
                </a:lnTo>
                <a:lnTo>
                  <a:pt x="1130" y="270"/>
                </a:lnTo>
                <a:lnTo>
                  <a:pt x="1138" y="269"/>
                </a:lnTo>
                <a:lnTo>
                  <a:pt x="1147" y="269"/>
                </a:lnTo>
                <a:lnTo>
                  <a:pt x="1155" y="272"/>
                </a:lnTo>
                <a:lnTo>
                  <a:pt x="1164" y="275"/>
                </a:lnTo>
                <a:lnTo>
                  <a:pt x="1172" y="280"/>
                </a:lnTo>
                <a:lnTo>
                  <a:pt x="1180" y="284"/>
                </a:lnTo>
                <a:lnTo>
                  <a:pt x="1187" y="290"/>
                </a:lnTo>
                <a:lnTo>
                  <a:pt x="1195" y="295"/>
                </a:lnTo>
                <a:lnTo>
                  <a:pt x="1202" y="300"/>
                </a:lnTo>
                <a:lnTo>
                  <a:pt x="1207" y="307"/>
                </a:lnTo>
                <a:lnTo>
                  <a:pt x="1210" y="314"/>
                </a:lnTo>
                <a:lnTo>
                  <a:pt x="1212" y="321"/>
                </a:lnTo>
                <a:lnTo>
                  <a:pt x="1215" y="329"/>
                </a:lnTo>
                <a:lnTo>
                  <a:pt x="1216" y="338"/>
                </a:lnTo>
                <a:lnTo>
                  <a:pt x="1217" y="346"/>
                </a:lnTo>
                <a:lnTo>
                  <a:pt x="1218" y="354"/>
                </a:lnTo>
                <a:lnTo>
                  <a:pt x="1210" y="344"/>
                </a:lnTo>
                <a:lnTo>
                  <a:pt x="1202" y="332"/>
                </a:lnTo>
                <a:lnTo>
                  <a:pt x="1193" y="321"/>
                </a:lnTo>
                <a:lnTo>
                  <a:pt x="1184" y="311"/>
                </a:lnTo>
                <a:lnTo>
                  <a:pt x="1173" y="301"/>
                </a:lnTo>
                <a:lnTo>
                  <a:pt x="1162" y="295"/>
                </a:lnTo>
                <a:lnTo>
                  <a:pt x="1149" y="290"/>
                </a:lnTo>
                <a:lnTo>
                  <a:pt x="1134" y="290"/>
                </a:lnTo>
                <a:lnTo>
                  <a:pt x="1192" y="431"/>
                </a:lnTo>
                <a:lnTo>
                  <a:pt x="1199" y="433"/>
                </a:lnTo>
                <a:lnTo>
                  <a:pt x="1205" y="435"/>
                </a:lnTo>
                <a:lnTo>
                  <a:pt x="1212" y="436"/>
                </a:lnTo>
                <a:lnTo>
                  <a:pt x="1220" y="437"/>
                </a:lnTo>
                <a:lnTo>
                  <a:pt x="1227" y="438"/>
                </a:lnTo>
                <a:lnTo>
                  <a:pt x="1233" y="440"/>
                </a:lnTo>
                <a:lnTo>
                  <a:pt x="1239" y="443"/>
                </a:lnTo>
                <a:lnTo>
                  <a:pt x="1244" y="447"/>
                </a:lnTo>
                <a:lnTo>
                  <a:pt x="1256" y="467"/>
                </a:lnTo>
                <a:lnTo>
                  <a:pt x="1267" y="487"/>
                </a:lnTo>
                <a:lnTo>
                  <a:pt x="1279" y="509"/>
                </a:lnTo>
                <a:lnTo>
                  <a:pt x="1288" y="531"/>
                </a:lnTo>
                <a:lnTo>
                  <a:pt x="1293" y="554"/>
                </a:lnTo>
                <a:lnTo>
                  <a:pt x="1295" y="577"/>
                </a:lnTo>
                <a:lnTo>
                  <a:pt x="1290" y="600"/>
                </a:lnTo>
                <a:lnTo>
                  <a:pt x="1279" y="623"/>
                </a:lnTo>
                <a:lnTo>
                  <a:pt x="1321" y="625"/>
                </a:lnTo>
                <a:lnTo>
                  <a:pt x="1364" y="629"/>
                </a:lnTo>
                <a:lnTo>
                  <a:pt x="1405" y="632"/>
                </a:lnTo>
                <a:lnTo>
                  <a:pt x="1446" y="638"/>
                </a:lnTo>
                <a:lnTo>
                  <a:pt x="1487" y="643"/>
                </a:lnTo>
                <a:lnTo>
                  <a:pt x="1529" y="650"/>
                </a:lnTo>
                <a:lnTo>
                  <a:pt x="1569" y="658"/>
                </a:lnTo>
                <a:lnTo>
                  <a:pt x="1610" y="669"/>
                </a:lnTo>
                <a:lnTo>
                  <a:pt x="1649" y="679"/>
                </a:lnTo>
                <a:lnTo>
                  <a:pt x="1688" y="691"/>
                </a:lnTo>
                <a:lnTo>
                  <a:pt x="1727" y="703"/>
                </a:lnTo>
                <a:lnTo>
                  <a:pt x="1766" y="718"/>
                </a:lnTo>
                <a:lnTo>
                  <a:pt x="1803" y="733"/>
                </a:lnTo>
                <a:lnTo>
                  <a:pt x="1840" y="749"/>
                </a:lnTo>
                <a:lnTo>
                  <a:pt x="1877" y="767"/>
                </a:lnTo>
                <a:lnTo>
                  <a:pt x="1912" y="787"/>
                </a:lnTo>
                <a:lnTo>
                  <a:pt x="1931" y="802"/>
                </a:lnTo>
                <a:lnTo>
                  <a:pt x="1951" y="818"/>
                </a:lnTo>
                <a:lnTo>
                  <a:pt x="1972" y="834"/>
                </a:lnTo>
                <a:lnTo>
                  <a:pt x="1991" y="851"/>
                </a:lnTo>
                <a:lnTo>
                  <a:pt x="2007" y="870"/>
                </a:lnTo>
                <a:lnTo>
                  <a:pt x="2019" y="890"/>
                </a:lnTo>
                <a:lnTo>
                  <a:pt x="2023" y="913"/>
                </a:lnTo>
                <a:lnTo>
                  <a:pt x="2020" y="940"/>
                </a:lnTo>
                <a:lnTo>
                  <a:pt x="2002" y="951"/>
                </a:lnTo>
                <a:lnTo>
                  <a:pt x="1983" y="960"/>
                </a:lnTo>
                <a:lnTo>
                  <a:pt x="1965" y="969"/>
                </a:lnTo>
                <a:lnTo>
                  <a:pt x="1945" y="976"/>
                </a:lnTo>
                <a:lnTo>
                  <a:pt x="1925" y="983"/>
                </a:lnTo>
                <a:lnTo>
                  <a:pt x="1905" y="989"/>
                </a:lnTo>
                <a:lnTo>
                  <a:pt x="1885" y="995"/>
                </a:lnTo>
                <a:lnTo>
                  <a:pt x="1864" y="998"/>
                </a:lnTo>
                <a:lnTo>
                  <a:pt x="1844" y="1003"/>
                </a:lnTo>
                <a:lnTo>
                  <a:pt x="1822" y="1005"/>
                </a:lnTo>
                <a:lnTo>
                  <a:pt x="1800" y="1008"/>
                </a:lnTo>
                <a:lnTo>
                  <a:pt x="1779" y="1011"/>
                </a:lnTo>
                <a:lnTo>
                  <a:pt x="1758" y="1012"/>
                </a:lnTo>
                <a:lnTo>
                  <a:pt x="1736" y="1014"/>
                </a:lnTo>
                <a:lnTo>
                  <a:pt x="1713" y="1015"/>
                </a:lnTo>
                <a:lnTo>
                  <a:pt x="1691" y="1016"/>
                </a:lnTo>
                <a:lnTo>
                  <a:pt x="1674" y="1015"/>
                </a:lnTo>
                <a:lnTo>
                  <a:pt x="1657" y="1014"/>
                </a:lnTo>
                <a:lnTo>
                  <a:pt x="1640" y="1013"/>
                </a:lnTo>
                <a:lnTo>
                  <a:pt x="1622" y="1013"/>
                </a:lnTo>
                <a:lnTo>
                  <a:pt x="1605" y="1012"/>
                </a:lnTo>
                <a:lnTo>
                  <a:pt x="1588" y="1012"/>
                </a:lnTo>
                <a:lnTo>
                  <a:pt x="1571" y="1011"/>
                </a:lnTo>
                <a:lnTo>
                  <a:pt x="1555" y="1011"/>
                </a:lnTo>
                <a:lnTo>
                  <a:pt x="1538" y="1010"/>
                </a:lnTo>
                <a:lnTo>
                  <a:pt x="1521" y="1008"/>
                </a:lnTo>
                <a:lnTo>
                  <a:pt x="1503" y="1007"/>
                </a:lnTo>
                <a:lnTo>
                  <a:pt x="1486" y="1006"/>
                </a:lnTo>
                <a:lnTo>
                  <a:pt x="1470" y="1005"/>
                </a:lnTo>
                <a:lnTo>
                  <a:pt x="1453" y="1003"/>
                </a:lnTo>
                <a:lnTo>
                  <a:pt x="1437" y="1000"/>
                </a:lnTo>
                <a:lnTo>
                  <a:pt x="1421" y="997"/>
                </a:lnTo>
                <a:lnTo>
                  <a:pt x="1424" y="1015"/>
                </a:lnTo>
                <a:lnTo>
                  <a:pt x="1429" y="1033"/>
                </a:lnTo>
                <a:lnTo>
                  <a:pt x="1436" y="1050"/>
                </a:lnTo>
                <a:lnTo>
                  <a:pt x="1444" y="1068"/>
                </a:lnTo>
                <a:lnTo>
                  <a:pt x="1453" y="1085"/>
                </a:lnTo>
                <a:lnTo>
                  <a:pt x="1461" y="1103"/>
                </a:lnTo>
                <a:lnTo>
                  <a:pt x="1468" y="1121"/>
                </a:lnTo>
                <a:lnTo>
                  <a:pt x="1474" y="1139"/>
                </a:lnTo>
                <a:lnTo>
                  <a:pt x="1476" y="1168"/>
                </a:lnTo>
                <a:lnTo>
                  <a:pt x="1480" y="1196"/>
                </a:lnTo>
                <a:lnTo>
                  <a:pt x="1486" y="1222"/>
                </a:lnTo>
                <a:lnTo>
                  <a:pt x="1494" y="1249"/>
                </a:lnTo>
                <a:lnTo>
                  <a:pt x="1504" y="1275"/>
                </a:lnTo>
                <a:lnTo>
                  <a:pt x="1516" y="1300"/>
                </a:lnTo>
                <a:lnTo>
                  <a:pt x="1529" y="1324"/>
                </a:lnTo>
                <a:lnTo>
                  <a:pt x="1543" y="1348"/>
                </a:lnTo>
                <a:lnTo>
                  <a:pt x="1558" y="1371"/>
                </a:lnTo>
                <a:lnTo>
                  <a:pt x="1575" y="1394"/>
                </a:lnTo>
                <a:lnTo>
                  <a:pt x="1593" y="1416"/>
                </a:lnTo>
                <a:lnTo>
                  <a:pt x="1611" y="1437"/>
                </a:lnTo>
                <a:lnTo>
                  <a:pt x="1629" y="1457"/>
                </a:lnTo>
                <a:lnTo>
                  <a:pt x="1649" y="1477"/>
                </a:lnTo>
                <a:lnTo>
                  <a:pt x="1668" y="1495"/>
                </a:lnTo>
                <a:lnTo>
                  <a:pt x="1688" y="1513"/>
                </a:lnTo>
                <a:lnTo>
                  <a:pt x="1705" y="1518"/>
                </a:lnTo>
                <a:lnTo>
                  <a:pt x="1722" y="1524"/>
                </a:lnTo>
                <a:lnTo>
                  <a:pt x="1737" y="1531"/>
                </a:lnTo>
                <a:lnTo>
                  <a:pt x="1752" y="1539"/>
                </a:lnTo>
                <a:lnTo>
                  <a:pt x="1767" y="1549"/>
                </a:lnTo>
                <a:lnTo>
                  <a:pt x="1779" y="1559"/>
                </a:lnTo>
                <a:lnTo>
                  <a:pt x="1792" y="1571"/>
                </a:lnTo>
                <a:lnTo>
                  <a:pt x="1805" y="1583"/>
                </a:lnTo>
                <a:lnTo>
                  <a:pt x="1816" y="1596"/>
                </a:lnTo>
                <a:lnTo>
                  <a:pt x="1826" y="1610"/>
                </a:lnTo>
                <a:lnTo>
                  <a:pt x="1837" y="1624"/>
                </a:lnTo>
                <a:lnTo>
                  <a:pt x="1847" y="1637"/>
                </a:lnTo>
                <a:lnTo>
                  <a:pt x="1856" y="1652"/>
                </a:lnTo>
                <a:lnTo>
                  <a:pt x="1865" y="1666"/>
                </a:lnTo>
                <a:lnTo>
                  <a:pt x="1874" y="1680"/>
                </a:lnTo>
                <a:lnTo>
                  <a:pt x="1882" y="1694"/>
                </a:lnTo>
                <a:lnTo>
                  <a:pt x="1908" y="1702"/>
                </a:lnTo>
                <a:lnTo>
                  <a:pt x="1934" y="1709"/>
                </a:lnTo>
                <a:lnTo>
                  <a:pt x="1960" y="1715"/>
                </a:lnTo>
                <a:lnTo>
                  <a:pt x="1987" y="1722"/>
                </a:lnTo>
                <a:lnTo>
                  <a:pt x="2013" y="1729"/>
                </a:lnTo>
                <a:lnTo>
                  <a:pt x="2041" y="1737"/>
                </a:lnTo>
                <a:lnTo>
                  <a:pt x="2067" y="1744"/>
                </a:lnTo>
                <a:lnTo>
                  <a:pt x="2092" y="1752"/>
                </a:lnTo>
                <a:lnTo>
                  <a:pt x="2118" y="1760"/>
                </a:lnTo>
                <a:lnTo>
                  <a:pt x="2144" y="1769"/>
                </a:lnTo>
                <a:lnTo>
                  <a:pt x="2168" y="1780"/>
                </a:lnTo>
                <a:lnTo>
                  <a:pt x="2192" y="1791"/>
                </a:lnTo>
                <a:lnTo>
                  <a:pt x="2216" y="1804"/>
                </a:lnTo>
                <a:lnTo>
                  <a:pt x="2238" y="1818"/>
                </a:lnTo>
                <a:lnTo>
                  <a:pt x="2259" y="1832"/>
                </a:lnTo>
                <a:lnTo>
                  <a:pt x="2280" y="1850"/>
                </a:lnTo>
                <a:lnTo>
                  <a:pt x="2283" y="1861"/>
                </a:lnTo>
                <a:lnTo>
                  <a:pt x="2283" y="1873"/>
                </a:lnTo>
                <a:lnTo>
                  <a:pt x="2283" y="1885"/>
                </a:lnTo>
                <a:lnTo>
                  <a:pt x="2285" y="1898"/>
                </a:lnTo>
                <a:lnTo>
                  <a:pt x="2286" y="1909"/>
                </a:lnTo>
                <a:lnTo>
                  <a:pt x="2290" y="1917"/>
                </a:lnTo>
                <a:lnTo>
                  <a:pt x="2299" y="1924"/>
                </a:lnTo>
                <a:lnTo>
                  <a:pt x="2313" y="1927"/>
                </a:lnTo>
                <a:lnTo>
                  <a:pt x="2321" y="1948"/>
                </a:lnTo>
                <a:lnTo>
                  <a:pt x="2328" y="1970"/>
                </a:lnTo>
                <a:lnTo>
                  <a:pt x="2335" y="1992"/>
                </a:lnTo>
                <a:lnTo>
                  <a:pt x="2343" y="2014"/>
                </a:lnTo>
                <a:lnTo>
                  <a:pt x="2351" y="2037"/>
                </a:lnTo>
                <a:lnTo>
                  <a:pt x="2360" y="2057"/>
                </a:lnTo>
                <a:lnTo>
                  <a:pt x="2372" y="2079"/>
                </a:lnTo>
                <a:lnTo>
                  <a:pt x="2383" y="2099"/>
                </a:lnTo>
                <a:lnTo>
                  <a:pt x="2390" y="2114"/>
                </a:lnTo>
                <a:lnTo>
                  <a:pt x="2398" y="2127"/>
                </a:lnTo>
                <a:lnTo>
                  <a:pt x="2406" y="2142"/>
                </a:lnTo>
                <a:lnTo>
                  <a:pt x="2414" y="2156"/>
                </a:lnTo>
                <a:lnTo>
                  <a:pt x="2422" y="2170"/>
                </a:lnTo>
                <a:lnTo>
                  <a:pt x="2430" y="2184"/>
                </a:lnTo>
                <a:lnTo>
                  <a:pt x="2439" y="2197"/>
                </a:lnTo>
                <a:lnTo>
                  <a:pt x="2448" y="2211"/>
                </a:lnTo>
                <a:lnTo>
                  <a:pt x="2456" y="2225"/>
                </a:lnTo>
                <a:lnTo>
                  <a:pt x="2464" y="2239"/>
                </a:lnTo>
                <a:lnTo>
                  <a:pt x="2474" y="2253"/>
                </a:lnTo>
                <a:lnTo>
                  <a:pt x="2482" y="2267"/>
                </a:lnTo>
                <a:lnTo>
                  <a:pt x="2488" y="2281"/>
                </a:lnTo>
                <a:lnTo>
                  <a:pt x="2496" y="2296"/>
                </a:lnTo>
                <a:lnTo>
                  <a:pt x="2503" y="2310"/>
                </a:lnTo>
                <a:lnTo>
                  <a:pt x="2509" y="2325"/>
                </a:lnTo>
                <a:lnTo>
                  <a:pt x="2523" y="2341"/>
                </a:lnTo>
                <a:lnTo>
                  <a:pt x="2565" y="2315"/>
                </a:lnTo>
                <a:lnTo>
                  <a:pt x="2609" y="2287"/>
                </a:lnTo>
                <a:lnTo>
                  <a:pt x="2652" y="2261"/>
                </a:lnTo>
                <a:lnTo>
                  <a:pt x="2696" y="2234"/>
                </a:lnTo>
                <a:lnTo>
                  <a:pt x="2739" y="2207"/>
                </a:lnTo>
                <a:lnTo>
                  <a:pt x="2782" y="2180"/>
                </a:lnTo>
                <a:lnTo>
                  <a:pt x="2825" y="2153"/>
                </a:lnTo>
                <a:lnTo>
                  <a:pt x="2868" y="2125"/>
                </a:lnTo>
                <a:lnTo>
                  <a:pt x="2910" y="2098"/>
                </a:lnTo>
                <a:lnTo>
                  <a:pt x="2951" y="2069"/>
                </a:lnTo>
                <a:lnTo>
                  <a:pt x="2992" y="2039"/>
                </a:lnTo>
                <a:lnTo>
                  <a:pt x="3033" y="2009"/>
                </a:lnTo>
                <a:lnTo>
                  <a:pt x="3073" y="1977"/>
                </a:lnTo>
                <a:lnTo>
                  <a:pt x="3110" y="1945"/>
                </a:lnTo>
                <a:lnTo>
                  <a:pt x="3148" y="1912"/>
                </a:lnTo>
                <a:lnTo>
                  <a:pt x="3185" y="1877"/>
                </a:lnTo>
                <a:lnTo>
                  <a:pt x="3187" y="1915"/>
                </a:lnTo>
                <a:lnTo>
                  <a:pt x="3190" y="1952"/>
                </a:lnTo>
                <a:lnTo>
                  <a:pt x="3192" y="1990"/>
                </a:lnTo>
                <a:lnTo>
                  <a:pt x="3193" y="2028"/>
                </a:lnTo>
                <a:lnTo>
                  <a:pt x="3194" y="2065"/>
                </a:lnTo>
                <a:lnTo>
                  <a:pt x="3195" y="2103"/>
                </a:lnTo>
                <a:lnTo>
                  <a:pt x="3196" y="2141"/>
                </a:lnTo>
                <a:lnTo>
                  <a:pt x="3196" y="2179"/>
                </a:lnTo>
                <a:lnTo>
                  <a:pt x="3198" y="2217"/>
                </a:lnTo>
                <a:lnTo>
                  <a:pt x="3199" y="2255"/>
                </a:lnTo>
                <a:lnTo>
                  <a:pt x="3201" y="2293"/>
                </a:lnTo>
                <a:lnTo>
                  <a:pt x="3202" y="2331"/>
                </a:lnTo>
                <a:lnTo>
                  <a:pt x="3204" y="2368"/>
                </a:lnTo>
                <a:lnTo>
                  <a:pt x="3208" y="2406"/>
                </a:lnTo>
                <a:lnTo>
                  <a:pt x="3211" y="2443"/>
                </a:lnTo>
                <a:lnTo>
                  <a:pt x="3215" y="2481"/>
                </a:lnTo>
                <a:lnTo>
                  <a:pt x="3238" y="2488"/>
                </a:lnTo>
                <a:lnTo>
                  <a:pt x="3259" y="2497"/>
                </a:lnTo>
                <a:lnTo>
                  <a:pt x="3279" y="2510"/>
                </a:lnTo>
                <a:lnTo>
                  <a:pt x="3297" y="2523"/>
                </a:lnTo>
                <a:lnTo>
                  <a:pt x="3312" y="2541"/>
                </a:lnTo>
                <a:lnTo>
                  <a:pt x="3326" y="2559"/>
                </a:lnTo>
                <a:lnTo>
                  <a:pt x="3338" y="2578"/>
                </a:lnTo>
                <a:lnTo>
                  <a:pt x="3349" y="2600"/>
                </a:lnTo>
                <a:lnTo>
                  <a:pt x="3346" y="2615"/>
                </a:lnTo>
                <a:lnTo>
                  <a:pt x="3346" y="2628"/>
                </a:lnTo>
                <a:lnTo>
                  <a:pt x="3350" y="2640"/>
                </a:lnTo>
                <a:lnTo>
                  <a:pt x="3353" y="2651"/>
                </a:lnTo>
                <a:lnTo>
                  <a:pt x="3359" y="2662"/>
                </a:lnTo>
                <a:lnTo>
                  <a:pt x="3366" y="2673"/>
                </a:lnTo>
                <a:lnTo>
                  <a:pt x="3374" y="2682"/>
                </a:lnTo>
                <a:lnTo>
                  <a:pt x="3382" y="2692"/>
                </a:lnTo>
                <a:lnTo>
                  <a:pt x="3387" y="2709"/>
                </a:lnTo>
                <a:lnTo>
                  <a:pt x="3392" y="2728"/>
                </a:lnTo>
                <a:lnTo>
                  <a:pt x="3397" y="2746"/>
                </a:lnTo>
                <a:lnTo>
                  <a:pt x="3400" y="2763"/>
                </a:lnTo>
                <a:lnTo>
                  <a:pt x="3403" y="2782"/>
                </a:lnTo>
                <a:lnTo>
                  <a:pt x="3401" y="2799"/>
                </a:lnTo>
                <a:lnTo>
                  <a:pt x="3396" y="2816"/>
                </a:lnTo>
                <a:lnTo>
                  <a:pt x="3387" y="2833"/>
                </a:lnTo>
                <a:lnTo>
                  <a:pt x="3393" y="2837"/>
                </a:lnTo>
                <a:lnTo>
                  <a:pt x="3399" y="2841"/>
                </a:lnTo>
                <a:lnTo>
                  <a:pt x="3404" y="2847"/>
                </a:lnTo>
                <a:lnTo>
                  <a:pt x="3409" y="2853"/>
                </a:lnTo>
                <a:lnTo>
                  <a:pt x="3409" y="2869"/>
                </a:lnTo>
                <a:lnTo>
                  <a:pt x="3409" y="2885"/>
                </a:lnTo>
                <a:lnTo>
                  <a:pt x="3408" y="2900"/>
                </a:lnTo>
                <a:lnTo>
                  <a:pt x="3406" y="2916"/>
                </a:lnTo>
                <a:lnTo>
                  <a:pt x="3403" y="2931"/>
                </a:lnTo>
                <a:lnTo>
                  <a:pt x="3399" y="2945"/>
                </a:lnTo>
                <a:lnTo>
                  <a:pt x="3395" y="2960"/>
                </a:lnTo>
                <a:lnTo>
                  <a:pt x="3390" y="2973"/>
                </a:lnTo>
                <a:lnTo>
                  <a:pt x="3383" y="2987"/>
                </a:lnTo>
                <a:lnTo>
                  <a:pt x="3377" y="3001"/>
                </a:lnTo>
                <a:lnTo>
                  <a:pt x="3369" y="3013"/>
                </a:lnTo>
                <a:lnTo>
                  <a:pt x="3361" y="3026"/>
                </a:lnTo>
                <a:lnTo>
                  <a:pt x="3353" y="3038"/>
                </a:lnTo>
                <a:lnTo>
                  <a:pt x="3343" y="3049"/>
                </a:lnTo>
                <a:lnTo>
                  <a:pt x="3333" y="3061"/>
                </a:lnTo>
                <a:lnTo>
                  <a:pt x="3322" y="3071"/>
                </a:lnTo>
                <a:lnTo>
                  <a:pt x="3335" y="3079"/>
                </a:lnTo>
                <a:lnTo>
                  <a:pt x="3346" y="3086"/>
                </a:lnTo>
                <a:lnTo>
                  <a:pt x="3360" y="3092"/>
                </a:lnTo>
                <a:lnTo>
                  <a:pt x="3373" y="3096"/>
                </a:lnTo>
                <a:lnTo>
                  <a:pt x="3387" y="3100"/>
                </a:lnTo>
                <a:lnTo>
                  <a:pt x="3401" y="3103"/>
                </a:lnTo>
                <a:lnTo>
                  <a:pt x="3415" y="3105"/>
                </a:lnTo>
                <a:lnTo>
                  <a:pt x="3430" y="3108"/>
                </a:lnTo>
                <a:lnTo>
                  <a:pt x="3444" y="3110"/>
                </a:lnTo>
                <a:lnTo>
                  <a:pt x="3459" y="3111"/>
                </a:lnTo>
                <a:lnTo>
                  <a:pt x="3474" y="3112"/>
                </a:lnTo>
                <a:lnTo>
                  <a:pt x="3489" y="3114"/>
                </a:lnTo>
                <a:lnTo>
                  <a:pt x="3503" y="3116"/>
                </a:lnTo>
                <a:lnTo>
                  <a:pt x="3518" y="3117"/>
                </a:lnTo>
                <a:lnTo>
                  <a:pt x="3533" y="3118"/>
                </a:lnTo>
                <a:lnTo>
                  <a:pt x="3548" y="3120"/>
                </a:lnTo>
                <a:lnTo>
                  <a:pt x="3553" y="3137"/>
                </a:lnTo>
                <a:lnTo>
                  <a:pt x="3555" y="3153"/>
                </a:lnTo>
                <a:lnTo>
                  <a:pt x="3554" y="3171"/>
                </a:lnTo>
                <a:lnTo>
                  <a:pt x="3552" y="3187"/>
                </a:lnTo>
                <a:lnTo>
                  <a:pt x="3546" y="3203"/>
                </a:lnTo>
                <a:lnTo>
                  <a:pt x="3540" y="3218"/>
                </a:lnTo>
                <a:lnTo>
                  <a:pt x="3532" y="3233"/>
                </a:lnTo>
                <a:lnTo>
                  <a:pt x="3524" y="3246"/>
                </a:lnTo>
                <a:lnTo>
                  <a:pt x="3515" y="3254"/>
                </a:lnTo>
                <a:lnTo>
                  <a:pt x="3503" y="3261"/>
                </a:lnTo>
                <a:lnTo>
                  <a:pt x="3492" y="3268"/>
                </a:lnTo>
                <a:lnTo>
                  <a:pt x="3480" y="3273"/>
                </a:lnTo>
                <a:lnTo>
                  <a:pt x="3468" y="3276"/>
                </a:lnTo>
                <a:lnTo>
                  <a:pt x="3455" y="3279"/>
                </a:lnTo>
                <a:lnTo>
                  <a:pt x="3442" y="3280"/>
                </a:lnTo>
                <a:lnTo>
                  <a:pt x="3429" y="3279"/>
                </a:lnTo>
                <a:lnTo>
                  <a:pt x="3416" y="3275"/>
                </a:lnTo>
                <a:lnTo>
                  <a:pt x="3403" y="3273"/>
                </a:lnTo>
                <a:lnTo>
                  <a:pt x="3390" y="3269"/>
                </a:lnTo>
                <a:lnTo>
                  <a:pt x="3377" y="3265"/>
                </a:lnTo>
                <a:lnTo>
                  <a:pt x="3365" y="3260"/>
                </a:lnTo>
                <a:lnTo>
                  <a:pt x="3353" y="3254"/>
                </a:lnTo>
                <a:lnTo>
                  <a:pt x="3342" y="3248"/>
                </a:lnTo>
                <a:lnTo>
                  <a:pt x="3333" y="3240"/>
                </a:lnTo>
                <a:lnTo>
                  <a:pt x="3337" y="3259"/>
                </a:lnTo>
                <a:lnTo>
                  <a:pt x="3342" y="3280"/>
                </a:lnTo>
                <a:lnTo>
                  <a:pt x="3346" y="3300"/>
                </a:lnTo>
                <a:lnTo>
                  <a:pt x="3351" y="3320"/>
                </a:lnTo>
                <a:lnTo>
                  <a:pt x="3356" y="3341"/>
                </a:lnTo>
                <a:lnTo>
                  <a:pt x="3359" y="3361"/>
                </a:lnTo>
                <a:lnTo>
                  <a:pt x="3364" y="3382"/>
                </a:lnTo>
                <a:lnTo>
                  <a:pt x="3368" y="3403"/>
                </a:lnTo>
                <a:lnTo>
                  <a:pt x="3373" y="3423"/>
                </a:lnTo>
                <a:lnTo>
                  <a:pt x="3377" y="3444"/>
                </a:lnTo>
                <a:lnTo>
                  <a:pt x="3382" y="3466"/>
                </a:lnTo>
                <a:lnTo>
                  <a:pt x="3387" y="3486"/>
                </a:lnTo>
                <a:lnTo>
                  <a:pt x="3391" y="3507"/>
                </a:lnTo>
                <a:lnTo>
                  <a:pt x="3397" y="3526"/>
                </a:lnTo>
                <a:lnTo>
                  <a:pt x="3401" y="3547"/>
                </a:lnTo>
                <a:lnTo>
                  <a:pt x="3406" y="3568"/>
                </a:lnTo>
                <a:lnTo>
                  <a:pt x="3412" y="3592"/>
                </a:lnTo>
                <a:lnTo>
                  <a:pt x="3417" y="3616"/>
                </a:lnTo>
                <a:lnTo>
                  <a:pt x="3424" y="3640"/>
                </a:lnTo>
                <a:lnTo>
                  <a:pt x="3431" y="3664"/>
                </a:lnTo>
                <a:lnTo>
                  <a:pt x="3437" y="3688"/>
                </a:lnTo>
                <a:lnTo>
                  <a:pt x="3444" y="3711"/>
                </a:lnTo>
                <a:lnTo>
                  <a:pt x="3452" y="3735"/>
                </a:lnTo>
                <a:lnTo>
                  <a:pt x="3459" y="3759"/>
                </a:lnTo>
                <a:lnTo>
                  <a:pt x="3466" y="3782"/>
                </a:lnTo>
                <a:lnTo>
                  <a:pt x="3474" y="3807"/>
                </a:lnTo>
                <a:lnTo>
                  <a:pt x="3482" y="3829"/>
                </a:lnTo>
                <a:lnTo>
                  <a:pt x="3490" y="3854"/>
                </a:lnTo>
                <a:lnTo>
                  <a:pt x="3498" y="3877"/>
                </a:lnTo>
                <a:lnTo>
                  <a:pt x="3506" y="3899"/>
                </a:lnTo>
                <a:lnTo>
                  <a:pt x="3514" y="3924"/>
                </a:lnTo>
                <a:lnTo>
                  <a:pt x="3522" y="3947"/>
                </a:lnTo>
                <a:lnTo>
                  <a:pt x="3530" y="3969"/>
                </a:lnTo>
                <a:lnTo>
                  <a:pt x="3539" y="3992"/>
                </a:lnTo>
                <a:lnTo>
                  <a:pt x="3547" y="4015"/>
                </a:lnTo>
                <a:lnTo>
                  <a:pt x="3556" y="4038"/>
                </a:lnTo>
                <a:lnTo>
                  <a:pt x="3564" y="4062"/>
                </a:lnTo>
                <a:lnTo>
                  <a:pt x="3573" y="4085"/>
                </a:lnTo>
                <a:lnTo>
                  <a:pt x="3581" y="4108"/>
                </a:lnTo>
                <a:lnTo>
                  <a:pt x="3590" y="4131"/>
                </a:lnTo>
                <a:lnTo>
                  <a:pt x="3598" y="4154"/>
                </a:lnTo>
                <a:lnTo>
                  <a:pt x="3608" y="4177"/>
                </a:lnTo>
                <a:lnTo>
                  <a:pt x="3616" y="4200"/>
                </a:lnTo>
                <a:lnTo>
                  <a:pt x="3625" y="4222"/>
                </a:lnTo>
                <a:lnTo>
                  <a:pt x="3633" y="4245"/>
                </a:lnTo>
                <a:lnTo>
                  <a:pt x="3641" y="4268"/>
                </a:lnTo>
                <a:lnTo>
                  <a:pt x="3650" y="4291"/>
                </a:lnTo>
                <a:lnTo>
                  <a:pt x="3658" y="4314"/>
                </a:lnTo>
                <a:lnTo>
                  <a:pt x="3624" y="4321"/>
                </a:lnTo>
                <a:lnTo>
                  <a:pt x="3589" y="4328"/>
                </a:lnTo>
                <a:lnTo>
                  <a:pt x="3554" y="4333"/>
                </a:lnTo>
                <a:lnTo>
                  <a:pt x="3518" y="4340"/>
                </a:lnTo>
                <a:lnTo>
                  <a:pt x="3483" y="4347"/>
                </a:lnTo>
                <a:lnTo>
                  <a:pt x="3447" y="4353"/>
                </a:lnTo>
                <a:lnTo>
                  <a:pt x="3412" y="4360"/>
                </a:lnTo>
                <a:lnTo>
                  <a:pt x="3376" y="4365"/>
                </a:lnTo>
                <a:lnTo>
                  <a:pt x="3341" y="4372"/>
                </a:lnTo>
                <a:lnTo>
                  <a:pt x="3305" y="4378"/>
                </a:lnTo>
                <a:lnTo>
                  <a:pt x="3270" y="4384"/>
                </a:lnTo>
                <a:lnTo>
                  <a:pt x="3234" y="4390"/>
                </a:lnTo>
                <a:lnTo>
                  <a:pt x="3199" y="4395"/>
                </a:lnTo>
                <a:lnTo>
                  <a:pt x="3163" y="4400"/>
                </a:lnTo>
                <a:lnTo>
                  <a:pt x="3128" y="4406"/>
                </a:lnTo>
                <a:lnTo>
                  <a:pt x="3093" y="4410"/>
                </a:lnTo>
                <a:lnTo>
                  <a:pt x="3049" y="4418"/>
                </a:lnTo>
                <a:lnTo>
                  <a:pt x="3005" y="4427"/>
                </a:lnTo>
                <a:lnTo>
                  <a:pt x="2962" y="4437"/>
                </a:lnTo>
                <a:lnTo>
                  <a:pt x="2917" y="4447"/>
                </a:lnTo>
                <a:lnTo>
                  <a:pt x="2873" y="4457"/>
                </a:lnTo>
                <a:lnTo>
                  <a:pt x="2830" y="4468"/>
                </a:lnTo>
                <a:lnTo>
                  <a:pt x="2787" y="4479"/>
                </a:lnTo>
                <a:lnTo>
                  <a:pt x="2744" y="4491"/>
                </a:lnTo>
                <a:lnTo>
                  <a:pt x="2702" y="4503"/>
                </a:lnTo>
                <a:lnTo>
                  <a:pt x="2659" y="4516"/>
                </a:lnTo>
                <a:lnTo>
                  <a:pt x="2616" y="4530"/>
                </a:lnTo>
                <a:lnTo>
                  <a:pt x="2574" y="4542"/>
                </a:lnTo>
                <a:lnTo>
                  <a:pt x="2532" y="4556"/>
                </a:lnTo>
                <a:lnTo>
                  <a:pt x="2490" y="4571"/>
                </a:lnTo>
                <a:lnTo>
                  <a:pt x="2448" y="4586"/>
                </a:lnTo>
                <a:lnTo>
                  <a:pt x="2407" y="4601"/>
                </a:lnTo>
                <a:lnTo>
                  <a:pt x="2365" y="4617"/>
                </a:lnTo>
                <a:lnTo>
                  <a:pt x="2324" y="4633"/>
                </a:lnTo>
                <a:lnTo>
                  <a:pt x="2283" y="4649"/>
                </a:lnTo>
                <a:lnTo>
                  <a:pt x="2242" y="4666"/>
                </a:lnTo>
                <a:lnTo>
                  <a:pt x="2202" y="4683"/>
                </a:lnTo>
                <a:lnTo>
                  <a:pt x="2161" y="4701"/>
                </a:lnTo>
                <a:lnTo>
                  <a:pt x="2121" y="4719"/>
                </a:lnTo>
                <a:lnTo>
                  <a:pt x="2081" y="4736"/>
                </a:lnTo>
                <a:lnTo>
                  <a:pt x="2042" y="4756"/>
                </a:lnTo>
                <a:lnTo>
                  <a:pt x="2002" y="4774"/>
                </a:lnTo>
                <a:lnTo>
                  <a:pt x="1963" y="4794"/>
                </a:lnTo>
                <a:lnTo>
                  <a:pt x="1923" y="4813"/>
                </a:lnTo>
                <a:lnTo>
                  <a:pt x="1884" y="4834"/>
                </a:lnTo>
                <a:lnTo>
                  <a:pt x="1845" y="4854"/>
                </a:lnTo>
                <a:lnTo>
                  <a:pt x="1807" y="4875"/>
                </a:lnTo>
                <a:lnTo>
                  <a:pt x="1768" y="4896"/>
                </a:lnTo>
                <a:lnTo>
                  <a:pt x="1735" y="4913"/>
                </a:lnTo>
                <a:lnTo>
                  <a:pt x="1700" y="4931"/>
                </a:lnTo>
                <a:lnTo>
                  <a:pt x="1667" y="4948"/>
                </a:lnTo>
                <a:lnTo>
                  <a:pt x="1633" y="4966"/>
                </a:lnTo>
                <a:lnTo>
                  <a:pt x="1600" y="4983"/>
                </a:lnTo>
                <a:lnTo>
                  <a:pt x="1565" y="5000"/>
                </a:lnTo>
                <a:lnTo>
                  <a:pt x="1532" y="5016"/>
                </a:lnTo>
                <a:lnTo>
                  <a:pt x="1498" y="5033"/>
                </a:lnTo>
                <a:lnTo>
                  <a:pt x="1463" y="5049"/>
                </a:lnTo>
                <a:lnTo>
                  <a:pt x="1430" y="5067"/>
                </a:lnTo>
                <a:lnTo>
                  <a:pt x="1396" y="5083"/>
                </a:lnTo>
                <a:lnTo>
                  <a:pt x="1362" y="5100"/>
                </a:lnTo>
                <a:lnTo>
                  <a:pt x="1328" y="5116"/>
                </a:lnTo>
                <a:lnTo>
                  <a:pt x="1295" y="5133"/>
                </a:lnTo>
                <a:lnTo>
                  <a:pt x="1262" y="5150"/>
                </a:lnTo>
                <a:lnTo>
                  <a:pt x="1227" y="5167"/>
                </a:lnTo>
                <a:lnTo>
                  <a:pt x="1194" y="5184"/>
                </a:lnTo>
                <a:lnTo>
                  <a:pt x="1160" y="5201"/>
                </a:lnTo>
                <a:lnTo>
                  <a:pt x="1126" y="5217"/>
                </a:lnTo>
                <a:lnTo>
                  <a:pt x="1093" y="5234"/>
                </a:lnTo>
                <a:lnTo>
                  <a:pt x="1059" y="5253"/>
                </a:lnTo>
                <a:lnTo>
                  <a:pt x="1026" y="5270"/>
                </a:lnTo>
                <a:lnTo>
                  <a:pt x="992" y="5287"/>
                </a:lnTo>
                <a:lnTo>
                  <a:pt x="959" y="5305"/>
                </a:lnTo>
                <a:lnTo>
                  <a:pt x="926" y="5324"/>
                </a:lnTo>
                <a:lnTo>
                  <a:pt x="893" y="5342"/>
                </a:lnTo>
                <a:lnTo>
                  <a:pt x="860" y="5360"/>
                </a:lnTo>
                <a:lnTo>
                  <a:pt x="826" y="5380"/>
                </a:lnTo>
                <a:lnTo>
                  <a:pt x="793" y="5400"/>
                </a:lnTo>
                <a:lnTo>
                  <a:pt x="760" y="5419"/>
                </a:lnTo>
                <a:lnTo>
                  <a:pt x="728" y="5439"/>
                </a:lnTo>
                <a:lnTo>
                  <a:pt x="695" y="5459"/>
                </a:lnTo>
                <a:lnTo>
                  <a:pt x="688" y="5447"/>
                </a:lnTo>
                <a:lnTo>
                  <a:pt x="689" y="5416"/>
                </a:lnTo>
                <a:lnTo>
                  <a:pt x="689" y="5386"/>
                </a:lnTo>
                <a:lnTo>
                  <a:pt x="689" y="5356"/>
                </a:lnTo>
                <a:lnTo>
                  <a:pt x="688" y="5326"/>
                </a:lnTo>
                <a:lnTo>
                  <a:pt x="688" y="5296"/>
                </a:lnTo>
                <a:lnTo>
                  <a:pt x="685" y="5266"/>
                </a:lnTo>
                <a:lnTo>
                  <a:pt x="684" y="5238"/>
                </a:lnTo>
                <a:lnTo>
                  <a:pt x="682" y="5208"/>
                </a:lnTo>
                <a:lnTo>
                  <a:pt x="680" y="5179"/>
                </a:lnTo>
                <a:lnTo>
                  <a:pt x="677" y="5150"/>
                </a:lnTo>
                <a:lnTo>
                  <a:pt x="675" y="5122"/>
                </a:lnTo>
                <a:lnTo>
                  <a:pt x="672" y="5093"/>
                </a:lnTo>
                <a:lnTo>
                  <a:pt x="668" y="5064"/>
                </a:lnTo>
                <a:lnTo>
                  <a:pt x="665" y="5036"/>
                </a:lnTo>
                <a:lnTo>
                  <a:pt x="660" y="5007"/>
                </a:lnTo>
                <a:lnTo>
                  <a:pt x="656" y="4979"/>
                </a:lnTo>
                <a:lnTo>
                  <a:pt x="651" y="4951"/>
                </a:lnTo>
                <a:lnTo>
                  <a:pt x="646" y="4923"/>
                </a:lnTo>
                <a:lnTo>
                  <a:pt x="642" y="4895"/>
                </a:lnTo>
                <a:lnTo>
                  <a:pt x="636" y="4867"/>
                </a:lnTo>
                <a:lnTo>
                  <a:pt x="630" y="4839"/>
                </a:lnTo>
                <a:lnTo>
                  <a:pt x="625" y="4812"/>
                </a:lnTo>
                <a:lnTo>
                  <a:pt x="619" y="4784"/>
                </a:lnTo>
                <a:lnTo>
                  <a:pt x="612" y="4757"/>
                </a:lnTo>
                <a:lnTo>
                  <a:pt x="606" y="4729"/>
                </a:lnTo>
                <a:lnTo>
                  <a:pt x="600" y="4702"/>
                </a:lnTo>
                <a:lnTo>
                  <a:pt x="593" y="4674"/>
                </a:lnTo>
                <a:lnTo>
                  <a:pt x="586" y="4647"/>
                </a:lnTo>
                <a:lnTo>
                  <a:pt x="579" y="4619"/>
                </a:lnTo>
                <a:lnTo>
                  <a:pt x="572" y="4592"/>
                </a:lnTo>
                <a:lnTo>
                  <a:pt x="565" y="4564"/>
                </a:lnTo>
                <a:lnTo>
                  <a:pt x="557" y="4536"/>
                </a:lnTo>
                <a:lnTo>
                  <a:pt x="548" y="4546"/>
                </a:lnTo>
                <a:lnTo>
                  <a:pt x="540" y="4556"/>
                </a:lnTo>
                <a:lnTo>
                  <a:pt x="531" y="4567"/>
                </a:lnTo>
                <a:lnTo>
                  <a:pt x="523" y="4578"/>
                </a:lnTo>
                <a:lnTo>
                  <a:pt x="512" y="4587"/>
                </a:lnTo>
                <a:lnTo>
                  <a:pt x="501" y="4594"/>
                </a:lnTo>
                <a:lnTo>
                  <a:pt x="488" y="4598"/>
                </a:lnTo>
                <a:lnTo>
                  <a:pt x="474" y="4598"/>
                </a:lnTo>
                <a:lnTo>
                  <a:pt x="463" y="4597"/>
                </a:lnTo>
                <a:lnTo>
                  <a:pt x="454" y="4596"/>
                </a:lnTo>
                <a:lnTo>
                  <a:pt x="445" y="4593"/>
                </a:lnTo>
                <a:lnTo>
                  <a:pt x="437" y="4589"/>
                </a:lnTo>
                <a:lnTo>
                  <a:pt x="429" y="4585"/>
                </a:lnTo>
                <a:lnTo>
                  <a:pt x="423" y="4578"/>
                </a:lnTo>
                <a:lnTo>
                  <a:pt x="416" y="4571"/>
                </a:lnTo>
                <a:lnTo>
                  <a:pt x="412" y="4563"/>
                </a:lnTo>
                <a:lnTo>
                  <a:pt x="412" y="4533"/>
                </a:lnTo>
                <a:lnTo>
                  <a:pt x="423" y="4512"/>
                </a:lnTo>
                <a:lnTo>
                  <a:pt x="435" y="4493"/>
                </a:lnTo>
                <a:lnTo>
                  <a:pt x="447" y="4474"/>
                </a:lnTo>
                <a:lnTo>
                  <a:pt x="457" y="4455"/>
                </a:lnTo>
                <a:lnTo>
                  <a:pt x="469" y="4437"/>
                </a:lnTo>
                <a:lnTo>
                  <a:pt x="479" y="4417"/>
                </a:lnTo>
                <a:lnTo>
                  <a:pt x="488" y="4396"/>
                </a:lnTo>
                <a:lnTo>
                  <a:pt x="496" y="4375"/>
                </a:lnTo>
                <a:lnTo>
                  <a:pt x="482" y="4378"/>
                </a:lnTo>
                <a:lnTo>
                  <a:pt x="465" y="4379"/>
                </a:lnTo>
                <a:lnTo>
                  <a:pt x="448" y="4379"/>
                </a:lnTo>
                <a:lnTo>
                  <a:pt x="432" y="4377"/>
                </a:lnTo>
                <a:lnTo>
                  <a:pt x="416" y="4373"/>
                </a:lnTo>
                <a:lnTo>
                  <a:pt x="400" y="4369"/>
                </a:lnTo>
                <a:lnTo>
                  <a:pt x="386" y="4362"/>
                </a:lnTo>
                <a:lnTo>
                  <a:pt x="374" y="4353"/>
                </a:lnTo>
                <a:lnTo>
                  <a:pt x="361" y="4338"/>
                </a:lnTo>
                <a:lnTo>
                  <a:pt x="356" y="4321"/>
                </a:lnTo>
                <a:lnTo>
                  <a:pt x="356" y="4302"/>
                </a:lnTo>
                <a:lnTo>
                  <a:pt x="358" y="4284"/>
                </a:lnTo>
                <a:lnTo>
                  <a:pt x="359" y="4267"/>
                </a:lnTo>
                <a:lnTo>
                  <a:pt x="357" y="4251"/>
                </a:lnTo>
                <a:lnTo>
                  <a:pt x="347" y="4238"/>
                </a:lnTo>
                <a:lnTo>
                  <a:pt x="328" y="4230"/>
                </a:lnTo>
                <a:lnTo>
                  <a:pt x="322" y="4217"/>
                </a:lnTo>
                <a:lnTo>
                  <a:pt x="317" y="4204"/>
                </a:lnTo>
                <a:lnTo>
                  <a:pt x="312" y="4189"/>
                </a:lnTo>
                <a:lnTo>
                  <a:pt x="309" y="4174"/>
                </a:lnTo>
                <a:lnTo>
                  <a:pt x="306" y="4159"/>
                </a:lnTo>
                <a:lnTo>
                  <a:pt x="306" y="4144"/>
                </a:lnTo>
                <a:lnTo>
                  <a:pt x="309" y="4130"/>
                </a:lnTo>
                <a:lnTo>
                  <a:pt x="313" y="4115"/>
                </a:lnTo>
                <a:lnTo>
                  <a:pt x="302" y="4110"/>
                </a:lnTo>
                <a:lnTo>
                  <a:pt x="291" y="4101"/>
                </a:lnTo>
                <a:lnTo>
                  <a:pt x="283" y="4092"/>
                </a:lnTo>
                <a:lnTo>
                  <a:pt x="276" y="4082"/>
                </a:lnTo>
                <a:lnTo>
                  <a:pt x="270" y="4070"/>
                </a:lnTo>
                <a:lnTo>
                  <a:pt x="265" y="4059"/>
                </a:lnTo>
                <a:lnTo>
                  <a:pt x="260" y="4046"/>
                </a:lnTo>
                <a:lnTo>
                  <a:pt x="256" y="4035"/>
                </a:lnTo>
                <a:lnTo>
                  <a:pt x="256" y="4010"/>
                </a:lnTo>
                <a:lnTo>
                  <a:pt x="259" y="3987"/>
                </a:lnTo>
                <a:lnTo>
                  <a:pt x="266" y="3964"/>
                </a:lnTo>
                <a:lnTo>
                  <a:pt x="275" y="3942"/>
                </a:lnTo>
                <a:lnTo>
                  <a:pt x="287" y="3922"/>
                </a:lnTo>
                <a:lnTo>
                  <a:pt x="299" y="3903"/>
                </a:lnTo>
                <a:lnTo>
                  <a:pt x="313" y="3883"/>
                </a:lnTo>
                <a:lnTo>
                  <a:pt x="328" y="3866"/>
                </a:lnTo>
                <a:lnTo>
                  <a:pt x="311" y="3831"/>
                </a:lnTo>
                <a:lnTo>
                  <a:pt x="294" y="3796"/>
                </a:lnTo>
                <a:lnTo>
                  <a:pt x="275" y="3762"/>
                </a:lnTo>
                <a:lnTo>
                  <a:pt x="257" y="3727"/>
                </a:lnTo>
                <a:lnTo>
                  <a:pt x="239" y="3694"/>
                </a:lnTo>
                <a:lnTo>
                  <a:pt x="219" y="3661"/>
                </a:lnTo>
                <a:lnTo>
                  <a:pt x="200" y="3629"/>
                </a:lnTo>
                <a:lnTo>
                  <a:pt x="180" y="3596"/>
                </a:lnTo>
                <a:lnTo>
                  <a:pt x="160" y="3564"/>
                </a:lnTo>
                <a:lnTo>
                  <a:pt x="138" y="3533"/>
                </a:lnTo>
                <a:lnTo>
                  <a:pt x="117" y="3502"/>
                </a:lnTo>
                <a:lnTo>
                  <a:pt x="94" y="3473"/>
                </a:lnTo>
                <a:lnTo>
                  <a:pt x="73" y="3443"/>
                </a:lnTo>
                <a:lnTo>
                  <a:pt x="49" y="3413"/>
                </a:lnTo>
                <a:lnTo>
                  <a:pt x="24" y="3383"/>
                </a:lnTo>
                <a:lnTo>
                  <a:pt x="0" y="3354"/>
                </a:lnTo>
                <a:lnTo>
                  <a:pt x="0" y="3336"/>
                </a:lnTo>
                <a:lnTo>
                  <a:pt x="18" y="3334"/>
                </a:lnTo>
                <a:lnTo>
                  <a:pt x="36" y="3331"/>
                </a:lnTo>
                <a:lnTo>
                  <a:pt x="53" y="3329"/>
                </a:lnTo>
                <a:lnTo>
                  <a:pt x="71" y="3327"/>
                </a:lnTo>
                <a:lnTo>
                  <a:pt x="90" y="3324"/>
                </a:lnTo>
                <a:lnTo>
                  <a:pt x="108" y="3322"/>
                </a:lnTo>
                <a:lnTo>
                  <a:pt x="125" y="3320"/>
                </a:lnTo>
                <a:lnTo>
                  <a:pt x="144" y="3316"/>
                </a:lnTo>
                <a:lnTo>
                  <a:pt x="162" y="3313"/>
                </a:lnTo>
                <a:lnTo>
                  <a:pt x="180" y="3311"/>
                </a:lnTo>
                <a:lnTo>
                  <a:pt x="199" y="3307"/>
                </a:lnTo>
                <a:lnTo>
                  <a:pt x="217" y="3303"/>
                </a:lnTo>
                <a:lnTo>
                  <a:pt x="234" y="3299"/>
                </a:lnTo>
                <a:lnTo>
                  <a:pt x="252" y="3295"/>
                </a:lnTo>
                <a:lnTo>
                  <a:pt x="270" y="3290"/>
                </a:lnTo>
                <a:lnTo>
                  <a:pt x="287" y="3284"/>
                </a:lnTo>
                <a:lnTo>
                  <a:pt x="378" y="3259"/>
                </a:lnTo>
                <a:lnTo>
                  <a:pt x="380" y="3242"/>
                </a:lnTo>
                <a:lnTo>
                  <a:pt x="380" y="3223"/>
                </a:lnTo>
                <a:lnTo>
                  <a:pt x="378" y="3206"/>
                </a:lnTo>
                <a:lnTo>
                  <a:pt x="377" y="3188"/>
                </a:lnTo>
                <a:lnTo>
                  <a:pt x="375" y="3171"/>
                </a:lnTo>
                <a:lnTo>
                  <a:pt x="373" y="3152"/>
                </a:lnTo>
                <a:lnTo>
                  <a:pt x="372" y="3134"/>
                </a:lnTo>
                <a:lnTo>
                  <a:pt x="369" y="3116"/>
                </a:lnTo>
                <a:lnTo>
                  <a:pt x="368" y="3098"/>
                </a:lnTo>
                <a:lnTo>
                  <a:pt x="367" y="3080"/>
                </a:lnTo>
                <a:lnTo>
                  <a:pt x="367" y="3063"/>
                </a:lnTo>
                <a:lnTo>
                  <a:pt x="367" y="3044"/>
                </a:lnTo>
                <a:lnTo>
                  <a:pt x="369" y="3027"/>
                </a:lnTo>
                <a:lnTo>
                  <a:pt x="372" y="3010"/>
                </a:lnTo>
                <a:lnTo>
                  <a:pt x="376" y="2993"/>
                </a:lnTo>
                <a:lnTo>
                  <a:pt x="382" y="2976"/>
                </a:lnTo>
                <a:lnTo>
                  <a:pt x="376" y="2969"/>
                </a:lnTo>
                <a:lnTo>
                  <a:pt x="370" y="2962"/>
                </a:lnTo>
                <a:lnTo>
                  <a:pt x="365" y="2955"/>
                </a:lnTo>
                <a:lnTo>
                  <a:pt x="361" y="2948"/>
                </a:lnTo>
                <a:lnTo>
                  <a:pt x="359" y="2941"/>
                </a:lnTo>
                <a:lnTo>
                  <a:pt x="358" y="2933"/>
                </a:lnTo>
                <a:lnTo>
                  <a:pt x="360" y="2926"/>
                </a:lnTo>
                <a:lnTo>
                  <a:pt x="366" y="2918"/>
                </a:lnTo>
                <a:lnTo>
                  <a:pt x="374" y="2910"/>
                </a:lnTo>
                <a:lnTo>
                  <a:pt x="366" y="2901"/>
                </a:lnTo>
                <a:lnTo>
                  <a:pt x="358" y="2895"/>
                </a:lnTo>
                <a:lnTo>
                  <a:pt x="350" y="2890"/>
                </a:lnTo>
                <a:lnTo>
                  <a:pt x="344" y="2879"/>
                </a:lnTo>
                <a:lnTo>
                  <a:pt x="342" y="2865"/>
                </a:lnTo>
                <a:lnTo>
                  <a:pt x="342" y="2853"/>
                </a:lnTo>
                <a:lnTo>
                  <a:pt x="344" y="2841"/>
                </a:lnTo>
                <a:lnTo>
                  <a:pt x="349" y="2830"/>
                </a:lnTo>
                <a:lnTo>
                  <a:pt x="353" y="2818"/>
                </a:lnTo>
                <a:lnTo>
                  <a:pt x="358" y="2807"/>
                </a:lnTo>
                <a:lnTo>
                  <a:pt x="362" y="2795"/>
                </a:lnTo>
                <a:lnTo>
                  <a:pt x="366" y="2784"/>
                </a:lnTo>
                <a:lnTo>
                  <a:pt x="367" y="2745"/>
                </a:lnTo>
                <a:lnTo>
                  <a:pt x="367" y="2706"/>
                </a:lnTo>
                <a:lnTo>
                  <a:pt x="367" y="2667"/>
                </a:lnTo>
                <a:lnTo>
                  <a:pt x="367" y="2628"/>
                </a:lnTo>
                <a:lnTo>
                  <a:pt x="366" y="2589"/>
                </a:lnTo>
                <a:lnTo>
                  <a:pt x="366" y="2549"/>
                </a:lnTo>
                <a:lnTo>
                  <a:pt x="365" y="2510"/>
                </a:lnTo>
                <a:lnTo>
                  <a:pt x="365" y="2471"/>
                </a:lnTo>
                <a:lnTo>
                  <a:pt x="365" y="2432"/>
                </a:lnTo>
                <a:lnTo>
                  <a:pt x="366" y="2393"/>
                </a:lnTo>
                <a:lnTo>
                  <a:pt x="367" y="2354"/>
                </a:lnTo>
                <a:lnTo>
                  <a:pt x="369" y="2316"/>
                </a:lnTo>
                <a:lnTo>
                  <a:pt x="373" y="2278"/>
                </a:lnTo>
                <a:lnTo>
                  <a:pt x="376" y="2241"/>
                </a:lnTo>
                <a:lnTo>
                  <a:pt x="383" y="2204"/>
                </a:lnTo>
                <a:lnTo>
                  <a:pt x="390" y="2169"/>
                </a:lnTo>
                <a:lnTo>
                  <a:pt x="404" y="2153"/>
                </a:lnTo>
                <a:lnTo>
                  <a:pt x="419" y="2137"/>
                </a:lnTo>
                <a:lnTo>
                  <a:pt x="435" y="2123"/>
                </a:lnTo>
                <a:lnTo>
                  <a:pt x="451" y="2111"/>
                </a:lnTo>
                <a:lnTo>
                  <a:pt x="467" y="2100"/>
                </a:lnTo>
                <a:lnTo>
                  <a:pt x="484" y="2090"/>
                </a:lnTo>
                <a:lnTo>
                  <a:pt x="502" y="2080"/>
                </a:lnTo>
                <a:lnTo>
                  <a:pt x="520" y="2072"/>
                </a:lnTo>
                <a:lnTo>
                  <a:pt x="539" y="2064"/>
                </a:lnTo>
                <a:lnTo>
                  <a:pt x="557" y="2057"/>
                </a:lnTo>
                <a:lnTo>
                  <a:pt x="575" y="2051"/>
                </a:lnTo>
                <a:lnTo>
                  <a:pt x="595" y="2045"/>
                </a:lnTo>
                <a:lnTo>
                  <a:pt x="614" y="2039"/>
                </a:lnTo>
                <a:lnTo>
                  <a:pt x="634" y="2033"/>
                </a:lnTo>
                <a:lnTo>
                  <a:pt x="652" y="2028"/>
                </a:lnTo>
                <a:lnTo>
                  <a:pt x="672" y="2022"/>
                </a:lnTo>
                <a:lnTo>
                  <a:pt x="679" y="2007"/>
                </a:lnTo>
                <a:lnTo>
                  <a:pt x="684" y="1992"/>
                </a:lnTo>
                <a:lnTo>
                  <a:pt x="689" y="1976"/>
                </a:lnTo>
                <a:lnTo>
                  <a:pt x="692" y="1961"/>
                </a:lnTo>
                <a:lnTo>
                  <a:pt x="695" y="1945"/>
                </a:lnTo>
                <a:lnTo>
                  <a:pt x="696" y="1929"/>
                </a:lnTo>
                <a:lnTo>
                  <a:pt x="697" y="1913"/>
                </a:lnTo>
                <a:lnTo>
                  <a:pt x="698" y="1896"/>
                </a:lnTo>
                <a:lnTo>
                  <a:pt x="698" y="1880"/>
                </a:lnTo>
                <a:lnTo>
                  <a:pt x="698" y="1863"/>
                </a:lnTo>
                <a:lnTo>
                  <a:pt x="699" y="1846"/>
                </a:lnTo>
                <a:lnTo>
                  <a:pt x="699" y="1830"/>
                </a:lnTo>
                <a:lnTo>
                  <a:pt x="700" y="1813"/>
                </a:lnTo>
                <a:lnTo>
                  <a:pt x="701" y="1796"/>
                </a:lnTo>
                <a:lnTo>
                  <a:pt x="704" y="1780"/>
                </a:lnTo>
                <a:lnTo>
                  <a:pt x="706" y="1762"/>
                </a:lnTo>
                <a:lnTo>
                  <a:pt x="742" y="1731"/>
                </a:lnTo>
                <a:lnTo>
                  <a:pt x="740" y="1688"/>
                </a:lnTo>
                <a:lnTo>
                  <a:pt x="739" y="1644"/>
                </a:lnTo>
                <a:lnTo>
                  <a:pt x="739" y="1601"/>
                </a:lnTo>
                <a:lnTo>
                  <a:pt x="738" y="1556"/>
                </a:lnTo>
                <a:lnTo>
                  <a:pt x="738" y="1512"/>
                </a:lnTo>
                <a:lnTo>
                  <a:pt x="738" y="1468"/>
                </a:lnTo>
                <a:lnTo>
                  <a:pt x="739" y="1423"/>
                </a:lnTo>
                <a:lnTo>
                  <a:pt x="740" y="1378"/>
                </a:lnTo>
                <a:lnTo>
                  <a:pt x="742" y="1334"/>
                </a:lnTo>
                <a:lnTo>
                  <a:pt x="743" y="1290"/>
                </a:lnTo>
                <a:lnTo>
                  <a:pt x="745" y="1245"/>
                </a:lnTo>
                <a:lnTo>
                  <a:pt x="747" y="1201"/>
                </a:lnTo>
                <a:lnTo>
                  <a:pt x="751" y="1158"/>
                </a:lnTo>
                <a:lnTo>
                  <a:pt x="754" y="1114"/>
                </a:lnTo>
                <a:lnTo>
                  <a:pt x="759" y="1070"/>
                </a:lnTo>
                <a:lnTo>
                  <a:pt x="763" y="1028"/>
                </a:lnTo>
                <a:lnTo>
                  <a:pt x="752" y="1026"/>
                </a:lnTo>
                <a:lnTo>
                  <a:pt x="739" y="1022"/>
                </a:lnTo>
                <a:lnTo>
                  <a:pt x="728" y="1019"/>
                </a:lnTo>
                <a:lnTo>
                  <a:pt x="716" y="1015"/>
                </a:lnTo>
                <a:lnTo>
                  <a:pt x="705" y="1011"/>
                </a:lnTo>
                <a:lnTo>
                  <a:pt x="695" y="1004"/>
                </a:lnTo>
                <a:lnTo>
                  <a:pt x="687" y="995"/>
                </a:lnTo>
                <a:lnTo>
                  <a:pt x="680" y="983"/>
                </a:lnTo>
                <a:lnTo>
                  <a:pt x="675" y="968"/>
                </a:lnTo>
                <a:lnTo>
                  <a:pt x="671" y="953"/>
                </a:lnTo>
                <a:lnTo>
                  <a:pt x="667" y="937"/>
                </a:lnTo>
                <a:lnTo>
                  <a:pt x="664" y="921"/>
                </a:lnTo>
                <a:lnTo>
                  <a:pt x="661" y="905"/>
                </a:lnTo>
                <a:lnTo>
                  <a:pt x="660" y="889"/>
                </a:lnTo>
                <a:lnTo>
                  <a:pt x="659" y="873"/>
                </a:lnTo>
                <a:lnTo>
                  <a:pt x="658" y="856"/>
                </a:lnTo>
                <a:lnTo>
                  <a:pt x="658" y="840"/>
                </a:lnTo>
                <a:lnTo>
                  <a:pt x="659" y="823"/>
                </a:lnTo>
                <a:lnTo>
                  <a:pt x="659" y="806"/>
                </a:lnTo>
                <a:lnTo>
                  <a:pt x="661" y="789"/>
                </a:lnTo>
                <a:lnTo>
                  <a:pt x="664" y="773"/>
                </a:lnTo>
                <a:lnTo>
                  <a:pt x="666" y="757"/>
                </a:lnTo>
                <a:lnTo>
                  <a:pt x="668" y="741"/>
                </a:lnTo>
                <a:lnTo>
                  <a:pt x="672" y="726"/>
                </a:lnTo>
                <a:lnTo>
                  <a:pt x="664" y="728"/>
                </a:lnTo>
                <a:lnTo>
                  <a:pt x="654" y="731"/>
                </a:lnTo>
                <a:lnTo>
                  <a:pt x="646" y="735"/>
                </a:lnTo>
                <a:lnTo>
                  <a:pt x="637" y="741"/>
                </a:lnTo>
                <a:lnTo>
                  <a:pt x="629" y="747"/>
                </a:lnTo>
                <a:lnTo>
                  <a:pt x="621" y="755"/>
                </a:lnTo>
                <a:lnTo>
                  <a:pt x="613" y="763"/>
                </a:lnTo>
                <a:lnTo>
                  <a:pt x="608" y="772"/>
                </a:lnTo>
                <a:lnTo>
                  <a:pt x="614" y="817"/>
                </a:lnTo>
                <a:lnTo>
                  <a:pt x="611" y="816"/>
                </a:lnTo>
                <a:lnTo>
                  <a:pt x="608" y="811"/>
                </a:lnTo>
                <a:lnTo>
                  <a:pt x="603" y="804"/>
                </a:lnTo>
                <a:lnTo>
                  <a:pt x="600" y="796"/>
                </a:lnTo>
                <a:lnTo>
                  <a:pt x="596" y="787"/>
                </a:lnTo>
                <a:lnTo>
                  <a:pt x="594" y="777"/>
                </a:lnTo>
                <a:lnTo>
                  <a:pt x="594" y="766"/>
                </a:lnTo>
                <a:lnTo>
                  <a:pt x="595" y="756"/>
                </a:lnTo>
                <a:lnTo>
                  <a:pt x="611" y="740"/>
                </a:lnTo>
                <a:lnTo>
                  <a:pt x="628" y="727"/>
                </a:lnTo>
                <a:lnTo>
                  <a:pt x="645" y="716"/>
                </a:lnTo>
                <a:lnTo>
                  <a:pt x="664" y="707"/>
                </a:lnTo>
                <a:lnTo>
                  <a:pt x="681" y="696"/>
                </a:lnTo>
                <a:lnTo>
                  <a:pt x="699" y="686"/>
                </a:lnTo>
                <a:lnTo>
                  <a:pt x="716" y="674"/>
                </a:lnTo>
                <a:lnTo>
                  <a:pt x="734" y="661"/>
                </a:lnTo>
                <a:lnTo>
                  <a:pt x="724" y="646"/>
                </a:lnTo>
                <a:lnTo>
                  <a:pt x="714" y="632"/>
                </a:lnTo>
                <a:lnTo>
                  <a:pt x="704" y="619"/>
                </a:lnTo>
                <a:lnTo>
                  <a:pt x="693" y="606"/>
                </a:lnTo>
                <a:lnTo>
                  <a:pt x="683" y="592"/>
                </a:lnTo>
                <a:lnTo>
                  <a:pt x="673" y="579"/>
                </a:lnTo>
                <a:lnTo>
                  <a:pt x="664" y="565"/>
                </a:lnTo>
                <a:lnTo>
                  <a:pt x="654" y="552"/>
                </a:lnTo>
                <a:lnTo>
                  <a:pt x="646" y="538"/>
                </a:lnTo>
                <a:lnTo>
                  <a:pt x="640" y="523"/>
                </a:lnTo>
                <a:lnTo>
                  <a:pt x="634" y="508"/>
                </a:lnTo>
                <a:lnTo>
                  <a:pt x="629" y="492"/>
                </a:lnTo>
                <a:lnTo>
                  <a:pt x="626" y="476"/>
                </a:lnTo>
                <a:lnTo>
                  <a:pt x="625" y="459"/>
                </a:lnTo>
                <a:lnTo>
                  <a:pt x="625" y="439"/>
                </a:lnTo>
                <a:lnTo>
                  <a:pt x="627" y="420"/>
                </a:lnTo>
                <a:lnTo>
                  <a:pt x="617" y="420"/>
                </a:lnTo>
                <a:lnTo>
                  <a:pt x="606" y="420"/>
                </a:lnTo>
                <a:lnTo>
                  <a:pt x="596" y="420"/>
                </a:lnTo>
                <a:lnTo>
                  <a:pt x="585" y="419"/>
                </a:lnTo>
                <a:lnTo>
                  <a:pt x="574" y="417"/>
                </a:lnTo>
                <a:lnTo>
                  <a:pt x="564" y="414"/>
                </a:lnTo>
                <a:lnTo>
                  <a:pt x="555" y="410"/>
                </a:lnTo>
                <a:lnTo>
                  <a:pt x="546" y="405"/>
                </a:lnTo>
                <a:lnTo>
                  <a:pt x="542" y="399"/>
                </a:lnTo>
                <a:lnTo>
                  <a:pt x="542" y="392"/>
                </a:lnTo>
                <a:lnTo>
                  <a:pt x="542" y="384"/>
                </a:lnTo>
                <a:lnTo>
                  <a:pt x="542" y="377"/>
                </a:lnTo>
                <a:lnTo>
                  <a:pt x="550" y="374"/>
                </a:lnTo>
                <a:lnTo>
                  <a:pt x="559" y="375"/>
                </a:lnTo>
                <a:lnTo>
                  <a:pt x="569" y="378"/>
                </a:lnTo>
                <a:lnTo>
                  <a:pt x="577" y="383"/>
                </a:lnTo>
                <a:lnTo>
                  <a:pt x="585" y="385"/>
                </a:lnTo>
                <a:lnTo>
                  <a:pt x="593" y="384"/>
                </a:lnTo>
                <a:lnTo>
                  <a:pt x="598" y="378"/>
                </a:lnTo>
                <a:lnTo>
                  <a:pt x="603" y="366"/>
                </a:lnTo>
                <a:lnTo>
                  <a:pt x="603" y="347"/>
                </a:lnTo>
                <a:lnTo>
                  <a:pt x="597" y="347"/>
                </a:lnTo>
                <a:lnTo>
                  <a:pt x="591" y="347"/>
                </a:lnTo>
                <a:lnTo>
                  <a:pt x="586" y="346"/>
                </a:lnTo>
                <a:lnTo>
                  <a:pt x="579" y="345"/>
                </a:lnTo>
                <a:lnTo>
                  <a:pt x="572" y="344"/>
                </a:lnTo>
                <a:lnTo>
                  <a:pt x="566" y="342"/>
                </a:lnTo>
                <a:lnTo>
                  <a:pt x="562" y="339"/>
                </a:lnTo>
                <a:lnTo>
                  <a:pt x="557" y="336"/>
                </a:lnTo>
                <a:lnTo>
                  <a:pt x="557" y="328"/>
                </a:lnTo>
                <a:lnTo>
                  <a:pt x="565" y="330"/>
                </a:lnTo>
                <a:lnTo>
                  <a:pt x="573" y="335"/>
                </a:lnTo>
                <a:lnTo>
                  <a:pt x="580" y="338"/>
                </a:lnTo>
                <a:lnTo>
                  <a:pt x="588" y="336"/>
                </a:lnTo>
                <a:lnTo>
                  <a:pt x="595" y="323"/>
                </a:lnTo>
                <a:lnTo>
                  <a:pt x="596" y="311"/>
                </a:lnTo>
                <a:lnTo>
                  <a:pt x="595" y="298"/>
                </a:lnTo>
                <a:lnTo>
                  <a:pt x="590" y="284"/>
                </a:lnTo>
                <a:lnTo>
                  <a:pt x="586" y="272"/>
                </a:lnTo>
                <a:lnTo>
                  <a:pt x="581" y="258"/>
                </a:lnTo>
                <a:lnTo>
                  <a:pt x="579" y="244"/>
                </a:lnTo>
                <a:lnTo>
                  <a:pt x="580" y="229"/>
                </a:lnTo>
                <a:lnTo>
                  <a:pt x="581" y="214"/>
                </a:lnTo>
                <a:lnTo>
                  <a:pt x="582" y="200"/>
                </a:lnTo>
                <a:lnTo>
                  <a:pt x="586" y="186"/>
                </a:lnTo>
                <a:lnTo>
                  <a:pt x="588" y="172"/>
                </a:lnTo>
                <a:lnTo>
                  <a:pt x="593" y="158"/>
                </a:lnTo>
                <a:lnTo>
                  <a:pt x="597" y="144"/>
                </a:lnTo>
                <a:lnTo>
                  <a:pt x="603" y="130"/>
                </a:lnTo>
                <a:lnTo>
                  <a:pt x="610" y="118"/>
                </a:lnTo>
                <a:lnTo>
                  <a:pt x="617" y="106"/>
                </a:lnTo>
                <a:lnTo>
                  <a:pt x="625" y="94"/>
                </a:lnTo>
                <a:lnTo>
                  <a:pt x="633" y="83"/>
                </a:lnTo>
                <a:lnTo>
                  <a:pt x="642" y="72"/>
                </a:lnTo>
                <a:lnTo>
                  <a:pt x="652" y="63"/>
                </a:lnTo>
                <a:lnTo>
                  <a:pt x="663" y="54"/>
                </a:lnTo>
                <a:lnTo>
                  <a:pt x="673" y="46"/>
                </a:lnTo>
                <a:lnTo>
                  <a:pt x="684" y="37"/>
                </a:lnTo>
                <a:lnTo>
                  <a:pt x="695" y="32"/>
                </a:lnTo>
                <a:lnTo>
                  <a:pt x="706" y="26"/>
                </a:lnTo>
                <a:lnTo>
                  <a:pt x="717" y="20"/>
                </a:lnTo>
                <a:lnTo>
                  <a:pt x="729" y="16"/>
                </a:lnTo>
                <a:lnTo>
                  <a:pt x="742" y="12"/>
                </a:lnTo>
                <a:lnTo>
                  <a:pt x="753" y="8"/>
                </a:lnTo>
                <a:lnTo>
                  <a:pt x="766" y="5"/>
                </a:lnTo>
                <a:lnTo>
                  <a:pt x="779" y="3"/>
                </a:lnTo>
                <a:lnTo>
                  <a:pt x="792" y="1"/>
                </a:lnTo>
                <a:lnTo>
                  <a:pt x="805" y="0"/>
                </a:lnTo>
                <a:lnTo>
                  <a:pt x="818" y="0"/>
                </a:lnTo>
                <a:lnTo>
                  <a:pt x="831" y="0"/>
                </a:lnTo>
                <a:lnTo>
                  <a:pt x="844" y="1"/>
                </a:lnTo>
                <a:lnTo>
                  <a:pt x="856" y="3"/>
                </a:lnTo>
                <a:lnTo>
                  <a:pt x="869" y="7"/>
                </a:lnTo>
                <a:lnTo>
                  <a:pt x="881" y="10"/>
                </a:lnTo>
                <a:lnTo>
                  <a:pt x="902" y="23"/>
                </a:lnTo>
                <a:lnTo>
                  <a:pt x="923" y="34"/>
                </a:lnTo>
                <a:lnTo>
                  <a:pt x="943" y="47"/>
                </a:lnTo>
                <a:lnTo>
                  <a:pt x="964" y="58"/>
                </a:lnTo>
                <a:lnTo>
                  <a:pt x="983" y="72"/>
                </a:lnTo>
                <a:lnTo>
                  <a:pt x="1002" y="87"/>
                </a:lnTo>
                <a:lnTo>
                  <a:pt x="1018" y="103"/>
                </a:lnTo>
                <a:lnTo>
                  <a:pt x="1031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78040" y="2432160"/>
            <a:ext cx="4116600" cy="1793880"/>
          </a:xfrm>
          <a:custGeom>
            <a:avLst/>
            <a:gdLst/>
            <a:ahLst/>
            <a:rect l="l" t="t" r="r" b="b"/>
            <a:pathLst>
              <a:path w="3170" h="1941">
                <a:moveTo>
                  <a:pt x="3170" y="570"/>
                </a:moveTo>
                <a:lnTo>
                  <a:pt x="3131" y="570"/>
                </a:lnTo>
                <a:lnTo>
                  <a:pt x="3130" y="551"/>
                </a:lnTo>
                <a:lnTo>
                  <a:pt x="3129" y="531"/>
                </a:lnTo>
                <a:lnTo>
                  <a:pt x="3127" y="512"/>
                </a:lnTo>
                <a:lnTo>
                  <a:pt x="3126" y="494"/>
                </a:lnTo>
                <a:lnTo>
                  <a:pt x="3124" y="475"/>
                </a:lnTo>
                <a:lnTo>
                  <a:pt x="3123" y="457"/>
                </a:lnTo>
                <a:lnTo>
                  <a:pt x="3122" y="439"/>
                </a:lnTo>
                <a:lnTo>
                  <a:pt x="3119" y="419"/>
                </a:lnTo>
                <a:lnTo>
                  <a:pt x="3118" y="401"/>
                </a:lnTo>
                <a:lnTo>
                  <a:pt x="3117" y="382"/>
                </a:lnTo>
                <a:lnTo>
                  <a:pt x="3116" y="364"/>
                </a:lnTo>
                <a:lnTo>
                  <a:pt x="3116" y="344"/>
                </a:lnTo>
                <a:lnTo>
                  <a:pt x="3116" y="326"/>
                </a:lnTo>
                <a:lnTo>
                  <a:pt x="3116" y="305"/>
                </a:lnTo>
                <a:lnTo>
                  <a:pt x="3116" y="286"/>
                </a:lnTo>
                <a:lnTo>
                  <a:pt x="3117" y="265"/>
                </a:lnTo>
                <a:lnTo>
                  <a:pt x="3105" y="256"/>
                </a:lnTo>
                <a:lnTo>
                  <a:pt x="3092" y="256"/>
                </a:lnTo>
                <a:lnTo>
                  <a:pt x="3080" y="262"/>
                </a:lnTo>
                <a:lnTo>
                  <a:pt x="3069" y="270"/>
                </a:lnTo>
                <a:lnTo>
                  <a:pt x="3056" y="280"/>
                </a:lnTo>
                <a:lnTo>
                  <a:pt x="3043" y="288"/>
                </a:lnTo>
                <a:lnTo>
                  <a:pt x="3029" y="293"/>
                </a:lnTo>
                <a:lnTo>
                  <a:pt x="3013" y="292"/>
                </a:lnTo>
                <a:lnTo>
                  <a:pt x="3008" y="282"/>
                </a:lnTo>
                <a:lnTo>
                  <a:pt x="3006" y="273"/>
                </a:lnTo>
                <a:lnTo>
                  <a:pt x="3005" y="263"/>
                </a:lnTo>
                <a:lnTo>
                  <a:pt x="3004" y="253"/>
                </a:lnTo>
                <a:lnTo>
                  <a:pt x="3001" y="243"/>
                </a:lnTo>
                <a:lnTo>
                  <a:pt x="2999" y="233"/>
                </a:lnTo>
                <a:lnTo>
                  <a:pt x="2996" y="224"/>
                </a:lnTo>
                <a:lnTo>
                  <a:pt x="2990" y="216"/>
                </a:lnTo>
                <a:lnTo>
                  <a:pt x="2975" y="223"/>
                </a:lnTo>
                <a:lnTo>
                  <a:pt x="2961" y="231"/>
                </a:lnTo>
                <a:lnTo>
                  <a:pt x="2946" y="239"/>
                </a:lnTo>
                <a:lnTo>
                  <a:pt x="2933" y="248"/>
                </a:lnTo>
                <a:lnTo>
                  <a:pt x="2919" y="257"/>
                </a:lnTo>
                <a:lnTo>
                  <a:pt x="2904" y="267"/>
                </a:lnTo>
                <a:lnTo>
                  <a:pt x="2890" y="277"/>
                </a:lnTo>
                <a:lnTo>
                  <a:pt x="2875" y="287"/>
                </a:lnTo>
                <a:lnTo>
                  <a:pt x="2862" y="297"/>
                </a:lnTo>
                <a:lnTo>
                  <a:pt x="2847" y="308"/>
                </a:lnTo>
                <a:lnTo>
                  <a:pt x="2833" y="318"/>
                </a:lnTo>
                <a:lnTo>
                  <a:pt x="2819" y="328"/>
                </a:lnTo>
                <a:lnTo>
                  <a:pt x="2804" y="339"/>
                </a:lnTo>
                <a:lnTo>
                  <a:pt x="2790" y="349"/>
                </a:lnTo>
                <a:lnTo>
                  <a:pt x="2776" y="359"/>
                </a:lnTo>
                <a:lnTo>
                  <a:pt x="2761" y="368"/>
                </a:lnTo>
                <a:lnTo>
                  <a:pt x="2708" y="399"/>
                </a:lnTo>
                <a:lnTo>
                  <a:pt x="2655" y="429"/>
                </a:lnTo>
                <a:lnTo>
                  <a:pt x="2603" y="459"/>
                </a:lnTo>
                <a:lnTo>
                  <a:pt x="2550" y="489"/>
                </a:lnTo>
                <a:lnTo>
                  <a:pt x="2497" y="518"/>
                </a:lnTo>
                <a:lnTo>
                  <a:pt x="2444" y="548"/>
                </a:lnTo>
                <a:lnTo>
                  <a:pt x="2391" y="576"/>
                </a:lnTo>
                <a:lnTo>
                  <a:pt x="2338" y="604"/>
                </a:lnTo>
                <a:lnTo>
                  <a:pt x="2284" y="632"/>
                </a:lnTo>
                <a:lnTo>
                  <a:pt x="2231" y="660"/>
                </a:lnTo>
                <a:lnTo>
                  <a:pt x="2177" y="688"/>
                </a:lnTo>
                <a:lnTo>
                  <a:pt x="2124" y="715"/>
                </a:lnTo>
                <a:lnTo>
                  <a:pt x="2070" y="741"/>
                </a:lnTo>
                <a:lnTo>
                  <a:pt x="2015" y="769"/>
                </a:lnTo>
                <a:lnTo>
                  <a:pt x="1961" y="795"/>
                </a:lnTo>
                <a:lnTo>
                  <a:pt x="1907" y="821"/>
                </a:lnTo>
                <a:lnTo>
                  <a:pt x="1854" y="847"/>
                </a:lnTo>
                <a:lnTo>
                  <a:pt x="1799" y="872"/>
                </a:lnTo>
                <a:lnTo>
                  <a:pt x="1744" y="899"/>
                </a:lnTo>
                <a:lnTo>
                  <a:pt x="1690" y="923"/>
                </a:lnTo>
                <a:lnTo>
                  <a:pt x="1635" y="948"/>
                </a:lnTo>
                <a:lnTo>
                  <a:pt x="1580" y="972"/>
                </a:lnTo>
                <a:lnTo>
                  <a:pt x="1525" y="997"/>
                </a:lnTo>
                <a:lnTo>
                  <a:pt x="1470" y="1022"/>
                </a:lnTo>
                <a:lnTo>
                  <a:pt x="1414" y="1044"/>
                </a:lnTo>
                <a:lnTo>
                  <a:pt x="1359" y="1069"/>
                </a:lnTo>
                <a:lnTo>
                  <a:pt x="1304" y="1092"/>
                </a:lnTo>
                <a:lnTo>
                  <a:pt x="1248" y="1116"/>
                </a:lnTo>
                <a:lnTo>
                  <a:pt x="1192" y="1137"/>
                </a:lnTo>
                <a:lnTo>
                  <a:pt x="1135" y="1160"/>
                </a:lnTo>
                <a:lnTo>
                  <a:pt x="1079" y="1183"/>
                </a:lnTo>
                <a:lnTo>
                  <a:pt x="1023" y="1205"/>
                </a:lnTo>
                <a:lnTo>
                  <a:pt x="999" y="1215"/>
                </a:lnTo>
                <a:lnTo>
                  <a:pt x="974" y="1225"/>
                </a:lnTo>
                <a:lnTo>
                  <a:pt x="950" y="1235"/>
                </a:lnTo>
                <a:lnTo>
                  <a:pt x="925" y="1245"/>
                </a:lnTo>
                <a:lnTo>
                  <a:pt x="901" y="1255"/>
                </a:lnTo>
                <a:lnTo>
                  <a:pt x="875" y="1265"/>
                </a:lnTo>
                <a:lnTo>
                  <a:pt x="850" y="1274"/>
                </a:lnTo>
                <a:lnTo>
                  <a:pt x="826" y="1284"/>
                </a:lnTo>
                <a:lnTo>
                  <a:pt x="801" y="1294"/>
                </a:lnTo>
                <a:lnTo>
                  <a:pt x="777" y="1304"/>
                </a:lnTo>
                <a:lnTo>
                  <a:pt x="752" y="1313"/>
                </a:lnTo>
                <a:lnTo>
                  <a:pt x="726" y="1322"/>
                </a:lnTo>
                <a:lnTo>
                  <a:pt x="701" y="1331"/>
                </a:lnTo>
                <a:lnTo>
                  <a:pt x="677" y="1341"/>
                </a:lnTo>
                <a:lnTo>
                  <a:pt x="652" y="1350"/>
                </a:lnTo>
                <a:lnTo>
                  <a:pt x="627" y="1358"/>
                </a:lnTo>
                <a:lnTo>
                  <a:pt x="602" y="1367"/>
                </a:lnTo>
                <a:lnTo>
                  <a:pt x="575" y="1375"/>
                </a:lnTo>
                <a:lnTo>
                  <a:pt x="550" y="1383"/>
                </a:lnTo>
                <a:lnTo>
                  <a:pt x="525" y="1391"/>
                </a:lnTo>
                <a:lnTo>
                  <a:pt x="500" y="1399"/>
                </a:lnTo>
                <a:lnTo>
                  <a:pt x="473" y="1406"/>
                </a:lnTo>
                <a:lnTo>
                  <a:pt x="448" y="1414"/>
                </a:lnTo>
                <a:lnTo>
                  <a:pt x="422" y="1421"/>
                </a:lnTo>
                <a:lnTo>
                  <a:pt x="395" y="1428"/>
                </a:lnTo>
                <a:lnTo>
                  <a:pt x="369" y="1434"/>
                </a:lnTo>
                <a:lnTo>
                  <a:pt x="344" y="1440"/>
                </a:lnTo>
                <a:lnTo>
                  <a:pt x="316" y="1446"/>
                </a:lnTo>
                <a:lnTo>
                  <a:pt x="290" y="1452"/>
                </a:lnTo>
                <a:lnTo>
                  <a:pt x="264" y="1458"/>
                </a:lnTo>
                <a:lnTo>
                  <a:pt x="237" y="1462"/>
                </a:lnTo>
                <a:lnTo>
                  <a:pt x="210" y="1467"/>
                </a:lnTo>
                <a:lnTo>
                  <a:pt x="209" y="1475"/>
                </a:lnTo>
                <a:lnTo>
                  <a:pt x="209" y="1484"/>
                </a:lnTo>
                <a:lnTo>
                  <a:pt x="212" y="1493"/>
                </a:lnTo>
                <a:lnTo>
                  <a:pt x="214" y="1502"/>
                </a:lnTo>
                <a:lnTo>
                  <a:pt x="218" y="1513"/>
                </a:lnTo>
                <a:lnTo>
                  <a:pt x="220" y="1523"/>
                </a:lnTo>
                <a:lnTo>
                  <a:pt x="220" y="1535"/>
                </a:lnTo>
                <a:lnTo>
                  <a:pt x="218" y="1546"/>
                </a:lnTo>
                <a:lnTo>
                  <a:pt x="157" y="1569"/>
                </a:lnTo>
                <a:lnTo>
                  <a:pt x="170" y="1591"/>
                </a:lnTo>
                <a:lnTo>
                  <a:pt x="182" y="1611"/>
                </a:lnTo>
                <a:lnTo>
                  <a:pt x="195" y="1633"/>
                </a:lnTo>
                <a:lnTo>
                  <a:pt x="209" y="1654"/>
                </a:lnTo>
                <a:lnTo>
                  <a:pt x="221" y="1676"/>
                </a:lnTo>
                <a:lnTo>
                  <a:pt x="235" y="1696"/>
                </a:lnTo>
                <a:lnTo>
                  <a:pt x="249" y="1718"/>
                </a:lnTo>
                <a:lnTo>
                  <a:pt x="261" y="1739"/>
                </a:lnTo>
                <a:lnTo>
                  <a:pt x="275" y="1761"/>
                </a:lnTo>
                <a:lnTo>
                  <a:pt x="288" y="1782"/>
                </a:lnTo>
                <a:lnTo>
                  <a:pt x="300" y="1804"/>
                </a:lnTo>
                <a:lnTo>
                  <a:pt x="313" y="1826"/>
                </a:lnTo>
                <a:lnTo>
                  <a:pt x="324" y="1848"/>
                </a:lnTo>
                <a:lnTo>
                  <a:pt x="336" y="1870"/>
                </a:lnTo>
                <a:lnTo>
                  <a:pt x="346" y="1891"/>
                </a:lnTo>
                <a:lnTo>
                  <a:pt x="355" y="1913"/>
                </a:lnTo>
                <a:lnTo>
                  <a:pt x="314" y="1941"/>
                </a:lnTo>
                <a:lnTo>
                  <a:pt x="298" y="1910"/>
                </a:lnTo>
                <a:lnTo>
                  <a:pt x="281" y="1878"/>
                </a:lnTo>
                <a:lnTo>
                  <a:pt x="264" y="1847"/>
                </a:lnTo>
                <a:lnTo>
                  <a:pt x="246" y="1815"/>
                </a:lnTo>
                <a:lnTo>
                  <a:pt x="228" y="1784"/>
                </a:lnTo>
                <a:lnTo>
                  <a:pt x="210" y="1751"/>
                </a:lnTo>
                <a:lnTo>
                  <a:pt x="191" y="1720"/>
                </a:lnTo>
                <a:lnTo>
                  <a:pt x="172" y="1689"/>
                </a:lnTo>
                <a:lnTo>
                  <a:pt x="153" y="1658"/>
                </a:lnTo>
                <a:lnTo>
                  <a:pt x="132" y="1628"/>
                </a:lnTo>
                <a:lnTo>
                  <a:pt x="111" y="1598"/>
                </a:lnTo>
                <a:lnTo>
                  <a:pt x="91" y="1568"/>
                </a:lnTo>
                <a:lnTo>
                  <a:pt x="69" y="1538"/>
                </a:lnTo>
                <a:lnTo>
                  <a:pt x="46" y="1509"/>
                </a:lnTo>
                <a:lnTo>
                  <a:pt x="23" y="1482"/>
                </a:lnTo>
                <a:lnTo>
                  <a:pt x="0" y="1454"/>
                </a:lnTo>
                <a:lnTo>
                  <a:pt x="24" y="1447"/>
                </a:lnTo>
                <a:lnTo>
                  <a:pt x="47" y="1442"/>
                </a:lnTo>
                <a:lnTo>
                  <a:pt x="71" y="1436"/>
                </a:lnTo>
                <a:lnTo>
                  <a:pt x="95" y="1430"/>
                </a:lnTo>
                <a:lnTo>
                  <a:pt x="119" y="1426"/>
                </a:lnTo>
                <a:lnTo>
                  <a:pt x="142" y="1420"/>
                </a:lnTo>
                <a:lnTo>
                  <a:pt x="166" y="1415"/>
                </a:lnTo>
                <a:lnTo>
                  <a:pt x="190" y="1411"/>
                </a:lnTo>
                <a:lnTo>
                  <a:pt x="213" y="1405"/>
                </a:lnTo>
                <a:lnTo>
                  <a:pt x="237" y="1400"/>
                </a:lnTo>
                <a:lnTo>
                  <a:pt x="261" y="1396"/>
                </a:lnTo>
                <a:lnTo>
                  <a:pt x="284" y="1390"/>
                </a:lnTo>
                <a:lnTo>
                  <a:pt x="308" y="1384"/>
                </a:lnTo>
                <a:lnTo>
                  <a:pt x="331" y="1380"/>
                </a:lnTo>
                <a:lnTo>
                  <a:pt x="355" y="1373"/>
                </a:lnTo>
                <a:lnTo>
                  <a:pt x="378" y="1367"/>
                </a:lnTo>
                <a:lnTo>
                  <a:pt x="424" y="1356"/>
                </a:lnTo>
                <a:lnTo>
                  <a:pt x="469" y="1344"/>
                </a:lnTo>
                <a:lnTo>
                  <a:pt x="513" y="1333"/>
                </a:lnTo>
                <a:lnTo>
                  <a:pt x="558" y="1320"/>
                </a:lnTo>
                <a:lnTo>
                  <a:pt x="602" y="1306"/>
                </a:lnTo>
                <a:lnTo>
                  <a:pt x="646" y="1292"/>
                </a:lnTo>
                <a:lnTo>
                  <a:pt x="690" y="1277"/>
                </a:lnTo>
                <a:lnTo>
                  <a:pt x="733" y="1264"/>
                </a:lnTo>
                <a:lnTo>
                  <a:pt x="776" y="1248"/>
                </a:lnTo>
                <a:lnTo>
                  <a:pt x="819" y="1233"/>
                </a:lnTo>
                <a:lnTo>
                  <a:pt x="862" y="1217"/>
                </a:lnTo>
                <a:lnTo>
                  <a:pt x="904" y="1201"/>
                </a:lnTo>
                <a:lnTo>
                  <a:pt x="946" y="1183"/>
                </a:lnTo>
                <a:lnTo>
                  <a:pt x="989" y="1167"/>
                </a:lnTo>
                <a:lnTo>
                  <a:pt x="1031" y="1150"/>
                </a:lnTo>
                <a:lnTo>
                  <a:pt x="1074" y="1133"/>
                </a:lnTo>
                <a:lnTo>
                  <a:pt x="1116" y="1114"/>
                </a:lnTo>
                <a:lnTo>
                  <a:pt x="1157" y="1097"/>
                </a:lnTo>
                <a:lnTo>
                  <a:pt x="1200" y="1080"/>
                </a:lnTo>
                <a:lnTo>
                  <a:pt x="1242" y="1062"/>
                </a:lnTo>
                <a:lnTo>
                  <a:pt x="1283" y="1043"/>
                </a:lnTo>
                <a:lnTo>
                  <a:pt x="1326" y="1026"/>
                </a:lnTo>
                <a:lnTo>
                  <a:pt x="1367" y="1008"/>
                </a:lnTo>
                <a:lnTo>
                  <a:pt x="1409" y="989"/>
                </a:lnTo>
                <a:lnTo>
                  <a:pt x="1452" y="972"/>
                </a:lnTo>
                <a:lnTo>
                  <a:pt x="1493" y="954"/>
                </a:lnTo>
                <a:lnTo>
                  <a:pt x="1535" y="937"/>
                </a:lnTo>
                <a:lnTo>
                  <a:pt x="1578" y="918"/>
                </a:lnTo>
                <a:lnTo>
                  <a:pt x="1620" y="901"/>
                </a:lnTo>
                <a:lnTo>
                  <a:pt x="1662" y="884"/>
                </a:lnTo>
                <a:lnTo>
                  <a:pt x="1706" y="868"/>
                </a:lnTo>
                <a:lnTo>
                  <a:pt x="1748" y="851"/>
                </a:lnTo>
                <a:lnTo>
                  <a:pt x="1785" y="831"/>
                </a:lnTo>
                <a:lnTo>
                  <a:pt x="1822" y="812"/>
                </a:lnTo>
                <a:lnTo>
                  <a:pt x="1858" y="793"/>
                </a:lnTo>
                <a:lnTo>
                  <a:pt x="1895" y="775"/>
                </a:lnTo>
                <a:lnTo>
                  <a:pt x="1932" y="756"/>
                </a:lnTo>
                <a:lnTo>
                  <a:pt x="1969" y="738"/>
                </a:lnTo>
                <a:lnTo>
                  <a:pt x="2007" y="720"/>
                </a:lnTo>
                <a:lnTo>
                  <a:pt x="2044" y="700"/>
                </a:lnTo>
                <a:lnTo>
                  <a:pt x="2082" y="682"/>
                </a:lnTo>
                <a:lnTo>
                  <a:pt x="2118" y="663"/>
                </a:lnTo>
                <a:lnTo>
                  <a:pt x="2156" y="644"/>
                </a:lnTo>
                <a:lnTo>
                  <a:pt x="2193" y="624"/>
                </a:lnTo>
                <a:lnTo>
                  <a:pt x="2229" y="605"/>
                </a:lnTo>
                <a:lnTo>
                  <a:pt x="2265" y="584"/>
                </a:lnTo>
                <a:lnTo>
                  <a:pt x="2302" y="562"/>
                </a:lnTo>
                <a:lnTo>
                  <a:pt x="2337" y="541"/>
                </a:lnTo>
                <a:lnTo>
                  <a:pt x="2362" y="527"/>
                </a:lnTo>
                <a:lnTo>
                  <a:pt x="2387" y="512"/>
                </a:lnTo>
                <a:lnTo>
                  <a:pt x="2414" y="497"/>
                </a:lnTo>
                <a:lnTo>
                  <a:pt x="2439" y="483"/>
                </a:lnTo>
                <a:lnTo>
                  <a:pt x="2464" y="468"/>
                </a:lnTo>
                <a:lnTo>
                  <a:pt x="2489" y="453"/>
                </a:lnTo>
                <a:lnTo>
                  <a:pt x="2515" y="439"/>
                </a:lnTo>
                <a:lnTo>
                  <a:pt x="2541" y="424"/>
                </a:lnTo>
                <a:lnTo>
                  <a:pt x="2566" y="409"/>
                </a:lnTo>
                <a:lnTo>
                  <a:pt x="2591" y="394"/>
                </a:lnTo>
                <a:lnTo>
                  <a:pt x="2617" y="379"/>
                </a:lnTo>
                <a:lnTo>
                  <a:pt x="2642" y="363"/>
                </a:lnTo>
                <a:lnTo>
                  <a:pt x="2667" y="348"/>
                </a:lnTo>
                <a:lnTo>
                  <a:pt x="2692" y="332"/>
                </a:lnTo>
                <a:lnTo>
                  <a:pt x="2717" y="317"/>
                </a:lnTo>
                <a:lnTo>
                  <a:pt x="2743" y="301"/>
                </a:lnTo>
                <a:lnTo>
                  <a:pt x="2768" y="285"/>
                </a:lnTo>
                <a:lnTo>
                  <a:pt x="2792" y="267"/>
                </a:lnTo>
                <a:lnTo>
                  <a:pt x="2817" y="251"/>
                </a:lnTo>
                <a:lnTo>
                  <a:pt x="2841" y="235"/>
                </a:lnTo>
                <a:lnTo>
                  <a:pt x="2866" y="218"/>
                </a:lnTo>
                <a:lnTo>
                  <a:pt x="2890" y="201"/>
                </a:lnTo>
                <a:lnTo>
                  <a:pt x="2914" y="184"/>
                </a:lnTo>
                <a:lnTo>
                  <a:pt x="2938" y="167"/>
                </a:lnTo>
                <a:lnTo>
                  <a:pt x="2961" y="149"/>
                </a:lnTo>
                <a:lnTo>
                  <a:pt x="2985" y="131"/>
                </a:lnTo>
                <a:lnTo>
                  <a:pt x="3008" y="114"/>
                </a:lnTo>
                <a:lnTo>
                  <a:pt x="3032" y="95"/>
                </a:lnTo>
                <a:lnTo>
                  <a:pt x="3055" y="77"/>
                </a:lnTo>
                <a:lnTo>
                  <a:pt x="3078" y="57"/>
                </a:lnTo>
                <a:lnTo>
                  <a:pt x="3100" y="39"/>
                </a:lnTo>
                <a:lnTo>
                  <a:pt x="3123" y="20"/>
                </a:lnTo>
                <a:lnTo>
                  <a:pt x="3139" y="0"/>
                </a:lnTo>
                <a:lnTo>
                  <a:pt x="3142" y="36"/>
                </a:lnTo>
                <a:lnTo>
                  <a:pt x="3145" y="71"/>
                </a:lnTo>
                <a:lnTo>
                  <a:pt x="3147" y="107"/>
                </a:lnTo>
                <a:lnTo>
                  <a:pt x="3148" y="142"/>
                </a:lnTo>
                <a:lnTo>
                  <a:pt x="3149" y="179"/>
                </a:lnTo>
                <a:lnTo>
                  <a:pt x="3150" y="215"/>
                </a:lnTo>
                <a:lnTo>
                  <a:pt x="3152" y="251"/>
                </a:lnTo>
                <a:lnTo>
                  <a:pt x="3152" y="287"/>
                </a:lnTo>
                <a:lnTo>
                  <a:pt x="3153" y="324"/>
                </a:lnTo>
                <a:lnTo>
                  <a:pt x="3154" y="359"/>
                </a:lnTo>
                <a:lnTo>
                  <a:pt x="3155" y="395"/>
                </a:lnTo>
                <a:lnTo>
                  <a:pt x="3156" y="430"/>
                </a:lnTo>
                <a:lnTo>
                  <a:pt x="3158" y="466"/>
                </a:lnTo>
                <a:lnTo>
                  <a:pt x="3162" y="502"/>
                </a:lnTo>
                <a:lnTo>
                  <a:pt x="3165" y="536"/>
                </a:lnTo>
                <a:lnTo>
                  <a:pt x="317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22480" y="2655720"/>
            <a:ext cx="4214880" cy="2859120"/>
          </a:xfrm>
          <a:custGeom>
            <a:avLst/>
            <a:gdLst/>
            <a:ahLst/>
            <a:rect l="l" t="t" r="r" b="b"/>
            <a:pathLst>
              <a:path w="3245" h="3094">
                <a:moveTo>
                  <a:pt x="2815" y="69"/>
                </a:moveTo>
                <a:lnTo>
                  <a:pt x="2828" y="70"/>
                </a:lnTo>
                <a:lnTo>
                  <a:pt x="2841" y="69"/>
                </a:lnTo>
                <a:lnTo>
                  <a:pt x="2854" y="67"/>
                </a:lnTo>
                <a:lnTo>
                  <a:pt x="2866" y="63"/>
                </a:lnTo>
                <a:lnTo>
                  <a:pt x="2878" y="58"/>
                </a:lnTo>
                <a:lnTo>
                  <a:pt x="2888" y="52"/>
                </a:lnTo>
                <a:lnTo>
                  <a:pt x="2897" y="44"/>
                </a:lnTo>
                <a:lnTo>
                  <a:pt x="2905" y="35"/>
                </a:lnTo>
                <a:lnTo>
                  <a:pt x="2905" y="54"/>
                </a:lnTo>
                <a:lnTo>
                  <a:pt x="2905" y="73"/>
                </a:lnTo>
                <a:lnTo>
                  <a:pt x="2905" y="92"/>
                </a:lnTo>
                <a:lnTo>
                  <a:pt x="2905" y="110"/>
                </a:lnTo>
                <a:lnTo>
                  <a:pt x="2905" y="130"/>
                </a:lnTo>
                <a:lnTo>
                  <a:pt x="2906" y="149"/>
                </a:lnTo>
                <a:lnTo>
                  <a:pt x="2906" y="168"/>
                </a:lnTo>
                <a:lnTo>
                  <a:pt x="2907" y="187"/>
                </a:lnTo>
                <a:lnTo>
                  <a:pt x="2909" y="206"/>
                </a:lnTo>
                <a:lnTo>
                  <a:pt x="2910" y="225"/>
                </a:lnTo>
                <a:lnTo>
                  <a:pt x="2911" y="244"/>
                </a:lnTo>
                <a:lnTo>
                  <a:pt x="2912" y="262"/>
                </a:lnTo>
                <a:lnTo>
                  <a:pt x="2914" y="279"/>
                </a:lnTo>
                <a:lnTo>
                  <a:pt x="2917" y="298"/>
                </a:lnTo>
                <a:lnTo>
                  <a:pt x="2919" y="315"/>
                </a:lnTo>
                <a:lnTo>
                  <a:pt x="2921" y="332"/>
                </a:lnTo>
                <a:lnTo>
                  <a:pt x="2912" y="335"/>
                </a:lnTo>
                <a:lnTo>
                  <a:pt x="2904" y="340"/>
                </a:lnTo>
                <a:lnTo>
                  <a:pt x="2895" y="346"/>
                </a:lnTo>
                <a:lnTo>
                  <a:pt x="2888" y="354"/>
                </a:lnTo>
                <a:lnTo>
                  <a:pt x="2881" y="361"/>
                </a:lnTo>
                <a:lnTo>
                  <a:pt x="2875" y="369"/>
                </a:lnTo>
                <a:lnTo>
                  <a:pt x="2871" y="378"/>
                </a:lnTo>
                <a:lnTo>
                  <a:pt x="2867" y="386"/>
                </a:lnTo>
                <a:lnTo>
                  <a:pt x="2868" y="403"/>
                </a:lnTo>
                <a:lnTo>
                  <a:pt x="2873" y="419"/>
                </a:lnTo>
                <a:lnTo>
                  <a:pt x="2879" y="434"/>
                </a:lnTo>
                <a:lnTo>
                  <a:pt x="2887" y="448"/>
                </a:lnTo>
                <a:lnTo>
                  <a:pt x="2896" y="460"/>
                </a:lnTo>
                <a:lnTo>
                  <a:pt x="2907" y="473"/>
                </a:lnTo>
                <a:lnTo>
                  <a:pt x="2920" y="483"/>
                </a:lnTo>
                <a:lnTo>
                  <a:pt x="2933" y="494"/>
                </a:lnTo>
                <a:lnTo>
                  <a:pt x="2925" y="504"/>
                </a:lnTo>
                <a:lnTo>
                  <a:pt x="2917" y="514"/>
                </a:lnTo>
                <a:lnTo>
                  <a:pt x="2911" y="525"/>
                </a:lnTo>
                <a:lnTo>
                  <a:pt x="2905" y="536"/>
                </a:lnTo>
                <a:lnTo>
                  <a:pt x="2902" y="548"/>
                </a:lnTo>
                <a:lnTo>
                  <a:pt x="2901" y="560"/>
                </a:lnTo>
                <a:lnTo>
                  <a:pt x="2902" y="573"/>
                </a:lnTo>
                <a:lnTo>
                  <a:pt x="2905" y="586"/>
                </a:lnTo>
                <a:lnTo>
                  <a:pt x="2910" y="597"/>
                </a:lnTo>
                <a:lnTo>
                  <a:pt x="2917" y="606"/>
                </a:lnTo>
                <a:lnTo>
                  <a:pt x="2926" y="613"/>
                </a:lnTo>
                <a:lnTo>
                  <a:pt x="2936" y="619"/>
                </a:lnTo>
                <a:lnTo>
                  <a:pt x="2945" y="625"/>
                </a:lnTo>
                <a:lnTo>
                  <a:pt x="2953" y="633"/>
                </a:lnTo>
                <a:lnTo>
                  <a:pt x="2958" y="642"/>
                </a:lnTo>
                <a:lnTo>
                  <a:pt x="2959" y="654"/>
                </a:lnTo>
                <a:lnTo>
                  <a:pt x="2950" y="661"/>
                </a:lnTo>
                <a:lnTo>
                  <a:pt x="2939" y="669"/>
                </a:lnTo>
                <a:lnTo>
                  <a:pt x="2930" y="680"/>
                </a:lnTo>
                <a:lnTo>
                  <a:pt x="2923" y="690"/>
                </a:lnTo>
                <a:lnTo>
                  <a:pt x="2918" y="701"/>
                </a:lnTo>
                <a:lnTo>
                  <a:pt x="2915" y="713"/>
                </a:lnTo>
                <a:lnTo>
                  <a:pt x="2918" y="726"/>
                </a:lnTo>
                <a:lnTo>
                  <a:pt x="2925" y="738"/>
                </a:lnTo>
                <a:lnTo>
                  <a:pt x="2930" y="744"/>
                </a:lnTo>
                <a:lnTo>
                  <a:pt x="2936" y="750"/>
                </a:lnTo>
                <a:lnTo>
                  <a:pt x="2943" y="757"/>
                </a:lnTo>
                <a:lnTo>
                  <a:pt x="2950" y="762"/>
                </a:lnTo>
                <a:lnTo>
                  <a:pt x="2958" y="767"/>
                </a:lnTo>
                <a:lnTo>
                  <a:pt x="2965" y="771"/>
                </a:lnTo>
                <a:lnTo>
                  <a:pt x="2974" y="775"/>
                </a:lnTo>
                <a:lnTo>
                  <a:pt x="2982" y="777"/>
                </a:lnTo>
                <a:lnTo>
                  <a:pt x="2986" y="815"/>
                </a:lnTo>
                <a:lnTo>
                  <a:pt x="2991" y="854"/>
                </a:lnTo>
                <a:lnTo>
                  <a:pt x="2996" y="892"/>
                </a:lnTo>
                <a:lnTo>
                  <a:pt x="3001" y="930"/>
                </a:lnTo>
                <a:lnTo>
                  <a:pt x="3007" y="968"/>
                </a:lnTo>
                <a:lnTo>
                  <a:pt x="3013" y="1006"/>
                </a:lnTo>
                <a:lnTo>
                  <a:pt x="3018" y="1043"/>
                </a:lnTo>
                <a:lnTo>
                  <a:pt x="3024" y="1081"/>
                </a:lnTo>
                <a:lnTo>
                  <a:pt x="3031" y="1119"/>
                </a:lnTo>
                <a:lnTo>
                  <a:pt x="3038" y="1157"/>
                </a:lnTo>
                <a:lnTo>
                  <a:pt x="3045" y="1194"/>
                </a:lnTo>
                <a:lnTo>
                  <a:pt x="3052" y="1232"/>
                </a:lnTo>
                <a:lnTo>
                  <a:pt x="3060" y="1268"/>
                </a:lnTo>
                <a:lnTo>
                  <a:pt x="3067" y="1306"/>
                </a:lnTo>
                <a:lnTo>
                  <a:pt x="3075" y="1343"/>
                </a:lnTo>
                <a:lnTo>
                  <a:pt x="3083" y="1380"/>
                </a:lnTo>
                <a:lnTo>
                  <a:pt x="3092" y="1418"/>
                </a:lnTo>
                <a:lnTo>
                  <a:pt x="3100" y="1454"/>
                </a:lnTo>
                <a:lnTo>
                  <a:pt x="3109" y="1491"/>
                </a:lnTo>
                <a:lnTo>
                  <a:pt x="3118" y="1527"/>
                </a:lnTo>
                <a:lnTo>
                  <a:pt x="3127" y="1563"/>
                </a:lnTo>
                <a:lnTo>
                  <a:pt x="3136" y="1600"/>
                </a:lnTo>
                <a:lnTo>
                  <a:pt x="3147" y="1637"/>
                </a:lnTo>
                <a:lnTo>
                  <a:pt x="3157" y="1672"/>
                </a:lnTo>
                <a:lnTo>
                  <a:pt x="3167" y="1708"/>
                </a:lnTo>
                <a:lnTo>
                  <a:pt x="3178" y="1745"/>
                </a:lnTo>
                <a:lnTo>
                  <a:pt x="3188" y="1780"/>
                </a:lnTo>
                <a:lnTo>
                  <a:pt x="3199" y="1816"/>
                </a:lnTo>
                <a:lnTo>
                  <a:pt x="3210" y="1851"/>
                </a:lnTo>
                <a:lnTo>
                  <a:pt x="3221" y="1887"/>
                </a:lnTo>
                <a:lnTo>
                  <a:pt x="3234" y="1923"/>
                </a:lnTo>
                <a:lnTo>
                  <a:pt x="3245" y="1958"/>
                </a:lnTo>
                <a:lnTo>
                  <a:pt x="3234" y="1962"/>
                </a:lnTo>
                <a:lnTo>
                  <a:pt x="3224" y="1967"/>
                </a:lnTo>
                <a:lnTo>
                  <a:pt x="3214" y="1973"/>
                </a:lnTo>
                <a:lnTo>
                  <a:pt x="3206" y="1980"/>
                </a:lnTo>
                <a:lnTo>
                  <a:pt x="3198" y="1989"/>
                </a:lnTo>
                <a:lnTo>
                  <a:pt x="3193" y="1998"/>
                </a:lnTo>
                <a:lnTo>
                  <a:pt x="3187" y="2009"/>
                </a:lnTo>
                <a:lnTo>
                  <a:pt x="3183" y="2020"/>
                </a:lnTo>
                <a:lnTo>
                  <a:pt x="3191" y="2089"/>
                </a:lnTo>
                <a:lnTo>
                  <a:pt x="3150" y="2091"/>
                </a:lnTo>
                <a:lnTo>
                  <a:pt x="3110" y="2095"/>
                </a:lnTo>
                <a:lnTo>
                  <a:pt x="3070" y="2101"/>
                </a:lnTo>
                <a:lnTo>
                  <a:pt x="3031" y="2107"/>
                </a:lnTo>
                <a:lnTo>
                  <a:pt x="2993" y="2117"/>
                </a:lnTo>
                <a:lnTo>
                  <a:pt x="2957" y="2126"/>
                </a:lnTo>
                <a:lnTo>
                  <a:pt x="2920" y="2136"/>
                </a:lnTo>
                <a:lnTo>
                  <a:pt x="2883" y="2148"/>
                </a:lnTo>
                <a:lnTo>
                  <a:pt x="2847" y="2159"/>
                </a:lnTo>
                <a:lnTo>
                  <a:pt x="2810" y="2171"/>
                </a:lnTo>
                <a:lnTo>
                  <a:pt x="2773" y="2182"/>
                </a:lnTo>
                <a:lnTo>
                  <a:pt x="2737" y="2192"/>
                </a:lnTo>
                <a:lnTo>
                  <a:pt x="2700" y="2204"/>
                </a:lnTo>
                <a:lnTo>
                  <a:pt x="2662" y="2213"/>
                </a:lnTo>
                <a:lnTo>
                  <a:pt x="2624" y="2222"/>
                </a:lnTo>
                <a:lnTo>
                  <a:pt x="2585" y="2230"/>
                </a:lnTo>
                <a:lnTo>
                  <a:pt x="2527" y="2244"/>
                </a:lnTo>
                <a:lnTo>
                  <a:pt x="2470" y="2258"/>
                </a:lnTo>
                <a:lnTo>
                  <a:pt x="2413" y="2274"/>
                </a:lnTo>
                <a:lnTo>
                  <a:pt x="2355" y="2290"/>
                </a:lnTo>
                <a:lnTo>
                  <a:pt x="2299" y="2308"/>
                </a:lnTo>
                <a:lnTo>
                  <a:pt x="2243" y="2325"/>
                </a:lnTo>
                <a:lnTo>
                  <a:pt x="2187" y="2345"/>
                </a:lnTo>
                <a:lnTo>
                  <a:pt x="2132" y="2364"/>
                </a:lnTo>
                <a:lnTo>
                  <a:pt x="2077" y="2385"/>
                </a:lnTo>
                <a:lnTo>
                  <a:pt x="2022" y="2407"/>
                </a:lnTo>
                <a:lnTo>
                  <a:pt x="1967" y="2429"/>
                </a:lnTo>
                <a:lnTo>
                  <a:pt x="1913" y="2452"/>
                </a:lnTo>
                <a:lnTo>
                  <a:pt x="1859" y="2475"/>
                </a:lnTo>
                <a:lnTo>
                  <a:pt x="1805" y="2499"/>
                </a:lnTo>
                <a:lnTo>
                  <a:pt x="1753" y="2523"/>
                </a:lnTo>
                <a:lnTo>
                  <a:pt x="1699" y="2547"/>
                </a:lnTo>
                <a:lnTo>
                  <a:pt x="1646" y="2572"/>
                </a:lnTo>
                <a:lnTo>
                  <a:pt x="1593" y="2597"/>
                </a:lnTo>
                <a:lnTo>
                  <a:pt x="1541" y="2624"/>
                </a:lnTo>
                <a:lnTo>
                  <a:pt x="1488" y="2650"/>
                </a:lnTo>
                <a:lnTo>
                  <a:pt x="1435" y="2677"/>
                </a:lnTo>
                <a:lnTo>
                  <a:pt x="1384" y="2703"/>
                </a:lnTo>
                <a:lnTo>
                  <a:pt x="1331" y="2731"/>
                </a:lnTo>
                <a:lnTo>
                  <a:pt x="1280" y="2758"/>
                </a:lnTo>
                <a:lnTo>
                  <a:pt x="1227" y="2785"/>
                </a:lnTo>
                <a:lnTo>
                  <a:pt x="1175" y="2812"/>
                </a:lnTo>
                <a:lnTo>
                  <a:pt x="1124" y="2840"/>
                </a:lnTo>
                <a:lnTo>
                  <a:pt x="1071" y="2867"/>
                </a:lnTo>
                <a:lnTo>
                  <a:pt x="1020" y="2895"/>
                </a:lnTo>
                <a:lnTo>
                  <a:pt x="967" y="2922"/>
                </a:lnTo>
                <a:lnTo>
                  <a:pt x="915" y="2949"/>
                </a:lnTo>
                <a:lnTo>
                  <a:pt x="863" y="2976"/>
                </a:lnTo>
                <a:lnTo>
                  <a:pt x="851" y="2985"/>
                </a:lnTo>
                <a:lnTo>
                  <a:pt x="839" y="2993"/>
                </a:lnTo>
                <a:lnTo>
                  <a:pt x="827" y="3001"/>
                </a:lnTo>
                <a:lnTo>
                  <a:pt x="815" y="3008"/>
                </a:lnTo>
                <a:lnTo>
                  <a:pt x="802" y="3016"/>
                </a:lnTo>
                <a:lnTo>
                  <a:pt x="790" y="3023"/>
                </a:lnTo>
                <a:lnTo>
                  <a:pt x="778" y="3031"/>
                </a:lnTo>
                <a:lnTo>
                  <a:pt x="765" y="3038"/>
                </a:lnTo>
                <a:lnTo>
                  <a:pt x="754" y="3045"/>
                </a:lnTo>
                <a:lnTo>
                  <a:pt x="741" y="3052"/>
                </a:lnTo>
                <a:lnTo>
                  <a:pt x="729" y="3059"/>
                </a:lnTo>
                <a:lnTo>
                  <a:pt x="716" y="3066"/>
                </a:lnTo>
                <a:lnTo>
                  <a:pt x="705" y="3073"/>
                </a:lnTo>
                <a:lnTo>
                  <a:pt x="692" y="3080"/>
                </a:lnTo>
                <a:lnTo>
                  <a:pt x="680" y="3088"/>
                </a:lnTo>
                <a:lnTo>
                  <a:pt x="668" y="3094"/>
                </a:lnTo>
                <a:lnTo>
                  <a:pt x="670" y="3082"/>
                </a:lnTo>
                <a:lnTo>
                  <a:pt x="674" y="3068"/>
                </a:lnTo>
                <a:lnTo>
                  <a:pt x="678" y="3054"/>
                </a:lnTo>
                <a:lnTo>
                  <a:pt x="680" y="3040"/>
                </a:lnTo>
                <a:lnTo>
                  <a:pt x="683" y="3027"/>
                </a:lnTo>
                <a:lnTo>
                  <a:pt x="682" y="3013"/>
                </a:lnTo>
                <a:lnTo>
                  <a:pt x="678" y="3000"/>
                </a:lnTo>
                <a:lnTo>
                  <a:pt x="671" y="2988"/>
                </a:lnTo>
                <a:lnTo>
                  <a:pt x="663" y="2981"/>
                </a:lnTo>
                <a:lnTo>
                  <a:pt x="654" y="2977"/>
                </a:lnTo>
                <a:lnTo>
                  <a:pt x="644" y="2976"/>
                </a:lnTo>
                <a:lnTo>
                  <a:pt x="635" y="2977"/>
                </a:lnTo>
                <a:lnTo>
                  <a:pt x="624" y="2980"/>
                </a:lnTo>
                <a:lnTo>
                  <a:pt x="614" y="2982"/>
                </a:lnTo>
                <a:lnTo>
                  <a:pt x="604" y="2985"/>
                </a:lnTo>
                <a:lnTo>
                  <a:pt x="595" y="2988"/>
                </a:lnTo>
                <a:lnTo>
                  <a:pt x="561" y="3011"/>
                </a:lnTo>
                <a:lnTo>
                  <a:pt x="558" y="2980"/>
                </a:lnTo>
                <a:lnTo>
                  <a:pt x="554" y="2949"/>
                </a:lnTo>
                <a:lnTo>
                  <a:pt x="550" y="2918"/>
                </a:lnTo>
                <a:lnTo>
                  <a:pt x="546" y="2887"/>
                </a:lnTo>
                <a:lnTo>
                  <a:pt x="541" y="2856"/>
                </a:lnTo>
                <a:lnTo>
                  <a:pt x="536" y="2826"/>
                </a:lnTo>
                <a:lnTo>
                  <a:pt x="530" y="2795"/>
                </a:lnTo>
                <a:lnTo>
                  <a:pt x="525" y="2764"/>
                </a:lnTo>
                <a:lnTo>
                  <a:pt x="519" y="2733"/>
                </a:lnTo>
                <a:lnTo>
                  <a:pt x="512" y="2703"/>
                </a:lnTo>
                <a:lnTo>
                  <a:pt x="505" y="2672"/>
                </a:lnTo>
                <a:lnTo>
                  <a:pt x="498" y="2642"/>
                </a:lnTo>
                <a:lnTo>
                  <a:pt x="491" y="2611"/>
                </a:lnTo>
                <a:lnTo>
                  <a:pt x="483" y="2580"/>
                </a:lnTo>
                <a:lnTo>
                  <a:pt x="477" y="2550"/>
                </a:lnTo>
                <a:lnTo>
                  <a:pt x="469" y="2519"/>
                </a:lnTo>
                <a:lnTo>
                  <a:pt x="461" y="2490"/>
                </a:lnTo>
                <a:lnTo>
                  <a:pt x="451" y="2460"/>
                </a:lnTo>
                <a:lnTo>
                  <a:pt x="443" y="2429"/>
                </a:lnTo>
                <a:lnTo>
                  <a:pt x="435" y="2399"/>
                </a:lnTo>
                <a:lnTo>
                  <a:pt x="426" y="2369"/>
                </a:lnTo>
                <a:lnTo>
                  <a:pt x="417" y="2339"/>
                </a:lnTo>
                <a:lnTo>
                  <a:pt x="409" y="2308"/>
                </a:lnTo>
                <a:lnTo>
                  <a:pt x="400" y="2278"/>
                </a:lnTo>
                <a:lnTo>
                  <a:pt x="391" y="2249"/>
                </a:lnTo>
                <a:lnTo>
                  <a:pt x="382" y="2219"/>
                </a:lnTo>
                <a:lnTo>
                  <a:pt x="372" y="2189"/>
                </a:lnTo>
                <a:lnTo>
                  <a:pt x="363" y="2159"/>
                </a:lnTo>
                <a:lnTo>
                  <a:pt x="355" y="2129"/>
                </a:lnTo>
                <a:lnTo>
                  <a:pt x="346" y="2099"/>
                </a:lnTo>
                <a:lnTo>
                  <a:pt x="337" y="2070"/>
                </a:lnTo>
                <a:lnTo>
                  <a:pt x="328" y="2040"/>
                </a:lnTo>
                <a:lnTo>
                  <a:pt x="330" y="2031"/>
                </a:lnTo>
                <a:lnTo>
                  <a:pt x="333" y="2021"/>
                </a:lnTo>
                <a:lnTo>
                  <a:pt x="338" y="2012"/>
                </a:lnTo>
                <a:lnTo>
                  <a:pt x="343" y="2003"/>
                </a:lnTo>
                <a:lnTo>
                  <a:pt x="346" y="1994"/>
                </a:lnTo>
                <a:lnTo>
                  <a:pt x="347" y="1985"/>
                </a:lnTo>
                <a:lnTo>
                  <a:pt x="345" y="1975"/>
                </a:lnTo>
                <a:lnTo>
                  <a:pt x="339" y="1966"/>
                </a:lnTo>
                <a:lnTo>
                  <a:pt x="333" y="1961"/>
                </a:lnTo>
                <a:lnTo>
                  <a:pt x="327" y="1956"/>
                </a:lnTo>
                <a:lnTo>
                  <a:pt x="321" y="1951"/>
                </a:lnTo>
                <a:lnTo>
                  <a:pt x="314" y="1948"/>
                </a:lnTo>
                <a:lnTo>
                  <a:pt x="307" y="1944"/>
                </a:lnTo>
                <a:lnTo>
                  <a:pt x="300" y="1941"/>
                </a:lnTo>
                <a:lnTo>
                  <a:pt x="293" y="1938"/>
                </a:lnTo>
                <a:lnTo>
                  <a:pt x="286" y="1935"/>
                </a:lnTo>
                <a:lnTo>
                  <a:pt x="286" y="1931"/>
                </a:lnTo>
                <a:lnTo>
                  <a:pt x="291" y="1924"/>
                </a:lnTo>
                <a:lnTo>
                  <a:pt x="297" y="1917"/>
                </a:lnTo>
                <a:lnTo>
                  <a:pt x="304" y="1908"/>
                </a:lnTo>
                <a:lnTo>
                  <a:pt x="310" y="1897"/>
                </a:lnTo>
                <a:lnTo>
                  <a:pt x="316" y="1887"/>
                </a:lnTo>
                <a:lnTo>
                  <a:pt x="319" y="1876"/>
                </a:lnTo>
                <a:lnTo>
                  <a:pt x="316" y="1863"/>
                </a:lnTo>
                <a:lnTo>
                  <a:pt x="312" y="1853"/>
                </a:lnTo>
                <a:lnTo>
                  <a:pt x="306" y="1842"/>
                </a:lnTo>
                <a:lnTo>
                  <a:pt x="299" y="1833"/>
                </a:lnTo>
                <a:lnTo>
                  <a:pt x="291" y="1824"/>
                </a:lnTo>
                <a:lnTo>
                  <a:pt x="283" y="1817"/>
                </a:lnTo>
                <a:lnTo>
                  <a:pt x="273" y="1810"/>
                </a:lnTo>
                <a:lnTo>
                  <a:pt x="262" y="1806"/>
                </a:lnTo>
                <a:lnTo>
                  <a:pt x="251" y="1802"/>
                </a:lnTo>
                <a:lnTo>
                  <a:pt x="258" y="1793"/>
                </a:lnTo>
                <a:lnTo>
                  <a:pt x="264" y="1783"/>
                </a:lnTo>
                <a:lnTo>
                  <a:pt x="267" y="1771"/>
                </a:lnTo>
                <a:lnTo>
                  <a:pt x="269" y="1760"/>
                </a:lnTo>
                <a:lnTo>
                  <a:pt x="270" y="1748"/>
                </a:lnTo>
                <a:lnTo>
                  <a:pt x="269" y="1736"/>
                </a:lnTo>
                <a:lnTo>
                  <a:pt x="267" y="1724"/>
                </a:lnTo>
                <a:lnTo>
                  <a:pt x="262" y="1714"/>
                </a:lnTo>
                <a:lnTo>
                  <a:pt x="256" y="1706"/>
                </a:lnTo>
                <a:lnTo>
                  <a:pt x="249" y="1697"/>
                </a:lnTo>
                <a:lnTo>
                  <a:pt x="241" y="1687"/>
                </a:lnTo>
                <a:lnTo>
                  <a:pt x="233" y="1679"/>
                </a:lnTo>
                <a:lnTo>
                  <a:pt x="223" y="1674"/>
                </a:lnTo>
                <a:lnTo>
                  <a:pt x="213" y="1669"/>
                </a:lnTo>
                <a:lnTo>
                  <a:pt x="203" y="1667"/>
                </a:lnTo>
                <a:lnTo>
                  <a:pt x="190" y="1668"/>
                </a:lnTo>
                <a:lnTo>
                  <a:pt x="181" y="1646"/>
                </a:lnTo>
                <a:lnTo>
                  <a:pt x="171" y="1623"/>
                </a:lnTo>
                <a:lnTo>
                  <a:pt x="159" y="1602"/>
                </a:lnTo>
                <a:lnTo>
                  <a:pt x="149" y="1581"/>
                </a:lnTo>
                <a:lnTo>
                  <a:pt x="138" y="1560"/>
                </a:lnTo>
                <a:lnTo>
                  <a:pt x="125" y="1539"/>
                </a:lnTo>
                <a:lnTo>
                  <a:pt x="113" y="1519"/>
                </a:lnTo>
                <a:lnTo>
                  <a:pt x="101" y="1498"/>
                </a:lnTo>
                <a:lnTo>
                  <a:pt x="88" y="1478"/>
                </a:lnTo>
                <a:lnTo>
                  <a:pt x="76" y="1459"/>
                </a:lnTo>
                <a:lnTo>
                  <a:pt x="63" y="1438"/>
                </a:lnTo>
                <a:lnTo>
                  <a:pt x="50" y="1419"/>
                </a:lnTo>
                <a:lnTo>
                  <a:pt x="38" y="1399"/>
                </a:lnTo>
                <a:lnTo>
                  <a:pt x="25" y="1380"/>
                </a:lnTo>
                <a:lnTo>
                  <a:pt x="13" y="1359"/>
                </a:lnTo>
                <a:lnTo>
                  <a:pt x="0" y="1340"/>
                </a:lnTo>
                <a:lnTo>
                  <a:pt x="7" y="1337"/>
                </a:lnTo>
                <a:lnTo>
                  <a:pt x="15" y="1335"/>
                </a:lnTo>
                <a:lnTo>
                  <a:pt x="23" y="1332"/>
                </a:lnTo>
                <a:lnTo>
                  <a:pt x="31" y="1329"/>
                </a:lnTo>
                <a:lnTo>
                  <a:pt x="38" y="1326"/>
                </a:lnTo>
                <a:lnTo>
                  <a:pt x="45" y="1320"/>
                </a:lnTo>
                <a:lnTo>
                  <a:pt x="49" y="1313"/>
                </a:lnTo>
                <a:lnTo>
                  <a:pt x="53" y="1304"/>
                </a:lnTo>
                <a:lnTo>
                  <a:pt x="55" y="1296"/>
                </a:lnTo>
                <a:lnTo>
                  <a:pt x="56" y="1287"/>
                </a:lnTo>
                <a:lnTo>
                  <a:pt x="56" y="1280"/>
                </a:lnTo>
                <a:lnTo>
                  <a:pt x="55" y="1272"/>
                </a:lnTo>
                <a:lnTo>
                  <a:pt x="53" y="1264"/>
                </a:lnTo>
                <a:lnTo>
                  <a:pt x="49" y="1256"/>
                </a:lnTo>
                <a:lnTo>
                  <a:pt x="47" y="1248"/>
                </a:lnTo>
                <a:lnTo>
                  <a:pt x="46" y="1240"/>
                </a:lnTo>
                <a:lnTo>
                  <a:pt x="95" y="1229"/>
                </a:lnTo>
                <a:lnTo>
                  <a:pt x="143" y="1219"/>
                </a:lnTo>
                <a:lnTo>
                  <a:pt x="191" y="1208"/>
                </a:lnTo>
                <a:lnTo>
                  <a:pt x="239" y="1196"/>
                </a:lnTo>
                <a:lnTo>
                  <a:pt x="286" y="1184"/>
                </a:lnTo>
                <a:lnTo>
                  <a:pt x="335" y="1170"/>
                </a:lnTo>
                <a:lnTo>
                  <a:pt x="382" y="1156"/>
                </a:lnTo>
                <a:lnTo>
                  <a:pt x="427" y="1142"/>
                </a:lnTo>
                <a:lnTo>
                  <a:pt x="474" y="1127"/>
                </a:lnTo>
                <a:lnTo>
                  <a:pt x="520" y="1112"/>
                </a:lnTo>
                <a:lnTo>
                  <a:pt x="566" y="1096"/>
                </a:lnTo>
                <a:lnTo>
                  <a:pt x="612" y="1080"/>
                </a:lnTo>
                <a:lnTo>
                  <a:pt x="658" y="1064"/>
                </a:lnTo>
                <a:lnTo>
                  <a:pt x="702" y="1047"/>
                </a:lnTo>
                <a:lnTo>
                  <a:pt x="748" y="1030"/>
                </a:lnTo>
                <a:lnTo>
                  <a:pt x="793" y="1011"/>
                </a:lnTo>
                <a:lnTo>
                  <a:pt x="837" y="994"/>
                </a:lnTo>
                <a:lnTo>
                  <a:pt x="883" y="976"/>
                </a:lnTo>
                <a:lnTo>
                  <a:pt x="928" y="957"/>
                </a:lnTo>
                <a:lnTo>
                  <a:pt x="973" y="938"/>
                </a:lnTo>
                <a:lnTo>
                  <a:pt x="1017" y="920"/>
                </a:lnTo>
                <a:lnTo>
                  <a:pt x="1061" y="900"/>
                </a:lnTo>
                <a:lnTo>
                  <a:pt x="1105" y="881"/>
                </a:lnTo>
                <a:lnTo>
                  <a:pt x="1150" y="861"/>
                </a:lnTo>
                <a:lnTo>
                  <a:pt x="1195" y="842"/>
                </a:lnTo>
                <a:lnTo>
                  <a:pt x="1240" y="822"/>
                </a:lnTo>
                <a:lnTo>
                  <a:pt x="1284" y="802"/>
                </a:lnTo>
                <a:lnTo>
                  <a:pt x="1329" y="783"/>
                </a:lnTo>
                <a:lnTo>
                  <a:pt x="1374" y="762"/>
                </a:lnTo>
                <a:lnTo>
                  <a:pt x="1418" y="743"/>
                </a:lnTo>
                <a:lnTo>
                  <a:pt x="1463" y="723"/>
                </a:lnTo>
                <a:lnTo>
                  <a:pt x="1508" y="704"/>
                </a:lnTo>
                <a:lnTo>
                  <a:pt x="1550" y="684"/>
                </a:lnTo>
                <a:lnTo>
                  <a:pt x="1591" y="665"/>
                </a:lnTo>
                <a:lnTo>
                  <a:pt x="1634" y="645"/>
                </a:lnTo>
                <a:lnTo>
                  <a:pt x="1675" y="625"/>
                </a:lnTo>
                <a:lnTo>
                  <a:pt x="1717" y="604"/>
                </a:lnTo>
                <a:lnTo>
                  <a:pt x="1758" y="583"/>
                </a:lnTo>
                <a:lnTo>
                  <a:pt x="1800" y="563"/>
                </a:lnTo>
                <a:lnTo>
                  <a:pt x="1842" y="542"/>
                </a:lnTo>
                <a:lnTo>
                  <a:pt x="1883" y="521"/>
                </a:lnTo>
                <a:lnTo>
                  <a:pt x="1925" y="501"/>
                </a:lnTo>
                <a:lnTo>
                  <a:pt x="1967" y="480"/>
                </a:lnTo>
                <a:lnTo>
                  <a:pt x="2008" y="459"/>
                </a:lnTo>
                <a:lnTo>
                  <a:pt x="2051" y="439"/>
                </a:lnTo>
                <a:lnTo>
                  <a:pt x="2092" y="418"/>
                </a:lnTo>
                <a:lnTo>
                  <a:pt x="2134" y="398"/>
                </a:lnTo>
                <a:lnTo>
                  <a:pt x="2177" y="379"/>
                </a:lnTo>
                <a:lnTo>
                  <a:pt x="2189" y="370"/>
                </a:lnTo>
                <a:lnTo>
                  <a:pt x="2202" y="362"/>
                </a:lnTo>
                <a:lnTo>
                  <a:pt x="2214" y="354"/>
                </a:lnTo>
                <a:lnTo>
                  <a:pt x="2228" y="346"/>
                </a:lnTo>
                <a:lnTo>
                  <a:pt x="2241" y="339"/>
                </a:lnTo>
                <a:lnTo>
                  <a:pt x="2254" y="332"/>
                </a:lnTo>
                <a:lnTo>
                  <a:pt x="2268" y="325"/>
                </a:lnTo>
                <a:lnTo>
                  <a:pt x="2282" y="318"/>
                </a:lnTo>
                <a:lnTo>
                  <a:pt x="2295" y="312"/>
                </a:lnTo>
                <a:lnTo>
                  <a:pt x="2308" y="306"/>
                </a:lnTo>
                <a:lnTo>
                  <a:pt x="2322" y="300"/>
                </a:lnTo>
                <a:lnTo>
                  <a:pt x="2336" y="293"/>
                </a:lnTo>
                <a:lnTo>
                  <a:pt x="2350" y="286"/>
                </a:lnTo>
                <a:lnTo>
                  <a:pt x="2363" y="279"/>
                </a:lnTo>
                <a:lnTo>
                  <a:pt x="2376" y="272"/>
                </a:lnTo>
                <a:lnTo>
                  <a:pt x="2390" y="264"/>
                </a:lnTo>
                <a:lnTo>
                  <a:pt x="2415" y="249"/>
                </a:lnTo>
                <a:lnTo>
                  <a:pt x="2441" y="233"/>
                </a:lnTo>
                <a:lnTo>
                  <a:pt x="2466" y="218"/>
                </a:lnTo>
                <a:lnTo>
                  <a:pt x="2493" y="202"/>
                </a:lnTo>
                <a:lnTo>
                  <a:pt x="2518" y="186"/>
                </a:lnTo>
                <a:lnTo>
                  <a:pt x="2544" y="170"/>
                </a:lnTo>
                <a:lnTo>
                  <a:pt x="2569" y="154"/>
                </a:lnTo>
                <a:lnTo>
                  <a:pt x="2595" y="137"/>
                </a:lnTo>
                <a:lnTo>
                  <a:pt x="2620" y="121"/>
                </a:lnTo>
                <a:lnTo>
                  <a:pt x="2645" y="104"/>
                </a:lnTo>
                <a:lnTo>
                  <a:pt x="2670" y="86"/>
                </a:lnTo>
                <a:lnTo>
                  <a:pt x="2694" y="69"/>
                </a:lnTo>
                <a:lnTo>
                  <a:pt x="2720" y="52"/>
                </a:lnTo>
                <a:lnTo>
                  <a:pt x="2744" y="35"/>
                </a:lnTo>
                <a:lnTo>
                  <a:pt x="2768" y="17"/>
                </a:lnTo>
                <a:lnTo>
                  <a:pt x="2791" y="0"/>
                </a:lnTo>
                <a:lnTo>
                  <a:pt x="2815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37400" y="3267000"/>
            <a:ext cx="303120" cy="238320"/>
          </a:xfrm>
          <a:custGeom>
            <a:avLst/>
            <a:gdLst/>
            <a:ahLst/>
            <a:rect l="l" t="t" r="r" b="b"/>
            <a:pathLst>
              <a:path w="236" h="257">
                <a:moveTo>
                  <a:pt x="233" y="39"/>
                </a:moveTo>
                <a:lnTo>
                  <a:pt x="235" y="54"/>
                </a:lnTo>
                <a:lnTo>
                  <a:pt x="236" y="70"/>
                </a:lnTo>
                <a:lnTo>
                  <a:pt x="236" y="85"/>
                </a:lnTo>
                <a:lnTo>
                  <a:pt x="235" y="101"/>
                </a:lnTo>
                <a:lnTo>
                  <a:pt x="234" y="116"/>
                </a:lnTo>
                <a:lnTo>
                  <a:pt x="230" y="132"/>
                </a:lnTo>
                <a:lnTo>
                  <a:pt x="227" y="147"/>
                </a:lnTo>
                <a:lnTo>
                  <a:pt x="222" y="162"/>
                </a:lnTo>
                <a:lnTo>
                  <a:pt x="215" y="176"/>
                </a:lnTo>
                <a:lnTo>
                  <a:pt x="208" y="190"/>
                </a:lnTo>
                <a:lnTo>
                  <a:pt x="200" y="203"/>
                </a:lnTo>
                <a:lnTo>
                  <a:pt x="191" y="215"/>
                </a:lnTo>
                <a:lnTo>
                  <a:pt x="182" y="228"/>
                </a:lnTo>
                <a:lnTo>
                  <a:pt x="171" y="238"/>
                </a:lnTo>
                <a:lnTo>
                  <a:pt x="158" y="248"/>
                </a:lnTo>
                <a:lnTo>
                  <a:pt x="145" y="257"/>
                </a:lnTo>
                <a:lnTo>
                  <a:pt x="139" y="242"/>
                </a:lnTo>
                <a:lnTo>
                  <a:pt x="133" y="226"/>
                </a:lnTo>
                <a:lnTo>
                  <a:pt x="128" y="210"/>
                </a:lnTo>
                <a:lnTo>
                  <a:pt x="126" y="194"/>
                </a:lnTo>
                <a:lnTo>
                  <a:pt x="124" y="177"/>
                </a:lnTo>
                <a:lnTo>
                  <a:pt x="123" y="160"/>
                </a:lnTo>
                <a:lnTo>
                  <a:pt x="121" y="141"/>
                </a:lnTo>
                <a:lnTo>
                  <a:pt x="121" y="124"/>
                </a:lnTo>
                <a:lnTo>
                  <a:pt x="131" y="122"/>
                </a:lnTo>
                <a:lnTo>
                  <a:pt x="141" y="119"/>
                </a:lnTo>
                <a:lnTo>
                  <a:pt x="151" y="115"/>
                </a:lnTo>
                <a:lnTo>
                  <a:pt x="160" y="110"/>
                </a:lnTo>
                <a:lnTo>
                  <a:pt x="171" y="106"/>
                </a:lnTo>
                <a:lnTo>
                  <a:pt x="180" y="100"/>
                </a:lnTo>
                <a:lnTo>
                  <a:pt x="189" y="94"/>
                </a:lnTo>
                <a:lnTo>
                  <a:pt x="198" y="89"/>
                </a:lnTo>
                <a:lnTo>
                  <a:pt x="188" y="84"/>
                </a:lnTo>
                <a:lnTo>
                  <a:pt x="178" y="83"/>
                </a:lnTo>
                <a:lnTo>
                  <a:pt x="166" y="86"/>
                </a:lnTo>
                <a:lnTo>
                  <a:pt x="156" y="91"/>
                </a:lnTo>
                <a:lnTo>
                  <a:pt x="145" y="96"/>
                </a:lnTo>
                <a:lnTo>
                  <a:pt x="136" y="98"/>
                </a:lnTo>
                <a:lnTo>
                  <a:pt x="126" y="96"/>
                </a:lnTo>
                <a:lnTo>
                  <a:pt x="118" y="89"/>
                </a:lnTo>
                <a:lnTo>
                  <a:pt x="109" y="96"/>
                </a:lnTo>
                <a:lnTo>
                  <a:pt x="96" y="99"/>
                </a:lnTo>
                <a:lnTo>
                  <a:pt x="84" y="100"/>
                </a:lnTo>
                <a:lnTo>
                  <a:pt x="70" y="100"/>
                </a:lnTo>
                <a:lnTo>
                  <a:pt x="56" y="98"/>
                </a:lnTo>
                <a:lnTo>
                  <a:pt x="42" y="93"/>
                </a:lnTo>
                <a:lnTo>
                  <a:pt x="30" y="90"/>
                </a:lnTo>
                <a:lnTo>
                  <a:pt x="18" y="85"/>
                </a:lnTo>
                <a:lnTo>
                  <a:pt x="13" y="80"/>
                </a:lnTo>
                <a:lnTo>
                  <a:pt x="8" y="73"/>
                </a:lnTo>
                <a:lnTo>
                  <a:pt x="3" y="66"/>
                </a:lnTo>
                <a:lnTo>
                  <a:pt x="1" y="58"/>
                </a:lnTo>
                <a:lnTo>
                  <a:pt x="0" y="51"/>
                </a:lnTo>
                <a:lnTo>
                  <a:pt x="0" y="43"/>
                </a:lnTo>
                <a:lnTo>
                  <a:pt x="2" y="35"/>
                </a:lnTo>
                <a:lnTo>
                  <a:pt x="7" y="28"/>
                </a:lnTo>
                <a:lnTo>
                  <a:pt x="15" y="24"/>
                </a:lnTo>
                <a:lnTo>
                  <a:pt x="22" y="19"/>
                </a:lnTo>
                <a:lnTo>
                  <a:pt x="30" y="16"/>
                </a:lnTo>
                <a:lnTo>
                  <a:pt x="38" y="20"/>
                </a:lnTo>
                <a:lnTo>
                  <a:pt x="45" y="14"/>
                </a:lnTo>
                <a:lnTo>
                  <a:pt x="47" y="8"/>
                </a:lnTo>
                <a:lnTo>
                  <a:pt x="49" y="4"/>
                </a:lnTo>
                <a:lnTo>
                  <a:pt x="56" y="1"/>
                </a:lnTo>
                <a:lnTo>
                  <a:pt x="79" y="0"/>
                </a:lnTo>
                <a:lnTo>
                  <a:pt x="103" y="0"/>
                </a:lnTo>
                <a:lnTo>
                  <a:pt x="126" y="1"/>
                </a:lnTo>
                <a:lnTo>
                  <a:pt x="149" y="5"/>
                </a:lnTo>
                <a:lnTo>
                  <a:pt x="172" y="9"/>
                </a:lnTo>
                <a:lnTo>
                  <a:pt x="192" y="18"/>
                </a:lnTo>
                <a:lnTo>
                  <a:pt x="213" y="27"/>
                </a:lnTo>
                <a:lnTo>
                  <a:pt x="233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929280" y="3517920"/>
            <a:ext cx="308160" cy="168120"/>
          </a:xfrm>
          <a:custGeom>
            <a:avLst/>
            <a:gdLst/>
            <a:ahLst/>
            <a:rect l="l" t="t" r="r" b="b"/>
            <a:pathLst>
              <a:path w="237" h="182">
                <a:moveTo>
                  <a:pt x="232" y="50"/>
                </a:moveTo>
                <a:lnTo>
                  <a:pt x="236" y="62"/>
                </a:lnTo>
                <a:lnTo>
                  <a:pt x="237" y="74"/>
                </a:lnTo>
                <a:lnTo>
                  <a:pt x="236" y="85"/>
                </a:lnTo>
                <a:lnTo>
                  <a:pt x="234" y="97"/>
                </a:lnTo>
                <a:lnTo>
                  <a:pt x="230" y="108"/>
                </a:lnTo>
                <a:lnTo>
                  <a:pt x="227" y="120"/>
                </a:lnTo>
                <a:lnTo>
                  <a:pt x="222" y="131"/>
                </a:lnTo>
                <a:lnTo>
                  <a:pt x="218" y="141"/>
                </a:lnTo>
                <a:lnTo>
                  <a:pt x="207" y="154"/>
                </a:lnTo>
                <a:lnTo>
                  <a:pt x="196" y="163"/>
                </a:lnTo>
                <a:lnTo>
                  <a:pt x="183" y="171"/>
                </a:lnTo>
                <a:lnTo>
                  <a:pt x="168" y="177"/>
                </a:lnTo>
                <a:lnTo>
                  <a:pt x="153" y="181"/>
                </a:lnTo>
                <a:lnTo>
                  <a:pt x="137" y="182"/>
                </a:lnTo>
                <a:lnTo>
                  <a:pt x="123" y="181"/>
                </a:lnTo>
                <a:lnTo>
                  <a:pt x="106" y="177"/>
                </a:lnTo>
                <a:lnTo>
                  <a:pt x="96" y="174"/>
                </a:lnTo>
                <a:lnTo>
                  <a:pt x="86" y="170"/>
                </a:lnTo>
                <a:lnTo>
                  <a:pt x="76" y="167"/>
                </a:lnTo>
                <a:lnTo>
                  <a:pt x="65" y="163"/>
                </a:lnTo>
                <a:lnTo>
                  <a:pt x="55" y="159"/>
                </a:lnTo>
                <a:lnTo>
                  <a:pt x="45" y="154"/>
                </a:lnTo>
                <a:lnTo>
                  <a:pt x="35" y="148"/>
                </a:lnTo>
                <a:lnTo>
                  <a:pt x="26" y="141"/>
                </a:lnTo>
                <a:lnTo>
                  <a:pt x="0" y="0"/>
                </a:lnTo>
                <a:lnTo>
                  <a:pt x="13" y="7"/>
                </a:lnTo>
                <a:lnTo>
                  <a:pt x="26" y="14"/>
                </a:lnTo>
                <a:lnTo>
                  <a:pt x="40" y="20"/>
                </a:lnTo>
                <a:lnTo>
                  <a:pt x="54" y="26"/>
                </a:lnTo>
                <a:lnTo>
                  <a:pt x="69" y="30"/>
                </a:lnTo>
                <a:lnTo>
                  <a:pt x="82" y="34"/>
                </a:lnTo>
                <a:lnTo>
                  <a:pt x="97" y="37"/>
                </a:lnTo>
                <a:lnTo>
                  <a:pt x="112" y="40"/>
                </a:lnTo>
                <a:lnTo>
                  <a:pt x="127" y="43"/>
                </a:lnTo>
                <a:lnTo>
                  <a:pt x="142" y="45"/>
                </a:lnTo>
                <a:lnTo>
                  <a:pt x="157" y="47"/>
                </a:lnTo>
                <a:lnTo>
                  <a:pt x="172" y="49"/>
                </a:lnTo>
                <a:lnTo>
                  <a:pt x="187" y="49"/>
                </a:lnTo>
                <a:lnTo>
                  <a:pt x="203" y="50"/>
                </a:lnTo>
                <a:lnTo>
                  <a:pt x="218" y="50"/>
                </a:lnTo>
                <a:lnTo>
                  <a:pt x="232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14600" y="581040"/>
            <a:ext cx="4749840" cy="5043600"/>
          </a:xfrm>
          <a:custGeom>
            <a:avLst/>
            <a:gdLst/>
            <a:ahLst/>
            <a:rect l="l" t="t" r="r" b="b"/>
            <a:pathLst>
              <a:path w="3658" h="5460">
                <a:moveTo>
                  <a:pt x="1031" y="123"/>
                </a:moveTo>
                <a:lnTo>
                  <a:pt x="1036" y="122"/>
                </a:lnTo>
                <a:lnTo>
                  <a:pt x="1040" y="120"/>
                </a:lnTo>
                <a:lnTo>
                  <a:pt x="1045" y="117"/>
                </a:lnTo>
                <a:lnTo>
                  <a:pt x="1051" y="116"/>
                </a:lnTo>
                <a:lnTo>
                  <a:pt x="1055" y="115"/>
                </a:lnTo>
                <a:lnTo>
                  <a:pt x="1060" y="115"/>
                </a:lnTo>
                <a:lnTo>
                  <a:pt x="1064" y="116"/>
                </a:lnTo>
                <a:lnTo>
                  <a:pt x="1069" y="118"/>
                </a:lnTo>
                <a:lnTo>
                  <a:pt x="1041" y="133"/>
                </a:lnTo>
                <a:lnTo>
                  <a:pt x="1053" y="151"/>
                </a:lnTo>
                <a:lnTo>
                  <a:pt x="1064" y="167"/>
                </a:lnTo>
                <a:lnTo>
                  <a:pt x="1076" y="184"/>
                </a:lnTo>
                <a:lnTo>
                  <a:pt x="1087" y="201"/>
                </a:lnTo>
                <a:lnTo>
                  <a:pt x="1099" y="218"/>
                </a:lnTo>
                <a:lnTo>
                  <a:pt x="1109" y="235"/>
                </a:lnTo>
                <a:lnTo>
                  <a:pt x="1119" y="253"/>
                </a:lnTo>
                <a:lnTo>
                  <a:pt x="1130" y="271"/>
                </a:lnTo>
                <a:lnTo>
                  <a:pt x="1138" y="270"/>
                </a:lnTo>
                <a:lnTo>
                  <a:pt x="1147" y="270"/>
                </a:lnTo>
                <a:lnTo>
                  <a:pt x="1155" y="272"/>
                </a:lnTo>
                <a:lnTo>
                  <a:pt x="1164" y="276"/>
                </a:lnTo>
                <a:lnTo>
                  <a:pt x="1172" y="280"/>
                </a:lnTo>
                <a:lnTo>
                  <a:pt x="1180" y="285"/>
                </a:lnTo>
                <a:lnTo>
                  <a:pt x="1187" y="291"/>
                </a:lnTo>
                <a:lnTo>
                  <a:pt x="1195" y="295"/>
                </a:lnTo>
                <a:lnTo>
                  <a:pt x="1202" y="301"/>
                </a:lnTo>
                <a:lnTo>
                  <a:pt x="1206" y="308"/>
                </a:lnTo>
                <a:lnTo>
                  <a:pt x="1210" y="315"/>
                </a:lnTo>
                <a:lnTo>
                  <a:pt x="1212" y="322"/>
                </a:lnTo>
                <a:lnTo>
                  <a:pt x="1214" y="330"/>
                </a:lnTo>
                <a:lnTo>
                  <a:pt x="1216" y="339"/>
                </a:lnTo>
                <a:lnTo>
                  <a:pt x="1217" y="347"/>
                </a:lnTo>
                <a:lnTo>
                  <a:pt x="1218" y="355"/>
                </a:lnTo>
                <a:lnTo>
                  <a:pt x="1210" y="345"/>
                </a:lnTo>
                <a:lnTo>
                  <a:pt x="1202" y="333"/>
                </a:lnTo>
                <a:lnTo>
                  <a:pt x="1193" y="322"/>
                </a:lnTo>
                <a:lnTo>
                  <a:pt x="1184" y="311"/>
                </a:lnTo>
                <a:lnTo>
                  <a:pt x="1173" y="302"/>
                </a:lnTo>
                <a:lnTo>
                  <a:pt x="1162" y="295"/>
                </a:lnTo>
                <a:lnTo>
                  <a:pt x="1149" y="291"/>
                </a:lnTo>
                <a:lnTo>
                  <a:pt x="1134" y="291"/>
                </a:lnTo>
                <a:lnTo>
                  <a:pt x="1192" y="432"/>
                </a:lnTo>
                <a:lnTo>
                  <a:pt x="1198" y="434"/>
                </a:lnTo>
                <a:lnTo>
                  <a:pt x="1205" y="435"/>
                </a:lnTo>
                <a:lnTo>
                  <a:pt x="1212" y="436"/>
                </a:lnTo>
                <a:lnTo>
                  <a:pt x="1220" y="437"/>
                </a:lnTo>
                <a:lnTo>
                  <a:pt x="1227" y="439"/>
                </a:lnTo>
                <a:lnTo>
                  <a:pt x="1233" y="441"/>
                </a:lnTo>
                <a:lnTo>
                  <a:pt x="1238" y="443"/>
                </a:lnTo>
                <a:lnTo>
                  <a:pt x="1244" y="448"/>
                </a:lnTo>
                <a:lnTo>
                  <a:pt x="1256" y="467"/>
                </a:lnTo>
                <a:lnTo>
                  <a:pt x="1267" y="488"/>
                </a:lnTo>
                <a:lnTo>
                  <a:pt x="1279" y="510"/>
                </a:lnTo>
                <a:lnTo>
                  <a:pt x="1288" y="532"/>
                </a:lnTo>
                <a:lnTo>
                  <a:pt x="1292" y="555"/>
                </a:lnTo>
                <a:lnTo>
                  <a:pt x="1295" y="578"/>
                </a:lnTo>
                <a:lnTo>
                  <a:pt x="1290" y="600"/>
                </a:lnTo>
                <a:lnTo>
                  <a:pt x="1279" y="623"/>
                </a:lnTo>
                <a:lnTo>
                  <a:pt x="1321" y="626"/>
                </a:lnTo>
                <a:lnTo>
                  <a:pt x="1363" y="629"/>
                </a:lnTo>
                <a:lnTo>
                  <a:pt x="1405" y="633"/>
                </a:lnTo>
                <a:lnTo>
                  <a:pt x="1446" y="638"/>
                </a:lnTo>
                <a:lnTo>
                  <a:pt x="1487" y="644"/>
                </a:lnTo>
                <a:lnTo>
                  <a:pt x="1528" y="651"/>
                </a:lnTo>
                <a:lnTo>
                  <a:pt x="1568" y="659"/>
                </a:lnTo>
                <a:lnTo>
                  <a:pt x="1610" y="669"/>
                </a:lnTo>
                <a:lnTo>
                  <a:pt x="1649" y="680"/>
                </a:lnTo>
                <a:lnTo>
                  <a:pt x="1688" y="691"/>
                </a:lnTo>
                <a:lnTo>
                  <a:pt x="1726" y="704"/>
                </a:lnTo>
                <a:lnTo>
                  <a:pt x="1765" y="719"/>
                </a:lnTo>
                <a:lnTo>
                  <a:pt x="1803" y="734"/>
                </a:lnTo>
                <a:lnTo>
                  <a:pt x="1840" y="750"/>
                </a:lnTo>
                <a:lnTo>
                  <a:pt x="1877" y="768"/>
                </a:lnTo>
                <a:lnTo>
                  <a:pt x="1912" y="788"/>
                </a:lnTo>
                <a:lnTo>
                  <a:pt x="1930" y="802"/>
                </a:lnTo>
                <a:lnTo>
                  <a:pt x="1951" y="819"/>
                </a:lnTo>
                <a:lnTo>
                  <a:pt x="1972" y="835"/>
                </a:lnTo>
                <a:lnTo>
                  <a:pt x="1991" y="852"/>
                </a:lnTo>
                <a:lnTo>
                  <a:pt x="2007" y="870"/>
                </a:lnTo>
                <a:lnTo>
                  <a:pt x="2019" y="891"/>
                </a:lnTo>
                <a:lnTo>
                  <a:pt x="2023" y="914"/>
                </a:lnTo>
                <a:lnTo>
                  <a:pt x="2020" y="940"/>
                </a:lnTo>
                <a:lnTo>
                  <a:pt x="2001" y="952"/>
                </a:lnTo>
                <a:lnTo>
                  <a:pt x="1983" y="961"/>
                </a:lnTo>
                <a:lnTo>
                  <a:pt x="1965" y="970"/>
                </a:lnTo>
                <a:lnTo>
                  <a:pt x="1945" y="977"/>
                </a:lnTo>
                <a:lnTo>
                  <a:pt x="1925" y="984"/>
                </a:lnTo>
                <a:lnTo>
                  <a:pt x="1905" y="990"/>
                </a:lnTo>
                <a:lnTo>
                  <a:pt x="1885" y="995"/>
                </a:lnTo>
                <a:lnTo>
                  <a:pt x="1864" y="999"/>
                </a:lnTo>
                <a:lnTo>
                  <a:pt x="1843" y="1003"/>
                </a:lnTo>
                <a:lnTo>
                  <a:pt x="1822" y="1006"/>
                </a:lnTo>
                <a:lnTo>
                  <a:pt x="1800" y="1009"/>
                </a:lnTo>
                <a:lnTo>
                  <a:pt x="1779" y="1011"/>
                </a:lnTo>
                <a:lnTo>
                  <a:pt x="1757" y="1012"/>
                </a:lnTo>
                <a:lnTo>
                  <a:pt x="1736" y="1015"/>
                </a:lnTo>
                <a:lnTo>
                  <a:pt x="1713" y="1016"/>
                </a:lnTo>
                <a:lnTo>
                  <a:pt x="1691" y="1017"/>
                </a:lnTo>
                <a:lnTo>
                  <a:pt x="1674" y="1016"/>
                </a:lnTo>
                <a:lnTo>
                  <a:pt x="1657" y="1015"/>
                </a:lnTo>
                <a:lnTo>
                  <a:pt x="1639" y="1014"/>
                </a:lnTo>
                <a:lnTo>
                  <a:pt x="1622" y="1014"/>
                </a:lnTo>
                <a:lnTo>
                  <a:pt x="1605" y="1012"/>
                </a:lnTo>
                <a:lnTo>
                  <a:pt x="1588" y="1012"/>
                </a:lnTo>
                <a:lnTo>
                  <a:pt x="1571" y="1011"/>
                </a:lnTo>
                <a:lnTo>
                  <a:pt x="1555" y="1011"/>
                </a:lnTo>
                <a:lnTo>
                  <a:pt x="1537" y="1010"/>
                </a:lnTo>
                <a:lnTo>
                  <a:pt x="1520" y="1009"/>
                </a:lnTo>
                <a:lnTo>
                  <a:pt x="1503" y="1008"/>
                </a:lnTo>
                <a:lnTo>
                  <a:pt x="1486" y="1007"/>
                </a:lnTo>
                <a:lnTo>
                  <a:pt x="1470" y="1006"/>
                </a:lnTo>
                <a:lnTo>
                  <a:pt x="1453" y="1003"/>
                </a:lnTo>
                <a:lnTo>
                  <a:pt x="1437" y="1001"/>
                </a:lnTo>
                <a:lnTo>
                  <a:pt x="1421" y="998"/>
                </a:lnTo>
                <a:lnTo>
                  <a:pt x="1424" y="1016"/>
                </a:lnTo>
                <a:lnTo>
                  <a:pt x="1429" y="1033"/>
                </a:lnTo>
                <a:lnTo>
                  <a:pt x="1436" y="1050"/>
                </a:lnTo>
                <a:lnTo>
                  <a:pt x="1444" y="1069"/>
                </a:lnTo>
                <a:lnTo>
                  <a:pt x="1453" y="1086"/>
                </a:lnTo>
                <a:lnTo>
                  <a:pt x="1461" y="1103"/>
                </a:lnTo>
                <a:lnTo>
                  <a:pt x="1468" y="1122"/>
                </a:lnTo>
                <a:lnTo>
                  <a:pt x="1473" y="1140"/>
                </a:lnTo>
                <a:lnTo>
                  <a:pt x="1476" y="1169"/>
                </a:lnTo>
                <a:lnTo>
                  <a:pt x="1480" y="1196"/>
                </a:lnTo>
                <a:lnTo>
                  <a:pt x="1486" y="1223"/>
                </a:lnTo>
                <a:lnTo>
                  <a:pt x="1494" y="1250"/>
                </a:lnTo>
                <a:lnTo>
                  <a:pt x="1504" y="1275"/>
                </a:lnTo>
                <a:lnTo>
                  <a:pt x="1516" y="1301"/>
                </a:lnTo>
                <a:lnTo>
                  <a:pt x="1528" y="1325"/>
                </a:lnTo>
                <a:lnTo>
                  <a:pt x="1543" y="1349"/>
                </a:lnTo>
                <a:lnTo>
                  <a:pt x="1558" y="1372"/>
                </a:lnTo>
                <a:lnTo>
                  <a:pt x="1575" y="1395"/>
                </a:lnTo>
                <a:lnTo>
                  <a:pt x="1592" y="1416"/>
                </a:lnTo>
                <a:lnTo>
                  <a:pt x="1611" y="1437"/>
                </a:lnTo>
                <a:lnTo>
                  <a:pt x="1629" y="1458"/>
                </a:lnTo>
                <a:lnTo>
                  <a:pt x="1649" y="1477"/>
                </a:lnTo>
                <a:lnTo>
                  <a:pt x="1668" y="1496"/>
                </a:lnTo>
                <a:lnTo>
                  <a:pt x="1688" y="1514"/>
                </a:lnTo>
                <a:lnTo>
                  <a:pt x="1705" y="1519"/>
                </a:lnTo>
                <a:lnTo>
                  <a:pt x="1722" y="1524"/>
                </a:lnTo>
                <a:lnTo>
                  <a:pt x="1737" y="1531"/>
                </a:lnTo>
                <a:lnTo>
                  <a:pt x="1752" y="1539"/>
                </a:lnTo>
                <a:lnTo>
                  <a:pt x="1767" y="1550"/>
                </a:lnTo>
                <a:lnTo>
                  <a:pt x="1779" y="1560"/>
                </a:lnTo>
                <a:lnTo>
                  <a:pt x="1792" y="1571"/>
                </a:lnTo>
                <a:lnTo>
                  <a:pt x="1804" y="1584"/>
                </a:lnTo>
                <a:lnTo>
                  <a:pt x="1816" y="1597"/>
                </a:lnTo>
                <a:lnTo>
                  <a:pt x="1826" y="1610"/>
                </a:lnTo>
                <a:lnTo>
                  <a:pt x="1836" y="1624"/>
                </a:lnTo>
                <a:lnTo>
                  <a:pt x="1847" y="1638"/>
                </a:lnTo>
                <a:lnTo>
                  <a:pt x="1856" y="1653"/>
                </a:lnTo>
                <a:lnTo>
                  <a:pt x="1865" y="1667"/>
                </a:lnTo>
                <a:lnTo>
                  <a:pt x="1874" y="1680"/>
                </a:lnTo>
                <a:lnTo>
                  <a:pt x="1882" y="1694"/>
                </a:lnTo>
                <a:lnTo>
                  <a:pt x="1907" y="1702"/>
                </a:lnTo>
                <a:lnTo>
                  <a:pt x="1934" y="1709"/>
                </a:lnTo>
                <a:lnTo>
                  <a:pt x="1960" y="1716"/>
                </a:lnTo>
                <a:lnTo>
                  <a:pt x="1987" y="1723"/>
                </a:lnTo>
                <a:lnTo>
                  <a:pt x="2013" y="1730"/>
                </a:lnTo>
                <a:lnTo>
                  <a:pt x="2040" y="1738"/>
                </a:lnTo>
                <a:lnTo>
                  <a:pt x="2067" y="1745"/>
                </a:lnTo>
                <a:lnTo>
                  <a:pt x="2092" y="1753"/>
                </a:lnTo>
                <a:lnTo>
                  <a:pt x="2118" y="1761"/>
                </a:lnTo>
                <a:lnTo>
                  <a:pt x="2143" y="1770"/>
                </a:lnTo>
                <a:lnTo>
                  <a:pt x="2168" y="1780"/>
                </a:lnTo>
                <a:lnTo>
                  <a:pt x="2192" y="1792"/>
                </a:lnTo>
                <a:lnTo>
                  <a:pt x="2216" y="1804"/>
                </a:lnTo>
                <a:lnTo>
                  <a:pt x="2237" y="1818"/>
                </a:lnTo>
                <a:lnTo>
                  <a:pt x="2259" y="1833"/>
                </a:lnTo>
                <a:lnTo>
                  <a:pt x="2280" y="1850"/>
                </a:lnTo>
                <a:lnTo>
                  <a:pt x="2283" y="1862"/>
                </a:lnTo>
                <a:lnTo>
                  <a:pt x="2283" y="1873"/>
                </a:lnTo>
                <a:lnTo>
                  <a:pt x="2283" y="1886"/>
                </a:lnTo>
                <a:lnTo>
                  <a:pt x="2284" y="1898"/>
                </a:lnTo>
                <a:lnTo>
                  <a:pt x="2285" y="1910"/>
                </a:lnTo>
                <a:lnTo>
                  <a:pt x="2290" y="1918"/>
                </a:lnTo>
                <a:lnTo>
                  <a:pt x="2299" y="1925"/>
                </a:lnTo>
                <a:lnTo>
                  <a:pt x="2313" y="1927"/>
                </a:lnTo>
                <a:lnTo>
                  <a:pt x="2321" y="1949"/>
                </a:lnTo>
                <a:lnTo>
                  <a:pt x="2328" y="1971"/>
                </a:lnTo>
                <a:lnTo>
                  <a:pt x="2335" y="1993"/>
                </a:lnTo>
                <a:lnTo>
                  <a:pt x="2343" y="2014"/>
                </a:lnTo>
                <a:lnTo>
                  <a:pt x="2351" y="2037"/>
                </a:lnTo>
                <a:lnTo>
                  <a:pt x="2360" y="2058"/>
                </a:lnTo>
                <a:lnTo>
                  <a:pt x="2371" y="2080"/>
                </a:lnTo>
                <a:lnTo>
                  <a:pt x="2383" y="2099"/>
                </a:lnTo>
                <a:lnTo>
                  <a:pt x="2390" y="2114"/>
                </a:lnTo>
                <a:lnTo>
                  <a:pt x="2398" y="2128"/>
                </a:lnTo>
                <a:lnTo>
                  <a:pt x="2406" y="2143"/>
                </a:lnTo>
                <a:lnTo>
                  <a:pt x="2414" y="2157"/>
                </a:lnTo>
                <a:lnTo>
                  <a:pt x="2422" y="2171"/>
                </a:lnTo>
                <a:lnTo>
                  <a:pt x="2430" y="2184"/>
                </a:lnTo>
                <a:lnTo>
                  <a:pt x="2439" y="2198"/>
                </a:lnTo>
                <a:lnTo>
                  <a:pt x="2448" y="2212"/>
                </a:lnTo>
                <a:lnTo>
                  <a:pt x="2456" y="2226"/>
                </a:lnTo>
                <a:lnTo>
                  <a:pt x="2464" y="2239"/>
                </a:lnTo>
                <a:lnTo>
                  <a:pt x="2473" y="2253"/>
                </a:lnTo>
                <a:lnTo>
                  <a:pt x="2481" y="2268"/>
                </a:lnTo>
                <a:lnTo>
                  <a:pt x="2488" y="2282"/>
                </a:lnTo>
                <a:lnTo>
                  <a:pt x="2496" y="2297"/>
                </a:lnTo>
                <a:lnTo>
                  <a:pt x="2503" y="2311"/>
                </a:lnTo>
                <a:lnTo>
                  <a:pt x="2509" y="2325"/>
                </a:lnTo>
                <a:lnTo>
                  <a:pt x="2523" y="2342"/>
                </a:lnTo>
                <a:lnTo>
                  <a:pt x="2565" y="2315"/>
                </a:lnTo>
                <a:lnTo>
                  <a:pt x="2609" y="2288"/>
                </a:lnTo>
                <a:lnTo>
                  <a:pt x="2652" y="2261"/>
                </a:lnTo>
                <a:lnTo>
                  <a:pt x="2696" y="2235"/>
                </a:lnTo>
                <a:lnTo>
                  <a:pt x="2739" y="2207"/>
                </a:lnTo>
                <a:lnTo>
                  <a:pt x="2781" y="2181"/>
                </a:lnTo>
                <a:lnTo>
                  <a:pt x="2825" y="2153"/>
                </a:lnTo>
                <a:lnTo>
                  <a:pt x="2867" y="2126"/>
                </a:lnTo>
                <a:lnTo>
                  <a:pt x="2910" y="2098"/>
                </a:lnTo>
                <a:lnTo>
                  <a:pt x="2951" y="2070"/>
                </a:lnTo>
                <a:lnTo>
                  <a:pt x="2992" y="2040"/>
                </a:lnTo>
                <a:lnTo>
                  <a:pt x="3032" y="2010"/>
                </a:lnTo>
                <a:lnTo>
                  <a:pt x="3072" y="1978"/>
                </a:lnTo>
                <a:lnTo>
                  <a:pt x="3110" y="1946"/>
                </a:lnTo>
                <a:lnTo>
                  <a:pt x="3148" y="1912"/>
                </a:lnTo>
                <a:lnTo>
                  <a:pt x="3185" y="1878"/>
                </a:lnTo>
                <a:lnTo>
                  <a:pt x="3187" y="1916"/>
                </a:lnTo>
                <a:lnTo>
                  <a:pt x="3189" y="1952"/>
                </a:lnTo>
                <a:lnTo>
                  <a:pt x="3192" y="1990"/>
                </a:lnTo>
                <a:lnTo>
                  <a:pt x="3193" y="2028"/>
                </a:lnTo>
                <a:lnTo>
                  <a:pt x="3194" y="2066"/>
                </a:lnTo>
                <a:lnTo>
                  <a:pt x="3195" y="2104"/>
                </a:lnTo>
                <a:lnTo>
                  <a:pt x="3196" y="2142"/>
                </a:lnTo>
                <a:lnTo>
                  <a:pt x="3196" y="2180"/>
                </a:lnTo>
                <a:lnTo>
                  <a:pt x="3197" y="2218"/>
                </a:lnTo>
                <a:lnTo>
                  <a:pt x="3198" y="2255"/>
                </a:lnTo>
                <a:lnTo>
                  <a:pt x="3201" y="2293"/>
                </a:lnTo>
                <a:lnTo>
                  <a:pt x="3202" y="2331"/>
                </a:lnTo>
                <a:lnTo>
                  <a:pt x="3204" y="2369"/>
                </a:lnTo>
                <a:lnTo>
                  <a:pt x="3208" y="2407"/>
                </a:lnTo>
                <a:lnTo>
                  <a:pt x="3211" y="2444"/>
                </a:lnTo>
                <a:lnTo>
                  <a:pt x="3215" y="2482"/>
                </a:lnTo>
                <a:lnTo>
                  <a:pt x="3237" y="2488"/>
                </a:lnTo>
                <a:lnTo>
                  <a:pt x="3259" y="2498"/>
                </a:lnTo>
                <a:lnTo>
                  <a:pt x="3279" y="2510"/>
                </a:lnTo>
                <a:lnTo>
                  <a:pt x="3297" y="2524"/>
                </a:lnTo>
                <a:lnTo>
                  <a:pt x="3312" y="2541"/>
                </a:lnTo>
                <a:lnTo>
                  <a:pt x="3326" y="2560"/>
                </a:lnTo>
                <a:lnTo>
                  <a:pt x="3338" y="2579"/>
                </a:lnTo>
                <a:lnTo>
                  <a:pt x="3349" y="2601"/>
                </a:lnTo>
                <a:lnTo>
                  <a:pt x="3346" y="2616"/>
                </a:lnTo>
                <a:lnTo>
                  <a:pt x="3346" y="2628"/>
                </a:lnTo>
                <a:lnTo>
                  <a:pt x="3350" y="2641"/>
                </a:lnTo>
                <a:lnTo>
                  <a:pt x="3353" y="2651"/>
                </a:lnTo>
                <a:lnTo>
                  <a:pt x="3359" y="2663"/>
                </a:lnTo>
                <a:lnTo>
                  <a:pt x="3366" y="2673"/>
                </a:lnTo>
                <a:lnTo>
                  <a:pt x="3374" y="2682"/>
                </a:lnTo>
                <a:lnTo>
                  <a:pt x="3382" y="2693"/>
                </a:lnTo>
                <a:lnTo>
                  <a:pt x="3386" y="2710"/>
                </a:lnTo>
                <a:lnTo>
                  <a:pt x="3392" y="2728"/>
                </a:lnTo>
                <a:lnTo>
                  <a:pt x="3397" y="2747"/>
                </a:lnTo>
                <a:lnTo>
                  <a:pt x="3400" y="2764"/>
                </a:lnTo>
                <a:lnTo>
                  <a:pt x="3402" y="2782"/>
                </a:lnTo>
                <a:lnTo>
                  <a:pt x="3401" y="2799"/>
                </a:lnTo>
                <a:lnTo>
                  <a:pt x="3395" y="2817"/>
                </a:lnTo>
                <a:lnTo>
                  <a:pt x="3386" y="2834"/>
                </a:lnTo>
                <a:lnTo>
                  <a:pt x="3393" y="2837"/>
                </a:lnTo>
                <a:lnTo>
                  <a:pt x="3399" y="2842"/>
                </a:lnTo>
                <a:lnTo>
                  <a:pt x="3404" y="2848"/>
                </a:lnTo>
                <a:lnTo>
                  <a:pt x="3409" y="2853"/>
                </a:lnTo>
                <a:lnTo>
                  <a:pt x="3409" y="2869"/>
                </a:lnTo>
                <a:lnTo>
                  <a:pt x="3409" y="2886"/>
                </a:lnTo>
                <a:lnTo>
                  <a:pt x="3408" y="2900"/>
                </a:lnTo>
                <a:lnTo>
                  <a:pt x="3406" y="2916"/>
                </a:lnTo>
                <a:lnTo>
                  <a:pt x="3402" y="2931"/>
                </a:lnTo>
                <a:lnTo>
                  <a:pt x="3399" y="2945"/>
                </a:lnTo>
                <a:lnTo>
                  <a:pt x="3394" y="2960"/>
                </a:lnTo>
                <a:lnTo>
                  <a:pt x="3390" y="2974"/>
                </a:lnTo>
                <a:lnTo>
                  <a:pt x="3383" y="2988"/>
                </a:lnTo>
                <a:lnTo>
                  <a:pt x="3377" y="3001"/>
                </a:lnTo>
                <a:lnTo>
                  <a:pt x="3369" y="3014"/>
                </a:lnTo>
                <a:lnTo>
                  <a:pt x="3361" y="3027"/>
                </a:lnTo>
                <a:lnTo>
                  <a:pt x="3353" y="3038"/>
                </a:lnTo>
                <a:lnTo>
                  <a:pt x="3343" y="3050"/>
                </a:lnTo>
                <a:lnTo>
                  <a:pt x="3332" y="3061"/>
                </a:lnTo>
                <a:lnTo>
                  <a:pt x="3322" y="3071"/>
                </a:lnTo>
                <a:lnTo>
                  <a:pt x="3335" y="3079"/>
                </a:lnTo>
                <a:lnTo>
                  <a:pt x="3346" y="3086"/>
                </a:lnTo>
                <a:lnTo>
                  <a:pt x="3360" y="3092"/>
                </a:lnTo>
                <a:lnTo>
                  <a:pt x="3373" y="3097"/>
                </a:lnTo>
                <a:lnTo>
                  <a:pt x="3386" y="3100"/>
                </a:lnTo>
                <a:lnTo>
                  <a:pt x="3401" y="3104"/>
                </a:lnTo>
                <a:lnTo>
                  <a:pt x="3415" y="3106"/>
                </a:lnTo>
                <a:lnTo>
                  <a:pt x="3430" y="3108"/>
                </a:lnTo>
                <a:lnTo>
                  <a:pt x="3444" y="3110"/>
                </a:lnTo>
                <a:lnTo>
                  <a:pt x="3458" y="3112"/>
                </a:lnTo>
                <a:lnTo>
                  <a:pt x="3473" y="3113"/>
                </a:lnTo>
                <a:lnTo>
                  <a:pt x="3488" y="3115"/>
                </a:lnTo>
                <a:lnTo>
                  <a:pt x="3503" y="3116"/>
                </a:lnTo>
                <a:lnTo>
                  <a:pt x="3518" y="3117"/>
                </a:lnTo>
                <a:lnTo>
                  <a:pt x="3533" y="3118"/>
                </a:lnTo>
                <a:lnTo>
                  <a:pt x="3548" y="3121"/>
                </a:lnTo>
                <a:lnTo>
                  <a:pt x="3552" y="3138"/>
                </a:lnTo>
                <a:lnTo>
                  <a:pt x="3555" y="3154"/>
                </a:lnTo>
                <a:lnTo>
                  <a:pt x="3554" y="3171"/>
                </a:lnTo>
                <a:lnTo>
                  <a:pt x="3551" y="3187"/>
                </a:lnTo>
                <a:lnTo>
                  <a:pt x="3546" y="3203"/>
                </a:lnTo>
                <a:lnTo>
                  <a:pt x="3540" y="3218"/>
                </a:lnTo>
                <a:lnTo>
                  <a:pt x="3532" y="3233"/>
                </a:lnTo>
                <a:lnTo>
                  <a:pt x="3524" y="3247"/>
                </a:lnTo>
                <a:lnTo>
                  <a:pt x="3515" y="3255"/>
                </a:lnTo>
                <a:lnTo>
                  <a:pt x="3503" y="3262"/>
                </a:lnTo>
                <a:lnTo>
                  <a:pt x="3492" y="3269"/>
                </a:lnTo>
                <a:lnTo>
                  <a:pt x="3480" y="3273"/>
                </a:lnTo>
                <a:lnTo>
                  <a:pt x="3468" y="3277"/>
                </a:lnTo>
                <a:lnTo>
                  <a:pt x="3455" y="3279"/>
                </a:lnTo>
                <a:lnTo>
                  <a:pt x="3441" y="3280"/>
                </a:lnTo>
                <a:lnTo>
                  <a:pt x="3429" y="3279"/>
                </a:lnTo>
                <a:lnTo>
                  <a:pt x="3416" y="3276"/>
                </a:lnTo>
                <a:lnTo>
                  <a:pt x="3402" y="3273"/>
                </a:lnTo>
                <a:lnTo>
                  <a:pt x="3390" y="3270"/>
                </a:lnTo>
                <a:lnTo>
                  <a:pt x="3377" y="3265"/>
                </a:lnTo>
                <a:lnTo>
                  <a:pt x="3365" y="3261"/>
                </a:lnTo>
                <a:lnTo>
                  <a:pt x="3353" y="3255"/>
                </a:lnTo>
                <a:lnTo>
                  <a:pt x="3342" y="3248"/>
                </a:lnTo>
                <a:lnTo>
                  <a:pt x="3332" y="3240"/>
                </a:lnTo>
                <a:lnTo>
                  <a:pt x="3337" y="3260"/>
                </a:lnTo>
                <a:lnTo>
                  <a:pt x="3342" y="3280"/>
                </a:lnTo>
                <a:lnTo>
                  <a:pt x="3346" y="3301"/>
                </a:lnTo>
                <a:lnTo>
                  <a:pt x="3351" y="3320"/>
                </a:lnTo>
                <a:lnTo>
                  <a:pt x="3355" y="3341"/>
                </a:lnTo>
                <a:lnTo>
                  <a:pt x="3359" y="3362"/>
                </a:lnTo>
                <a:lnTo>
                  <a:pt x="3363" y="3382"/>
                </a:lnTo>
                <a:lnTo>
                  <a:pt x="3368" y="3403"/>
                </a:lnTo>
                <a:lnTo>
                  <a:pt x="3373" y="3424"/>
                </a:lnTo>
                <a:lnTo>
                  <a:pt x="3377" y="3444"/>
                </a:lnTo>
                <a:lnTo>
                  <a:pt x="3382" y="3466"/>
                </a:lnTo>
                <a:lnTo>
                  <a:pt x="3386" y="3487"/>
                </a:lnTo>
                <a:lnTo>
                  <a:pt x="3391" y="3508"/>
                </a:lnTo>
                <a:lnTo>
                  <a:pt x="3397" y="3527"/>
                </a:lnTo>
                <a:lnTo>
                  <a:pt x="3401" y="3548"/>
                </a:lnTo>
                <a:lnTo>
                  <a:pt x="3406" y="3568"/>
                </a:lnTo>
                <a:lnTo>
                  <a:pt x="3412" y="3592"/>
                </a:lnTo>
                <a:lnTo>
                  <a:pt x="3417" y="3617"/>
                </a:lnTo>
                <a:lnTo>
                  <a:pt x="3424" y="3641"/>
                </a:lnTo>
                <a:lnTo>
                  <a:pt x="3431" y="3665"/>
                </a:lnTo>
                <a:lnTo>
                  <a:pt x="3437" y="3689"/>
                </a:lnTo>
                <a:lnTo>
                  <a:pt x="3444" y="3712"/>
                </a:lnTo>
                <a:lnTo>
                  <a:pt x="3452" y="3736"/>
                </a:lnTo>
                <a:lnTo>
                  <a:pt x="3458" y="3760"/>
                </a:lnTo>
                <a:lnTo>
                  <a:pt x="3465" y="3783"/>
                </a:lnTo>
                <a:lnTo>
                  <a:pt x="3473" y="3807"/>
                </a:lnTo>
                <a:lnTo>
                  <a:pt x="3481" y="3830"/>
                </a:lnTo>
                <a:lnTo>
                  <a:pt x="3489" y="3854"/>
                </a:lnTo>
                <a:lnTo>
                  <a:pt x="3497" y="3877"/>
                </a:lnTo>
                <a:lnTo>
                  <a:pt x="3505" y="3900"/>
                </a:lnTo>
                <a:lnTo>
                  <a:pt x="3513" y="3924"/>
                </a:lnTo>
                <a:lnTo>
                  <a:pt x="3522" y="3947"/>
                </a:lnTo>
                <a:lnTo>
                  <a:pt x="3530" y="3970"/>
                </a:lnTo>
                <a:lnTo>
                  <a:pt x="3539" y="3993"/>
                </a:lnTo>
                <a:lnTo>
                  <a:pt x="3547" y="4016"/>
                </a:lnTo>
                <a:lnTo>
                  <a:pt x="3556" y="4039"/>
                </a:lnTo>
                <a:lnTo>
                  <a:pt x="3564" y="4063"/>
                </a:lnTo>
                <a:lnTo>
                  <a:pt x="3573" y="4086"/>
                </a:lnTo>
                <a:lnTo>
                  <a:pt x="3581" y="4109"/>
                </a:lnTo>
                <a:lnTo>
                  <a:pt x="3590" y="4132"/>
                </a:lnTo>
                <a:lnTo>
                  <a:pt x="3598" y="4155"/>
                </a:lnTo>
                <a:lnTo>
                  <a:pt x="3607" y="4178"/>
                </a:lnTo>
                <a:lnTo>
                  <a:pt x="3615" y="4201"/>
                </a:lnTo>
                <a:lnTo>
                  <a:pt x="3625" y="4223"/>
                </a:lnTo>
                <a:lnTo>
                  <a:pt x="3633" y="4246"/>
                </a:lnTo>
                <a:lnTo>
                  <a:pt x="3641" y="4268"/>
                </a:lnTo>
                <a:lnTo>
                  <a:pt x="3650" y="4291"/>
                </a:lnTo>
                <a:lnTo>
                  <a:pt x="3658" y="4314"/>
                </a:lnTo>
                <a:lnTo>
                  <a:pt x="3623" y="4321"/>
                </a:lnTo>
                <a:lnTo>
                  <a:pt x="3589" y="4328"/>
                </a:lnTo>
                <a:lnTo>
                  <a:pt x="3554" y="4334"/>
                </a:lnTo>
                <a:lnTo>
                  <a:pt x="3518" y="4341"/>
                </a:lnTo>
                <a:lnTo>
                  <a:pt x="3483" y="4348"/>
                </a:lnTo>
                <a:lnTo>
                  <a:pt x="3447" y="4353"/>
                </a:lnTo>
                <a:lnTo>
                  <a:pt x="3412" y="4360"/>
                </a:lnTo>
                <a:lnTo>
                  <a:pt x="3376" y="4366"/>
                </a:lnTo>
                <a:lnTo>
                  <a:pt x="3341" y="4373"/>
                </a:lnTo>
                <a:lnTo>
                  <a:pt x="3305" y="4379"/>
                </a:lnTo>
                <a:lnTo>
                  <a:pt x="3269" y="4384"/>
                </a:lnTo>
                <a:lnTo>
                  <a:pt x="3234" y="4390"/>
                </a:lnTo>
                <a:lnTo>
                  <a:pt x="3198" y="4396"/>
                </a:lnTo>
                <a:lnTo>
                  <a:pt x="3163" y="4400"/>
                </a:lnTo>
                <a:lnTo>
                  <a:pt x="3127" y="4406"/>
                </a:lnTo>
                <a:lnTo>
                  <a:pt x="3093" y="4411"/>
                </a:lnTo>
                <a:lnTo>
                  <a:pt x="3048" y="4419"/>
                </a:lnTo>
                <a:lnTo>
                  <a:pt x="3005" y="4428"/>
                </a:lnTo>
                <a:lnTo>
                  <a:pt x="2961" y="4437"/>
                </a:lnTo>
                <a:lnTo>
                  <a:pt x="2917" y="4448"/>
                </a:lnTo>
                <a:lnTo>
                  <a:pt x="2873" y="4458"/>
                </a:lnTo>
                <a:lnTo>
                  <a:pt x="2830" y="4468"/>
                </a:lnTo>
                <a:lnTo>
                  <a:pt x="2787" y="4480"/>
                </a:lnTo>
                <a:lnTo>
                  <a:pt x="2744" y="4491"/>
                </a:lnTo>
                <a:lnTo>
                  <a:pt x="2701" y="4504"/>
                </a:lnTo>
                <a:lnTo>
                  <a:pt x="2659" y="4516"/>
                </a:lnTo>
                <a:lnTo>
                  <a:pt x="2615" y="4530"/>
                </a:lnTo>
                <a:lnTo>
                  <a:pt x="2574" y="4543"/>
                </a:lnTo>
                <a:lnTo>
                  <a:pt x="2532" y="4557"/>
                </a:lnTo>
                <a:lnTo>
                  <a:pt x="2489" y="4571"/>
                </a:lnTo>
                <a:lnTo>
                  <a:pt x="2448" y="4586"/>
                </a:lnTo>
                <a:lnTo>
                  <a:pt x="2407" y="4601"/>
                </a:lnTo>
                <a:lnTo>
                  <a:pt x="2365" y="4617"/>
                </a:lnTo>
                <a:lnTo>
                  <a:pt x="2323" y="4633"/>
                </a:lnTo>
                <a:lnTo>
                  <a:pt x="2283" y="4650"/>
                </a:lnTo>
                <a:lnTo>
                  <a:pt x="2242" y="4667"/>
                </a:lnTo>
                <a:lnTo>
                  <a:pt x="2202" y="4684"/>
                </a:lnTo>
                <a:lnTo>
                  <a:pt x="2161" y="4701"/>
                </a:lnTo>
                <a:lnTo>
                  <a:pt x="2121" y="4720"/>
                </a:lnTo>
                <a:lnTo>
                  <a:pt x="2080" y="4737"/>
                </a:lnTo>
                <a:lnTo>
                  <a:pt x="2041" y="4756"/>
                </a:lnTo>
                <a:lnTo>
                  <a:pt x="2001" y="4775"/>
                </a:lnTo>
                <a:lnTo>
                  <a:pt x="1962" y="4794"/>
                </a:lnTo>
                <a:lnTo>
                  <a:pt x="1922" y="4814"/>
                </a:lnTo>
                <a:lnTo>
                  <a:pt x="1883" y="4834"/>
                </a:lnTo>
                <a:lnTo>
                  <a:pt x="1844" y="4855"/>
                </a:lnTo>
                <a:lnTo>
                  <a:pt x="1807" y="4876"/>
                </a:lnTo>
                <a:lnTo>
                  <a:pt x="1768" y="4896"/>
                </a:lnTo>
                <a:lnTo>
                  <a:pt x="1734" y="4913"/>
                </a:lnTo>
                <a:lnTo>
                  <a:pt x="1700" y="4932"/>
                </a:lnTo>
                <a:lnTo>
                  <a:pt x="1667" y="4949"/>
                </a:lnTo>
                <a:lnTo>
                  <a:pt x="1633" y="4966"/>
                </a:lnTo>
                <a:lnTo>
                  <a:pt x="1599" y="4983"/>
                </a:lnTo>
                <a:lnTo>
                  <a:pt x="1565" y="5001"/>
                </a:lnTo>
                <a:lnTo>
                  <a:pt x="1532" y="5017"/>
                </a:lnTo>
                <a:lnTo>
                  <a:pt x="1497" y="5034"/>
                </a:lnTo>
                <a:lnTo>
                  <a:pt x="1463" y="5050"/>
                </a:lnTo>
                <a:lnTo>
                  <a:pt x="1430" y="5067"/>
                </a:lnTo>
                <a:lnTo>
                  <a:pt x="1395" y="5083"/>
                </a:lnTo>
                <a:lnTo>
                  <a:pt x="1362" y="5101"/>
                </a:lnTo>
                <a:lnTo>
                  <a:pt x="1328" y="5117"/>
                </a:lnTo>
                <a:lnTo>
                  <a:pt x="1295" y="5134"/>
                </a:lnTo>
                <a:lnTo>
                  <a:pt x="1261" y="5151"/>
                </a:lnTo>
                <a:lnTo>
                  <a:pt x="1227" y="5167"/>
                </a:lnTo>
                <a:lnTo>
                  <a:pt x="1194" y="5184"/>
                </a:lnTo>
                <a:lnTo>
                  <a:pt x="1159" y="5202"/>
                </a:lnTo>
                <a:lnTo>
                  <a:pt x="1126" y="5218"/>
                </a:lnTo>
                <a:lnTo>
                  <a:pt x="1093" y="5235"/>
                </a:lnTo>
                <a:lnTo>
                  <a:pt x="1059" y="5253"/>
                </a:lnTo>
                <a:lnTo>
                  <a:pt x="1025" y="5270"/>
                </a:lnTo>
                <a:lnTo>
                  <a:pt x="992" y="5288"/>
                </a:lnTo>
                <a:lnTo>
                  <a:pt x="959" y="5306"/>
                </a:lnTo>
                <a:lnTo>
                  <a:pt x="926" y="5324"/>
                </a:lnTo>
                <a:lnTo>
                  <a:pt x="893" y="5343"/>
                </a:lnTo>
                <a:lnTo>
                  <a:pt x="859" y="5361"/>
                </a:lnTo>
                <a:lnTo>
                  <a:pt x="826" y="5381"/>
                </a:lnTo>
                <a:lnTo>
                  <a:pt x="793" y="5400"/>
                </a:lnTo>
                <a:lnTo>
                  <a:pt x="760" y="5420"/>
                </a:lnTo>
                <a:lnTo>
                  <a:pt x="728" y="5439"/>
                </a:lnTo>
                <a:lnTo>
                  <a:pt x="694" y="5460"/>
                </a:lnTo>
                <a:lnTo>
                  <a:pt x="687" y="5447"/>
                </a:lnTo>
                <a:lnTo>
                  <a:pt x="689" y="5416"/>
                </a:lnTo>
                <a:lnTo>
                  <a:pt x="689" y="5386"/>
                </a:lnTo>
                <a:lnTo>
                  <a:pt x="689" y="5356"/>
                </a:lnTo>
                <a:lnTo>
                  <a:pt x="687" y="5327"/>
                </a:lnTo>
                <a:lnTo>
                  <a:pt x="687" y="5297"/>
                </a:lnTo>
                <a:lnTo>
                  <a:pt x="685" y="5267"/>
                </a:lnTo>
                <a:lnTo>
                  <a:pt x="684" y="5238"/>
                </a:lnTo>
                <a:lnTo>
                  <a:pt x="682" y="5208"/>
                </a:lnTo>
                <a:lnTo>
                  <a:pt x="679" y="5180"/>
                </a:lnTo>
                <a:lnTo>
                  <a:pt x="677" y="5151"/>
                </a:lnTo>
                <a:lnTo>
                  <a:pt x="675" y="5122"/>
                </a:lnTo>
                <a:lnTo>
                  <a:pt x="671" y="5094"/>
                </a:lnTo>
                <a:lnTo>
                  <a:pt x="668" y="5065"/>
                </a:lnTo>
                <a:lnTo>
                  <a:pt x="665" y="5036"/>
                </a:lnTo>
                <a:lnTo>
                  <a:pt x="660" y="5008"/>
                </a:lnTo>
                <a:lnTo>
                  <a:pt x="655" y="4980"/>
                </a:lnTo>
                <a:lnTo>
                  <a:pt x="651" y="4951"/>
                </a:lnTo>
                <a:lnTo>
                  <a:pt x="646" y="4924"/>
                </a:lnTo>
                <a:lnTo>
                  <a:pt x="642" y="4895"/>
                </a:lnTo>
                <a:lnTo>
                  <a:pt x="636" y="4868"/>
                </a:lnTo>
                <a:lnTo>
                  <a:pt x="630" y="4840"/>
                </a:lnTo>
                <a:lnTo>
                  <a:pt x="624" y="4812"/>
                </a:lnTo>
                <a:lnTo>
                  <a:pt x="619" y="4785"/>
                </a:lnTo>
                <a:lnTo>
                  <a:pt x="612" y="4757"/>
                </a:lnTo>
                <a:lnTo>
                  <a:pt x="606" y="4730"/>
                </a:lnTo>
                <a:lnTo>
                  <a:pt x="599" y="4702"/>
                </a:lnTo>
                <a:lnTo>
                  <a:pt x="592" y="4675"/>
                </a:lnTo>
                <a:lnTo>
                  <a:pt x="586" y="4647"/>
                </a:lnTo>
                <a:lnTo>
                  <a:pt x="579" y="4620"/>
                </a:lnTo>
                <a:lnTo>
                  <a:pt x="572" y="4592"/>
                </a:lnTo>
                <a:lnTo>
                  <a:pt x="565" y="4565"/>
                </a:lnTo>
                <a:lnTo>
                  <a:pt x="557" y="4537"/>
                </a:lnTo>
                <a:lnTo>
                  <a:pt x="548" y="4546"/>
                </a:lnTo>
                <a:lnTo>
                  <a:pt x="540" y="4557"/>
                </a:lnTo>
                <a:lnTo>
                  <a:pt x="531" y="4568"/>
                </a:lnTo>
                <a:lnTo>
                  <a:pt x="523" y="4578"/>
                </a:lnTo>
                <a:lnTo>
                  <a:pt x="512" y="4588"/>
                </a:lnTo>
                <a:lnTo>
                  <a:pt x="501" y="4594"/>
                </a:lnTo>
                <a:lnTo>
                  <a:pt x="488" y="4599"/>
                </a:lnTo>
                <a:lnTo>
                  <a:pt x="473" y="4599"/>
                </a:lnTo>
                <a:lnTo>
                  <a:pt x="463" y="4598"/>
                </a:lnTo>
                <a:lnTo>
                  <a:pt x="454" y="4597"/>
                </a:lnTo>
                <a:lnTo>
                  <a:pt x="445" y="4593"/>
                </a:lnTo>
                <a:lnTo>
                  <a:pt x="437" y="4590"/>
                </a:lnTo>
                <a:lnTo>
                  <a:pt x="429" y="4585"/>
                </a:lnTo>
                <a:lnTo>
                  <a:pt x="423" y="4578"/>
                </a:lnTo>
                <a:lnTo>
                  <a:pt x="416" y="4571"/>
                </a:lnTo>
                <a:lnTo>
                  <a:pt x="411" y="4563"/>
                </a:lnTo>
                <a:lnTo>
                  <a:pt x="411" y="4534"/>
                </a:lnTo>
                <a:lnTo>
                  <a:pt x="423" y="4513"/>
                </a:lnTo>
                <a:lnTo>
                  <a:pt x="434" y="4493"/>
                </a:lnTo>
                <a:lnTo>
                  <a:pt x="447" y="4475"/>
                </a:lnTo>
                <a:lnTo>
                  <a:pt x="457" y="4456"/>
                </a:lnTo>
                <a:lnTo>
                  <a:pt x="469" y="4437"/>
                </a:lnTo>
                <a:lnTo>
                  <a:pt x="479" y="4418"/>
                </a:lnTo>
                <a:lnTo>
                  <a:pt x="488" y="4397"/>
                </a:lnTo>
                <a:lnTo>
                  <a:pt x="496" y="4375"/>
                </a:lnTo>
                <a:lnTo>
                  <a:pt x="481" y="4379"/>
                </a:lnTo>
                <a:lnTo>
                  <a:pt x="465" y="4380"/>
                </a:lnTo>
                <a:lnTo>
                  <a:pt x="448" y="4380"/>
                </a:lnTo>
                <a:lnTo>
                  <a:pt x="432" y="4378"/>
                </a:lnTo>
                <a:lnTo>
                  <a:pt x="416" y="4374"/>
                </a:lnTo>
                <a:lnTo>
                  <a:pt x="400" y="4369"/>
                </a:lnTo>
                <a:lnTo>
                  <a:pt x="386" y="4363"/>
                </a:lnTo>
                <a:lnTo>
                  <a:pt x="374" y="4353"/>
                </a:lnTo>
                <a:lnTo>
                  <a:pt x="361" y="4338"/>
                </a:lnTo>
                <a:lnTo>
                  <a:pt x="355" y="4321"/>
                </a:lnTo>
                <a:lnTo>
                  <a:pt x="355" y="4303"/>
                </a:lnTo>
                <a:lnTo>
                  <a:pt x="358" y="4285"/>
                </a:lnTo>
                <a:lnTo>
                  <a:pt x="359" y="4267"/>
                </a:lnTo>
                <a:lnTo>
                  <a:pt x="356" y="4251"/>
                </a:lnTo>
                <a:lnTo>
                  <a:pt x="347" y="4239"/>
                </a:lnTo>
                <a:lnTo>
                  <a:pt x="328" y="4231"/>
                </a:lnTo>
                <a:lnTo>
                  <a:pt x="322" y="4218"/>
                </a:lnTo>
                <a:lnTo>
                  <a:pt x="316" y="4204"/>
                </a:lnTo>
                <a:lnTo>
                  <a:pt x="312" y="4189"/>
                </a:lnTo>
                <a:lnTo>
                  <a:pt x="308" y="4174"/>
                </a:lnTo>
                <a:lnTo>
                  <a:pt x="306" y="4159"/>
                </a:lnTo>
                <a:lnTo>
                  <a:pt x="306" y="4145"/>
                </a:lnTo>
                <a:lnTo>
                  <a:pt x="308" y="4131"/>
                </a:lnTo>
                <a:lnTo>
                  <a:pt x="313" y="4116"/>
                </a:lnTo>
                <a:lnTo>
                  <a:pt x="301" y="4110"/>
                </a:lnTo>
                <a:lnTo>
                  <a:pt x="291" y="4102"/>
                </a:lnTo>
                <a:lnTo>
                  <a:pt x="283" y="4093"/>
                </a:lnTo>
                <a:lnTo>
                  <a:pt x="276" y="4083"/>
                </a:lnTo>
                <a:lnTo>
                  <a:pt x="269" y="4071"/>
                </a:lnTo>
                <a:lnTo>
                  <a:pt x="265" y="4060"/>
                </a:lnTo>
                <a:lnTo>
                  <a:pt x="260" y="4047"/>
                </a:lnTo>
                <a:lnTo>
                  <a:pt x="256" y="4035"/>
                </a:lnTo>
                <a:lnTo>
                  <a:pt x="256" y="4010"/>
                </a:lnTo>
                <a:lnTo>
                  <a:pt x="259" y="3987"/>
                </a:lnTo>
                <a:lnTo>
                  <a:pt x="266" y="3964"/>
                </a:lnTo>
                <a:lnTo>
                  <a:pt x="275" y="3943"/>
                </a:lnTo>
                <a:lnTo>
                  <a:pt x="287" y="3923"/>
                </a:lnTo>
                <a:lnTo>
                  <a:pt x="299" y="3904"/>
                </a:lnTo>
                <a:lnTo>
                  <a:pt x="313" y="3884"/>
                </a:lnTo>
                <a:lnTo>
                  <a:pt x="328" y="3867"/>
                </a:lnTo>
                <a:lnTo>
                  <a:pt x="311" y="3831"/>
                </a:lnTo>
                <a:lnTo>
                  <a:pt x="293" y="3797"/>
                </a:lnTo>
                <a:lnTo>
                  <a:pt x="275" y="3762"/>
                </a:lnTo>
                <a:lnTo>
                  <a:pt x="257" y="3728"/>
                </a:lnTo>
                <a:lnTo>
                  <a:pt x="238" y="3695"/>
                </a:lnTo>
                <a:lnTo>
                  <a:pt x="219" y="3661"/>
                </a:lnTo>
                <a:lnTo>
                  <a:pt x="200" y="3629"/>
                </a:lnTo>
                <a:lnTo>
                  <a:pt x="180" y="3597"/>
                </a:lnTo>
                <a:lnTo>
                  <a:pt x="159" y="3565"/>
                </a:lnTo>
                <a:lnTo>
                  <a:pt x="138" y="3534"/>
                </a:lnTo>
                <a:lnTo>
                  <a:pt x="117" y="3503"/>
                </a:lnTo>
                <a:lnTo>
                  <a:pt x="94" y="3473"/>
                </a:lnTo>
                <a:lnTo>
                  <a:pt x="72" y="3443"/>
                </a:lnTo>
                <a:lnTo>
                  <a:pt x="48" y="3413"/>
                </a:lnTo>
                <a:lnTo>
                  <a:pt x="24" y="3384"/>
                </a:lnTo>
                <a:lnTo>
                  <a:pt x="0" y="3355"/>
                </a:lnTo>
                <a:lnTo>
                  <a:pt x="0" y="3337"/>
                </a:lnTo>
                <a:lnTo>
                  <a:pt x="17" y="3334"/>
                </a:lnTo>
                <a:lnTo>
                  <a:pt x="36" y="3332"/>
                </a:lnTo>
                <a:lnTo>
                  <a:pt x="53" y="3330"/>
                </a:lnTo>
                <a:lnTo>
                  <a:pt x="71" y="3327"/>
                </a:lnTo>
                <a:lnTo>
                  <a:pt x="90" y="3325"/>
                </a:lnTo>
                <a:lnTo>
                  <a:pt x="108" y="3323"/>
                </a:lnTo>
                <a:lnTo>
                  <a:pt x="125" y="3320"/>
                </a:lnTo>
                <a:lnTo>
                  <a:pt x="143" y="3317"/>
                </a:lnTo>
                <a:lnTo>
                  <a:pt x="162" y="3314"/>
                </a:lnTo>
                <a:lnTo>
                  <a:pt x="180" y="3311"/>
                </a:lnTo>
                <a:lnTo>
                  <a:pt x="198" y="3308"/>
                </a:lnTo>
                <a:lnTo>
                  <a:pt x="217" y="3303"/>
                </a:lnTo>
                <a:lnTo>
                  <a:pt x="234" y="3300"/>
                </a:lnTo>
                <a:lnTo>
                  <a:pt x="252" y="3295"/>
                </a:lnTo>
                <a:lnTo>
                  <a:pt x="269" y="3291"/>
                </a:lnTo>
                <a:lnTo>
                  <a:pt x="287" y="3285"/>
                </a:lnTo>
                <a:lnTo>
                  <a:pt x="378" y="3260"/>
                </a:lnTo>
                <a:lnTo>
                  <a:pt x="379" y="3242"/>
                </a:lnTo>
                <a:lnTo>
                  <a:pt x="379" y="3224"/>
                </a:lnTo>
                <a:lnTo>
                  <a:pt x="378" y="3207"/>
                </a:lnTo>
                <a:lnTo>
                  <a:pt x="377" y="3189"/>
                </a:lnTo>
                <a:lnTo>
                  <a:pt x="375" y="3171"/>
                </a:lnTo>
                <a:lnTo>
                  <a:pt x="372" y="3153"/>
                </a:lnTo>
                <a:lnTo>
                  <a:pt x="371" y="3135"/>
                </a:lnTo>
                <a:lnTo>
                  <a:pt x="369" y="3116"/>
                </a:lnTo>
                <a:lnTo>
                  <a:pt x="368" y="3099"/>
                </a:lnTo>
                <a:lnTo>
                  <a:pt x="367" y="3081"/>
                </a:lnTo>
                <a:lnTo>
                  <a:pt x="367" y="3063"/>
                </a:lnTo>
                <a:lnTo>
                  <a:pt x="367" y="3045"/>
                </a:lnTo>
                <a:lnTo>
                  <a:pt x="369" y="3028"/>
                </a:lnTo>
                <a:lnTo>
                  <a:pt x="371" y="3011"/>
                </a:lnTo>
                <a:lnTo>
                  <a:pt x="376" y="2993"/>
                </a:lnTo>
                <a:lnTo>
                  <a:pt x="382" y="2976"/>
                </a:lnTo>
                <a:lnTo>
                  <a:pt x="376" y="2969"/>
                </a:lnTo>
                <a:lnTo>
                  <a:pt x="370" y="2962"/>
                </a:lnTo>
                <a:lnTo>
                  <a:pt x="364" y="2956"/>
                </a:lnTo>
                <a:lnTo>
                  <a:pt x="361" y="2949"/>
                </a:lnTo>
                <a:lnTo>
                  <a:pt x="359" y="2942"/>
                </a:lnTo>
                <a:lnTo>
                  <a:pt x="358" y="2934"/>
                </a:lnTo>
                <a:lnTo>
                  <a:pt x="360" y="2927"/>
                </a:lnTo>
                <a:lnTo>
                  <a:pt x="366" y="2919"/>
                </a:lnTo>
                <a:lnTo>
                  <a:pt x="374" y="2911"/>
                </a:lnTo>
                <a:lnTo>
                  <a:pt x="366" y="2902"/>
                </a:lnTo>
                <a:lnTo>
                  <a:pt x="358" y="2896"/>
                </a:lnTo>
                <a:lnTo>
                  <a:pt x="350" y="2890"/>
                </a:lnTo>
                <a:lnTo>
                  <a:pt x="344" y="2880"/>
                </a:lnTo>
                <a:lnTo>
                  <a:pt x="342" y="2866"/>
                </a:lnTo>
                <a:lnTo>
                  <a:pt x="342" y="2853"/>
                </a:lnTo>
                <a:lnTo>
                  <a:pt x="344" y="2842"/>
                </a:lnTo>
                <a:lnTo>
                  <a:pt x="348" y="2830"/>
                </a:lnTo>
                <a:lnTo>
                  <a:pt x="353" y="2819"/>
                </a:lnTo>
                <a:lnTo>
                  <a:pt x="358" y="2807"/>
                </a:lnTo>
                <a:lnTo>
                  <a:pt x="362" y="2796"/>
                </a:lnTo>
                <a:lnTo>
                  <a:pt x="366" y="2785"/>
                </a:lnTo>
                <a:lnTo>
                  <a:pt x="367" y="2745"/>
                </a:lnTo>
                <a:lnTo>
                  <a:pt x="367" y="2706"/>
                </a:lnTo>
                <a:lnTo>
                  <a:pt x="367" y="2667"/>
                </a:lnTo>
                <a:lnTo>
                  <a:pt x="367" y="2628"/>
                </a:lnTo>
                <a:lnTo>
                  <a:pt x="366" y="2589"/>
                </a:lnTo>
                <a:lnTo>
                  <a:pt x="366" y="2549"/>
                </a:lnTo>
                <a:lnTo>
                  <a:pt x="364" y="2510"/>
                </a:lnTo>
                <a:lnTo>
                  <a:pt x="364" y="2471"/>
                </a:lnTo>
                <a:lnTo>
                  <a:pt x="364" y="2432"/>
                </a:lnTo>
                <a:lnTo>
                  <a:pt x="366" y="2393"/>
                </a:lnTo>
                <a:lnTo>
                  <a:pt x="367" y="2354"/>
                </a:lnTo>
                <a:lnTo>
                  <a:pt x="369" y="2316"/>
                </a:lnTo>
                <a:lnTo>
                  <a:pt x="372" y="2278"/>
                </a:lnTo>
                <a:lnTo>
                  <a:pt x="376" y="2242"/>
                </a:lnTo>
                <a:lnTo>
                  <a:pt x="383" y="2205"/>
                </a:lnTo>
                <a:lnTo>
                  <a:pt x="390" y="2169"/>
                </a:lnTo>
                <a:lnTo>
                  <a:pt x="403" y="2153"/>
                </a:lnTo>
                <a:lnTo>
                  <a:pt x="418" y="2137"/>
                </a:lnTo>
                <a:lnTo>
                  <a:pt x="434" y="2123"/>
                </a:lnTo>
                <a:lnTo>
                  <a:pt x="450" y="2112"/>
                </a:lnTo>
                <a:lnTo>
                  <a:pt x="466" y="2100"/>
                </a:lnTo>
                <a:lnTo>
                  <a:pt x="484" y="2090"/>
                </a:lnTo>
                <a:lnTo>
                  <a:pt x="502" y="2081"/>
                </a:lnTo>
                <a:lnTo>
                  <a:pt x="520" y="2073"/>
                </a:lnTo>
                <a:lnTo>
                  <a:pt x="539" y="2065"/>
                </a:lnTo>
                <a:lnTo>
                  <a:pt x="557" y="2058"/>
                </a:lnTo>
                <a:lnTo>
                  <a:pt x="575" y="2051"/>
                </a:lnTo>
                <a:lnTo>
                  <a:pt x="595" y="2045"/>
                </a:lnTo>
                <a:lnTo>
                  <a:pt x="614" y="2040"/>
                </a:lnTo>
                <a:lnTo>
                  <a:pt x="634" y="2034"/>
                </a:lnTo>
                <a:lnTo>
                  <a:pt x="652" y="2028"/>
                </a:lnTo>
                <a:lnTo>
                  <a:pt x="671" y="2022"/>
                </a:lnTo>
                <a:lnTo>
                  <a:pt x="678" y="2008"/>
                </a:lnTo>
                <a:lnTo>
                  <a:pt x="684" y="1993"/>
                </a:lnTo>
                <a:lnTo>
                  <a:pt x="689" y="1977"/>
                </a:lnTo>
                <a:lnTo>
                  <a:pt x="692" y="1962"/>
                </a:lnTo>
                <a:lnTo>
                  <a:pt x="694" y="1946"/>
                </a:lnTo>
                <a:lnTo>
                  <a:pt x="696" y="1929"/>
                </a:lnTo>
                <a:lnTo>
                  <a:pt x="697" y="1913"/>
                </a:lnTo>
                <a:lnTo>
                  <a:pt x="698" y="1896"/>
                </a:lnTo>
                <a:lnTo>
                  <a:pt x="698" y="1880"/>
                </a:lnTo>
                <a:lnTo>
                  <a:pt x="698" y="1864"/>
                </a:lnTo>
                <a:lnTo>
                  <a:pt x="699" y="1847"/>
                </a:lnTo>
                <a:lnTo>
                  <a:pt x="699" y="1831"/>
                </a:lnTo>
                <a:lnTo>
                  <a:pt x="700" y="1814"/>
                </a:lnTo>
                <a:lnTo>
                  <a:pt x="701" y="1796"/>
                </a:lnTo>
                <a:lnTo>
                  <a:pt x="704" y="1780"/>
                </a:lnTo>
                <a:lnTo>
                  <a:pt x="706" y="1763"/>
                </a:lnTo>
                <a:lnTo>
                  <a:pt x="741" y="1732"/>
                </a:lnTo>
                <a:lnTo>
                  <a:pt x="740" y="1688"/>
                </a:lnTo>
                <a:lnTo>
                  <a:pt x="739" y="1645"/>
                </a:lnTo>
                <a:lnTo>
                  <a:pt x="739" y="1601"/>
                </a:lnTo>
                <a:lnTo>
                  <a:pt x="738" y="1556"/>
                </a:lnTo>
                <a:lnTo>
                  <a:pt x="738" y="1513"/>
                </a:lnTo>
                <a:lnTo>
                  <a:pt x="738" y="1468"/>
                </a:lnTo>
                <a:lnTo>
                  <a:pt x="739" y="1423"/>
                </a:lnTo>
                <a:lnTo>
                  <a:pt x="740" y="1379"/>
                </a:lnTo>
                <a:lnTo>
                  <a:pt x="741" y="1335"/>
                </a:lnTo>
                <a:lnTo>
                  <a:pt x="742" y="1290"/>
                </a:lnTo>
                <a:lnTo>
                  <a:pt x="745" y="1245"/>
                </a:lnTo>
                <a:lnTo>
                  <a:pt x="747" y="1202"/>
                </a:lnTo>
                <a:lnTo>
                  <a:pt x="750" y="1158"/>
                </a:lnTo>
                <a:lnTo>
                  <a:pt x="754" y="1115"/>
                </a:lnTo>
                <a:lnTo>
                  <a:pt x="759" y="1071"/>
                </a:lnTo>
                <a:lnTo>
                  <a:pt x="763" y="1029"/>
                </a:lnTo>
                <a:lnTo>
                  <a:pt x="752" y="1026"/>
                </a:lnTo>
                <a:lnTo>
                  <a:pt x="739" y="1023"/>
                </a:lnTo>
                <a:lnTo>
                  <a:pt x="728" y="1019"/>
                </a:lnTo>
                <a:lnTo>
                  <a:pt x="716" y="1016"/>
                </a:lnTo>
                <a:lnTo>
                  <a:pt x="705" y="1011"/>
                </a:lnTo>
                <a:lnTo>
                  <a:pt x="694" y="1004"/>
                </a:lnTo>
                <a:lnTo>
                  <a:pt x="686" y="995"/>
                </a:lnTo>
                <a:lnTo>
                  <a:pt x="679" y="984"/>
                </a:lnTo>
                <a:lnTo>
                  <a:pt x="675" y="969"/>
                </a:lnTo>
                <a:lnTo>
                  <a:pt x="670" y="954"/>
                </a:lnTo>
                <a:lnTo>
                  <a:pt x="667" y="938"/>
                </a:lnTo>
                <a:lnTo>
                  <a:pt x="663" y="922"/>
                </a:lnTo>
                <a:lnTo>
                  <a:pt x="661" y="906"/>
                </a:lnTo>
                <a:lnTo>
                  <a:pt x="660" y="890"/>
                </a:lnTo>
                <a:lnTo>
                  <a:pt x="659" y="874"/>
                </a:lnTo>
                <a:lnTo>
                  <a:pt x="658" y="856"/>
                </a:lnTo>
                <a:lnTo>
                  <a:pt x="658" y="840"/>
                </a:lnTo>
                <a:lnTo>
                  <a:pt x="659" y="823"/>
                </a:lnTo>
                <a:lnTo>
                  <a:pt x="659" y="807"/>
                </a:lnTo>
                <a:lnTo>
                  <a:pt x="661" y="790"/>
                </a:lnTo>
                <a:lnTo>
                  <a:pt x="663" y="774"/>
                </a:lnTo>
                <a:lnTo>
                  <a:pt x="666" y="758"/>
                </a:lnTo>
                <a:lnTo>
                  <a:pt x="668" y="742"/>
                </a:lnTo>
                <a:lnTo>
                  <a:pt x="671" y="727"/>
                </a:lnTo>
                <a:lnTo>
                  <a:pt x="663" y="729"/>
                </a:lnTo>
                <a:lnTo>
                  <a:pt x="654" y="731"/>
                </a:lnTo>
                <a:lnTo>
                  <a:pt x="646" y="736"/>
                </a:lnTo>
                <a:lnTo>
                  <a:pt x="637" y="742"/>
                </a:lnTo>
                <a:lnTo>
                  <a:pt x="629" y="747"/>
                </a:lnTo>
                <a:lnTo>
                  <a:pt x="621" y="755"/>
                </a:lnTo>
                <a:lnTo>
                  <a:pt x="613" y="763"/>
                </a:lnTo>
                <a:lnTo>
                  <a:pt x="607" y="773"/>
                </a:lnTo>
                <a:lnTo>
                  <a:pt x="614" y="817"/>
                </a:lnTo>
                <a:lnTo>
                  <a:pt x="611" y="816"/>
                </a:lnTo>
                <a:lnTo>
                  <a:pt x="607" y="812"/>
                </a:lnTo>
                <a:lnTo>
                  <a:pt x="603" y="805"/>
                </a:lnTo>
                <a:lnTo>
                  <a:pt x="599" y="797"/>
                </a:lnTo>
                <a:lnTo>
                  <a:pt x="596" y="788"/>
                </a:lnTo>
                <a:lnTo>
                  <a:pt x="594" y="777"/>
                </a:lnTo>
                <a:lnTo>
                  <a:pt x="594" y="767"/>
                </a:lnTo>
                <a:lnTo>
                  <a:pt x="595" y="757"/>
                </a:lnTo>
                <a:lnTo>
                  <a:pt x="611" y="740"/>
                </a:lnTo>
                <a:lnTo>
                  <a:pt x="628" y="728"/>
                </a:lnTo>
                <a:lnTo>
                  <a:pt x="645" y="716"/>
                </a:lnTo>
                <a:lnTo>
                  <a:pt x="663" y="707"/>
                </a:lnTo>
                <a:lnTo>
                  <a:pt x="681" y="697"/>
                </a:lnTo>
                <a:lnTo>
                  <a:pt x="699" y="687"/>
                </a:lnTo>
                <a:lnTo>
                  <a:pt x="716" y="675"/>
                </a:lnTo>
                <a:lnTo>
                  <a:pt x="733" y="661"/>
                </a:lnTo>
                <a:lnTo>
                  <a:pt x="724" y="646"/>
                </a:lnTo>
                <a:lnTo>
                  <a:pt x="714" y="633"/>
                </a:lnTo>
                <a:lnTo>
                  <a:pt x="704" y="620"/>
                </a:lnTo>
                <a:lnTo>
                  <a:pt x="693" y="606"/>
                </a:lnTo>
                <a:lnTo>
                  <a:pt x="683" y="592"/>
                </a:lnTo>
                <a:lnTo>
                  <a:pt x="673" y="580"/>
                </a:lnTo>
                <a:lnTo>
                  <a:pt x="663" y="566"/>
                </a:lnTo>
                <a:lnTo>
                  <a:pt x="654" y="552"/>
                </a:lnTo>
                <a:lnTo>
                  <a:pt x="646" y="538"/>
                </a:lnTo>
                <a:lnTo>
                  <a:pt x="639" y="524"/>
                </a:lnTo>
                <a:lnTo>
                  <a:pt x="634" y="509"/>
                </a:lnTo>
                <a:lnTo>
                  <a:pt x="629" y="493"/>
                </a:lnTo>
                <a:lnTo>
                  <a:pt x="626" y="477"/>
                </a:lnTo>
                <a:lnTo>
                  <a:pt x="624" y="459"/>
                </a:lnTo>
                <a:lnTo>
                  <a:pt x="624" y="440"/>
                </a:lnTo>
                <a:lnTo>
                  <a:pt x="627" y="420"/>
                </a:lnTo>
                <a:lnTo>
                  <a:pt x="616" y="420"/>
                </a:lnTo>
                <a:lnTo>
                  <a:pt x="606" y="420"/>
                </a:lnTo>
                <a:lnTo>
                  <a:pt x="596" y="420"/>
                </a:lnTo>
                <a:lnTo>
                  <a:pt x="584" y="419"/>
                </a:lnTo>
                <a:lnTo>
                  <a:pt x="574" y="418"/>
                </a:lnTo>
                <a:lnTo>
                  <a:pt x="564" y="415"/>
                </a:lnTo>
                <a:lnTo>
                  <a:pt x="555" y="411"/>
                </a:lnTo>
                <a:lnTo>
                  <a:pt x="545" y="405"/>
                </a:lnTo>
                <a:lnTo>
                  <a:pt x="542" y="400"/>
                </a:lnTo>
                <a:lnTo>
                  <a:pt x="542" y="393"/>
                </a:lnTo>
                <a:lnTo>
                  <a:pt x="542" y="385"/>
                </a:lnTo>
                <a:lnTo>
                  <a:pt x="542" y="378"/>
                </a:lnTo>
                <a:lnTo>
                  <a:pt x="550" y="374"/>
                </a:lnTo>
                <a:lnTo>
                  <a:pt x="559" y="376"/>
                </a:lnTo>
                <a:lnTo>
                  <a:pt x="568" y="379"/>
                </a:lnTo>
                <a:lnTo>
                  <a:pt x="576" y="384"/>
                </a:lnTo>
                <a:lnTo>
                  <a:pt x="584" y="386"/>
                </a:lnTo>
                <a:lnTo>
                  <a:pt x="592" y="385"/>
                </a:lnTo>
                <a:lnTo>
                  <a:pt x="598" y="379"/>
                </a:lnTo>
                <a:lnTo>
                  <a:pt x="603" y="366"/>
                </a:lnTo>
                <a:lnTo>
                  <a:pt x="603" y="348"/>
                </a:lnTo>
                <a:lnTo>
                  <a:pt x="597" y="348"/>
                </a:lnTo>
                <a:lnTo>
                  <a:pt x="591" y="348"/>
                </a:lnTo>
                <a:lnTo>
                  <a:pt x="586" y="347"/>
                </a:lnTo>
                <a:lnTo>
                  <a:pt x="579" y="346"/>
                </a:lnTo>
                <a:lnTo>
                  <a:pt x="572" y="345"/>
                </a:lnTo>
                <a:lnTo>
                  <a:pt x="566" y="342"/>
                </a:lnTo>
                <a:lnTo>
                  <a:pt x="561" y="340"/>
                </a:lnTo>
                <a:lnTo>
                  <a:pt x="557" y="336"/>
                </a:lnTo>
                <a:lnTo>
                  <a:pt x="557" y="328"/>
                </a:lnTo>
                <a:lnTo>
                  <a:pt x="565" y="331"/>
                </a:lnTo>
                <a:lnTo>
                  <a:pt x="573" y="335"/>
                </a:lnTo>
                <a:lnTo>
                  <a:pt x="580" y="339"/>
                </a:lnTo>
                <a:lnTo>
                  <a:pt x="588" y="336"/>
                </a:lnTo>
                <a:lnTo>
                  <a:pt x="595" y="324"/>
                </a:lnTo>
                <a:lnTo>
                  <a:pt x="596" y="311"/>
                </a:lnTo>
                <a:lnTo>
                  <a:pt x="595" y="299"/>
                </a:lnTo>
                <a:lnTo>
                  <a:pt x="590" y="285"/>
                </a:lnTo>
                <a:lnTo>
                  <a:pt x="586" y="272"/>
                </a:lnTo>
                <a:lnTo>
                  <a:pt x="581" y="258"/>
                </a:lnTo>
                <a:lnTo>
                  <a:pt x="579" y="245"/>
                </a:lnTo>
                <a:lnTo>
                  <a:pt x="580" y="230"/>
                </a:lnTo>
                <a:lnTo>
                  <a:pt x="581" y="215"/>
                </a:lnTo>
                <a:lnTo>
                  <a:pt x="582" y="201"/>
                </a:lnTo>
                <a:lnTo>
                  <a:pt x="586" y="186"/>
                </a:lnTo>
                <a:lnTo>
                  <a:pt x="588" y="172"/>
                </a:lnTo>
                <a:lnTo>
                  <a:pt x="592" y="159"/>
                </a:lnTo>
                <a:lnTo>
                  <a:pt x="597" y="145"/>
                </a:lnTo>
                <a:lnTo>
                  <a:pt x="603" y="131"/>
                </a:lnTo>
                <a:lnTo>
                  <a:pt x="610" y="118"/>
                </a:lnTo>
                <a:lnTo>
                  <a:pt x="616" y="107"/>
                </a:lnTo>
                <a:lnTo>
                  <a:pt x="624" y="94"/>
                </a:lnTo>
                <a:lnTo>
                  <a:pt x="633" y="84"/>
                </a:lnTo>
                <a:lnTo>
                  <a:pt x="642" y="73"/>
                </a:lnTo>
                <a:lnTo>
                  <a:pt x="652" y="63"/>
                </a:lnTo>
                <a:lnTo>
                  <a:pt x="662" y="54"/>
                </a:lnTo>
                <a:lnTo>
                  <a:pt x="673" y="46"/>
                </a:lnTo>
                <a:lnTo>
                  <a:pt x="684" y="38"/>
                </a:lnTo>
                <a:lnTo>
                  <a:pt x="694" y="32"/>
                </a:lnTo>
                <a:lnTo>
                  <a:pt x="706" y="27"/>
                </a:lnTo>
                <a:lnTo>
                  <a:pt x="717" y="21"/>
                </a:lnTo>
                <a:lnTo>
                  <a:pt x="729" y="16"/>
                </a:lnTo>
                <a:lnTo>
                  <a:pt x="741" y="13"/>
                </a:lnTo>
                <a:lnTo>
                  <a:pt x="753" y="8"/>
                </a:lnTo>
                <a:lnTo>
                  <a:pt x="765" y="6"/>
                </a:lnTo>
                <a:lnTo>
                  <a:pt x="779" y="4"/>
                </a:lnTo>
                <a:lnTo>
                  <a:pt x="792" y="1"/>
                </a:lnTo>
                <a:lnTo>
                  <a:pt x="804" y="0"/>
                </a:lnTo>
                <a:lnTo>
                  <a:pt x="818" y="0"/>
                </a:lnTo>
                <a:lnTo>
                  <a:pt x="831" y="0"/>
                </a:lnTo>
                <a:lnTo>
                  <a:pt x="843" y="1"/>
                </a:lnTo>
                <a:lnTo>
                  <a:pt x="856" y="4"/>
                </a:lnTo>
                <a:lnTo>
                  <a:pt x="868" y="7"/>
                </a:lnTo>
                <a:lnTo>
                  <a:pt x="881" y="11"/>
                </a:lnTo>
                <a:lnTo>
                  <a:pt x="902" y="23"/>
                </a:lnTo>
                <a:lnTo>
                  <a:pt x="922" y="35"/>
                </a:lnTo>
                <a:lnTo>
                  <a:pt x="943" y="47"/>
                </a:lnTo>
                <a:lnTo>
                  <a:pt x="964" y="59"/>
                </a:lnTo>
                <a:lnTo>
                  <a:pt x="983" y="73"/>
                </a:lnTo>
                <a:lnTo>
                  <a:pt x="1001" y="87"/>
                </a:lnTo>
                <a:lnTo>
                  <a:pt x="1017" y="104"/>
                </a:lnTo>
                <a:lnTo>
                  <a:pt x="1031" y="1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65560" y="596880"/>
            <a:ext cx="511200" cy="593640"/>
          </a:xfrm>
          <a:custGeom>
            <a:avLst/>
            <a:gdLst/>
            <a:ahLst/>
            <a:rect l="l" t="t" r="r" b="b"/>
            <a:pathLst>
              <a:path w="394" h="641">
                <a:moveTo>
                  <a:pt x="394" y="64"/>
                </a:moveTo>
                <a:lnTo>
                  <a:pt x="386" y="71"/>
                </a:lnTo>
                <a:lnTo>
                  <a:pt x="371" y="70"/>
                </a:lnTo>
                <a:lnTo>
                  <a:pt x="356" y="70"/>
                </a:lnTo>
                <a:lnTo>
                  <a:pt x="340" y="71"/>
                </a:lnTo>
                <a:lnTo>
                  <a:pt x="325" y="72"/>
                </a:lnTo>
                <a:lnTo>
                  <a:pt x="311" y="74"/>
                </a:lnTo>
                <a:lnTo>
                  <a:pt x="297" y="77"/>
                </a:lnTo>
                <a:lnTo>
                  <a:pt x="282" y="80"/>
                </a:lnTo>
                <a:lnTo>
                  <a:pt x="268" y="85"/>
                </a:lnTo>
                <a:lnTo>
                  <a:pt x="253" y="89"/>
                </a:lnTo>
                <a:lnTo>
                  <a:pt x="239" y="94"/>
                </a:lnTo>
                <a:lnTo>
                  <a:pt x="225" y="100"/>
                </a:lnTo>
                <a:lnTo>
                  <a:pt x="213" y="106"/>
                </a:lnTo>
                <a:lnTo>
                  <a:pt x="199" y="113"/>
                </a:lnTo>
                <a:lnTo>
                  <a:pt x="187" y="120"/>
                </a:lnTo>
                <a:lnTo>
                  <a:pt x="174" y="128"/>
                </a:lnTo>
                <a:lnTo>
                  <a:pt x="161" y="136"/>
                </a:lnTo>
                <a:lnTo>
                  <a:pt x="145" y="156"/>
                </a:lnTo>
                <a:lnTo>
                  <a:pt x="129" y="175"/>
                </a:lnTo>
                <a:lnTo>
                  <a:pt x="114" y="195"/>
                </a:lnTo>
                <a:lnTo>
                  <a:pt x="101" y="214"/>
                </a:lnTo>
                <a:lnTo>
                  <a:pt x="91" y="235"/>
                </a:lnTo>
                <a:lnTo>
                  <a:pt x="85" y="257"/>
                </a:lnTo>
                <a:lnTo>
                  <a:pt x="83" y="280"/>
                </a:lnTo>
                <a:lnTo>
                  <a:pt x="88" y="305"/>
                </a:lnTo>
                <a:lnTo>
                  <a:pt x="97" y="283"/>
                </a:lnTo>
                <a:lnTo>
                  <a:pt x="106" y="263"/>
                </a:lnTo>
                <a:lnTo>
                  <a:pt x="117" y="242"/>
                </a:lnTo>
                <a:lnTo>
                  <a:pt x="127" y="221"/>
                </a:lnTo>
                <a:lnTo>
                  <a:pt x="140" y="202"/>
                </a:lnTo>
                <a:lnTo>
                  <a:pt x="152" y="185"/>
                </a:lnTo>
                <a:lnTo>
                  <a:pt x="167" y="167"/>
                </a:lnTo>
                <a:lnTo>
                  <a:pt x="183" y="152"/>
                </a:lnTo>
                <a:lnTo>
                  <a:pt x="193" y="174"/>
                </a:lnTo>
                <a:lnTo>
                  <a:pt x="203" y="196"/>
                </a:lnTo>
                <a:lnTo>
                  <a:pt x="211" y="219"/>
                </a:lnTo>
                <a:lnTo>
                  <a:pt x="217" y="242"/>
                </a:lnTo>
                <a:lnTo>
                  <a:pt x="223" y="265"/>
                </a:lnTo>
                <a:lnTo>
                  <a:pt x="228" y="289"/>
                </a:lnTo>
                <a:lnTo>
                  <a:pt x="232" y="314"/>
                </a:lnTo>
                <a:lnTo>
                  <a:pt x="236" y="338"/>
                </a:lnTo>
                <a:lnTo>
                  <a:pt x="238" y="364"/>
                </a:lnTo>
                <a:lnTo>
                  <a:pt x="239" y="389"/>
                </a:lnTo>
                <a:lnTo>
                  <a:pt x="240" y="414"/>
                </a:lnTo>
                <a:lnTo>
                  <a:pt x="240" y="439"/>
                </a:lnTo>
                <a:lnTo>
                  <a:pt x="240" y="466"/>
                </a:lnTo>
                <a:lnTo>
                  <a:pt x="240" y="491"/>
                </a:lnTo>
                <a:lnTo>
                  <a:pt x="239" y="517"/>
                </a:lnTo>
                <a:lnTo>
                  <a:pt x="237" y="543"/>
                </a:lnTo>
                <a:lnTo>
                  <a:pt x="233" y="556"/>
                </a:lnTo>
                <a:lnTo>
                  <a:pt x="229" y="571"/>
                </a:lnTo>
                <a:lnTo>
                  <a:pt x="223" y="586"/>
                </a:lnTo>
                <a:lnTo>
                  <a:pt x="217" y="600"/>
                </a:lnTo>
                <a:lnTo>
                  <a:pt x="209" y="613"/>
                </a:lnTo>
                <a:lnTo>
                  <a:pt x="200" y="624"/>
                </a:lnTo>
                <a:lnTo>
                  <a:pt x="189" y="634"/>
                </a:lnTo>
                <a:lnTo>
                  <a:pt x="175" y="641"/>
                </a:lnTo>
                <a:lnTo>
                  <a:pt x="168" y="629"/>
                </a:lnTo>
                <a:lnTo>
                  <a:pt x="160" y="616"/>
                </a:lnTo>
                <a:lnTo>
                  <a:pt x="152" y="603"/>
                </a:lnTo>
                <a:lnTo>
                  <a:pt x="143" y="592"/>
                </a:lnTo>
                <a:lnTo>
                  <a:pt x="133" y="580"/>
                </a:lnTo>
                <a:lnTo>
                  <a:pt x="122" y="568"/>
                </a:lnTo>
                <a:lnTo>
                  <a:pt x="112" y="556"/>
                </a:lnTo>
                <a:lnTo>
                  <a:pt x="103" y="545"/>
                </a:lnTo>
                <a:lnTo>
                  <a:pt x="94" y="532"/>
                </a:lnTo>
                <a:lnTo>
                  <a:pt x="85" y="520"/>
                </a:lnTo>
                <a:lnTo>
                  <a:pt x="77" y="507"/>
                </a:lnTo>
                <a:lnTo>
                  <a:pt x="71" y="493"/>
                </a:lnTo>
                <a:lnTo>
                  <a:pt x="65" y="478"/>
                </a:lnTo>
                <a:lnTo>
                  <a:pt x="62" y="463"/>
                </a:lnTo>
                <a:lnTo>
                  <a:pt x="61" y="448"/>
                </a:lnTo>
                <a:lnTo>
                  <a:pt x="61" y="431"/>
                </a:lnTo>
                <a:lnTo>
                  <a:pt x="77" y="366"/>
                </a:lnTo>
                <a:lnTo>
                  <a:pt x="66" y="365"/>
                </a:lnTo>
                <a:lnTo>
                  <a:pt x="57" y="367"/>
                </a:lnTo>
                <a:lnTo>
                  <a:pt x="48" y="370"/>
                </a:lnTo>
                <a:lnTo>
                  <a:pt x="39" y="375"/>
                </a:lnTo>
                <a:lnTo>
                  <a:pt x="31" y="381"/>
                </a:lnTo>
                <a:lnTo>
                  <a:pt x="22" y="383"/>
                </a:lnTo>
                <a:lnTo>
                  <a:pt x="11" y="384"/>
                </a:lnTo>
                <a:lnTo>
                  <a:pt x="0" y="382"/>
                </a:lnTo>
                <a:lnTo>
                  <a:pt x="6" y="382"/>
                </a:lnTo>
                <a:lnTo>
                  <a:pt x="11" y="380"/>
                </a:lnTo>
                <a:lnTo>
                  <a:pt x="17" y="377"/>
                </a:lnTo>
                <a:lnTo>
                  <a:pt x="23" y="374"/>
                </a:lnTo>
                <a:lnTo>
                  <a:pt x="27" y="369"/>
                </a:lnTo>
                <a:lnTo>
                  <a:pt x="32" y="365"/>
                </a:lnTo>
                <a:lnTo>
                  <a:pt x="35" y="360"/>
                </a:lnTo>
                <a:lnTo>
                  <a:pt x="39" y="354"/>
                </a:lnTo>
                <a:lnTo>
                  <a:pt x="42" y="341"/>
                </a:lnTo>
                <a:lnTo>
                  <a:pt x="43" y="328"/>
                </a:lnTo>
                <a:lnTo>
                  <a:pt x="43" y="315"/>
                </a:lnTo>
                <a:lnTo>
                  <a:pt x="41" y="304"/>
                </a:lnTo>
                <a:lnTo>
                  <a:pt x="38" y="291"/>
                </a:lnTo>
                <a:lnTo>
                  <a:pt x="34" y="280"/>
                </a:lnTo>
                <a:lnTo>
                  <a:pt x="30" y="268"/>
                </a:lnTo>
                <a:lnTo>
                  <a:pt x="26" y="257"/>
                </a:lnTo>
                <a:lnTo>
                  <a:pt x="22" y="246"/>
                </a:lnTo>
                <a:lnTo>
                  <a:pt x="17" y="235"/>
                </a:lnTo>
                <a:lnTo>
                  <a:pt x="15" y="224"/>
                </a:lnTo>
                <a:lnTo>
                  <a:pt x="12" y="211"/>
                </a:lnTo>
                <a:lnTo>
                  <a:pt x="12" y="199"/>
                </a:lnTo>
                <a:lnTo>
                  <a:pt x="14" y="187"/>
                </a:lnTo>
                <a:lnTo>
                  <a:pt x="17" y="174"/>
                </a:lnTo>
                <a:lnTo>
                  <a:pt x="23" y="160"/>
                </a:lnTo>
                <a:lnTo>
                  <a:pt x="35" y="134"/>
                </a:lnTo>
                <a:lnTo>
                  <a:pt x="49" y="109"/>
                </a:lnTo>
                <a:lnTo>
                  <a:pt x="66" y="84"/>
                </a:lnTo>
                <a:lnTo>
                  <a:pt x="85" y="61"/>
                </a:lnTo>
                <a:lnTo>
                  <a:pt x="105" y="40"/>
                </a:lnTo>
                <a:lnTo>
                  <a:pt x="129" y="23"/>
                </a:lnTo>
                <a:lnTo>
                  <a:pt x="154" y="10"/>
                </a:lnTo>
                <a:lnTo>
                  <a:pt x="183" y="2"/>
                </a:lnTo>
                <a:lnTo>
                  <a:pt x="198" y="0"/>
                </a:lnTo>
                <a:lnTo>
                  <a:pt x="212" y="0"/>
                </a:lnTo>
                <a:lnTo>
                  <a:pt x="227" y="0"/>
                </a:lnTo>
                <a:lnTo>
                  <a:pt x="240" y="0"/>
                </a:lnTo>
                <a:lnTo>
                  <a:pt x="254" y="1"/>
                </a:lnTo>
                <a:lnTo>
                  <a:pt x="268" y="3"/>
                </a:lnTo>
                <a:lnTo>
                  <a:pt x="282" y="7"/>
                </a:lnTo>
                <a:lnTo>
                  <a:pt x="295" y="10"/>
                </a:lnTo>
                <a:lnTo>
                  <a:pt x="309" y="15"/>
                </a:lnTo>
                <a:lnTo>
                  <a:pt x="322" y="19"/>
                </a:lnTo>
                <a:lnTo>
                  <a:pt x="334" y="25"/>
                </a:lnTo>
                <a:lnTo>
                  <a:pt x="347" y="32"/>
                </a:lnTo>
                <a:lnTo>
                  <a:pt x="360" y="39"/>
                </a:lnTo>
                <a:lnTo>
                  <a:pt x="371" y="47"/>
                </a:lnTo>
                <a:lnTo>
                  <a:pt x="382" y="55"/>
                </a:lnTo>
                <a:lnTo>
                  <a:pt x="394" y="64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19360" y="682560"/>
            <a:ext cx="517680" cy="496800"/>
          </a:xfrm>
          <a:custGeom>
            <a:avLst/>
            <a:gdLst/>
            <a:ahLst/>
            <a:rect l="l" t="t" r="r" b="b"/>
            <a:pathLst>
              <a:path w="397" h="540">
                <a:moveTo>
                  <a:pt x="229" y="19"/>
                </a:moveTo>
                <a:lnTo>
                  <a:pt x="216" y="29"/>
                </a:lnTo>
                <a:lnTo>
                  <a:pt x="202" y="38"/>
                </a:lnTo>
                <a:lnTo>
                  <a:pt x="187" y="49"/>
                </a:lnTo>
                <a:lnTo>
                  <a:pt x="174" y="58"/>
                </a:lnTo>
                <a:lnTo>
                  <a:pt x="160" y="69"/>
                </a:lnTo>
                <a:lnTo>
                  <a:pt x="150" y="82"/>
                </a:lnTo>
                <a:lnTo>
                  <a:pt x="144" y="96"/>
                </a:lnTo>
                <a:lnTo>
                  <a:pt x="142" y="112"/>
                </a:lnTo>
                <a:lnTo>
                  <a:pt x="154" y="105"/>
                </a:lnTo>
                <a:lnTo>
                  <a:pt x="167" y="96"/>
                </a:lnTo>
                <a:lnTo>
                  <a:pt x="178" y="84"/>
                </a:lnTo>
                <a:lnTo>
                  <a:pt x="191" y="73"/>
                </a:lnTo>
                <a:lnTo>
                  <a:pt x="205" y="61"/>
                </a:lnTo>
                <a:lnTo>
                  <a:pt x="218" y="52"/>
                </a:lnTo>
                <a:lnTo>
                  <a:pt x="234" y="44"/>
                </a:lnTo>
                <a:lnTo>
                  <a:pt x="253" y="38"/>
                </a:lnTo>
                <a:lnTo>
                  <a:pt x="266" y="55"/>
                </a:lnTo>
                <a:lnTo>
                  <a:pt x="278" y="73"/>
                </a:lnTo>
                <a:lnTo>
                  <a:pt x="289" y="90"/>
                </a:lnTo>
                <a:lnTo>
                  <a:pt x="300" y="107"/>
                </a:lnTo>
                <a:lnTo>
                  <a:pt x="310" y="125"/>
                </a:lnTo>
                <a:lnTo>
                  <a:pt x="319" y="144"/>
                </a:lnTo>
                <a:lnTo>
                  <a:pt x="327" y="162"/>
                </a:lnTo>
                <a:lnTo>
                  <a:pt x="335" y="181"/>
                </a:lnTo>
                <a:lnTo>
                  <a:pt x="313" y="207"/>
                </a:lnTo>
                <a:lnTo>
                  <a:pt x="323" y="215"/>
                </a:lnTo>
                <a:lnTo>
                  <a:pt x="328" y="212"/>
                </a:lnTo>
                <a:lnTo>
                  <a:pt x="335" y="204"/>
                </a:lnTo>
                <a:lnTo>
                  <a:pt x="343" y="196"/>
                </a:lnTo>
                <a:lnTo>
                  <a:pt x="348" y="218"/>
                </a:lnTo>
                <a:lnTo>
                  <a:pt x="358" y="241"/>
                </a:lnTo>
                <a:lnTo>
                  <a:pt x="371" y="263"/>
                </a:lnTo>
                <a:lnTo>
                  <a:pt x="383" y="284"/>
                </a:lnTo>
                <a:lnTo>
                  <a:pt x="392" y="306"/>
                </a:lnTo>
                <a:lnTo>
                  <a:pt x="397" y="326"/>
                </a:lnTo>
                <a:lnTo>
                  <a:pt x="395" y="348"/>
                </a:lnTo>
                <a:lnTo>
                  <a:pt x="381" y="371"/>
                </a:lnTo>
                <a:lnTo>
                  <a:pt x="378" y="399"/>
                </a:lnTo>
                <a:lnTo>
                  <a:pt x="373" y="393"/>
                </a:lnTo>
                <a:lnTo>
                  <a:pt x="367" y="388"/>
                </a:lnTo>
                <a:lnTo>
                  <a:pt x="364" y="385"/>
                </a:lnTo>
                <a:lnTo>
                  <a:pt x="359" y="380"/>
                </a:lnTo>
                <a:lnTo>
                  <a:pt x="356" y="376"/>
                </a:lnTo>
                <a:lnTo>
                  <a:pt x="352" y="371"/>
                </a:lnTo>
                <a:lnTo>
                  <a:pt x="350" y="367"/>
                </a:lnTo>
                <a:lnTo>
                  <a:pt x="348" y="360"/>
                </a:lnTo>
                <a:lnTo>
                  <a:pt x="337" y="357"/>
                </a:lnTo>
                <a:lnTo>
                  <a:pt x="327" y="357"/>
                </a:lnTo>
                <a:lnTo>
                  <a:pt x="316" y="357"/>
                </a:lnTo>
                <a:lnTo>
                  <a:pt x="307" y="360"/>
                </a:lnTo>
                <a:lnTo>
                  <a:pt x="296" y="363"/>
                </a:lnTo>
                <a:lnTo>
                  <a:pt x="287" y="368"/>
                </a:lnTo>
                <a:lnTo>
                  <a:pt x="278" y="375"/>
                </a:lnTo>
                <a:lnTo>
                  <a:pt x="271" y="383"/>
                </a:lnTo>
                <a:lnTo>
                  <a:pt x="263" y="393"/>
                </a:lnTo>
                <a:lnTo>
                  <a:pt x="258" y="403"/>
                </a:lnTo>
                <a:lnTo>
                  <a:pt x="254" y="415"/>
                </a:lnTo>
                <a:lnTo>
                  <a:pt x="252" y="426"/>
                </a:lnTo>
                <a:lnTo>
                  <a:pt x="249" y="439"/>
                </a:lnTo>
                <a:lnTo>
                  <a:pt x="247" y="450"/>
                </a:lnTo>
                <a:lnTo>
                  <a:pt x="246" y="463"/>
                </a:lnTo>
                <a:lnTo>
                  <a:pt x="245" y="474"/>
                </a:lnTo>
                <a:lnTo>
                  <a:pt x="29" y="540"/>
                </a:lnTo>
                <a:lnTo>
                  <a:pt x="41" y="513"/>
                </a:lnTo>
                <a:lnTo>
                  <a:pt x="50" y="487"/>
                </a:lnTo>
                <a:lnTo>
                  <a:pt x="58" y="458"/>
                </a:lnTo>
                <a:lnTo>
                  <a:pt x="64" y="430"/>
                </a:lnTo>
                <a:lnTo>
                  <a:pt x="67" y="401"/>
                </a:lnTo>
                <a:lnTo>
                  <a:pt x="69" y="371"/>
                </a:lnTo>
                <a:lnTo>
                  <a:pt x="69" y="340"/>
                </a:lnTo>
                <a:lnTo>
                  <a:pt x="69" y="310"/>
                </a:lnTo>
                <a:lnTo>
                  <a:pt x="66" y="279"/>
                </a:lnTo>
                <a:lnTo>
                  <a:pt x="63" y="249"/>
                </a:lnTo>
                <a:lnTo>
                  <a:pt x="58" y="220"/>
                </a:lnTo>
                <a:lnTo>
                  <a:pt x="52" y="190"/>
                </a:lnTo>
                <a:lnTo>
                  <a:pt x="45" y="160"/>
                </a:lnTo>
                <a:lnTo>
                  <a:pt x="37" y="131"/>
                </a:lnTo>
                <a:lnTo>
                  <a:pt x="28" y="104"/>
                </a:lnTo>
                <a:lnTo>
                  <a:pt x="19" y="76"/>
                </a:lnTo>
                <a:lnTo>
                  <a:pt x="0" y="54"/>
                </a:lnTo>
                <a:lnTo>
                  <a:pt x="11" y="47"/>
                </a:lnTo>
                <a:lnTo>
                  <a:pt x="24" y="41"/>
                </a:lnTo>
                <a:lnTo>
                  <a:pt x="36" y="34"/>
                </a:lnTo>
                <a:lnTo>
                  <a:pt x="49" y="29"/>
                </a:lnTo>
                <a:lnTo>
                  <a:pt x="61" y="23"/>
                </a:lnTo>
                <a:lnTo>
                  <a:pt x="75" y="19"/>
                </a:lnTo>
                <a:lnTo>
                  <a:pt x="88" y="15"/>
                </a:lnTo>
                <a:lnTo>
                  <a:pt x="102" y="12"/>
                </a:lnTo>
                <a:lnTo>
                  <a:pt x="115" y="8"/>
                </a:lnTo>
                <a:lnTo>
                  <a:pt x="129" y="6"/>
                </a:lnTo>
                <a:lnTo>
                  <a:pt x="144" y="4"/>
                </a:lnTo>
                <a:lnTo>
                  <a:pt x="158" y="3"/>
                </a:lnTo>
                <a:lnTo>
                  <a:pt x="173" y="2"/>
                </a:lnTo>
                <a:lnTo>
                  <a:pt x="187" y="0"/>
                </a:lnTo>
                <a:lnTo>
                  <a:pt x="202" y="0"/>
                </a:lnTo>
                <a:lnTo>
                  <a:pt x="217" y="0"/>
                </a:lnTo>
                <a:lnTo>
                  <a:pt x="221" y="4"/>
                </a:lnTo>
                <a:lnTo>
                  <a:pt x="226" y="8"/>
                </a:lnTo>
                <a:lnTo>
                  <a:pt x="230" y="13"/>
                </a:lnTo>
                <a:lnTo>
                  <a:pt x="229" y="1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73600" y="1035000"/>
            <a:ext cx="142920" cy="155520"/>
          </a:xfrm>
          <a:custGeom>
            <a:avLst/>
            <a:gdLst/>
            <a:ahLst/>
            <a:rect l="l" t="t" r="r" b="b"/>
            <a:pathLst>
              <a:path w="111" h="168">
                <a:moveTo>
                  <a:pt x="110" y="65"/>
                </a:moveTo>
                <a:lnTo>
                  <a:pt x="111" y="80"/>
                </a:lnTo>
                <a:lnTo>
                  <a:pt x="111" y="95"/>
                </a:lnTo>
                <a:lnTo>
                  <a:pt x="110" y="110"/>
                </a:lnTo>
                <a:lnTo>
                  <a:pt x="109" y="124"/>
                </a:lnTo>
                <a:lnTo>
                  <a:pt x="104" y="136"/>
                </a:lnTo>
                <a:lnTo>
                  <a:pt x="100" y="149"/>
                </a:lnTo>
                <a:lnTo>
                  <a:pt x="92" y="159"/>
                </a:lnTo>
                <a:lnTo>
                  <a:pt x="80" y="168"/>
                </a:lnTo>
                <a:lnTo>
                  <a:pt x="73" y="166"/>
                </a:lnTo>
                <a:lnTo>
                  <a:pt x="68" y="160"/>
                </a:lnTo>
                <a:lnTo>
                  <a:pt x="63" y="155"/>
                </a:lnTo>
                <a:lnTo>
                  <a:pt x="57" y="149"/>
                </a:lnTo>
                <a:lnTo>
                  <a:pt x="54" y="153"/>
                </a:lnTo>
                <a:lnTo>
                  <a:pt x="53" y="158"/>
                </a:lnTo>
                <a:lnTo>
                  <a:pt x="53" y="164"/>
                </a:lnTo>
                <a:lnTo>
                  <a:pt x="53" y="168"/>
                </a:lnTo>
                <a:lnTo>
                  <a:pt x="46" y="159"/>
                </a:lnTo>
                <a:lnTo>
                  <a:pt x="37" y="149"/>
                </a:lnTo>
                <a:lnTo>
                  <a:pt x="28" y="138"/>
                </a:lnTo>
                <a:lnTo>
                  <a:pt x="18" y="127"/>
                </a:lnTo>
                <a:lnTo>
                  <a:pt x="9" y="114"/>
                </a:lnTo>
                <a:lnTo>
                  <a:pt x="3" y="102"/>
                </a:lnTo>
                <a:lnTo>
                  <a:pt x="0" y="88"/>
                </a:lnTo>
                <a:lnTo>
                  <a:pt x="0" y="73"/>
                </a:lnTo>
                <a:lnTo>
                  <a:pt x="2" y="65"/>
                </a:lnTo>
                <a:lnTo>
                  <a:pt x="3" y="56"/>
                </a:lnTo>
                <a:lnTo>
                  <a:pt x="3" y="47"/>
                </a:lnTo>
                <a:lnTo>
                  <a:pt x="5" y="39"/>
                </a:lnTo>
                <a:lnTo>
                  <a:pt x="7" y="31"/>
                </a:lnTo>
                <a:lnTo>
                  <a:pt x="9" y="23"/>
                </a:lnTo>
                <a:lnTo>
                  <a:pt x="15" y="17"/>
                </a:lnTo>
                <a:lnTo>
                  <a:pt x="23" y="12"/>
                </a:lnTo>
                <a:lnTo>
                  <a:pt x="22" y="28"/>
                </a:lnTo>
                <a:lnTo>
                  <a:pt x="20" y="44"/>
                </a:lnTo>
                <a:lnTo>
                  <a:pt x="20" y="62"/>
                </a:lnTo>
                <a:lnTo>
                  <a:pt x="21" y="79"/>
                </a:lnTo>
                <a:lnTo>
                  <a:pt x="23" y="95"/>
                </a:lnTo>
                <a:lnTo>
                  <a:pt x="26" y="111"/>
                </a:lnTo>
                <a:lnTo>
                  <a:pt x="33" y="125"/>
                </a:lnTo>
                <a:lnTo>
                  <a:pt x="42" y="138"/>
                </a:lnTo>
                <a:lnTo>
                  <a:pt x="44" y="121"/>
                </a:lnTo>
                <a:lnTo>
                  <a:pt x="42" y="103"/>
                </a:lnTo>
                <a:lnTo>
                  <a:pt x="40" y="85"/>
                </a:lnTo>
                <a:lnTo>
                  <a:pt x="38" y="67"/>
                </a:lnTo>
                <a:lnTo>
                  <a:pt x="38" y="49"/>
                </a:lnTo>
                <a:lnTo>
                  <a:pt x="40" y="32"/>
                </a:lnTo>
                <a:lnTo>
                  <a:pt x="46" y="16"/>
                </a:lnTo>
                <a:lnTo>
                  <a:pt x="57" y="0"/>
                </a:lnTo>
                <a:lnTo>
                  <a:pt x="66" y="4"/>
                </a:lnTo>
                <a:lnTo>
                  <a:pt x="74" y="11"/>
                </a:lnTo>
                <a:lnTo>
                  <a:pt x="83" y="18"/>
                </a:lnTo>
                <a:lnTo>
                  <a:pt x="91" y="26"/>
                </a:lnTo>
                <a:lnTo>
                  <a:pt x="97" y="35"/>
                </a:lnTo>
                <a:lnTo>
                  <a:pt x="103" y="44"/>
                </a:lnTo>
                <a:lnTo>
                  <a:pt x="108" y="55"/>
                </a:lnTo>
                <a:lnTo>
                  <a:pt x="11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90840" y="1141560"/>
            <a:ext cx="1727280" cy="1252440"/>
          </a:xfrm>
          <a:custGeom>
            <a:avLst/>
            <a:gdLst/>
            <a:ahLst/>
            <a:rect l="l" t="t" r="r" b="b"/>
            <a:pathLst>
              <a:path w="1330" h="1356">
                <a:moveTo>
                  <a:pt x="416" y="82"/>
                </a:moveTo>
                <a:lnTo>
                  <a:pt x="427" y="86"/>
                </a:lnTo>
                <a:lnTo>
                  <a:pt x="439" y="86"/>
                </a:lnTo>
                <a:lnTo>
                  <a:pt x="449" y="84"/>
                </a:lnTo>
                <a:lnTo>
                  <a:pt x="459" y="78"/>
                </a:lnTo>
                <a:lnTo>
                  <a:pt x="468" y="72"/>
                </a:lnTo>
                <a:lnTo>
                  <a:pt x="476" y="63"/>
                </a:lnTo>
                <a:lnTo>
                  <a:pt x="484" y="54"/>
                </a:lnTo>
                <a:lnTo>
                  <a:pt x="492" y="46"/>
                </a:lnTo>
                <a:lnTo>
                  <a:pt x="492" y="41"/>
                </a:lnTo>
                <a:lnTo>
                  <a:pt x="495" y="36"/>
                </a:lnTo>
                <a:lnTo>
                  <a:pt x="496" y="30"/>
                </a:lnTo>
                <a:lnTo>
                  <a:pt x="498" y="26"/>
                </a:lnTo>
                <a:lnTo>
                  <a:pt x="500" y="21"/>
                </a:lnTo>
                <a:lnTo>
                  <a:pt x="502" y="16"/>
                </a:lnTo>
                <a:lnTo>
                  <a:pt x="502" y="11"/>
                </a:lnTo>
                <a:lnTo>
                  <a:pt x="500" y="5"/>
                </a:lnTo>
                <a:lnTo>
                  <a:pt x="510" y="16"/>
                </a:lnTo>
                <a:lnTo>
                  <a:pt x="521" y="26"/>
                </a:lnTo>
                <a:lnTo>
                  <a:pt x="533" y="31"/>
                </a:lnTo>
                <a:lnTo>
                  <a:pt x="545" y="36"/>
                </a:lnTo>
                <a:lnTo>
                  <a:pt x="559" y="38"/>
                </a:lnTo>
                <a:lnTo>
                  <a:pt x="573" y="41"/>
                </a:lnTo>
                <a:lnTo>
                  <a:pt x="586" y="41"/>
                </a:lnTo>
                <a:lnTo>
                  <a:pt x="601" y="39"/>
                </a:lnTo>
                <a:lnTo>
                  <a:pt x="616" y="38"/>
                </a:lnTo>
                <a:lnTo>
                  <a:pt x="632" y="36"/>
                </a:lnTo>
                <a:lnTo>
                  <a:pt x="647" y="35"/>
                </a:lnTo>
                <a:lnTo>
                  <a:pt x="662" y="34"/>
                </a:lnTo>
                <a:lnTo>
                  <a:pt x="677" y="32"/>
                </a:lnTo>
                <a:lnTo>
                  <a:pt x="691" y="34"/>
                </a:lnTo>
                <a:lnTo>
                  <a:pt x="704" y="35"/>
                </a:lnTo>
                <a:lnTo>
                  <a:pt x="718" y="38"/>
                </a:lnTo>
                <a:lnTo>
                  <a:pt x="754" y="43"/>
                </a:lnTo>
                <a:lnTo>
                  <a:pt x="788" y="49"/>
                </a:lnTo>
                <a:lnTo>
                  <a:pt x="824" y="55"/>
                </a:lnTo>
                <a:lnTo>
                  <a:pt x="858" y="62"/>
                </a:lnTo>
                <a:lnTo>
                  <a:pt x="892" y="70"/>
                </a:lnTo>
                <a:lnTo>
                  <a:pt x="925" y="78"/>
                </a:lnTo>
                <a:lnTo>
                  <a:pt x="959" y="88"/>
                </a:lnTo>
                <a:lnTo>
                  <a:pt x="992" y="98"/>
                </a:lnTo>
                <a:lnTo>
                  <a:pt x="1025" y="109"/>
                </a:lnTo>
                <a:lnTo>
                  <a:pt x="1057" y="121"/>
                </a:lnTo>
                <a:lnTo>
                  <a:pt x="1090" y="132"/>
                </a:lnTo>
                <a:lnTo>
                  <a:pt x="1121" y="146"/>
                </a:lnTo>
                <a:lnTo>
                  <a:pt x="1153" y="160"/>
                </a:lnTo>
                <a:lnTo>
                  <a:pt x="1184" y="175"/>
                </a:lnTo>
                <a:lnTo>
                  <a:pt x="1215" y="191"/>
                </a:lnTo>
                <a:lnTo>
                  <a:pt x="1245" y="207"/>
                </a:lnTo>
                <a:lnTo>
                  <a:pt x="1259" y="220"/>
                </a:lnTo>
                <a:lnTo>
                  <a:pt x="1273" y="231"/>
                </a:lnTo>
                <a:lnTo>
                  <a:pt x="1287" y="241"/>
                </a:lnTo>
                <a:lnTo>
                  <a:pt x="1301" y="254"/>
                </a:lnTo>
                <a:lnTo>
                  <a:pt x="1314" y="267"/>
                </a:lnTo>
                <a:lnTo>
                  <a:pt x="1323" y="282"/>
                </a:lnTo>
                <a:lnTo>
                  <a:pt x="1329" y="299"/>
                </a:lnTo>
                <a:lnTo>
                  <a:pt x="1330" y="319"/>
                </a:lnTo>
                <a:lnTo>
                  <a:pt x="1305" y="334"/>
                </a:lnTo>
                <a:lnTo>
                  <a:pt x="1277" y="347"/>
                </a:lnTo>
                <a:lnTo>
                  <a:pt x="1250" y="358"/>
                </a:lnTo>
                <a:lnTo>
                  <a:pt x="1221" y="368"/>
                </a:lnTo>
                <a:lnTo>
                  <a:pt x="1192" y="374"/>
                </a:lnTo>
                <a:lnTo>
                  <a:pt x="1163" y="380"/>
                </a:lnTo>
                <a:lnTo>
                  <a:pt x="1132" y="385"/>
                </a:lnTo>
                <a:lnTo>
                  <a:pt x="1101" y="387"/>
                </a:lnTo>
                <a:lnTo>
                  <a:pt x="1070" y="389"/>
                </a:lnTo>
                <a:lnTo>
                  <a:pt x="1039" y="391"/>
                </a:lnTo>
                <a:lnTo>
                  <a:pt x="1007" y="392"/>
                </a:lnTo>
                <a:lnTo>
                  <a:pt x="976" y="391"/>
                </a:lnTo>
                <a:lnTo>
                  <a:pt x="944" y="391"/>
                </a:lnTo>
                <a:lnTo>
                  <a:pt x="913" y="389"/>
                </a:lnTo>
                <a:lnTo>
                  <a:pt x="882" y="388"/>
                </a:lnTo>
                <a:lnTo>
                  <a:pt x="852" y="387"/>
                </a:lnTo>
                <a:lnTo>
                  <a:pt x="830" y="384"/>
                </a:lnTo>
                <a:lnTo>
                  <a:pt x="809" y="381"/>
                </a:lnTo>
                <a:lnTo>
                  <a:pt x="787" y="379"/>
                </a:lnTo>
                <a:lnTo>
                  <a:pt x="764" y="376"/>
                </a:lnTo>
                <a:lnTo>
                  <a:pt x="742" y="373"/>
                </a:lnTo>
                <a:lnTo>
                  <a:pt x="719" y="370"/>
                </a:lnTo>
                <a:lnTo>
                  <a:pt x="698" y="366"/>
                </a:lnTo>
                <a:lnTo>
                  <a:pt x="675" y="363"/>
                </a:lnTo>
                <a:lnTo>
                  <a:pt x="653" y="358"/>
                </a:lnTo>
                <a:lnTo>
                  <a:pt x="631" y="353"/>
                </a:lnTo>
                <a:lnTo>
                  <a:pt x="609" y="347"/>
                </a:lnTo>
                <a:lnTo>
                  <a:pt x="589" y="340"/>
                </a:lnTo>
                <a:lnTo>
                  <a:pt x="568" y="332"/>
                </a:lnTo>
                <a:lnTo>
                  <a:pt x="549" y="323"/>
                </a:lnTo>
                <a:lnTo>
                  <a:pt x="530" y="313"/>
                </a:lnTo>
                <a:lnTo>
                  <a:pt x="512" y="300"/>
                </a:lnTo>
                <a:lnTo>
                  <a:pt x="510" y="288"/>
                </a:lnTo>
                <a:lnTo>
                  <a:pt x="509" y="276"/>
                </a:lnTo>
                <a:lnTo>
                  <a:pt x="507" y="261"/>
                </a:lnTo>
                <a:lnTo>
                  <a:pt x="505" y="247"/>
                </a:lnTo>
                <a:lnTo>
                  <a:pt x="503" y="234"/>
                </a:lnTo>
                <a:lnTo>
                  <a:pt x="497" y="223"/>
                </a:lnTo>
                <a:lnTo>
                  <a:pt x="489" y="215"/>
                </a:lnTo>
                <a:lnTo>
                  <a:pt x="478" y="210"/>
                </a:lnTo>
                <a:lnTo>
                  <a:pt x="474" y="217"/>
                </a:lnTo>
                <a:lnTo>
                  <a:pt x="478" y="224"/>
                </a:lnTo>
                <a:lnTo>
                  <a:pt x="483" y="230"/>
                </a:lnTo>
                <a:lnTo>
                  <a:pt x="481" y="238"/>
                </a:lnTo>
                <a:lnTo>
                  <a:pt x="484" y="278"/>
                </a:lnTo>
                <a:lnTo>
                  <a:pt x="487" y="319"/>
                </a:lnTo>
                <a:lnTo>
                  <a:pt x="489" y="361"/>
                </a:lnTo>
                <a:lnTo>
                  <a:pt x="489" y="403"/>
                </a:lnTo>
                <a:lnTo>
                  <a:pt x="489" y="445"/>
                </a:lnTo>
                <a:lnTo>
                  <a:pt x="488" y="487"/>
                </a:lnTo>
                <a:lnTo>
                  <a:pt x="487" y="528"/>
                </a:lnTo>
                <a:lnTo>
                  <a:pt x="483" y="571"/>
                </a:lnTo>
                <a:lnTo>
                  <a:pt x="479" y="612"/>
                </a:lnTo>
                <a:lnTo>
                  <a:pt x="474" y="653"/>
                </a:lnTo>
                <a:lnTo>
                  <a:pt x="467" y="695"/>
                </a:lnTo>
                <a:lnTo>
                  <a:pt x="459" y="735"/>
                </a:lnTo>
                <a:lnTo>
                  <a:pt x="450" y="775"/>
                </a:lnTo>
                <a:lnTo>
                  <a:pt x="441" y="813"/>
                </a:lnTo>
                <a:lnTo>
                  <a:pt x="428" y="852"/>
                </a:lnTo>
                <a:lnTo>
                  <a:pt x="416" y="889"/>
                </a:lnTo>
                <a:lnTo>
                  <a:pt x="420" y="904"/>
                </a:lnTo>
                <a:lnTo>
                  <a:pt x="429" y="885"/>
                </a:lnTo>
                <a:lnTo>
                  <a:pt x="439" y="867"/>
                </a:lnTo>
                <a:lnTo>
                  <a:pt x="447" y="848"/>
                </a:lnTo>
                <a:lnTo>
                  <a:pt x="454" y="829"/>
                </a:lnTo>
                <a:lnTo>
                  <a:pt x="460" y="811"/>
                </a:lnTo>
                <a:lnTo>
                  <a:pt x="467" y="791"/>
                </a:lnTo>
                <a:lnTo>
                  <a:pt x="473" y="770"/>
                </a:lnTo>
                <a:lnTo>
                  <a:pt x="479" y="751"/>
                </a:lnTo>
                <a:lnTo>
                  <a:pt x="483" y="730"/>
                </a:lnTo>
                <a:lnTo>
                  <a:pt x="488" y="710"/>
                </a:lnTo>
                <a:lnTo>
                  <a:pt x="492" y="689"/>
                </a:lnTo>
                <a:lnTo>
                  <a:pt x="496" y="668"/>
                </a:lnTo>
                <a:lnTo>
                  <a:pt x="498" y="646"/>
                </a:lnTo>
                <a:lnTo>
                  <a:pt x="502" y="626"/>
                </a:lnTo>
                <a:lnTo>
                  <a:pt x="503" y="604"/>
                </a:lnTo>
                <a:lnTo>
                  <a:pt x="505" y="582"/>
                </a:lnTo>
                <a:lnTo>
                  <a:pt x="518" y="581"/>
                </a:lnTo>
                <a:lnTo>
                  <a:pt x="533" y="582"/>
                </a:lnTo>
                <a:lnTo>
                  <a:pt x="549" y="582"/>
                </a:lnTo>
                <a:lnTo>
                  <a:pt x="566" y="582"/>
                </a:lnTo>
                <a:lnTo>
                  <a:pt x="582" y="580"/>
                </a:lnTo>
                <a:lnTo>
                  <a:pt x="597" y="574"/>
                </a:lnTo>
                <a:lnTo>
                  <a:pt x="608" y="565"/>
                </a:lnTo>
                <a:lnTo>
                  <a:pt x="615" y="551"/>
                </a:lnTo>
                <a:lnTo>
                  <a:pt x="620" y="563"/>
                </a:lnTo>
                <a:lnTo>
                  <a:pt x="623" y="575"/>
                </a:lnTo>
                <a:lnTo>
                  <a:pt x="626" y="588"/>
                </a:lnTo>
                <a:lnTo>
                  <a:pt x="630" y="603"/>
                </a:lnTo>
                <a:lnTo>
                  <a:pt x="633" y="617"/>
                </a:lnTo>
                <a:lnTo>
                  <a:pt x="636" y="632"/>
                </a:lnTo>
                <a:lnTo>
                  <a:pt x="638" y="646"/>
                </a:lnTo>
                <a:lnTo>
                  <a:pt x="640" y="663"/>
                </a:lnTo>
                <a:lnTo>
                  <a:pt x="641" y="677"/>
                </a:lnTo>
                <a:lnTo>
                  <a:pt x="643" y="694"/>
                </a:lnTo>
                <a:lnTo>
                  <a:pt x="643" y="710"/>
                </a:lnTo>
                <a:lnTo>
                  <a:pt x="641" y="725"/>
                </a:lnTo>
                <a:lnTo>
                  <a:pt x="640" y="741"/>
                </a:lnTo>
                <a:lnTo>
                  <a:pt x="638" y="756"/>
                </a:lnTo>
                <a:lnTo>
                  <a:pt x="636" y="770"/>
                </a:lnTo>
                <a:lnTo>
                  <a:pt x="631" y="784"/>
                </a:lnTo>
                <a:lnTo>
                  <a:pt x="635" y="790"/>
                </a:lnTo>
                <a:lnTo>
                  <a:pt x="636" y="797"/>
                </a:lnTo>
                <a:lnTo>
                  <a:pt x="637" y="804"/>
                </a:lnTo>
                <a:lnTo>
                  <a:pt x="643" y="808"/>
                </a:lnTo>
                <a:lnTo>
                  <a:pt x="645" y="803"/>
                </a:lnTo>
                <a:lnTo>
                  <a:pt x="646" y="796"/>
                </a:lnTo>
                <a:lnTo>
                  <a:pt x="645" y="789"/>
                </a:lnTo>
                <a:lnTo>
                  <a:pt x="645" y="781"/>
                </a:lnTo>
                <a:lnTo>
                  <a:pt x="649" y="784"/>
                </a:lnTo>
                <a:lnTo>
                  <a:pt x="655" y="768"/>
                </a:lnTo>
                <a:lnTo>
                  <a:pt x="659" y="751"/>
                </a:lnTo>
                <a:lnTo>
                  <a:pt x="662" y="734"/>
                </a:lnTo>
                <a:lnTo>
                  <a:pt x="663" y="717"/>
                </a:lnTo>
                <a:lnTo>
                  <a:pt x="664" y="698"/>
                </a:lnTo>
                <a:lnTo>
                  <a:pt x="664" y="681"/>
                </a:lnTo>
                <a:lnTo>
                  <a:pt x="663" y="663"/>
                </a:lnTo>
                <a:lnTo>
                  <a:pt x="662" y="644"/>
                </a:lnTo>
                <a:lnTo>
                  <a:pt x="659" y="626"/>
                </a:lnTo>
                <a:lnTo>
                  <a:pt x="656" y="609"/>
                </a:lnTo>
                <a:lnTo>
                  <a:pt x="652" y="590"/>
                </a:lnTo>
                <a:lnTo>
                  <a:pt x="647" y="573"/>
                </a:lnTo>
                <a:lnTo>
                  <a:pt x="643" y="555"/>
                </a:lnTo>
                <a:lnTo>
                  <a:pt x="638" y="539"/>
                </a:lnTo>
                <a:lnTo>
                  <a:pt x="632" y="521"/>
                </a:lnTo>
                <a:lnTo>
                  <a:pt x="626" y="505"/>
                </a:lnTo>
                <a:lnTo>
                  <a:pt x="653" y="379"/>
                </a:lnTo>
                <a:lnTo>
                  <a:pt x="671" y="378"/>
                </a:lnTo>
                <a:lnTo>
                  <a:pt x="687" y="379"/>
                </a:lnTo>
                <a:lnTo>
                  <a:pt x="701" y="384"/>
                </a:lnTo>
                <a:lnTo>
                  <a:pt x="712" y="389"/>
                </a:lnTo>
                <a:lnTo>
                  <a:pt x="723" y="399"/>
                </a:lnTo>
                <a:lnTo>
                  <a:pt x="731" y="410"/>
                </a:lnTo>
                <a:lnTo>
                  <a:pt x="738" y="422"/>
                </a:lnTo>
                <a:lnTo>
                  <a:pt x="744" y="435"/>
                </a:lnTo>
                <a:lnTo>
                  <a:pt x="749" y="449"/>
                </a:lnTo>
                <a:lnTo>
                  <a:pt x="754" y="464"/>
                </a:lnTo>
                <a:lnTo>
                  <a:pt x="758" y="480"/>
                </a:lnTo>
                <a:lnTo>
                  <a:pt x="762" y="495"/>
                </a:lnTo>
                <a:lnTo>
                  <a:pt x="766" y="510"/>
                </a:lnTo>
                <a:lnTo>
                  <a:pt x="771" y="524"/>
                </a:lnTo>
                <a:lnTo>
                  <a:pt x="777" y="537"/>
                </a:lnTo>
                <a:lnTo>
                  <a:pt x="783" y="549"/>
                </a:lnTo>
                <a:lnTo>
                  <a:pt x="787" y="576"/>
                </a:lnTo>
                <a:lnTo>
                  <a:pt x="791" y="603"/>
                </a:lnTo>
                <a:lnTo>
                  <a:pt x="798" y="628"/>
                </a:lnTo>
                <a:lnTo>
                  <a:pt x="805" y="653"/>
                </a:lnTo>
                <a:lnTo>
                  <a:pt x="814" y="677"/>
                </a:lnTo>
                <a:lnTo>
                  <a:pt x="825" y="702"/>
                </a:lnTo>
                <a:lnTo>
                  <a:pt x="835" y="723"/>
                </a:lnTo>
                <a:lnTo>
                  <a:pt x="848" y="746"/>
                </a:lnTo>
                <a:lnTo>
                  <a:pt x="861" y="768"/>
                </a:lnTo>
                <a:lnTo>
                  <a:pt x="876" y="789"/>
                </a:lnTo>
                <a:lnTo>
                  <a:pt x="892" y="811"/>
                </a:lnTo>
                <a:lnTo>
                  <a:pt x="908" y="831"/>
                </a:lnTo>
                <a:lnTo>
                  <a:pt x="927" y="851"/>
                </a:lnTo>
                <a:lnTo>
                  <a:pt x="946" y="871"/>
                </a:lnTo>
                <a:lnTo>
                  <a:pt x="966" y="892"/>
                </a:lnTo>
                <a:lnTo>
                  <a:pt x="986" y="912"/>
                </a:lnTo>
                <a:lnTo>
                  <a:pt x="991" y="920"/>
                </a:lnTo>
                <a:lnTo>
                  <a:pt x="995" y="927"/>
                </a:lnTo>
                <a:lnTo>
                  <a:pt x="1001" y="932"/>
                </a:lnTo>
                <a:lnTo>
                  <a:pt x="1008" y="938"/>
                </a:lnTo>
                <a:lnTo>
                  <a:pt x="1015" y="944"/>
                </a:lnTo>
                <a:lnTo>
                  <a:pt x="1021" y="949"/>
                </a:lnTo>
                <a:lnTo>
                  <a:pt x="1026" y="956"/>
                </a:lnTo>
                <a:lnTo>
                  <a:pt x="1032" y="964"/>
                </a:lnTo>
                <a:lnTo>
                  <a:pt x="1031" y="982"/>
                </a:lnTo>
                <a:lnTo>
                  <a:pt x="1030" y="1000"/>
                </a:lnTo>
                <a:lnTo>
                  <a:pt x="1030" y="1017"/>
                </a:lnTo>
                <a:lnTo>
                  <a:pt x="1029" y="1036"/>
                </a:lnTo>
                <a:lnTo>
                  <a:pt x="1029" y="1053"/>
                </a:lnTo>
                <a:lnTo>
                  <a:pt x="1027" y="1071"/>
                </a:lnTo>
                <a:lnTo>
                  <a:pt x="1026" y="1088"/>
                </a:lnTo>
                <a:lnTo>
                  <a:pt x="1024" y="1106"/>
                </a:lnTo>
                <a:lnTo>
                  <a:pt x="1022" y="1123"/>
                </a:lnTo>
                <a:lnTo>
                  <a:pt x="1018" y="1139"/>
                </a:lnTo>
                <a:lnTo>
                  <a:pt x="1015" y="1155"/>
                </a:lnTo>
                <a:lnTo>
                  <a:pt x="1009" y="1170"/>
                </a:lnTo>
                <a:lnTo>
                  <a:pt x="1003" y="1185"/>
                </a:lnTo>
                <a:lnTo>
                  <a:pt x="995" y="1199"/>
                </a:lnTo>
                <a:lnTo>
                  <a:pt x="986" y="1212"/>
                </a:lnTo>
                <a:lnTo>
                  <a:pt x="975" y="1225"/>
                </a:lnTo>
                <a:lnTo>
                  <a:pt x="938" y="1256"/>
                </a:lnTo>
                <a:lnTo>
                  <a:pt x="900" y="1282"/>
                </a:lnTo>
                <a:lnTo>
                  <a:pt x="858" y="1304"/>
                </a:lnTo>
                <a:lnTo>
                  <a:pt x="814" y="1321"/>
                </a:lnTo>
                <a:lnTo>
                  <a:pt x="770" y="1335"/>
                </a:lnTo>
                <a:lnTo>
                  <a:pt x="723" y="1345"/>
                </a:lnTo>
                <a:lnTo>
                  <a:pt x="675" y="1352"/>
                </a:lnTo>
                <a:lnTo>
                  <a:pt x="625" y="1356"/>
                </a:lnTo>
                <a:lnTo>
                  <a:pt x="576" y="1356"/>
                </a:lnTo>
                <a:lnTo>
                  <a:pt x="526" y="1353"/>
                </a:lnTo>
                <a:lnTo>
                  <a:pt x="476" y="1349"/>
                </a:lnTo>
                <a:lnTo>
                  <a:pt x="427" y="1343"/>
                </a:lnTo>
                <a:lnTo>
                  <a:pt x="379" y="1334"/>
                </a:lnTo>
                <a:lnTo>
                  <a:pt x="332" y="1325"/>
                </a:lnTo>
                <a:lnTo>
                  <a:pt x="286" y="1313"/>
                </a:lnTo>
                <a:lnTo>
                  <a:pt x="242" y="1301"/>
                </a:lnTo>
                <a:lnTo>
                  <a:pt x="221" y="1291"/>
                </a:lnTo>
                <a:lnTo>
                  <a:pt x="203" y="1280"/>
                </a:lnTo>
                <a:lnTo>
                  <a:pt x="184" y="1269"/>
                </a:lnTo>
                <a:lnTo>
                  <a:pt x="166" y="1256"/>
                </a:lnTo>
                <a:lnTo>
                  <a:pt x="149" y="1242"/>
                </a:lnTo>
                <a:lnTo>
                  <a:pt x="132" y="1228"/>
                </a:lnTo>
                <a:lnTo>
                  <a:pt x="114" y="1213"/>
                </a:lnTo>
                <a:lnTo>
                  <a:pt x="96" y="1199"/>
                </a:lnTo>
                <a:lnTo>
                  <a:pt x="85" y="1164"/>
                </a:lnTo>
                <a:lnTo>
                  <a:pt x="84" y="1141"/>
                </a:lnTo>
                <a:lnTo>
                  <a:pt x="84" y="1118"/>
                </a:lnTo>
                <a:lnTo>
                  <a:pt x="82" y="1095"/>
                </a:lnTo>
                <a:lnTo>
                  <a:pt x="82" y="1072"/>
                </a:lnTo>
                <a:lnTo>
                  <a:pt x="81" y="1049"/>
                </a:lnTo>
                <a:lnTo>
                  <a:pt x="81" y="1026"/>
                </a:lnTo>
                <a:lnTo>
                  <a:pt x="81" y="1002"/>
                </a:lnTo>
                <a:lnTo>
                  <a:pt x="81" y="979"/>
                </a:lnTo>
                <a:lnTo>
                  <a:pt x="81" y="956"/>
                </a:lnTo>
                <a:lnTo>
                  <a:pt x="81" y="932"/>
                </a:lnTo>
                <a:lnTo>
                  <a:pt x="81" y="909"/>
                </a:lnTo>
                <a:lnTo>
                  <a:pt x="81" y="885"/>
                </a:lnTo>
                <a:lnTo>
                  <a:pt x="81" y="862"/>
                </a:lnTo>
                <a:lnTo>
                  <a:pt x="82" y="838"/>
                </a:lnTo>
                <a:lnTo>
                  <a:pt x="82" y="815"/>
                </a:lnTo>
                <a:lnTo>
                  <a:pt x="84" y="791"/>
                </a:lnTo>
                <a:lnTo>
                  <a:pt x="84" y="767"/>
                </a:lnTo>
                <a:lnTo>
                  <a:pt x="85" y="744"/>
                </a:lnTo>
                <a:lnTo>
                  <a:pt x="86" y="720"/>
                </a:lnTo>
                <a:lnTo>
                  <a:pt x="87" y="697"/>
                </a:lnTo>
                <a:lnTo>
                  <a:pt x="88" y="673"/>
                </a:lnTo>
                <a:lnTo>
                  <a:pt x="89" y="650"/>
                </a:lnTo>
                <a:lnTo>
                  <a:pt x="90" y="626"/>
                </a:lnTo>
                <a:lnTo>
                  <a:pt x="92" y="603"/>
                </a:lnTo>
                <a:lnTo>
                  <a:pt x="94" y="580"/>
                </a:lnTo>
                <a:lnTo>
                  <a:pt x="95" y="556"/>
                </a:lnTo>
                <a:lnTo>
                  <a:pt x="97" y="533"/>
                </a:lnTo>
                <a:lnTo>
                  <a:pt x="98" y="510"/>
                </a:lnTo>
                <a:lnTo>
                  <a:pt x="101" y="487"/>
                </a:lnTo>
                <a:lnTo>
                  <a:pt x="103" y="464"/>
                </a:lnTo>
                <a:lnTo>
                  <a:pt x="105" y="441"/>
                </a:lnTo>
                <a:lnTo>
                  <a:pt x="108" y="418"/>
                </a:lnTo>
                <a:lnTo>
                  <a:pt x="116" y="417"/>
                </a:lnTo>
                <a:lnTo>
                  <a:pt x="124" y="415"/>
                </a:lnTo>
                <a:lnTo>
                  <a:pt x="130" y="411"/>
                </a:lnTo>
                <a:lnTo>
                  <a:pt x="138" y="405"/>
                </a:lnTo>
                <a:lnTo>
                  <a:pt x="144" y="400"/>
                </a:lnTo>
                <a:lnTo>
                  <a:pt x="151" y="393"/>
                </a:lnTo>
                <a:lnTo>
                  <a:pt x="157" y="386"/>
                </a:lnTo>
                <a:lnTo>
                  <a:pt x="161" y="379"/>
                </a:lnTo>
                <a:lnTo>
                  <a:pt x="161" y="373"/>
                </a:lnTo>
                <a:lnTo>
                  <a:pt x="160" y="368"/>
                </a:lnTo>
                <a:lnTo>
                  <a:pt x="158" y="362"/>
                </a:lnTo>
                <a:lnTo>
                  <a:pt x="153" y="357"/>
                </a:lnTo>
                <a:lnTo>
                  <a:pt x="145" y="365"/>
                </a:lnTo>
                <a:lnTo>
                  <a:pt x="137" y="372"/>
                </a:lnTo>
                <a:lnTo>
                  <a:pt x="129" y="379"/>
                </a:lnTo>
                <a:lnTo>
                  <a:pt x="121" y="386"/>
                </a:lnTo>
                <a:lnTo>
                  <a:pt x="112" y="391"/>
                </a:lnTo>
                <a:lnTo>
                  <a:pt x="102" y="395"/>
                </a:lnTo>
                <a:lnTo>
                  <a:pt x="92" y="397"/>
                </a:lnTo>
                <a:lnTo>
                  <a:pt x="80" y="399"/>
                </a:lnTo>
                <a:lnTo>
                  <a:pt x="71" y="399"/>
                </a:lnTo>
                <a:lnTo>
                  <a:pt x="62" y="396"/>
                </a:lnTo>
                <a:lnTo>
                  <a:pt x="54" y="394"/>
                </a:lnTo>
                <a:lnTo>
                  <a:pt x="45" y="389"/>
                </a:lnTo>
                <a:lnTo>
                  <a:pt x="38" y="385"/>
                </a:lnTo>
                <a:lnTo>
                  <a:pt x="31" y="379"/>
                </a:lnTo>
                <a:lnTo>
                  <a:pt x="24" y="372"/>
                </a:lnTo>
                <a:lnTo>
                  <a:pt x="19" y="364"/>
                </a:lnTo>
                <a:lnTo>
                  <a:pt x="14" y="349"/>
                </a:lnTo>
                <a:lnTo>
                  <a:pt x="9" y="334"/>
                </a:lnTo>
                <a:lnTo>
                  <a:pt x="4" y="318"/>
                </a:lnTo>
                <a:lnTo>
                  <a:pt x="2" y="303"/>
                </a:lnTo>
                <a:lnTo>
                  <a:pt x="1" y="288"/>
                </a:lnTo>
                <a:lnTo>
                  <a:pt x="0" y="273"/>
                </a:lnTo>
                <a:lnTo>
                  <a:pt x="0" y="259"/>
                </a:lnTo>
                <a:lnTo>
                  <a:pt x="0" y="244"/>
                </a:lnTo>
                <a:lnTo>
                  <a:pt x="1" y="229"/>
                </a:lnTo>
                <a:lnTo>
                  <a:pt x="3" y="214"/>
                </a:lnTo>
                <a:lnTo>
                  <a:pt x="4" y="198"/>
                </a:lnTo>
                <a:lnTo>
                  <a:pt x="7" y="183"/>
                </a:lnTo>
                <a:lnTo>
                  <a:pt x="9" y="167"/>
                </a:lnTo>
                <a:lnTo>
                  <a:pt x="11" y="152"/>
                </a:lnTo>
                <a:lnTo>
                  <a:pt x="12" y="136"/>
                </a:lnTo>
                <a:lnTo>
                  <a:pt x="15" y="120"/>
                </a:lnTo>
                <a:lnTo>
                  <a:pt x="24" y="115"/>
                </a:lnTo>
                <a:lnTo>
                  <a:pt x="31" y="111"/>
                </a:lnTo>
                <a:lnTo>
                  <a:pt x="34" y="104"/>
                </a:lnTo>
                <a:lnTo>
                  <a:pt x="37" y="98"/>
                </a:lnTo>
                <a:lnTo>
                  <a:pt x="39" y="91"/>
                </a:lnTo>
                <a:lnTo>
                  <a:pt x="42" y="84"/>
                </a:lnTo>
                <a:lnTo>
                  <a:pt x="48" y="78"/>
                </a:lnTo>
                <a:lnTo>
                  <a:pt x="58" y="74"/>
                </a:lnTo>
                <a:lnTo>
                  <a:pt x="72" y="77"/>
                </a:lnTo>
                <a:lnTo>
                  <a:pt x="86" y="83"/>
                </a:lnTo>
                <a:lnTo>
                  <a:pt x="97" y="92"/>
                </a:lnTo>
                <a:lnTo>
                  <a:pt x="109" y="104"/>
                </a:lnTo>
                <a:lnTo>
                  <a:pt x="119" y="116"/>
                </a:lnTo>
                <a:lnTo>
                  <a:pt x="128" y="131"/>
                </a:lnTo>
                <a:lnTo>
                  <a:pt x="136" y="146"/>
                </a:lnTo>
                <a:lnTo>
                  <a:pt x="142" y="161"/>
                </a:lnTo>
                <a:lnTo>
                  <a:pt x="144" y="164"/>
                </a:lnTo>
                <a:lnTo>
                  <a:pt x="147" y="167"/>
                </a:lnTo>
                <a:lnTo>
                  <a:pt x="150" y="169"/>
                </a:lnTo>
                <a:lnTo>
                  <a:pt x="153" y="169"/>
                </a:lnTo>
                <a:lnTo>
                  <a:pt x="156" y="158"/>
                </a:lnTo>
                <a:lnTo>
                  <a:pt x="156" y="145"/>
                </a:lnTo>
                <a:lnTo>
                  <a:pt x="152" y="133"/>
                </a:lnTo>
                <a:lnTo>
                  <a:pt x="147" y="122"/>
                </a:lnTo>
                <a:lnTo>
                  <a:pt x="138" y="111"/>
                </a:lnTo>
                <a:lnTo>
                  <a:pt x="130" y="99"/>
                </a:lnTo>
                <a:lnTo>
                  <a:pt x="122" y="88"/>
                </a:lnTo>
                <a:lnTo>
                  <a:pt x="116" y="77"/>
                </a:lnTo>
                <a:lnTo>
                  <a:pt x="129" y="72"/>
                </a:lnTo>
                <a:lnTo>
                  <a:pt x="144" y="66"/>
                </a:lnTo>
                <a:lnTo>
                  <a:pt x="159" y="60"/>
                </a:lnTo>
                <a:lnTo>
                  <a:pt x="174" y="55"/>
                </a:lnTo>
                <a:lnTo>
                  <a:pt x="189" y="50"/>
                </a:lnTo>
                <a:lnTo>
                  <a:pt x="204" y="45"/>
                </a:lnTo>
                <a:lnTo>
                  <a:pt x="219" y="41"/>
                </a:lnTo>
                <a:lnTo>
                  <a:pt x="234" y="36"/>
                </a:lnTo>
                <a:lnTo>
                  <a:pt x="248" y="31"/>
                </a:lnTo>
                <a:lnTo>
                  <a:pt x="265" y="27"/>
                </a:lnTo>
                <a:lnTo>
                  <a:pt x="279" y="22"/>
                </a:lnTo>
                <a:lnTo>
                  <a:pt x="295" y="18"/>
                </a:lnTo>
                <a:lnTo>
                  <a:pt x="310" y="14"/>
                </a:lnTo>
                <a:lnTo>
                  <a:pt x="325" y="10"/>
                </a:lnTo>
                <a:lnTo>
                  <a:pt x="341" y="5"/>
                </a:lnTo>
                <a:lnTo>
                  <a:pt x="356" y="0"/>
                </a:lnTo>
                <a:lnTo>
                  <a:pt x="416" y="8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049640" y="1530360"/>
            <a:ext cx="141480" cy="128520"/>
          </a:xfrm>
          <a:custGeom>
            <a:avLst/>
            <a:gdLst/>
            <a:ahLst/>
            <a:rect l="l" t="t" r="r" b="b"/>
            <a:pathLst>
              <a:path w="106" h="138">
                <a:moveTo>
                  <a:pt x="87" y="34"/>
                </a:moveTo>
                <a:lnTo>
                  <a:pt x="106" y="23"/>
                </a:lnTo>
                <a:lnTo>
                  <a:pt x="105" y="31"/>
                </a:lnTo>
                <a:lnTo>
                  <a:pt x="104" y="37"/>
                </a:lnTo>
                <a:lnTo>
                  <a:pt x="101" y="45"/>
                </a:lnTo>
                <a:lnTo>
                  <a:pt x="99" y="52"/>
                </a:lnTo>
                <a:lnTo>
                  <a:pt x="96" y="59"/>
                </a:lnTo>
                <a:lnTo>
                  <a:pt x="91" y="66"/>
                </a:lnTo>
                <a:lnTo>
                  <a:pt x="85" y="71"/>
                </a:lnTo>
                <a:lnTo>
                  <a:pt x="79" y="75"/>
                </a:lnTo>
                <a:lnTo>
                  <a:pt x="85" y="81"/>
                </a:lnTo>
                <a:lnTo>
                  <a:pt x="90" y="88"/>
                </a:lnTo>
                <a:lnTo>
                  <a:pt x="91" y="95"/>
                </a:lnTo>
                <a:lnTo>
                  <a:pt x="90" y="102"/>
                </a:lnTo>
                <a:lnTo>
                  <a:pt x="88" y="110"/>
                </a:lnTo>
                <a:lnTo>
                  <a:pt x="84" y="117"/>
                </a:lnTo>
                <a:lnTo>
                  <a:pt x="82" y="123"/>
                </a:lnTo>
                <a:lnTo>
                  <a:pt x="79" y="129"/>
                </a:lnTo>
                <a:lnTo>
                  <a:pt x="71" y="133"/>
                </a:lnTo>
                <a:lnTo>
                  <a:pt x="60" y="136"/>
                </a:lnTo>
                <a:lnTo>
                  <a:pt x="50" y="137"/>
                </a:lnTo>
                <a:lnTo>
                  <a:pt x="38" y="138"/>
                </a:lnTo>
                <a:lnTo>
                  <a:pt x="28" y="138"/>
                </a:lnTo>
                <a:lnTo>
                  <a:pt x="17" y="136"/>
                </a:lnTo>
                <a:lnTo>
                  <a:pt x="8" y="133"/>
                </a:lnTo>
                <a:lnTo>
                  <a:pt x="0" y="127"/>
                </a:lnTo>
                <a:lnTo>
                  <a:pt x="0" y="120"/>
                </a:lnTo>
                <a:lnTo>
                  <a:pt x="1" y="113"/>
                </a:lnTo>
                <a:lnTo>
                  <a:pt x="2" y="106"/>
                </a:lnTo>
                <a:lnTo>
                  <a:pt x="2" y="99"/>
                </a:lnTo>
                <a:lnTo>
                  <a:pt x="3" y="93"/>
                </a:lnTo>
                <a:lnTo>
                  <a:pt x="3" y="86"/>
                </a:lnTo>
                <a:lnTo>
                  <a:pt x="3" y="79"/>
                </a:lnTo>
                <a:lnTo>
                  <a:pt x="3" y="72"/>
                </a:lnTo>
                <a:lnTo>
                  <a:pt x="10" y="73"/>
                </a:lnTo>
                <a:lnTo>
                  <a:pt x="16" y="75"/>
                </a:lnTo>
                <a:lnTo>
                  <a:pt x="21" y="78"/>
                </a:lnTo>
                <a:lnTo>
                  <a:pt x="27" y="81"/>
                </a:lnTo>
                <a:lnTo>
                  <a:pt x="34" y="83"/>
                </a:lnTo>
                <a:lnTo>
                  <a:pt x="40" y="84"/>
                </a:lnTo>
                <a:lnTo>
                  <a:pt x="46" y="83"/>
                </a:lnTo>
                <a:lnTo>
                  <a:pt x="53" y="80"/>
                </a:lnTo>
                <a:lnTo>
                  <a:pt x="50" y="74"/>
                </a:lnTo>
                <a:lnTo>
                  <a:pt x="44" y="70"/>
                </a:lnTo>
                <a:lnTo>
                  <a:pt x="37" y="66"/>
                </a:lnTo>
                <a:lnTo>
                  <a:pt x="30" y="62"/>
                </a:lnTo>
                <a:lnTo>
                  <a:pt x="24" y="58"/>
                </a:lnTo>
                <a:lnTo>
                  <a:pt x="18" y="53"/>
                </a:lnTo>
                <a:lnTo>
                  <a:pt x="12" y="48"/>
                </a:lnTo>
                <a:lnTo>
                  <a:pt x="8" y="42"/>
                </a:lnTo>
                <a:lnTo>
                  <a:pt x="8" y="0"/>
                </a:lnTo>
                <a:lnTo>
                  <a:pt x="14" y="9"/>
                </a:lnTo>
                <a:lnTo>
                  <a:pt x="24" y="17"/>
                </a:lnTo>
                <a:lnTo>
                  <a:pt x="33" y="24"/>
                </a:lnTo>
                <a:lnTo>
                  <a:pt x="43" y="29"/>
                </a:lnTo>
                <a:lnTo>
                  <a:pt x="53" y="34"/>
                </a:lnTo>
                <a:lnTo>
                  <a:pt x="65" y="35"/>
                </a:lnTo>
                <a:lnTo>
                  <a:pt x="75" y="36"/>
                </a:lnTo>
                <a:lnTo>
                  <a:pt x="87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14920" y="2166840"/>
            <a:ext cx="1047600" cy="827280"/>
          </a:xfrm>
          <a:custGeom>
            <a:avLst/>
            <a:gdLst/>
            <a:ahLst/>
            <a:rect l="l" t="t" r="r" b="b"/>
            <a:pathLst>
              <a:path w="805" h="895">
                <a:moveTo>
                  <a:pt x="560" y="130"/>
                </a:moveTo>
                <a:lnTo>
                  <a:pt x="567" y="140"/>
                </a:lnTo>
                <a:lnTo>
                  <a:pt x="568" y="154"/>
                </a:lnTo>
                <a:lnTo>
                  <a:pt x="568" y="169"/>
                </a:lnTo>
                <a:lnTo>
                  <a:pt x="567" y="184"/>
                </a:lnTo>
                <a:lnTo>
                  <a:pt x="567" y="198"/>
                </a:lnTo>
                <a:lnTo>
                  <a:pt x="571" y="209"/>
                </a:lnTo>
                <a:lnTo>
                  <a:pt x="580" y="216"/>
                </a:lnTo>
                <a:lnTo>
                  <a:pt x="598" y="218"/>
                </a:lnTo>
                <a:lnTo>
                  <a:pt x="608" y="234"/>
                </a:lnTo>
                <a:lnTo>
                  <a:pt x="616" y="252"/>
                </a:lnTo>
                <a:lnTo>
                  <a:pt x="623" y="270"/>
                </a:lnTo>
                <a:lnTo>
                  <a:pt x="628" y="287"/>
                </a:lnTo>
                <a:lnTo>
                  <a:pt x="633" y="305"/>
                </a:lnTo>
                <a:lnTo>
                  <a:pt x="639" y="324"/>
                </a:lnTo>
                <a:lnTo>
                  <a:pt x="644" y="342"/>
                </a:lnTo>
                <a:lnTo>
                  <a:pt x="652" y="359"/>
                </a:lnTo>
                <a:lnTo>
                  <a:pt x="663" y="377"/>
                </a:lnTo>
                <a:lnTo>
                  <a:pt x="672" y="394"/>
                </a:lnTo>
                <a:lnTo>
                  <a:pt x="682" y="411"/>
                </a:lnTo>
                <a:lnTo>
                  <a:pt x="693" y="427"/>
                </a:lnTo>
                <a:lnTo>
                  <a:pt x="703" y="444"/>
                </a:lnTo>
                <a:lnTo>
                  <a:pt x="712" y="462"/>
                </a:lnTo>
                <a:lnTo>
                  <a:pt x="722" y="478"/>
                </a:lnTo>
                <a:lnTo>
                  <a:pt x="733" y="495"/>
                </a:lnTo>
                <a:lnTo>
                  <a:pt x="742" y="511"/>
                </a:lnTo>
                <a:lnTo>
                  <a:pt x="752" y="528"/>
                </a:lnTo>
                <a:lnTo>
                  <a:pt x="761" y="545"/>
                </a:lnTo>
                <a:lnTo>
                  <a:pt x="770" y="563"/>
                </a:lnTo>
                <a:lnTo>
                  <a:pt x="780" y="580"/>
                </a:lnTo>
                <a:lnTo>
                  <a:pt x="789" y="597"/>
                </a:lnTo>
                <a:lnTo>
                  <a:pt x="797" y="614"/>
                </a:lnTo>
                <a:lnTo>
                  <a:pt x="805" y="631"/>
                </a:lnTo>
                <a:lnTo>
                  <a:pt x="795" y="639"/>
                </a:lnTo>
                <a:lnTo>
                  <a:pt x="783" y="646"/>
                </a:lnTo>
                <a:lnTo>
                  <a:pt x="772" y="653"/>
                </a:lnTo>
                <a:lnTo>
                  <a:pt x="760" y="660"/>
                </a:lnTo>
                <a:lnTo>
                  <a:pt x="749" y="666"/>
                </a:lnTo>
                <a:lnTo>
                  <a:pt x="737" y="673"/>
                </a:lnTo>
                <a:lnTo>
                  <a:pt x="726" y="678"/>
                </a:lnTo>
                <a:lnTo>
                  <a:pt x="714" y="684"/>
                </a:lnTo>
                <a:lnTo>
                  <a:pt x="703" y="690"/>
                </a:lnTo>
                <a:lnTo>
                  <a:pt x="691" y="696"/>
                </a:lnTo>
                <a:lnTo>
                  <a:pt x="680" y="701"/>
                </a:lnTo>
                <a:lnTo>
                  <a:pt x="667" y="707"/>
                </a:lnTo>
                <a:lnTo>
                  <a:pt x="656" y="713"/>
                </a:lnTo>
                <a:lnTo>
                  <a:pt x="644" y="719"/>
                </a:lnTo>
                <a:lnTo>
                  <a:pt x="633" y="726"/>
                </a:lnTo>
                <a:lnTo>
                  <a:pt x="622" y="731"/>
                </a:lnTo>
                <a:lnTo>
                  <a:pt x="617" y="713"/>
                </a:lnTo>
                <a:lnTo>
                  <a:pt x="611" y="695"/>
                </a:lnTo>
                <a:lnTo>
                  <a:pt x="606" y="676"/>
                </a:lnTo>
                <a:lnTo>
                  <a:pt x="600" y="658"/>
                </a:lnTo>
                <a:lnTo>
                  <a:pt x="593" y="639"/>
                </a:lnTo>
                <a:lnTo>
                  <a:pt x="586" y="622"/>
                </a:lnTo>
                <a:lnTo>
                  <a:pt x="579" y="604"/>
                </a:lnTo>
                <a:lnTo>
                  <a:pt x="572" y="585"/>
                </a:lnTo>
                <a:lnTo>
                  <a:pt x="564" y="568"/>
                </a:lnTo>
                <a:lnTo>
                  <a:pt x="557" y="551"/>
                </a:lnTo>
                <a:lnTo>
                  <a:pt x="549" y="533"/>
                </a:lnTo>
                <a:lnTo>
                  <a:pt x="543" y="515"/>
                </a:lnTo>
                <a:lnTo>
                  <a:pt x="536" y="497"/>
                </a:lnTo>
                <a:lnTo>
                  <a:pt x="528" y="480"/>
                </a:lnTo>
                <a:lnTo>
                  <a:pt x="522" y="463"/>
                </a:lnTo>
                <a:lnTo>
                  <a:pt x="515" y="444"/>
                </a:lnTo>
                <a:lnTo>
                  <a:pt x="512" y="440"/>
                </a:lnTo>
                <a:lnTo>
                  <a:pt x="507" y="437"/>
                </a:lnTo>
                <a:lnTo>
                  <a:pt x="501" y="436"/>
                </a:lnTo>
                <a:lnTo>
                  <a:pt x="496" y="436"/>
                </a:lnTo>
                <a:lnTo>
                  <a:pt x="490" y="436"/>
                </a:lnTo>
                <a:lnTo>
                  <a:pt x="484" y="437"/>
                </a:lnTo>
                <a:lnTo>
                  <a:pt x="478" y="437"/>
                </a:lnTo>
                <a:lnTo>
                  <a:pt x="473" y="436"/>
                </a:lnTo>
                <a:lnTo>
                  <a:pt x="476" y="410"/>
                </a:lnTo>
                <a:lnTo>
                  <a:pt x="469" y="388"/>
                </a:lnTo>
                <a:lnTo>
                  <a:pt x="457" y="370"/>
                </a:lnTo>
                <a:lnTo>
                  <a:pt x="438" y="354"/>
                </a:lnTo>
                <a:lnTo>
                  <a:pt x="419" y="339"/>
                </a:lnTo>
                <a:lnTo>
                  <a:pt x="400" y="324"/>
                </a:lnTo>
                <a:lnTo>
                  <a:pt x="383" y="307"/>
                </a:lnTo>
                <a:lnTo>
                  <a:pt x="373" y="287"/>
                </a:lnTo>
                <a:lnTo>
                  <a:pt x="366" y="279"/>
                </a:lnTo>
                <a:lnTo>
                  <a:pt x="359" y="271"/>
                </a:lnTo>
                <a:lnTo>
                  <a:pt x="352" y="263"/>
                </a:lnTo>
                <a:lnTo>
                  <a:pt x="345" y="255"/>
                </a:lnTo>
                <a:lnTo>
                  <a:pt x="339" y="248"/>
                </a:lnTo>
                <a:lnTo>
                  <a:pt x="331" y="241"/>
                </a:lnTo>
                <a:lnTo>
                  <a:pt x="321" y="235"/>
                </a:lnTo>
                <a:lnTo>
                  <a:pt x="311" y="230"/>
                </a:lnTo>
                <a:lnTo>
                  <a:pt x="309" y="234"/>
                </a:lnTo>
                <a:lnTo>
                  <a:pt x="327" y="257"/>
                </a:lnTo>
                <a:lnTo>
                  <a:pt x="343" y="279"/>
                </a:lnTo>
                <a:lnTo>
                  <a:pt x="360" y="301"/>
                </a:lnTo>
                <a:lnTo>
                  <a:pt x="376" y="322"/>
                </a:lnTo>
                <a:lnTo>
                  <a:pt x="394" y="342"/>
                </a:lnTo>
                <a:lnTo>
                  <a:pt x="412" y="362"/>
                </a:lnTo>
                <a:lnTo>
                  <a:pt x="431" y="382"/>
                </a:lnTo>
                <a:lnTo>
                  <a:pt x="453" y="402"/>
                </a:lnTo>
                <a:lnTo>
                  <a:pt x="455" y="411"/>
                </a:lnTo>
                <a:lnTo>
                  <a:pt x="454" y="419"/>
                </a:lnTo>
                <a:lnTo>
                  <a:pt x="452" y="427"/>
                </a:lnTo>
                <a:lnTo>
                  <a:pt x="449" y="434"/>
                </a:lnTo>
                <a:lnTo>
                  <a:pt x="446" y="442"/>
                </a:lnTo>
                <a:lnTo>
                  <a:pt x="445" y="449"/>
                </a:lnTo>
                <a:lnTo>
                  <a:pt x="447" y="456"/>
                </a:lnTo>
                <a:lnTo>
                  <a:pt x="453" y="464"/>
                </a:lnTo>
                <a:lnTo>
                  <a:pt x="459" y="463"/>
                </a:lnTo>
                <a:lnTo>
                  <a:pt x="463" y="460"/>
                </a:lnTo>
                <a:lnTo>
                  <a:pt x="469" y="458"/>
                </a:lnTo>
                <a:lnTo>
                  <a:pt x="475" y="457"/>
                </a:lnTo>
                <a:lnTo>
                  <a:pt x="480" y="456"/>
                </a:lnTo>
                <a:lnTo>
                  <a:pt x="485" y="456"/>
                </a:lnTo>
                <a:lnTo>
                  <a:pt x="490" y="457"/>
                </a:lnTo>
                <a:lnTo>
                  <a:pt x="496" y="459"/>
                </a:lnTo>
                <a:lnTo>
                  <a:pt x="504" y="476"/>
                </a:lnTo>
                <a:lnTo>
                  <a:pt x="512" y="493"/>
                </a:lnTo>
                <a:lnTo>
                  <a:pt x="520" y="510"/>
                </a:lnTo>
                <a:lnTo>
                  <a:pt x="528" y="528"/>
                </a:lnTo>
                <a:lnTo>
                  <a:pt x="536" y="545"/>
                </a:lnTo>
                <a:lnTo>
                  <a:pt x="543" y="563"/>
                </a:lnTo>
                <a:lnTo>
                  <a:pt x="551" y="581"/>
                </a:lnTo>
                <a:lnTo>
                  <a:pt x="557" y="599"/>
                </a:lnTo>
                <a:lnTo>
                  <a:pt x="564" y="616"/>
                </a:lnTo>
                <a:lnTo>
                  <a:pt x="571" y="635"/>
                </a:lnTo>
                <a:lnTo>
                  <a:pt x="578" y="653"/>
                </a:lnTo>
                <a:lnTo>
                  <a:pt x="584" y="672"/>
                </a:lnTo>
                <a:lnTo>
                  <a:pt x="589" y="689"/>
                </a:lnTo>
                <a:lnTo>
                  <a:pt x="594" y="707"/>
                </a:lnTo>
                <a:lnTo>
                  <a:pt x="599" y="726"/>
                </a:lnTo>
                <a:lnTo>
                  <a:pt x="602" y="743"/>
                </a:lnTo>
                <a:lnTo>
                  <a:pt x="585" y="752"/>
                </a:lnTo>
                <a:lnTo>
                  <a:pt x="568" y="762"/>
                </a:lnTo>
                <a:lnTo>
                  <a:pt x="551" y="773"/>
                </a:lnTo>
                <a:lnTo>
                  <a:pt x="533" y="783"/>
                </a:lnTo>
                <a:lnTo>
                  <a:pt x="516" y="793"/>
                </a:lnTo>
                <a:lnTo>
                  <a:pt x="499" y="804"/>
                </a:lnTo>
                <a:lnTo>
                  <a:pt x="482" y="814"/>
                </a:lnTo>
                <a:lnTo>
                  <a:pt x="465" y="824"/>
                </a:lnTo>
                <a:lnTo>
                  <a:pt x="447" y="833"/>
                </a:lnTo>
                <a:lnTo>
                  <a:pt x="430" y="844"/>
                </a:lnTo>
                <a:lnTo>
                  <a:pt x="413" y="853"/>
                </a:lnTo>
                <a:lnTo>
                  <a:pt x="395" y="862"/>
                </a:lnTo>
                <a:lnTo>
                  <a:pt x="378" y="871"/>
                </a:lnTo>
                <a:lnTo>
                  <a:pt x="360" y="880"/>
                </a:lnTo>
                <a:lnTo>
                  <a:pt x="342" y="888"/>
                </a:lnTo>
                <a:lnTo>
                  <a:pt x="324" y="895"/>
                </a:lnTo>
                <a:lnTo>
                  <a:pt x="304" y="862"/>
                </a:lnTo>
                <a:lnTo>
                  <a:pt x="286" y="828"/>
                </a:lnTo>
                <a:lnTo>
                  <a:pt x="266" y="794"/>
                </a:lnTo>
                <a:lnTo>
                  <a:pt x="248" y="761"/>
                </a:lnTo>
                <a:lnTo>
                  <a:pt x="230" y="727"/>
                </a:lnTo>
                <a:lnTo>
                  <a:pt x="213" y="693"/>
                </a:lnTo>
                <a:lnTo>
                  <a:pt x="194" y="660"/>
                </a:lnTo>
                <a:lnTo>
                  <a:pt x="177" y="626"/>
                </a:lnTo>
                <a:lnTo>
                  <a:pt x="159" y="592"/>
                </a:lnTo>
                <a:lnTo>
                  <a:pt x="140" y="559"/>
                </a:lnTo>
                <a:lnTo>
                  <a:pt x="123" y="526"/>
                </a:lnTo>
                <a:lnTo>
                  <a:pt x="105" y="491"/>
                </a:lnTo>
                <a:lnTo>
                  <a:pt x="87" y="458"/>
                </a:lnTo>
                <a:lnTo>
                  <a:pt x="67" y="425"/>
                </a:lnTo>
                <a:lnTo>
                  <a:pt x="49" y="390"/>
                </a:lnTo>
                <a:lnTo>
                  <a:pt x="29" y="357"/>
                </a:lnTo>
                <a:lnTo>
                  <a:pt x="28" y="336"/>
                </a:lnTo>
                <a:lnTo>
                  <a:pt x="27" y="316"/>
                </a:lnTo>
                <a:lnTo>
                  <a:pt x="24" y="295"/>
                </a:lnTo>
                <a:lnTo>
                  <a:pt x="20" y="276"/>
                </a:lnTo>
                <a:lnTo>
                  <a:pt x="17" y="256"/>
                </a:lnTo>
                <a:lnTo>
                  <a:pt x="11" y="237"/>
                </a:lnTo>
                <a:lnTo>
                  <a:pt x="5" y="217"/>
                </a:lnTo>
                <a:lnTo>
                  <a:pt x="0" y="199"/>
                </a:lnTo>
                <a:lnTo>
                  <a:pt x="10" y="201"/>
                </a:lnTo>
                <a:lnTo>
                  <a:pt x="20" y="209"/>
                </a:lnTo>
                <a:lnTo>
                  <a:pt x="29" y="219"/>
                </a:lnTo>
                <a:lnTo>
                  <a:pt x="38" y="232"/>
                </a:lnTo>
                <a:lnTo>
                  <a:pt x="48" y="246"/>
                </a:lnTo>
                <a:lnTo>
                  <a:pt x="57" y="261"/>
                </a:lnTo>
                <a:lnTo>
                  <a:pt x="66" y="273"/>
                </a:lnTo>
                <a:lnTo>
                  <a:pt x="76" y="284"/>
                </a:lnTo>
                <a:lnTo>
                  <a:pt x="87" y="284"/>
                </a:lnTo>
                <a:lnTo>
                  <a:pt x="89" y="265"/>
                </a:lnTo>
                <a:lnTo>
                  <a:pt x="91" y="247"/>
                </a:lnTo>
                <a:lnTo>
                  <a:pt x="95" y="229"/>
                </a:lnTo>
                <a:lnTo>
                  <a:pt x="99" y="210"/>
                </a:lnTo>
                <a:lnTo>
                  <a:pt x="104" y="193"/>
                </a:lnTo>
                <a:lnTo>
                  <a:pt x="110" y="175"/>
                </a:lnTo>
                <a:lnTo>
                  <a:pt x="115" y="157"/>
                </a:lnTo>
                <a:lnTo>
                  <a:pt x="122" y="139"/>
                </a:lnTo>
                <a:lnTo>
                  <a:pt x="129" y="122"/>
                </a:lnTo>
                <a:lnTo>
                  <a:pt x="136" y="105"/>
                </a:lnTo>
                <a:lnTo>
                  <a:pt x="143" y="86"/>
                </a:lnTo>
                <a:lnTo>
                  <a:pt x="150" y="69"/>
                </a:lnTo>
                <a:lnTo>
                  <a:pt x="158" y="52"/>
                </a:lnTo>
                <a:lnTo>
                  <a:pt x="165" y="35"/>
                </a:lnTo>
                <a:lnTo>
                  <a:pt x="171" y="17"/>
                </a:lnTo>
                <a:lnTo>
                  <a:pt x="178" y="0"/>
                </a:lnTo>
                <a:lnTo>
                  <a:pt x="203" y="5"/>
                </a:lnTo>
                <a:lnTo>
                  <a:pt x="229" y="9"/>
                </a:lnTo>
                <a:lnTo>
                  <a:pt x="254" y="14"/>
                </a:lnTo>
                <a:lnTo>
                  <a:pt x="279" y="20"/>
                </a:lnTo>
                <a:lnTo>
                  <a:pt x="304" y="25"/>
                </a:lnTo>
                <a:lnTo>
                  <a:pt x="328" y="31"/>
                </a:lnTo>
                <a:lnTo>
                  <a:pt x="354" y="39"/>
                </a:lnTo>
                <a:lnTo>
                  <a:pt x="378" y="46"/>
                </a:lnTo>
                <a:lnTo>
                  <a:pt x="400" y="54"/>
                </a:lnTo>
                <a:lnTo>
                  <a:pt x="425" y="63"/>
                </a:lnTo>
                <a:lnTo>
                  <a:pt x="447" y="72"/>
                </a:lnTo>
                <a:lnTo>
                  <a:pt x="472" y="82"/>
                </a:lnTo>
                <a:lnTo>
                  <a:pt x="493" y="93"/>
                </a:lnTo>
                <a:lnTo>
                  <a:pt x="516" y="105"/>
                </a:lnTo>
                <a:lnTo>
                  <a:pt x="538" y="117"/>
                </a:lnTo>
                <a:lnTo>
                  <a:pt x="560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416400" y="2209680"/>
            <a:ext cx="1065240" cy="397080"/>
          </a:xfrm>
          <a:custGeom>
            <a:avLst/>
            <a:gdLst/>
            <a:ahLst/>
            <a:rect l="l" t="t" r="r" b="b"/>
            <a:pathLst>
              <a:path w="822" h="429">
                <a:moveTo>
                  <a:pt x="244" y="177"/>
                </a:moveTo>
                <a:lnTo>
                  <a:pt x="276" y="184"/>
                </a:lnTo>
                <a:lnTo>
                  <a:pt x="310" y="191"/>
                </a:lnTo>
                <a:lnTo>
                  <a:pt x="344" y="197"/>
                </a:lnTo>
                <a:lnTo>
                  <a:pt x="378" y="203"/>
                </a:lnTo>
                <a:lnTo>
                  <a:pt x="414" y="209"/>
                </a:lnTo>
                <a:lnTo>
                  <a:pt x="449" y="214"/>
                </a:lnTo>
                <a:lnTo>
                  <a:pt x="485" y="217"/>
                </a:lnTo>
                <a:lnTo>
                  <a:pt x="520" y="220"/>
                </a:lnTo>
                <a:lnTo>
                  <a:pt x="556" y="223"/>
                </a:lnTo>
                <a:lnTo>
                  <a:pt x="593" y="223"/>
                </a:lnTo>
                <a:lnTo>
                  <a:pt x="628" y="222"/>
                </a:lnTo>
                <a:lnTo>
                  <a:pt x="662" y="219"/>
                </a:lnTo>
                <a:lnTo>
                  <a:pt x="697" y="216"/>
                </a:lnTo>
                <a:lnTo>
                  <a:pt x="731" y="209"/>
                </a:lnTo>
                <a:lnTo>
                  <a:pt x="764" y="202"/>
                </a:lnTo>
                <a:lnTo>
                  <a:pt x="798" y="192"/>
                </a:lnTo>
                <a:lnTo>
                  <a:pt x="792" y="206"/>
                </a:lnTo>
                <a:lnTo>
                  <a:pt x="787" y="220"/>
                </a:lnTo>
                <a:lnTo>
                  <a:pt x="784" y="235"/>
                </a:lnTo>
                <a:lnTo>
                  <a:pt x="782" y="250"/>
                </a:lnTo>
                <a:lnTo>
                  <a:pt x="779" y="266"/>
                </a:lnTo>
                <a:lnTo>
                  <a:pt x="779" y="282"/>
                </a:lnTo>
                <a:lnTo>
                  <a:pt x="779" y="298"/>
                </a:lnTo>
                <a:lnTo>
                  <a:pt x="780" y="315"/>
                </a:lnTo>
                <a:lnTo>
                  <a:pt x="782" y="331"/>
                </a:lnTo>
                <a:lnTo>
                  <a:pt x="785" y="347"/>
                </a:lnTo>
                <a:lnTo>
                  <a:pt x="788" y="362"/>
                </a:lnTo>
                <a:lnTo>
                  <a:pt x="793" y="377"/>
                </a:lnTo>
                <a:lnTo>
                  <a:pt x="799" y="390"/>
                </a:lnTo>
                <a:lnTo>
                  <a:pt x="806" y="404"/>
                </a:lnTo>
                <a:lnTo>
                  <a:pt x="814" y="417"/>
                </a:lnTo>
                <a:lnTo>
                  <a:pt x="822" y="428"/>
                </a:lnTo>
                <a:lnTo>
                  <a:pt x="783" y="429"/>
                </a:lnTo>
                <a:lnTo>
                  <a:pt x="743" y="428"/>
                </a:lnTo>
                <a:lnTo>
                  <a:pt x="703" y="426"/>
                </a:lnTo>
                <a:lnTo>
                  <a:pt x="661" y="422"/>
                </a:lnTo>
                <a:lnTo>
                  <a:pt x="621" y="419"/>
                </a:lnTo>
                <a:lnTo>
                  <a:pt x="580" y="413"/>
                </a:lnTo>
                <a:lnTo>
                  <a:pt x="540" y="408"/>
                </a:lnTo>
                <a:lnTo>
                  <a:pt x="499" y="401"/>
                </a:lnTo>
                <a:lnTo>
                  <a:pt x="459" y="394"/>
                </a:lnTo>
                <a:lnTo>
                  <a:pt x="417" y="387"/>
                </a:lnTo>
                <a:lnTo>
                  <a:pt x="377" y="380"/>
                </a:lnTo>
                <a:lnTo>
                  <a:pt x="337" y="373"/>
                </a:lnTo>
                <a:lnTo>
                  <a:pt x="297" y="366"/>
                </a:lnTo>
                <a:lnTo>
                  <a:pt x="258" y="360"/>
                </a:lnTo>
                <a:lnTo>
                  <a:pt x="219" y="354"/>
                </a:lnTo>
                <a:lnTo>
                  <a:pt x="180" y="349"/>
                </a:lnTo>
                <a:lnTo>
                  <a:pt x="156" y="342"/>
                </a:lnTo>
                <a:lnTo>
                  <a:pt x="132" y="334"/>
                </a:lnTo>
                <a:lnTo>
                  <a:pt x="109" y="326"/>
                </a:lnTo>
                <a:lnTo>
                  <a:pt x="87" y="316"/>
                </a:lnTo>
                <a:lnTo>
                  <a:pt x="65" y="305"/>
                </a:lnTo>
                <a:lnTo>
                  <a:pt x="43" y="294"/>
                </a:lnTo>
                <a:lnTo>
                  <a:pt x="21" y="281"/>
                </a:lnTo>
                <a:lnTo>
                  <a:pt x="0" y="267"/>
                </a:lnTo>
                <a:lnTo>
                  <a:pt x="8" y="253"/>
                </a:lnTo>
                <a:lnTo>
                  <a:pt x="14" y="238"/>
                </a:lnTo>
                <a:lnTo>
                  <a:pt x="19" y="222"/>
                </a:lnTo>
                <a:lnTo>
                  <a:pt x="21" y="206"/>
                </a:lnTo>
                <a:lnTo>
                  <a:pt x="23" y="188"/>
                </a:lnTo>
                <a:lnTo>
                  <a:pt x="23" y="170"/>
                </a:lnTo>
                <a:lnTo>
                  <a:pt x="24" y="153"/>
                </a:lnTo>
                <a:lnTo>
                  <a:pt x="23" y="134"/>
                </a:lnTo>
                <a:lnTo>
                  <a:pt x="23" y="117"/>
                </a:lnTo>
                <a:lnTo>
                  <a:pt x="23" y="99"/>
                </a:lnTo>
                <a:lnTo>
                  <a:pt x="23" y="82"/>
                </a:lnTo>
                <a:lnTo>
                  <a:pt x="24" y="64"/>
                </a:lnTo>
                <a:lnTo>
                  <a:pt x="26" y="47"/>
                </a:lnTo>
                <a:lnTo>
                  <a:pt x="29" y="31"/>
                </a:lnTo>
                <a:lnTo>
                  <a:pt x="34" y="15"/>
                </a:lnTo>
                <a:lnTo>
                  <a:pt x="39" y="0"/>
                </a:lnTo>
                <a:lnTo>
                  <a:pt x="45" y="16"/>
                </a:lnTo>
                <a:lnTo>
                  <a:pt x="52" y="31"/>
                </a:lnTo>
                <a:lnTo>
                  <a:pt x="61" y="46"/>
                </a:lnTo>
                <a:lnTo>
                  <a:pt x="70" y="60"/>
                </a:lnTo>
                <a:lnTo>
                  <a:pt x="82" y="74"/>
                </a:lnTo>
                <a:lnTo>
                  <a:pt x="93" y="86"/>
                </a:lnTo>
                <a:lnTo>
                  <a:pt x="106" y="99"/>
                </a:lnTo>
                <a:lnTo>
                  <a:pt x="119" y="110"/>
                </a:lnTo>
                <a:lnTo>
                  <a:pt x="134" y="121"/>
                </a:lnTo>
                <a:lnTo>
                  <a:pt x="149" y="131"/>
                </a:lnTo>
                <a:lnTo>
                  <a:pt x="164" y="140"/>
                </a:lnTo>
                <a:lnTo>
                  <a:pt x="180" y="149"/>
                </a:lnTo>
                <a:lnTo>
                  <a:pt x="196" y="157"/>
                </a:lnTo>
                <a:lnTo>
                  <a:pt x="212" y="164"/>
                </a:lnTo>
                <a:lnTo>
                  <a:pt x="228" y="171"/>
                </a:lnTo>
                <a:lnTo>
                  <a:pt x="244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75040" y="2465280"/>
            <a:ext cx="1820880" cy="1119240"/>
          </a:xfrm>
          <a:custGeom>
            <a:avLst/>
            <a:gdLst/>
            <a:ahLst/>
            <a:rect l="l" t="t" r="r" b="b"/>
            <a:pathLst>
              <a:path w="1401" h="1210">
                <a:moveTo>
                  <a:pt x="554" y="147"/>
                </a:moveTo>
                <a:lnTo>
                  <a:pt x="558" y="142"/>
                </a:lnTo>
                <a:lnTo>
                  <a:pt x="550" y="131"/>
                </a:lnTo>
                <a:lnTo>
                  <a:pt x="540" y="123"/>
                </a:lnTo>
                <a:lnTo>
                  <a:pt x="530" y="115"/>
                </a:lnTo>
                <a:lnTo>
                  <a:pt x="518" y="108"/>
                </a:lnTo>
                <a:lnTo>
                  <a:pt x="507" y="102"/>
                </a:lnTo>
                <a:lnTo>
                  <a:pt x="495" y="95"/>
                </a:lnTo>
                <a:lnTo>
                  <a:pt x="484" y="89"/>
                </a:lnTo>
                <a:lnTo>
                  <a:pt x="473" y="81"/>
                </a:lnTo>
                <a:lnTo>
                  <a:pt x="499" y="86"/>
                </a:lnTo>
                <a:lnTo>
                  <a:pt x="524" y="91"/>
                </a:lnTo>
                <a:lnTo>
                  <a:pt x="550" y="94"/>
                </a:lnTo>
                <a:lnTo>
                  <a:pt x="575" y="99"/>
                </a:lnTo>
                <a:lnTo>
                  <a:pt x="602" y="103"/>
                </a:lnTo>
                <a:lnTo>
                  <a:pt x="627" y="107"/>
                </a:lnTo>
                <a:lnTo>
                  <a:pt x="653" y="111"/>
                </a:lnTo>
                <a:lnTo>
                  <a:pt x="680" y="116"/>
                </a:lnTo>
                <a:lnTo>
                  <a:pt x="706" y="119"/>
                </a:lnTo>
                <a:lnTo>
                  <a:pt x="732" y="124"/>
                </a:lnTo>
                <a:lnTo>
                  <a:pt x="757" y="130"/>
                </a:lnTo>
                <a:lnTo>
                  <a:pt x="784" y="134"/>
                </a:lnTo>
                <a:lnTo>
                  <a:pt x="809" y="140"/>
                </a:lnTo>
                <a:lnTo>
                  <a:pt x="835" y="145"/>
                </a:lnTo>
                <a:lnTo>
                  <a:pt x="861" y="151"/>
                </a:lnTo>
                <a:lnTo>
                  <a:pt x="886" y="157"/>
                </a:lnTo>
                <a:lnTo>
                  <a:pt x="906" y="161"/>
                </a:lnTo>
                <a:lnTo>
                  <a:pt x="926" y="163"/>
                </a:lnTo>
                <a:lnTo>
                  <a:pt x="945" y="165"/>
                </a:lnTo>
                <a:lnTo>
                  <a:pt x="964" y="166"/>
                </a:lnTo>
                <a:lnTo>
                  <a:pt x="981" y="168"/>
                </a:lnTo>
                <a:lnTo>
                  <a:pt x="998" y="168"/>
                </a:lnTo>
                <a:lnTo>
                  <a:pt x="1016" y="169"/>
                </a:lnTo>
                <a:lnTo>
                  <a:pt x="1034" y="169"/>
                </a:lnTo>
                <a:lnTo>
                  <a:pt x="1051" y="169"/>
                </a:lnTo>
                <a:lnTo>
                  <a:pt x="1068" y="169"/>
                </a:lnTo>
                <a:lnTo>
                  <a:pt x="1085" y="169"/>
                </a:lnTo>
                <a:lnTo>
                  <a:pt x="1103" y="169"/>
                </a:lnTo>
                <a:lnTo>
                  <a:pt x="1123" y="170"/>
                </a:lnTo>
                <a:lnTo>
                  <a:pt x="1142" y="170"/>
                </a:lnTo>
                <a:lnTo>
                  <a:pt x="1162" y="171"/>
                </a:lnTo>
                <a:lnTo>
                  <a:pt x="1184" y="172"/>
                </a:lnTo>
                <a:lnTo>
                  <a:pt x="1182" y="154"/>
                </a:lnTo>
                <a:lnTo>
                  <a:pt x="1177" y="135"/>
                </a:lnTo>
                <a:lnTo>
                  <a:pt x="1169" y="118"/>
                </a:lnTo>
                <a:lnTo>
                  <a:pt x="1160" y="101"/>
                </a:lnTo>
                <a:lnTo>
                  <a:pt x="1152" y="83"/>
                </a:lnTo>
                <a:lnTo>
                  <a:pt x="1145" y="64"/>
                </a:lnTo>
                <a:lnTo>
                  <a:pt x="1140" y="45"/>
                </a:lnTo>
                <a:lnTo>
                  <a:pt x="1141" y="24"/>
                </a:lnTo>
                <a:lnTo>
                  <a:pt x="1154" y="33"/>
                </a:lnTo>
                <a:lnTo>
                  <a:pt x="1165" y="44"/>
                </a:lnTo>
                <a:lnTo>
                  <a:pt x="1176" y="55"/>
                </a:lnTo>
                <a:lnTo>
                  <a:pt x="1186" y="65"/>
                </a:lnTo>
                <a:lnTo>
                  <a:pt x="1196" y="78"/>
                </a:lnTo>
                <a:lnTo>
                  <a:pt x="1205" y="89"/>
                </a:lnTo>
                <a:lnTo>
                  <a:pt x="1216" y="100"/>
                </a:lnTo>
                <a:lnTo>
                  <a:pt x="1226" y="111"/>
                </a:lnTo>
                <a:lnTo>
                  <a:pt x="1236" y="148"/>
                </a:lnTo>
                <a:lnTo>
                  <a:pt x="1248" y="184"/>
                </a:lnTo>
                <a:lnTo>
                  <a:pt x="1258" y="220"/>
                </a:lnTo>
                <a:lnTo>
                  <a:pt x="1268" y="257"/>
                </a:lnTo>
                <a:lnTo>
                  <a:pt x="1279" y="294"/>
                </a:lnTo>
                <a:lnTo>
                  <a:pt x="1290" y="330"/>
                </a:lnTo>
                <a:lnTo>
                  <a:pt x="1300" y="367"/>
                </a:lnTo>
                <a:lnTo>
                  <a:pt x="1311" y="404"/>
                </a:lnTo>
                <a:lnTo>
                  <a:pt x="1321" y="441"/>
                </a:lnTo>
                <a:lnTo>
                  <a:pt x="1333" y="476"/>
                </a:lnTo>
                <a:lnTo>
                  <a:pt x="1343" y="513"/>
                </a:lnTo>
                <a:lnTo>
                  <a:pt x="1354" y="550"/>
                </a:lnTo>
                <a:lnTo>
                  <a:pt x="1366" y="585"/>
                </a:lnTo>
                <a:lnTo>
                  <a:pt x="1377" y="622"/>
                </a:lnTo>
                <a:lnTo>
                  <a:pt x="1389" y="658"/>
                </a:lnTo>
                <a:lnTo>
                  <a:pt x="1401" y="693"/>
                </a:lnTo>
                <a:lnTo>
                  <a:pt x="1389" y="700"/>
                </a:lnTo>
                <a:lnTo>
                  <a:pt x="1375" y="708"/>
                </a:lnTo>
                <a:lnTo>
                  <a:pt x="1362" y="715"/>
                </a:lnTo>
                <a:lnTo>
                  <a:pt x="1347" y="722"/>
                </a:lnTo>
                <a:lnTo>
                  <a:pt x="1334" y="729"/>
                </a:lnTo>
                <a:lnTo>
                  <a:pt x="1319" y="736"/>
                </a:lnTo>
                <a:lnTo>
                  <a:pt x="1305" y="741"/>
                </a:lnTo>
                <a:lnTo>
                  <a:pt x="1290" y="746"/>
                </a:lnTo>
                <a:lnTo>
                  <a:pt x="1281" y="730"/>
                </a:lnTo>
                <a:lnTo>
                  <a:pt x="1274" y="712"/>
                </a:lnTo>
                <a:lnTo>
                  <a:pt x="1270" y="693"/>
                </a:lnTo>
                <a:lnTo>
                  <a:pt x="1266" y="675"/>
                </a:lnTo>
                <a:lnTo>
                  <a:pt x="1263" y="655"/>
                </a:lnTo>
                <a:lnTo>
                  <a:pt x="1259" y="637"/>
                </a:lnTo>
                <a:lnTo>
                  <a:pt x="1253" y="619"/>
                </a:lnTo>
                <a:lnTo>
                  <a:pt x="1245" y="601"/>
                </a:lnTo>
                <a:lnTo>
                  <a:pt x="1240" y="586"/>
                </a:lnTo>
                <a:lnTo>
                  <a:pt x="1234" y="570"/>
                </a:lnTo>
                <a:lnTo>
                  <a:pt x="1228" y="555"/>
                </a:lnTo>
                <a:lnTo>
                  <a:pt x="1223" y="539"/>
                </a:lnTo>
                <a:lnTo>
                  <a:pt x="1218" y="523"/>
                </a:lnTo>
                <a:lnTo>
                  <a:pt x="1212" y="508"/>
                </a:lnTo>
                <a:lnTo>
                  <a:pt x="1208" y="492"/>
                </a:lnTo>
                <a:lnTo>
                  <a:pt x="1203" y="476"/>
                </a:lnTo>
                <a:lnTo>
                  <a:pt x="1197" y="461"/>
                </a:lnTo>
                <a:lnTo>
                  <a:pt x="1192" y="445"/>
                </a:lnTo>
                <a:lnTo>
                  <a:pt x="1186" y="430"/>
                </a:lnTo>
                <a:lnTo>
                  <a:pt x="1179" y="415"/>
                </a:lnTo>
                <a:lnTo>
                  <a:pt x="1172" y="401"/>
                </a:lnTo>
                <a:lnTo>
                  <a:pt x="1165" y="386"/>
                </a:lnTo>
                <a:lnTo>
                  <a:pt x="1157" y="371"/>
                </a:lnTo>
                <a:lnTo>
                  <a:pt x="1149" y="357"/>
                </a:lnTo>
                <a:lnTo>
                  <a:pt x="1124" y="353"/>
                </a:lnTo>
                <a:lnTo>
                  <a:pt x="1105" y="342"/>
                </a:lnTo>
                <a:lnTo>
                  <a:pt x="1089" y="325"/>
                </a:lnTo>
                <a:lnTo>
                  <a:pt x="1076" y="305"/>
                </a:lnTo>
                <a:lnTo>
                  <a:pt x="1062" y="285"/>
                </a:lnTo>
                <a:lnTo>
                  <a:pt x="1047" y="266"/>
                </a:lnTo>
                <a:lnTo>
                  <a:pt x="1030" y="252"/>
                </a:lnTo>
                <a:lnTo>
                  <a:pt x="1008" y="246"/>
                </a:lnTo>
                <a:lnTo>
                  <a:pt x="1000" y="254"/>
                </a:lnTo>
                <a:lnTo>
                  <a:pt x="1003" y="270"/>
                </a:lnTo>
                <a:lnTo>
                  <a:pt x="1007" y="286"/>
                </a:lnTo>
                <a:lnTo>
                  <a:pt x="1013" y="301"/>
                </a:lnTo>
                <a:lnTo>
                  <a:pt x="1020" y="314"/>
                </a:lnTo>
                <a:lnTo>
                  <a:pt x="1026" y="329"/>
                </a:lnTo>
                <a:lnTo>
                  <a:pt x="1031" y="344"/>
                </a:lnTo>
                <a:lnTo>
                  <a:pt x="1036" y="360"/>
                </a:lnTo>
                <a:lnTo>
                  <a:pt x="1038" y="376"/>
                </a:lnTo>
                <a:lnTo>
                  <a:pt x="1024" y="380"/>
                </a:lnTo>
                <a:lnTo>
                  <a:pt x="1014" y="376"/>
                </a:lnTo>
                <a:lnTo>
                  <a:pt x="1005" y="370"/>
                </a:lnTo>
                <a:lnTo>
                  <a:pt x="997" y="359"/>
                </a:lnTo>
                <a:lnTo>
                  <a:pt x="990" y="348"/>
                </a:lnTo>
                <a:lnTo>
                  <a:pt x="982" y="335"/>
                </a:lnTo>
                <a:lnTo>
                  <a:pt x="974" y="324"/>
                </a:lnTo>
                <a:lnTo>
                  <a:pt x="963" y="314"/>
                </a:lnTo>
                <a:lnTo>
                  <a:pt x="955" y="313"/>
                </a:lnTo>
                <a:lnTo>
                  <a:pt x="945" y="314"/>
                </a:lnTo>
                <a:lnTo>
                  <a:pt x="938" y="316"/>
                </a:lnTo>
                <a:lnTo>
                  <a:pt x="930" y="318"/>
                </a:lnTo>
                <a:lnTo>
                  <a:pt x="924" y="321"/>
                </a:lnTo>
                <a:lnTo>
                  <a:pt x="918" y="326"/>
                </a:lnTo>
                <a:lnTo>
                  <a:pt x="912" y="330"/>
                </a:lnTo>
                <a:lnTo>
                  <a:pt x="908" y="337"/>
                </a:lnTo>
                <a:lnTo>
                  <a:pt x="910" y="351"/>
                </a:lnTo>
                <a:lnTo>
                  <a:pt x="913" y="364"/>
                </a:lnTo>
                <a:lnTo>
                  <a:pt x="917" y="376"/>
                </a:lnTo>
                <a:lnTo>
                  <a:pt x="922" y="389"/>
                </a:lnTo>
                <a:lnTo>
                  <a:pt x="928" y="401"/>
                </a:lnTo>
                <a:lnTo>
                  <a:pt x="934" y="413"/>
                </a:lnTo>
                <a:lnTo>
                  <a:pt x="941" y="425"/>
                </a:lnTo>
                <a:lnTo>
                  <a:pt x="946" y="436"/>
                </a:lnTo>
                <a:lnTo>
                  <a:pt x="935" y="444"/>
                </a:lnTo>
                <a:lnTo>
                  <a:pt x="924" y="451"/>
                </a:lnTo>
                <a:lnTo>
                  <a:pt x="912" y="458"/>
                </a:lnTo>
                <a:lnTo>
                  <a:pt x="901" y="464"/>
                </a:lnTo>
                <a:lnTo>
                  <a:pt x="888" y="471"/>
                </a:lnTo>
                <a:lnTo>
                  <a:pt x="877" y="476"/>
                </a:lnTo>
                <a:lnTo>
                  <a:pt x="865" y="484"/>
                </a:lnTo>
                <a:lnTo>
                  <a:pt x="855" y="493"/>
                </a:lnTo>
                <a:lnTo>
                  <a:pt x="864" y="516"/>
                </a:lnTo>
                <a:lnTo>
                  <a:pt x="873" y="539"/>
                </a:lnTo>
                <a:lnTo>
                  <a:pt x="883" y="562"/>
                </a:lnTo>
                <a:lnTo>
                  <a:pt x="894" y="585"/>
                </a:lnTo>
                <a:lnTo>
                  <a:pt x="904" y="608"/>
                </a:lnTo>
                <a:lnTo>
                  <a:pt x="916" y="630"/>
                </a:lnTo>
                <a:lnTo>
                  <a:pt x="927" y="653"/>
                </a:lnTo>
                <a:lnTo>
                  <a:pt x="937" y="675"/>
                </a:lnTo>
                <a:lnTo>
                  <a:pt x="949" y="698"/>
                </a:lnTo>
                <a:lnTo>
                  <a:pt x="959" y="720"/>
                </a:lnTo>
                <a:lnTo>
                  <a:pt x="969" y="743"/>
                </a:lnTo>
                <a:lnTo>
                  <a:pt x="979" y="765"/>
                </a:lnTo>
                <a:lnTo>
                  <a:pt x="988" y="788"/>
                </a:lnTo>
                <a:lnTo>
                  <a:pt x="996" y="813"/>
                </a:lnTo>
                <a:lnTo>
                  <a:pt x="1003" y="837"/>
                </a:lnTo>
                <a:lnTo>
                  <a:pt x="1008" y="861"/>
                </a:lnTo>
                <a:lnTo>
                  <a:pt x="634" y="1021"/>
                </a:lnTo>
                <a:lnTo>
                  <a:pt x="626" y="1010"/>
                </a:lnTo>
                <a:lnTo>
                  <a:pt x="627" y="989"/>
                </a:lnTo>
                <a:lnTo>
                  <a:pt x="627" y="970"/>
                </a:lnTo>
                <a:lnTo>
                  <a:pt x="626" y="949"/>
                </a:lnTo>
                <a:lnTo>
                  <a:pt x="625" y="928"/>
                </a:lnTo>
                <a:lnTo>
                  <a:pt x="622" y="908"/>
                </a:lnTo>
                <a:lnTo>
                  <a:pt x="621" y="887"/>
                </a:lnTo>
                <a:lnTo>
                  <a:pt x="619" y="866"/>
                </a:lnTo>
                <a:lnTo>
                  <a:pt x="618" y="846"/>
                </a:lnTo>
                <a:lnTo>
                  <a:pt x="615" y="825"/>
                </a:lnTo>
                <a:lnTo>
                  <a:pt x="614" y="806"/>
                </a:lnTo>
                <a:lnTo>
                  <a:pt x="614" y="785"/>
                </a:lnTo>
                <a:lnTo>
                  <a:pt x="615" y="764"/>
                </a:lnTo>
                <a:lnTo>
                  <a:pt x="617" y="745"/>
                </a:lnTo>
                <a:lnTo>
                  <a:pt x="620" y="724"/>
                </a:lnTo>
                <a:lnTo>
                  <a:pt x="623" y="705"/>
                </a:lnTo>
                <a:lnTo>
                  <a:pt x="629" y="685"/>
                </a:lnTo>
                <a:lnTo>
                  <a:pt x="630" y="663"/>
                </a:lnTo>
                <a:lnTo>
                  <a:pt x="630" y="643"/>
                </a:lnTo>
                <a:lnTo>
                  <a:pt x="629" y="622"/>
                </a:lnTo>
                <a:lnTo>
                  <a:pt x="628" y="601"/>
                </a:lnTo>
                <a:lnTo>
                  <a:pt x="627" y="581"/>
                </a:lnTo>
                <a:lnTo>
                  <a:pt x="625" y="561"/>
                </a:lnTo>
                <a:lnTo>
                  <a:pt x="622" y="541"/>
                </a:lnTo>
                <a:lnTo>
                  <a:pt x="619" y="521"/>
                </a:lnTo>
                <a:lnTo>
                  <a:pt x="615" y="521"/>
                </a:lnTo>
                <a:lnTo>
                  <a:pt x="611" y="689"/>
                </a:lnTo>
                <a:lnTo>
                  <a:pt x="609" y="677"/>
                </a:lnTo>
                <a:lnTo>
                  <a:pt x="606" y="664"/>
                </a:lnTo>
                <a:lnTo>
                  <a:pt x="604" y="653"/>
                </a:lnTo>
                <a:lnTo>
                  <a:pt x="602" y="640"/>
                </a:lnTo>
                <a:lnTo>
                  <a:pt x="599" y="629"/>
                </a:lnTo>
                <a:lnTo>
                  <a:pt x="598" y="616"/>
                </a:lnTo>
                <a:lnTo>
                  <a:pt x="596" y="604"/>
                </a:lnTo>
                <a:lnTo>
                  <a:pt x="594" y="592"/>
                </a:lnTo>
                <a:lnTo>
                  <a:pt x="591" y="580"/>
                </a:lnTo>
                <a:lnTo>
                  <a:pt x="589" y="567"/>
                </a:lnTo>
                <a:lnTo>
                  <a:pt x="587" y="555"/>
                </a:lnTo>
                <a:lnTo>
                  <a:pt x="585" y="543"/>
                </a:lnTo>
                <a:lnTo>
                  <a:pt x="581" y="531"/>
                </a:lnTo>
                <a:lnTo>
                  <a:pt x="578" y="520"/>
                </a:lnTo>
                <a:lnTo>
                  <a:pt x="573" y="508"/>
                </a:lnTo>
                <a:lnTo>
                  <a:pt x="568" y="497"/>
                </a:lnTo>
                <a:lnTo>
                  <a:pt x="562" y="510"/>
                </a:lnTo>
                <a:lnTo>
                  <a:pt x="570" y="542"/>
                </a:lnTo>
                <a:lnTo>
                  <a:pt x="575" y="574"/>
                </a:lnTo>
                <a:lnTo>
                  <a:pt x="581" y="606"/>
                </a:lnTo>
                <a:lnTo>
                  <a:pt x="585" y="638"/>
                </a:lnTo>
                <a:lnTo>
                  <a:pt x="587" y="670"/>
                </a:lnTo>
                <a:lnTo>
                  <a:pt x="589" y="703"/>
                </a:lnTo>
                <a:lnTo>
                  <a:pt x="590" y="736"/>
                </a:lnTo>
                <a:lnTo>
                  <a:pt x="591" y="768"/>
                </a:lnTo>
                <a:lnTo>
                  <a:pt x="591" y="801"/>
                </a:lnTo>
                <a:lnTo>
                  <a:pt x="591" y="833"/>
                </a:lnTo>
                <a:lnTo>
                  <a:pt x="593" y="866"/>
                </a:lnTo>
                <a:lnTo>
                  <a:pt x="593" y="900"/>
                </a:lnTo>
                <a:lnTo>
                  <a:pt x="594" y="933"/>
                </a:lnTo>
                <a:lnTo>
                  <a:pt x="596" y="966"/>
                </a:lnTo>
                <a:lnTo>
                  <a:pt x="599" y="1000"/>
                </a:lnTo>
                <a:lnTo>
                  <a:pt x="603" y="1033"/>
                </a:lnTo>
                <a:lnTo>
                  <a:pt x="568" y="1046"/>
                </a:lnTo>
                <a:lnTo>
                  <a:pt x="534" y="1058"/>
                </a:lnTo>
                <a:lnTo>
                  <a:pt x="500" y="1070"/>
                </a:lnTo>
                <a:lnTo>
                  <a:pt x="465" y="1082"/>
                </a:lnTo>
                <a:lnTo>
                  <a:pt x="431" y="1095"/>
                </a:lnTo>
                <a:lnTo>
                  <a:pt x="397" y="1106"/>
                </a:lnTo>
                <a:lnTo>
                  <a:pt x="362" y="1119"/>
                </a:lnTo>
                <a:lnTo>
                  <a:pt x="328" y="1130"/>
                </a:lnTo>
                <a:lnTo>
                  <a:pt x="294" y="1142"/>
                </a:lnTo>
                <a:lnTo>
                  <a:pt x="258" y="1152"/>
                </a:lnTo>
                <a:lnTo>
                  <a:pt x="224" y="1164"/>
                </a:lnTo>
                <a:lnTo>
                  <a:pt x="188" y="1174"/>
                </a:lnTo>
                <a:lnTo>
                  <a:pt x="154" y="1183"/>
                </a:lnTo>
                <a:lnTo>
                  <a:pt x="118" y="1192"/>
                </a:lnTo>
                <a:lnTo>
                  <a:pt x="82" y="1202"/>
                </a:lnTo>
                <a:lnTo>
                  <a:pt x="46" y="1210"/>
                </a:lnTo>
                <a:lnTo>
                  <a:pt x="44" y="1194"/>
                </a:lnTo>
                <a:lnTo>
                  <a:pt x="42" y="1176"/>
                </a:lnTo>
                <a:lnTo>
                  <a:pt x="39" y="1159"/>
                </a:lnTo>
                <a:lnTo>
                  <a:pt x="37" y="1142"/>
                </a:lnTo>
                <a:lnTo>
                  <a:pt x="35" y="1125"/>
                </a:lnTo>
                <a:lnTo>
                  <a:pt x="34" y="1106"/>
                </a:lnTo>
                <a:lnTo>
                  <a:pt x="31" y="1089"/>
                </a:lnTo>
                <a:lnTo>
                  <a:pt x="31" y="1071"/>
                </a:lnTo>
                <a:lnTo>
                  <a:pt x="30" y="1052"/>
                </a:lnTo>
                <a:lnTo>
                  <a:pt x="30" y="1035"/>
                </a:lnTo>
                <a:lnTo>
                  <a:pt x="30" y="1017"/>
                </a:lnTo>
                <a:lnTo>
                  <a:pt x="31" y="998"/>
                </a:lnTo>
                <a:lnTo>
                  <a:pt x="34" y="981"/>
                </a:lnTo>
                <a:lnTo>
                  <a:pt x="36" y="964"/>
                </a:lnTo>
                <a:lnTo>
                  <a:pt x="39" y="947"/>
                </a:lnTo>
                <a:lnTo>
                  <a:pt x="43" y="931"/>
                </a:lnTo>
                <a:lnTo>
                  <a:pt x="34" y="923"/>
                </a:lnTo>
                <a:lnTo>
                  <a:pt x="28" y="915"/>
                </a:lnTo>
                <a:lnTo>
                  <a:pt x="25" y="907"/>
                </a:lnTo>
                <a:lnTo>
                  <a:pt x="24" y="899"/>
                </a:lnTo>
                <a:lnTo>
                  <a:pt x="27" y="891"/>
                </a:lnTo>
                <a:lnTo>
                  <a:pt x="30" y="883"/>
                </a:lnTo>
                <a:lnTo>
                  <a:pt x="36" y="876"/>
                </a:lnTo>
                <a:lnTo>
                  <a:pt x="43" y="869"/>
                </a:lnTo>
                <a:lnTo>
                  <a:pt x="37" y="861"/>
                </a:lnTo>
                <a:lnTo>
                  <a:pt x="29" y="854"/>
                </a:lnTo>
                <a:lnTo>
                  <a:pt x="20" y="848"/>
                </a:lnTo>
                <a:lnTo>
                  <a:pt x="12" y="842"/>
                </a:lnTo>
                <a:lnTo>
                  <a:pt x="5" y="837"/>
                </a:lnTo>
                <a:lnTo>
                  <a:pt x="0" y="829"/>
                </a:lnTo>
                <a:lnTo>
                  <a:pt x="0" y="819"/>
                </a:lnTo>
                <a:lnTo>
                  <a:pt x="4" y="808"/>
                </a:lnTo>
                <a:lnTo>
                  <a:pt x="14" y="783"/>
                </a:lnTo>
                <a:lnTo>
                  <a:pt x="22" y="757"/>
                </a:lnTo>
                <a:lnTo>
                  <a:pt x="28" y="732"/>
                </a:lnTo>
                <a:lnTo>
                  <a:pt x="31" y="706"/>
                </a:lnTo>
                <a:lnTo>
                  <a:pt x="34" y="679"/>
                </a:lnTo>
                <a:lnTo>
                  <a:pt x="35" y="652"/>
                </a:lnTo>
                <a:lnTo>
                  <a:pt x="34" y="625"/>
                </a:lnTo>
                <a:lnTo>
                  <a:pt x="32" y="598"/>
                </a:lnTo>
                <a:lnTo>
                  <a:pt x="30" y="572"/>
                </a:lnTo>
                <a:lnTo>
                  <a:pt x="29" y="544"/>
                </a:lnTo>
                <a:lnTo>
                  <a:pt x="27" y="518"/>
                </a:lnTo>
                <a:lnTo>
                  <a:pt x="25" y="490"/>
                </a:lnTo>
                <a:lnTo>
                  <a:pt x="24" y="464"/>
                </a:lnTo>
                <a:lnTo>
                  <a:pt x="25" y="437"/>
                </a:lnTo>
                <a:lnTo>
                  <a:pt x="27" y="412"/>
                </a:lnTo>
                <a:lnTo>
                  <a:pt x="30" y="387"/>
                </a:lnTo>
                <a:lnTo>
                  <a:pt x="30" y="371"/>
                </a:lnTo>
                <a:lnTo>
                  <a:pt x="31" y="355"/>
                </a:lnTo>
                <a:lnTo>
                  <a:pt x="31" y="339"/>
                </a:lnTo>
                <a:lnTo>
                  <a:pt x="32" y="322"/>
                </a:lnTo>
                <a:lnTo>
                  <a:pt x="34" y="306"/>
                </a:lnTo>
                <a:lnTo>
                  <a:pt x="34" y="290"/>
                </a:lnTo>
                <a:lnTo>
                  <a:pt x="35" y="274"/>
                </a:lnTo>
                <a:lnTo>
                  <a:pt x="37" y="258"/>
                </a:lnTo>
                <a:lnTo>
                  <a:pt x="38" y="241"/>
                </a:lnTo>
                <a:lnTo>
                  <a:pt x="39" y="225"/>
                </a:lnTo>
                <a:lnTo>
                  <a:pt x="42" y="209"/>
                </a:lnTo>
                <a:lnTo>
                  <a:pt x="44" y="193"/>
                </a:lnTo>
                <a:lnTo>
                  <a:pt x="46" y="176"/>
                </a:lnTo>
                <a:lnTo>
                  <a:pt x="50" y="159"/>
                </a:lnTo>
                <a:lnTo>
                  <a:pt x="53" y="143"/>
                </a:lnTo>
                <a:lnTo>
                  <a:pt x="56" y="127"/>
                </a:lnTo>
                <a:lnTo>
                  <a:pt x="69" y="114"/>
                </a:lnTo>
                <a:lnTo>
                  <a:pt x="83" y="101"/>
                </a:lnTo>
                <a:lnTo>
                  <a:pt x="97" y="89"/>
                </a:lnTo>
                <a:lnTo>
                  <a:pt x="110" y="80"/>
                </a:lnTo>
                <a:lnTo>
                  <a:pt x="125" y="71"/>
                </a:lnTo>
                <a:lnTo>
                  <a:pt x="141" y="62"/>
                </a:lnTo>
                <a:lnTo>
                  <a:pt x="157" y="55"/>
                </a:lnTo>
                <a:lnTo>
                  <a:pt x="173" y="48"/>
                </a:lnTo>
                <a:lnTo>
                  <a:pt x="189" y="41"/>
                </a:lnTo>
                <a:lnTo>
                  <a:pt x="205" y="36"/>
                </a:lnTo>
                <a:lnTo>
                  <a:pt x="223" y="30"/>
                </a:lnTo>
                <a:lnTo>
                  <a:pt x="239" y="24"/>
                </a:lnTo>
                <a:lnTo>
                  <a:pt x="256" y="18"/>
                </a:lnTo>
                <a:lnTo>
                  <a:pt x="272" y="13"/>
                </a:lnTo>
                <a:lnTo>
                  <a:pt x="289" y="6"/>
                </a:lnTo>
                <a:lnTo>
                  <a:pt x="305" y="0"/>
                </a:lnTo>
                <a:lnTo>
                  <a:pt x="322" y="6"/>
                </a:lnTo>
                <a:lnTo>
                  <a:pt x="339" y="13"/>
                </a:lnTo>
                <a:lnTo>
                  <a:pt x="355" y="22"/>
                </a:lnTo>
                <a:lnTo>
                  <a:pt x="370" y="31"/>
                </a:lnTo>
                <a:lnTo>
                  <a:pt x="385" y="40"/>
                </a:lnTo>
                <a:lnTo>
                  <a:pt x="400" y="52"/>
                </a:lnTo>
                <a:lnTo>
                  <a:pt x="415" y="62"/>
                </a:lnTo>
                <a:lnTo>
                  <a:pt x="429" y="73"/>
                </a:lnTo>
                <a:lnTo>
                  <a:pt x="444" y="85"/>
                </a:lnTo>
                <a:lnTo>
                  <a:pt x="457" y="95"/>
                </a:lnTo>
                <a:lnTo>
                  <a:pt x="472" y="107"/>
                </a:lnTo>
                <a:lnTo>
                  <a:pt x="487" y="116"/>
                </a:lnTo>
                <a:lnTo>
                  <a:pt x="503" y="125"/>
                </a:lnTo>
                <a:lnTo>
                  <a:pt x="519" y="134"/>
                </a:lnTo>
                <a:lnTo>
                  <a:pt x="536" y="141"/>
                </a:lnTo>
                <a:lnTo>
                  <a:pt x="554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30640" y="2809800"/>
            <a:ext cx="490680" cy="446040"/>
          </a:xfrm>
          <a:custGeom>
            <a:avLst/>
            <a:gdLst/>
            <a:ahLst/>
            <a:rect l="l" t="t" r="r" b="b"/>
            <a:pathLst>
              <a:path w="378" h="482">
                <a:moveTo>
                  <a:pt x="242" y="0"/>
                </a:moveTo>
                <a:lnTo>
                  <a:pt x="251" y="16"/>
                </a:lnTo>
                <a:lnTo>
                  <a:pt x="259" y="33"/>
                </a:lnTo>
                <a:lnTo>
                  <a:pt x="267" y="49"/>
                </a:lnTo>
                <a:lnTo>
                  <a:pt x="275" y="66"/>
                </a:lnTo>
                <a:lnTo>
                  <a:pt x="282" y="84"/>
                </a:lnTo>
                <a:lnTo>
                  <a:pt x="289" y="101"/>
                </a:lnTo>
                <a:lnTo>
                  <a:pt x="295" y="118"/>
                </a:lnTo>
                <a:lnTo>
                  <a:pt x="301" y="135"/>
                </a:lnTo>
                <a:lnTo>
                  <a:pt x="307" y="154"/>
                </a:lnTo>
                <a:lnTo>
                  <a:pt x="313" y="171"/>
                </a:lnTo>
                <a:lnTo>
                  <a:pt x="320" y="188"/>
                </a:lnTo>
                <a:lnTo>
                  <a:pt x="326" y="206"/>
                </a:lnTo>
                <a:lnTo>
                  <a:pt x="331" y="224"/>
                </a:lnTo>
                <a:lnTo>
                  <a:pt x="338" y="241"/>
                </a:lnTo>
                <a:lnTo>
                  <a:pt x="345" y="258"/>
                </a:lnTo>
                <a:lnTo>
                  <a:pt x="352" y="275"/>
                </a:lnTo>
                <a:lnTo>
                  <a:pt x="355" y="288"/>
                </a:lnTo>
                <a:lnTo>
                  <a:pt x="356" y="302"/>
                </a:lnTo>
                <a:lnTo>
                  <a:pt x="359" y="317"/>
                </a:lnTo>
                <a:lnTo>
                  <a:pt x="360" y="330"/>
                </a:lnTo>
                <a:lnTo>
                  <a:pt x="362" y="345"/>
                </a:lnTo>
                <a:lnTo>
                  <a:pt x="367" y="360"/>
                </a:lnTo>
                <a:lnTo>
                  <a:pt x="371" y="374"/>
                </a:lnTo>
                <a:lnTo>
                  <a:pt x="378" y="387"/>
                </a:lnTo>
                <a:lnTo>
                  <a:pt x="363" y="392"/>
                </a:lnTo>
                <a:lnTo>
                  <a:pt x="348" y="398"/>
                </a:lnTo>
                <a:lnTo>
                  <a:pt x="334" y="404"/>
                </a:lnTo>
                <a:lnTo>
                  <a:pt x="319" y="410"/>
                </a:lnTo>
                <a:lnTo>
                  <a:pt x="305" y="416"/>
                </a:lnTo>
                <a:lnTo>
                  <a:pt x="290" y="422"/>
                </a:lnTo>
                <a:lnTo>
                  <a:pt x="276" y="428"/>
                </a:lnTo>
                <a:lnTo>
                  <a:pt x="263" y="435"/>
                </a:lnTo>
                <a:lnTo>
                  <a:pt x="248" y="441"/>
                </a:lnTo>
                <a:lnTo>
                  <a:pt x="234" y="447"/>
                </a:lnTo>
                <a:lnTo>
                  <a:pt x="219" y="453"/>
                </a:lnTo>
                <a:lnTo>
                  <a:pt x="205" y="459"/>
                </a:lnTo>
                <a:lnTo>
                  <a:pt x="190" y="465"/>
                </a:lnTo>
                <a:lnTo>
                  <a:pt x="175" y="470"/>
                </a:lnTo>
                <a:lnTo>
                  <a:pt x="161" y="476"/>
                </a:lnTo>
                <a:lnTo>
                  <a:pt x="146" y="482"/>
                </a:lnTo>
                <a:lnTo>
                  <a:pt x="139" y="458"/>
                </a:lnTo>
                <a:lnTo>
                  <a:pt x="131" y="435"/>
                </a:lnTo>
                <a:lnTo>
                  <a:pt x="122" y="412"/>
                </a:lnTo>
                <a:lnTo>
                  <a:pt x="112" y="389"/>
                </a:lnTo>
                <a:lnTo>
                  <a:pt x="103" y="366"/>
                </a:lnTo>
                <a:lnTo>
                  <a:pt x="93" y="344"/>
                </a:lnTo>
                <a:lnTo>
                  <a:pt x="83" y="322"/>
                </a:lnTo>
                <a:lnTo>
                  <a:pt x="74" y="299"/>
                </a:lnTo>
                <a:lnTo>
                  <a:pt x="63" y="278"/>
                </a:lnTo>
                <a:lnTo>
                  <a:pt x="53" y="256"/>
                </a:lnTo>
                <a:lnTo>
                  <a:pt x="43" y="233"/>
                </a:lnTo>
                <a:lnTo>
                  <a:pt x="33" y="211"/>
                </a:lnTo>
                <a:lnTo>
                  <a:pt x="24" y="188"/>
                </a:lnTo>
                <a:lnTo>
                  <a:pt x="15" y="165"/>
                </a:lnTo>
                <a:lnTo>
                  <a:pt x="7" y="142"/>
                </a:lnTo>
                <a:lnTo>
                  <a:pt x="0" y="119"/>
                </a:lnTo>
                <a:lnTo>
                  <a:pt x="14" y="115"/>
                </a:lnTo>
                <a:lnTo>
                  <a:pt x="28" y="109"/>
                </a:lnTo>
                <a:lnTo>
                  <a:pt x="41" y="102"/>
                </a:lnTo>
                <a:lnTo>
                  <a:pt x="55" y="95"/>
                </a:lnTo>
                <a:lnTo>
                  <a:pt x="68" y="87"/>
                </a:lnTo>
                <a:lnTo>
                  <a:pt x="80" y="79"/>
                </a:lnTo>
                <a:lnTo>
                  <a:pt x="92" y="72"/>
                </a:lnTo>
                <a:lnTo>
                  <a:pt x="103" y="64"/>
                </a:lnTo>
                <a:lnTo>
                  <a:pt x="115" y="72"/>
                </a:lnTo>
                <a:lnTo>
                  <a:pt x="124" y="80"/>
                </a:lnTo>
                <a:lnTo>
                  <a:pt x="132" y="90"/>
                </a:lnTo>
                <a:lnTo>
                  <a:pt x="139" y="100"/>
                </a:lnTo>
                <a:lnTo>
                  <a:pt x="146" y="110"/>
                </a:lnTo>
                <a:lnTo>
                  <a:pt x="153" y="120"/>
                </a:lnTo>
                <a:lnTo>
                  <a:pt x="161" y="130"/>
                </a:lnTo>
                <a:lnTo>
                  <a:pt x="169" y="138"/>
                </a:lnTo>
                <a:lnTo>
                  <a:pt x="172" y="125"/>
                </a:lnTo>
                <a:lnTo>
                  <a:pt x="172" y="112"/>
                </a:lnTo>
                <a:lnTo>
                  <a:pt x="167" y="100"/>
                </a:lnTo>
                <a:lnTo>
                  <a:pt x="162" y="87"/>
                </a:lnTo>
                <a:lnTo>
                  <a:pt x="155" y="74"/>
                </a:lnTo>
                <a:lnTo>
                  <a:pt x="148" y="63"/>
                </a:lnTo>
                <a:lnTo>
                  <a:pt x="142" y="50"/>
                </a:lnTo>
                <a:lnTo>
                  <a:pt x="138" y="38"/>
                </a:lnTo>
                <a:lnTo>
                  <a:pt x="203" y="7"/>
                </a:lnTo>
                <a:lnTo>
                  <a:pt x="208" y="10"/>
                </a:lnTo>
                <a:lnTo>
                  <a:pt x="212" y="11"/>
                </a:lnTo>
                <a:lnTo>
                  <a:pt x="217" y="10"/>
                </a:lnTo>
                <a:lnTo>
                  <a:pt x="220" y="8"/>
                </a:lnTo>
                <a:lnTo>
                  <a:pt x="225" y="4"/>
                </a:lnTo>
                <a:lnTo>
                  <a:pt x="229" y="1"/>
                </a:lnTo>
                <a:lnTo>
                  <a:pt x="235" y="0"/>
                </a:lnTo>
                <a:lnTo>
                  <a:pt x="2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591240" y="3019320"/>
            <a:ext cx="322200" cy="169920"/>
          </a:xfrm>
          <a:custGeom>
            <a:avLst/>
            <a:gdLst/>
            <a:ahLst/>
            <a:rect l="l" t="t" r="r" b="b"/>
            <a:pathLst>
              <a:path w="247" h="182">
                <a:moveTo>
                  <a:pt x="232" y="65"/>
                </a:moveTo>
                <a:lnTo>
                  <a:pt x="235" y="79"/>
                </a:lnTo>
                <a:lnTo>
                  <a:pt x="238" y="94"/>
                </a:lnTo>
                <a:lnTo>
                  <a:pt x="243" y="110"/>
                </a:lnTo>
                <a:lnTo>
                  <a:pt x="246" y="125"/>
                </a:lnTo>
                <a:lnTo>
                  <a:pt x="247" y="140"/>
                </a:lnTo>
                <a:lnTo>
                  <a:pt x="246" y="155"/>
                </a:lnTo>
                <a:lnTo>
                  <a:pt x="242" y="170"/>
                </a:lnTo>
                <a:lnTo>
                  <a:pt x="232" y="182"/>
                </a:lnTo>
                <a:lnTo>
                  <a:pt x="221" y="177"/>
                </a:lnTo>
                <a:lnTo>
                  <a:pt x="210" y="172"/>
                </a:lnTo>
                <a:lnTo>
                  <a:pt x="198" y="166"/>
                </a:lnTo>
                <a:lnTo>
                  <a:pt x="187" y="162"/>
                </a:lnTo>
                <a:lnTo>
                  <a:pt x="175" y="158"/>
                </a:lnTo>
                <a:lnTo>
                  <a:pt x="163" y="155"/>
                </a:lnTo>
                <a:lnTo>
                  <a:pt x="150" y="153"/>
                </a:lnTo>
                <a:lnTo>
                  <a:pt x="136" y="153"/>
                </a:lnTo>
                <a:lnTo>
                  <a:pt x="143" y="153"/>
                </a:lnTo>
                <a:lnTo>
                  <a:pt x="150" y="153"/>
                </a:lnTo>
                <a:lnTo>
                  <a:pt x="157" y="151"/>
                </a:lnTo>
                <a:lnTo>
                  <a:pt x="164" y="150"/>
                </a:lnTo>
                <a:lnTo>
                  <a:pt x="169" y="149"/>
                </a:lnTo>
                <a:lnTo>
                  <a:pt x="175" y="146"/>
                </a:lnTo>
                <a:lnTo>
                  <a:pt x="180" y="142"/>
                </a:lnTo>
                <a:lnTo>
                  <a:pt x="183" y="136"/>
                </a:lnTo>
                <a:lnTo>
                  <a:pt x="174" y="133"/>
                </a:lnTo>
                <a:lnTo>
                  <a:pt x="164" y="133"/>
                </a:lnTo>
                <a:lnTo>
                  <a:pt x="153" y="133"/>
                </a:lnTo>
                <a:lnTo>
                  <a:pt x="142" y="134"/>
                </a:lnTo>
                <a:lnTo>
                  <a:pt x="130" y="136"/>
                </a:lnTo>
                <a:lnTo>
                  <a:pt x="119" y="138"/>
                </a:lnTo>
                <a:lnTo>
                  <a:pt x="106" y="138"/>
                </a:lnTo>
                <a:lnTo>
                  <a:pt x="95" y="136"/>
                </a:lnTo>
                <a:lnTo>
                  <a:pt x="82" y="132"/>
                </a:lnTo>
                <a:lnTo>
                  <a:pt x="67" y="130"/>
                </a:lnTo>
                <a:lnTo>
                  <a:pt x="54" y="126"/>
                </a:lnTo>
                <a:lnTo>
                  <a:pt x="40" y="122"/>
                </a:lnTo>
                <a:lnTo>
                  <a:pt x="27" y="116"/>
                </a:lnTo>
                <a:lnTo>
                  <a:pt x="16" y="109"/>
                </a:lnTo>
                <a:lnTo>
                  <a:pt x="7" y="97"/>
                </a:lnTo>
                <a:lnTo>
                  <a:pt x="0" y="84"/>
                </a:lnTo>
                <a:lnTo>
                  <a:pt x="0" y="72"/>
                </a:lnTo>
                <a:lnTo>
                  <a:pt x="1" y="61"/>
                </a:lnTo>
                <a:lnTo>
                  <a:pt x="3" y="50"/>
                </a:lnTo>
                <a:lnTo>
                  <a:pt x="7" y="40"/>
                </a:lnTo>
                <a:lnTo>
                  <a:pt x="12" y="31"/>
                </a:lnTo>
                <a:lnTo>
                  <a:pt x="19" y="23"/>
                </a:lnTo>
                <a:lnTo>
                  <a:pt x="27" y="16"/>
                </a:lnTo>
                <a:lnTo>
                  <a:pt x="38" y="10"/>
                </a:lnTo>
                <a:lnTo>
                  <a:pt x="50" y="7"/>
                </a:lnTo>
                <a:lnTo>
                  <a:pt x="63" y="4"/>
                </a:lnTo>
                <a:lnTo>
                  <a:pt x="77" y="2"/>
                </a:lnTo>
                <a:lnTo>
                  <a:pt x="90" y="0"/>
                </a:lnTo>
                <a:lnTo>
                  <a:pt x="104" y="0"/>
                </a:lnTo>
                <a:lnTo>
                  <a:pt x="119" y="0"/>
                </a:lnTo>
                <a:lnTo>
                  <a:pt x="133" y="1"/>
                </a:lnTo>
                <a:lnTo>
                  <a:pt x="147" y="2"/>
                </a:lnTo>
                <a:lnTo>
                  <a:pt x="159" y="6"/>
                </a:lnTo>
                <a:lnTo>
                  <a:pt x="173" y="10"/>
                </a:lnTo>
                <a:lnTo>
                  <a:pt x="184" y="15"/>
                </a:lnTo>
                <a:lnTo>
                  <a:pt x="196" y="22"/>
                </a:lnTo>
                <a:lnTo>
                  <a:pt x="207" y="31"/>
                </a:lnTo>
                <a:lnTo>
                  <a:pt x="216" y="40"/>
                </a:lnTo>
                <a:lnTo>
                  <a:pt x="226" y="52"/>
                </a:lnTo>
                <a:lnTo>
                  <a:pt x="232" y="6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08880" y="3178080"/>
            <a:ext cx="306360" cy="236520"/>
          </a:xfrm>
          <a:custGeom>
            <a:avLst/>
            <a:gdLst/>
            <a:ahLst/>
            <a:rect l="l" t="t" r="r" b="b"/>
            <a:pathLst>
              <a:path w="236" h="257">
                <a:moveTo>
                  <a:pt x="232" y="39"/>
                </a:moveTo>
                <a:lnTo>
                  <a:pt x="235" y="54"/>
                </a:lnTo>
                <a:lnTo>
                  <a:pt x="236" y="70"/>
                </a:lnTo>
                <a:lnTo>
                  <a:pt x="236" y="85"/>
                </a:lnTo>
                <a:lnTo>
                  <a:pt x="235" y="101"/>
                </a:lnTo>
                <a:lnTo>
                  <a:pt x="233" y="116"/>
                </a:lnTo>
                <a:lnTo>
                  <a:pt x="230" y="132"/>
                </a:lnTo>
                <a:lnTo>
                  <a:pt x="227" y="147"/>
                </a:lnTo>
                <a:lnTo>
                  <a:pt x="222" y="162"/>
                </a:lnTo>
                <a:lnTo>
                  <a:pt x="215" y="176"/>
                </a:lnTo>
                <a:lnTo>
                  <a:pt x="208" y="189"/>
                </a:lnTo>
                <a:lnTo>
                  <a:pt x="200" y="203"/>
                </a:lnTo>
                <a:lnTo>
                  <a:pt x="191" y="215"/>
                </a:lnTo>
                <a:lnTo>
                  <a:pt x="182" y="227"/>
                </a:lnTo>
                <a:lnTo>
                  <a:pt x="170" y="237"/>
                </a:lnTo>
                <a:lnTo>
                  <a:pt x="158" y="248"/>
                </a:lnTo>
                <a:lnTo>
                  <a:pt x="145" y="257"/>
                </a:lnTo>
                <a:lnTo>
                  <a:pt x="138" y="242"/>
                </a:lnTo>
                <a:lnTo>
                  <a:pt x="133" y="226"/>
                </a:lnTo>
                <a:lnTo>
                  <a:pt x="128" y="210"/>
                </a:lnTo>
                <a:lnTo>
                  <a:pt x="126" y="194"/>
                </a:lnTo>
                <a:lnTo>
                  <a:pt x="124" y="177"/>
                </a:lnTo>
                <a:lnTo>
                  <a:pt x="122" y="159"/>
                </a:lnTo>
                <a:lnTo>
                  <a:pt x="121" y="141"/>
                </a:lnTo>
                <a:lnTo>
                  <a:pt x="121" y="124"/>
                </a:lnTo>
                <a:lnTo>
                  <a:pt x="130" y="122"/>
                </a:lnTo>
                <a:lnTo>
                  <a:pt x="141" y="118"/>
                </a:lnTo>
                <a:lnTo>
                  <a:pt x="151" y="115"/>
                </a:lnTo>
                <a:lnTo>
                  <a:pt x="160" y="110"/>
                </a:lnTo>
                <a:lnTo>
                  <a:pt x="170" y="105"/>
                </a:lnTo>
                <a:lnTo>
                  <a:pt x="180" y="100"/>
                </a:lnTo>
                <a:lnTo>
                  <a:pt x="189" y="94"/>
                </a:lnTo>
                <a:lnTo>
                  <a:pt x="198" y="88"/>
                </a:lnTo>
                <a:lnTo>
                  <a:pt x="188" y="84"/>
                </a:lnTo>
                <a:lnTo>
                  <a:pt x="177" y="83"/>
                </a:lnTo>
                <a:lnTo>
                  <a:pt x="166" y="86"/>
                </a:lnTo>
                <a:lnTo>
                  <a:pt x="156" y="91"/>
                </a:lnTo>
                <a:lnTo>
                  <a:pt x="145" y="95"/>
                </a:lnTo>
                <a:lnTo>
                  <a:pt x="136" y="97"/>
                </a:lnTo>
                <a:lnTo>
                  <a:pt x="126" y="95"/>
                </a:lnTo>
                <a:lnTo>
                  <a:pt x="118" y="88"/>
                </a:lnTo>
                <a:lnTo>
                  <a:pt x="109" y="95"/>
                </a:lnTo>
                <a:lnTo>
                  <a:pt x="96" y="99"/>
                </a:lnTo>
                <a:lnTo>
                  <a:pt x="83" y="100"/>
                </a:lnTo>
                <a:lnTo>
                  <a:pt x="70" y="100"/>
                </a:lnTo>
                <a:lnTo>
                  <a:pt x="56" y="97"/>
                </a:lnTo>
                <a:lnTo>
                  <a:pt x="42" y="93"/>
                </a:lnTo>
                <a:lnTo>
                  <a:pt x="30" y="89"/>
                </a:lnTo>
                <a:lnTo>
                  <a:pt x="18" y="85"/>
                </a:lnTo>
                <a:lnTo>
                  <a:pt x="12" y="79"/>
                </a:lnTo>
                <a:lnTo>
                  <a:pt x="8" y="72"/>
                </a:lnTo>
                <a:lnTo>
                  <a:pt x="3" y="65"/>
                </a:lnTo>
                <a:lnTo>
                  <a:pt x="1" y="57"/>
                </a:lnTo>
                <a:lnTo>
                  <a:pt x="0" y="50"/>
                </a:lnTo>
                <a:lnTo>
                  <a:pt x="0" y="42"/>
                </a:lnTo>
                <a:lnTo>
                  <a:pt x="2" y="34"/>
                </a:lnTo>
                <a:lnTo>
                  <a:pt x="7" y="27"/>
                </a:lnTo>
                <a:lnTo>
                  <a:pt x="15" y="24"/>
                </a:lnTo>
                <a:lnTo>
                  <a:pt x="22" y="18"/>
                </a:lnTo>
                <a:lnTo>
                  <a:pt x="30" y="16"/>
                </a:lnTo>
                <a:lnTo>
                  <a:pt x="38" y="19"/>
                </a:lnTo>
                <a:lnTo>
                  <a:pt x="44" y="14"/>
                </a:lnTo>
                <a:lnTo>
                  <a:pt x="47" y="8"/>
                </a:lnTo>
                <a:lnTo>
                  <a:pt x="49" y="3"/>
                </a:lnTo>
                <a:lnTo>
                  <a:pt x="56" y="1"/>
                </a:lnTo>
                <a:lnTo>
                  <a:pt x="79" y="0"/>
                </a:lnTo>
                <a:lnTo>
                  <a:pt x="103" y="0"/>
                </a:lnTo>
                <a:lnTo>
                  <a:pt x="126" y="1"/>
                </a:lnTo>
                <a:lnTo>
                  <a:pt x="149" y="5"/>
                </a:lnTo>
                <a:lnTo>
                  <a:pt x="172" y="9"/>
                </a:lnTo>
                <a:lnTo>
                  <a:pt x="192" y="17"/>
                </a:lnTo>
                <a:lnTo>
                  <a:pt x="213" y="26"/>
                </a:lnTo>
                <a:lnTo>
                  <a:pt x="232" y="3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68480" y="4129200"/>
            <a:ext cx="250920" cy="236520"/>
          </a:xfrm>
          <a:custGeom>
            <a:avLst/>
            <a:gdLst/>
            <a:ahLst/>
            <a:rect l="l" t="t" r="r" b="b"/>
            <a:pathLst>
              <a:path w="195" h="256">
                <a:moveTo>
                  <a:pt x="125" y="73"/>
                </a:moveTo>
                <a:lnTo>
                  <a:pt x="132" y="73"/>
                </a:lnTo>
                <a:lnTo>
                  <a:pt x="136" y="68"/>
                </a:lnTo>
                <a:lnTo>
                  <a:pt x="141" y="64"/>
                </a:lnTo>
                <a:lnTo>
                  <a:pt x="146" y="58"/>
                </a:lnTo>
                <a:lnTo>
                  <a:pt x="148" y="51"/>
                </a:lnTo>
                <a:lnTo>
                  <a:pt x="148" y="44"/>
                </a:lnTo>
                <a:lnTo>
                  <a:pt x="146" y="38"/>
                </a:lnTo>
                <a:lnTo>
                  <a:pt x="144" y="34"/>
                </a:lnTo>
                <a:lnTo>
                  <a:pt x="141" y="28"/>
                </a:lnTo>
                <a:lnTo>
                  <a:pt x="137" y="23"/>
                </a:lnTo>
                <a:lnTo>
                  <a:pt x="134" y="18"/>
                </a:lnTo>
                <a:lnTo>
                  <a:pt x="130" y="13"/>
                </a:lnTo>
                <a:lnTo>
                  <a:pt x="134" y="6"/>
                </a:lnTo>
                <a:lnTo>
                  <a:pt x="140" y="2"/>
                </a:lnTo>
                <a:lnTo>
                  <a:pt x="145" y="0"/>
                </a:lnTo>
                <a:lnTo>
                  <a:pt x="152" y="0"/>
                </a:lnTo>
                <a:lnTo>
                  <a:pt x="159" y="3"/>
                </a:lnTo>
                <a:lnTo>
                  <a:pt x="165" y="5"/>
                </a:lnTo>
                <a:lnTo>
                  <a:pt x="170" y="10"/>
                </a:lnTo>
                <a:lnTo>
                  <a:pt x="174" y="13"/>
                </a:lnTo>
                <a:lnTo>
                  <a:pt x="192" y="43"/>
                </a:lnTo>
                <a:lnTo>
                  <a:pt x="195" y="68"/>
                </a:lnTo>
                <a:lnTo>
                  <a:pt x="184" y="90"/>
                </a:lnTo>
                <a:lnTo>
                  <a:pt x="165" y="111"/>
                </a:lnTo>
                <a:lnTo>
                  <a:pt x="141" y="130"/>
                </a:lnTo>
                <a:lnTo>
                  <a:pt x="117" y="150"/>
                </a:lnTo>
                <a:lnTo>
                  <a:pt x="95" y="171"/>
                </a:lnTo>
                <a:lnTo>
                  <a:pt x="81" y="195"/>
                </a:lnTo>
                <a:lnTo>
                  <a:pt x="43" y="256"/>
                </a:lnTo>
                <a:lnTo>
                  <a:pt x="35" y="254"/>
                </a:lnTo>
                <a:lnTo>
                  <a:pt x="28" y="249"/>
                </a:lnTo>
                <a:lnTo>
                  <a:pt x="23" y="243"/>
                </a:lnTo>
                <a:lnTo>
                  <a:pt x="18" y="236"/>
                </a:lnTo>
                <a:lnTo>
                  <a:pt x="15" y="229"/>
                </a:lnTo>
                <a:lnTo>
                  <a:pt x="11" y="221"/>
                </a:lnTo>
                <a:lnTo>
                  <a:pt x="7" y="214"/>
                </a:lnTo>
                <a:lnTo>
                  <a:pt x="2" y="207"/>
                </a:lnTo>
                <a:lnTo>
                  <a:pt x="0" y="183"/>
                </a:lnTo>
                <a:lnTo>
                  <a:pt x="2" y="160"/>
                </a:lnTo>
                <a:lnTo>
                  <a:pt x="8" y="138"/>
                </a:lnTo>
                <a:lnTo>
                  <a:pt x="16" y="117"/>
                </a:lnTo>
                <a:lnTo>
                  <a:pt x="25" y="98"/>
                </a:lnTo>
                <a:lnTo>
                  <a:pt x="36" y="80"/>
                </a:lnTo>
                <a:lnTo>
                  <a:pt x="49" y="61"/>
                </a:lnTo>
                <a:lnTo>
                  <a:pt x="63" y="43"/>
                </a:lnTo>
                <a:lnTo>
                  <a:pt x="73" y="46"/>
                </a:lnTo>
                <a:lnTo>
                  <a:pt x="75" y="37"/>
                </a:lnTo>
                <a:lnTo>
                  <a:pt x="79" y="30"/>
                </a:lnTo>
                <a:lnTo>
                  <a:pt x="85" y="24"/>
                </a:lnTo>
                <a:lnTo>
                  <a:pt x="90" y="20"/>
                </a:lnTo>
                <a:lnTo>
                  <a:pt x="97" y="15"/>
                </a:lnTo>
                <a:lnTo>
                  <a:pt x="104" y="11"/>
                </a:lnTo>
                <a:lnTo>
                  <a:pt x="110" y="6"/>
                </a:lnTo>
                <a:lnTo>
                  <a:pt x="117" y="0"/>
                </a:lnTo>
                <a:lnTo>
                  <a:pt x="116" y="7"/>
                </a:lnTo>
                <a:lnTo>
                  <a:pt x="113" y="15"/>
                </a:lnTo>
                <a:lnTo>
                  <a:pt x="112" y="24"/>
                </a:lnTo>
                <a:lnTo>
                  <a:pt x="112" y="35"/>
                </a:lnTo>
                <a:lnTo>
                  <a:pt x="112" y="46"/>
                </a:lnTo>
                <a:lnTo>
                  <a:pt x="114" y="57"/>
                </a:lnTo>
                <a:lnTo>
                  <a:pt x="118" y="65"/>
                </a:lnTo>
                <a:lnTo>
                  <a:pt x="125" y="7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997360" y="4375080"/>
            <a:ext cx="222120" cy="235080"/>
          </a:xfrm>
          <a:custGeom>
            <a:avLst/>
            <a:gdLst/>
            <a:ahLst/>
            <a:rect l="l" t="t" r="r" b="b"/>
            <a:pathLst>
              <a:path w="168" h="253">
                <a:moveTo>
                  <a:pt x="168" y="19"/>
                </a:moveTo>
                <a:lnTo>
                  <a:pt x="161" y="43"/>
                </a:lnTo>
                <a:lnTo>
                  <a:pt x="152" y="65"/>
                </a:lnTo>
                <a:lnTo>
                  <a:pt x="139" y="85"/>
                </a:lnTo>
                <a:lnTo>
                  <a:pt x="126" y="103"/>
                </a:lnTo>
                <a:lnTo>
                  <a:pt x="110" y="120"/>
                </a:lnTo>
                <a:lnTo>
                  <a:pt x="92" y="136"/>
                </a:lnTo>
                <a:lnTo>
                  <a:pt x="75" y="152"/>
                </a:lnTo>
                <a:lnTo>
                  <a:pt x="57" y="169"/>
                </a:lnTo>
                <a:lnTo>
                  <a:pt x="64" y="172"/>
                </a:lnTo>
                <a:lnTo>
                  <a:pt x="69" y="173"/>
                </a:lnTo>
                <a:lnTo>
                  <a:pt x="75" y="171"/>
                </a:lnTo>
                <a:lnTo>
                  <a:pt x="80" y="167"/>
                </a:lnTo>
                <a:lnTo>
                  <a:pt x="86" y="163"/>
                </a:lnTo>
                <a:lnTo>
                  <a:pt x="90" y="159"/>
                </a:lnTo>
                <a:lnTo>
                  <a:pt x="96" y="157"/>
                </a:lnTo>
                <a:lnTo>
                  <a:pt x="103" y="157"/>
                </a:lnTo>
                <a:lnTo>
                  <a:pt x="104" y="170"/>
                </a:lnTo>
                <a:lnTo>
                  <a:pt x="107" y="183"/>
                </a:lnTo>
                <a:lnTo>
                  <a:pt x="112" y="196"/>
                </a:lnTo>
                <a:lnTo>
                  <a:pt x="118" y="210"/>
                </a:lnTo>
                <a:lnTo>
                  <a:pt x="121" y="222"/>
                </a:lnTo>
                <a:lnTo>
                  <a:pt x="121" y="234"/>
                </a:lnTo>
                <a:lnTo>
                  <a:pt x="116" y="244"/>
                </a:lnTo>
                <a:lnTo>
                  <a:pt x="106" y="253"/>
                </a:lnTo>
                <a:lnTo>
                  <a:pt x="95" y="253"/>
                </a:lnTo>
                <a:lnTo>
                  <a:pt x="83" y="253"/>
                </a:lnTo>
                <a:lnTo>
                  <a:pt x="72" y="253"/>
                </a:lnTo>
                <a:lnTo>
                  <a:pt x="60" y="252"/>
                </a:lnTo>
                <a:lnTo>
                  <a:pt x="49" y="250"/>
                </a:lnTo>
                <a:lnTo>
                  <a:pt x="37" y="248"/>
                </a:lnTo>
                <a:lnTo>
                  <a:pt x="27" y="243"/>
                </a:lnTo>
                <a:lnTo>
                  <a:pt x="16" y="237"/>
                </a:lnTo>
                <a:lnTo>
                  <a:pt x="5" y="217"/>
                </a:lnTo>
                <a:lnTo>
                  <a:pt x="0" y="195"/>
                </a:lnTo>
                <a:lnTo>
                  <a:pt x="1" y="173"/>
                </a:lnTo>
                <a:lnTo>
                  <a:pt x="4" y="151"/>
                </a:lnTo>
                <a:lnTo>
                  <a:pt x="12" y="131"/>
                </a:lnTo>
                <a:lnTo>
                  <a:pt x="21" y="110"/>
                </a:lnTo>
                <a:lnTo>
                  <a:pt x="33" y="90"/>
                </a:lnTo>
                <a:lnTo>
                  <a:pt x="45" y="73"/>
                </a:lnTo>
                <a:lnTo>
                  <a:pt x="51" y="63"/>
                </a:lnTo>
                <a:lnTo>
                  <a:pt x="58" y="54"/>
                </a:lnTo>
                <a:lnTo>
                  <a:pt x="65" y="46"/>
                </a:lnTo>
                <a:lnTo>
                  <a:pt x="73" y="38"/>
                </a:lnTo>
                <a:lnTo>
                  <a:pt x="80" y="31"/>
                </a:lnTo>
                <a:lnTo>
                  <a:pt x="89" y="23"/>
                </a:lnTo>
                <a:lnTo>
                  <a:pt x="97" y="16"/>
                </a:lnTo>
                <a:lnTo>
                  <a:pt x="106" y="8"/>
                </a:lnTo>
                <a:lnTo>
                  <a:pt x="111" y="14"/>
                </a:lnTo>
                <a:lnTo>
                  <a:pt x="111" y="19"/>
                </a:lnTo>
                <a:lnTo>
                  <a:pt x="110" y="26"/>
                </a:lnTo>
                <a:lnTo>
                  <a:pt x="108" y="33"/>
                </a:lnTo>
                <a:lnTo>
                  <a:pt x="107" y="40"/>
                </a:lnTo>
                <a:lnTo>
                  <a:pt x="107" y="47"/>
                </a:lnTo>
                <a:lnTo>
                  <a:pt x="111" y="53"/>
                </a:lnTo>
                <a:lnTo>
                  <a:pt x="119" y="57"/>
                </a:lnTo>
                <a:lnTo>
                  <a:pt x="128" y="55"/>
                </a:lnTo>
                <a:lnTo>
                  <a:pt x="135" y="50"/>
                </a:lnTo>
                <a:lnTo>
                  <a:pt x="139" y="42"/>
                </a:lnTo>
                <a:lnTo>
                  <a:pt x="144" y="34"/>
                </a:lnTo>
                <a:lnTo>
                  <a:pt x="130" y="0"/>
                </a:lnTo>
                <a:lnTo>
                  <a:pt x="136" y="1"/>
                </a:lnTo>
                <a:lnTo>
                  <a:pt x="141" y="2"/>
                </a:lnTo>
                <a:lnTo>
                  <a:pt x="146" y="3"/>
                </a:lnTo>
                <a:lnTo>
                  <a:pt x="151" y="6"/>
                </a:lnTo>
                <a:lnTo>
                  <a:pt x="155" y="8"/>
                </a:lnTo>
                <a:lnTo>
                  <a:pt x="160" y="10"/>
                </a:lnTo>
                <a:lnTo>
                  <a:pt x="165" y="15"/>
                </a:lnTo>
                <a:lnTo>
                  <a:pt x="168" y="1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68640" y="4645080"/>
            <a:ext cx="152280" cy="169920"/>
          </a:xfrm>
          <a:custGeom>
            <a:avLst/>
            <a:gdLst/>
            <a:ahLst/>
            <a:rect l="l" t="t" r="r" b="b"/>
            <a:pathLst>
              <a:path w="118" h="184">
                <a:moveTo>
                  <a:pt x="118" y="110"/>
                </a:moveTo>
                <a:lnTo>
                  <a:pt x="113" y="123"/>
                </a:lnTo>
                <a:lnTo>
                  <a:pt x="107" y="136"/>
                </a:lnTo>
                <a:lnTo>
                  <a:pt x="99" y="147"/>
                </a:lnTo>
                <a:lnTo>
                  <a:pt x="90" y="158"/>
                </a:lnTo>
                <a:lnTo>
                  <a:pt x="80" y="168"/>
                </a:lnTo>
                <a:lnTo>
                  <a:pt x="67" y="175"/>
                </a:lnTo>
                <a:lnTo>
                  <a:pt x="53" y="181"/>
                </a:lnTo>
                <a:lnTo>
                  <a:pt x="38" y="184"/>
                </a:lnTo>
                <a:lnTo>
                  <a:pt x="34" y="181"/>
                </a:lnTo>
                <a:lnTo>
                  <a:pt x="28" y="178"/>
                </a:lnTo>
                <a:lnTo>
                  <a:pt x="22" y="176"/>
                </a:lnTo>
                <a:lnTo>
                  <a:pt x="16" y="174"/>
                </a:lnTo>
                <a:lnTo>
                  <a:pt x="11" y="171"/>
                </a:lnTo>
                <a:lnTo>
                  <a:pt x="6" y="168"/>
                </a:lnTo>
                <a:lnTo>
                  <a:pt x="3" y="163"/>
                </a:lnTo>
                <a:lnTo>
                  <a:pt x="0" y="156"/>
                </a:lnTo>
                <a:lnTo>
                  <a:pt x="7" y="136"/>
                </a:lnTo>
                <a:lnTo>
                  <a:pt x="16" y="115"/>
                </a:lnTo>
                <a:lnTo>
                  <a:pt x="27" y="97"/>
                </a:lnTo>
                <a:lnTo>
                  <a:pt x="38" y="78"/>
                </a:lnTo>
                <a:lnTo>
                  <a:pt x="50" y="60"/>
                </a:lnTo>
                <a:lnTo>
                  <a:pt x="61" y="40"/>
                </a:lnTo>
                <a:lnTo>
                  <a:pt x="71" y="21"/>
                </a:lnTo>
                <a:lnTo>
                  <a:pt x="81" y="0"/>
                </a:lnTo>
                <a:lnTo>
                  <a:pt x="86" y="14"/>
                </a:lnTo>
                <a:lnTo>
                  <a:pt x="92" y="27"/>
                </a:lnTo>
                <a:lnTo>
                  <a:pt x="98" y="40"/>
                </a:lnTo>
                <a:lnTo>
                  <a:pt x="104" y="53"/>
                </a:lnTo>
                <a:lnTo>
                  <a:pt x="109" y="67"/>
                </a:lnTo>
                <a:lnTo>
                  <a:pt x="114" y="81"/>
                </a:lnTo>
                <a:lnTo>
                  <a:pt x="117" y="96"/>
                </a:lnTo>
                <a:lnTo>
                  <a:pt x="118" y="11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73480" y="3567240"/>
            <a:ext cx="106560" cy="209520"/>
          </a:xfrm>
          <a:custGeom>
            <a:avLst/>
            <a:gdLst/>
            <a:ahLst/>
            <a:rect l="l" t="t" r="r" b="b"/>
            <a:pathLst>
              <a:path w="83" h="225">
                <a:moveTo>
                  <a:pt x="83" y="221"/>
                </a:moveTo>
                <a:lnTo>
                  <a:pt x="83" y="221"/>
                </a:lnTo>
                <a:lnTo>
                  <a:pt x="80" y="207"/>
                </a:lnTo>
                <a:lnTo>
                  <a:pt x="76" y="193"/>
                </a:lnTo>
                <a:lnTo>
                  <a:pt x="71" y="179"/>
                </a:lnTo>
                <a:lnTo>
                  <a:pt x="68" y="166"/>
                </a:lnTo>
                <a:lnTo>
                  <a:pt x="63" y="152"/>
                </a:lnTo>
                <a:lnTo>
                  <a:pt x="60" y="138"/>
                </a:lnTo>
                <a:lnTo>
                  <a:pt x="55" y="124"/>
                </a:lnTo>
                <a:lnTo>
                  <a:pt x="51" y="110"/>
                </a:lnTo>
                <a:lnTo>
                  <a:pt x="46" y="97"/>
                </a:lnTo>
                <a:lnTo>
                  <a:pt x="42" y="83"/>
                </a:lnTo>
                <a:lnTo>
                  <a:pt x="38" y="69"/>
                </a:lnTo>
                <a:lnTo>
                  <a:pt x="34" y="55"/>
                </a:lnTo>
                <a:lnTo>
                  <a:pt x="29" y="42"/>
                </a:lnTo>
                <a:lnTo>
                  <a:pt x="25" y="28"/>
                </a:lnTo>
                <a:lnTo>
                  <a:pt x="21" y="14"/>
                </a:lnTo>
                <a:lnTo>
                  <a:pt x="17" y="0"/>
                </a:lnTo>
                <a:lnTo>
                  <a:pt x="0" y="5"/>
                </a:lnTo>
                <a:lnTo>
                  <a:pt x="5" y="19"/>
                </a:lnTo>
                <a:lnTo>
                  <a:pt x="8" y="32"/>
                </a:lnTo>
                <a:lnTo>
                  <a:pt x="13" y="46"/>
                </a:lnTo>
                <a:lnTo>
                  <a:pt x="18" y="60"/>
                </a:lnTo>
                <a:lnTo>
                  <a:pt x="22" y="74"/>
                </a:lnTo>
                <a:lnTo>
                  <a:pt x="26" y="87"/>
                </a:lnTo>
                <a:lnTo>
                  <a:pt x="30" y="101"/>
                </a:lnTo>
                <a:lnTo>
                  <a:pt x="35" y="115"/>
                </a:lnTo>
                <a:lnTo>
                  <a:pt x="39" y="129"/>
                </a:lnTo>
                <a:lnTo>
                  <a:pt x="44" y="143"/>
                </a:lnTo>
                <a:lnTo>
                  <a:pt x="47" y="156"/>
                </a:lnTo>
                <a:lnTo>
                  <a:pt x="52" y="170"/>
                </a:lnTo>
                <a:lnTo>
                  <a:pt x="55" y="184"/>
                </a:lnTo>
                <a:lnTo>
                  <a:pt x="60" y="198"/>
                </a:lnTo>
                <a:lnTo>
                  <a:pt x="63" y="211"/>
                </a:lnTo>
                <a:lnTo>
                  <a:pt x="67" y="225"/>
                </a:lnTo>
                <a:lnTo>
                  <a:pt x="67" y="225"/>
                </a:lnTo>
                <a:lnTo>
                  <a:pt x="83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89560" y="4030560"/>
            <a:ext cx="54000" cy="268560"/>
          </a:xfrm>
          <a:custGeom>
            <a:avLst/>
            <a:gdLst/>
            <a:ahLst/>
            <a:rect l="l" t="t" r="r" b="b"/>
            <a:pathLst>
              <a:path w="43" h="290">
                <a:moveTo>
                  <a:pt x="0" y="2"/>
                </a:moveTo>
                <a:lnTo>
                  <a:pt x="0" y="2"/>
                </a:lnTo>
                <a:lnTo>
                  <a:pt x="27" y="290"/>
                </a:lnTo>
                <a:lnTo>
                  <a:pt x="43" y="288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78600" y="4137120"/>
            <a:ext cx="214200" cy="317520"/>
          </a:xfrm>
          <a:custGeom>
            <a:avLst/>
            <a:gdLst/>
            <a:ahLst/>
            <a:rect l="l" t="t" r="r" b="b"/>
            <a:pathLst>
              <a:path w="164" h="343">
                <a:moveTo>
                  <a:pt x="25" y="0"/>
                </a:moveTo>
                <a:lnTo>
                  <a:pt x="9" y="32"/>
                </a:lnTo>
                <a:lnTo>
                  <a:pt x="116" y="343"/>
                </a:lnTo>
                <a:lnTo>
                  <a:pt x="164" y="327"/>
                </a:lnTo>
                <a:lnTo>
                  <a:pt x="57" y="16"/>
                </a:lnTo>
                <a:lnTo>
                  <a:pt x="41" y="48"/>
                </a:lnTo>
                <a:lnTo>
                  <a:pt x="25" y="0"/>
                </a:lnTo>
                <a:lnTo>
                  <a:pt x="0" y="8"/>
                </a:lnTo>
                <a:lnTo>
                  <a:pt x="9" y="32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20520000">
            <a:off x="3047760" y="3200040"/>
            <a:ext cx="39132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Handwriting"/>
              </a:rPr>
              <a:t>O COMITÊ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Handwriting"/>
              </a:rPr>
              <a:t> DA BACIA HIDROGRÁFICA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Handwriting"/>
              </a:rPr>
              <a:t>DO PARDO - CBH-PAR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0" y="6019920"/>
            <a:ext cx="9144000" cy="761760"/>
            <a:chOff x="0" y="6019920"/>
            <a:chExt cx="9144000" cy="761760"/>
          </a:xfrm>
        </p:grpSpPr>
        <p:sp>
          <p:nvSpPr>
            <p:cNvPr id="557" name=""/>
            <p:cNvSpPr/>
            <p:nvPr/>
          </p:nvSpPr>
          <p:spPr>
            <a:xfrm>
              <a:off x="2057400" y="6248520"/>
              <a:ext cx="525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COMITÊ DA BACIA HIDROGRÁFICA DO PAR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0" y="6019920"/>
              <a:ext cx="9144000" cy="761760"/>
              <a:chOff x="0" y="6019920"/>
              <a:chExt cx="9144000" cy="76176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6019920"/>
                <a:ext cx="91440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60" name="CBHLogo1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6095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1" name="INSTRUCOES%2520DA%25Fehidror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6172200"/>
                <a:ext cx="1057320" cy="438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62" name=""/>
          <p:cNvSpPr/>
          <p:nvPr/>
        </p:nvSpPr>
        <p:spPr>
          <a:xfrm>
            <a:off x="1569960" y="2925720"/>
            <a:ext cx="42840" cy="65160"/>
          </a:xfrm>
          <a:custGeom>
            <a:avLst/>
            <a:gdLst/>
            <a:ahLst/>
            <a:rect l="l" t="t" r="r" b="b"/>
            <a:pathLst>
              <a:path w="54" h="80">
                <a:moveTo>
                  <a:pt x="54" y="73"/>
                </a:moveTo>
                <a:lnTo>
                  <a:pt x="50" y="77"/>
                </a:lnTo>
                <a:lnTo>
                  <a:pt x="45" y="78"/>
                </a:lnTo>
                <a:lnTo>
                  <a:pt x="40" y="79"/>
                </a:lnTo>
                <a:lnTo>
                  <a:pt x="36" y="80"/>
                </a:lnTo>
                <a:lnTo>
                  <a:pt x="0" y="0"/>
                </a:lnTo>
                <a:lnTo>
                  <a:pt x="54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09960" y="3214800"/>
            <a:ext cx="9360" cy="23760"/>
          </a:xfrm>
          <a:custGeom>
            <a:avLst/>
            <a:gdLst/>
            <a:ahLst/>
            <a:rect l="l" t="t" r="r" b="b"/>
            <a:pathLst>
              <a:path w="11" h="30">
                <a:moveTo>
                  <a:pt x="10" y="30"/>
                </a:moveTo>
                <a:lnTo>
                  <a:pt x="7" y="30"/>
                </a:lnTo>
                <a:lnTo>
                  <a:pt x="6" y="27"/>
                </a:lnTo>
                <a:lnTo>
                  <a:pt x="3" y="25"/>
                </a:lnTo>
                <a:lnTo>
                  <a:pt x="0" y="21"/>
                </a:lnTo>
                <a:lnTo>
                  <a:pt x="8" y="0"/>
                </a:lnTo>
                <a:lnTo>
                  <a:pt x="10" y="7"/>
                </a:lnTo>
                <a:lnTo>
                  <a:pt x="11" y="15"/>
                </a:lnTo>
                <a:lnTo>
                  <a:pt x="10" y="23"/>
                </a:lnTo>
                <a:lnTo>
                  <a:pt x="1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08160" y="3294000"/>
            <a:ext cx="24120" cy="648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lnTo>
                  <a:pt x="0" y="0"/>
                </a:lnTo>
                <a:lnTo>
                  <a:pt x="30" y="5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16080" y="3343320"/>
            <a:ext cx="3240" cy="14400"/>
          </a:xfrm>
          <a:custGeom>
            <a:avLst/>
            <a:gdLst/>
            <a:ahLst/>
            <a:rect l="l" t="t" r="r" b="b"/>
            <a:pathLst>
              <a:path w="2" h="20">
                <a:moveTo>
                  <a:pt x="2" y="20"/>
                </a:moveTo>
                <a:lnTo>
                  <a:pt x="0" y="0"/>
                </a:lnTo>
                <a:lnTo>
                  <a:pt x="2" y="8"/>
                </a:lnTo>
                <a:lnTo>
                  <a:pt x="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119240" y="4425840"/>
            <a:ext cx="39600" cy="17640"/>
          </a:xfrm>
          <a:custGeom>
            <a:avLst/>
            <a:gdLst/>
            <a:ahLst/>
            <a:rect l="l" t="t" r="r" b="b"/>
            <a:pathLst>
              <a:path w="49" h="23">
                <a:moveTo>
                  <a:pt x="0" y="21"/>
                </a:moveTo>
                <a:lnTo>
                  <a:pt x="1" y="21"/>
                </a:lnTo>
                <a:lnTo>
                  <a:pt x="7" y="22"/>
                </a:lnTo>
                <a:lnTo>
                  <a:pt x="13" y="23"/>
                </a:lnTo>
                <a:lnTo>
                  <a:pt x="20" y="22"/>
                </a:lnTo>
                <a:lnTo>
                  <a:pt x="25" y="21"/>
                </a:lnTo>
                <a:lnTo>
                  <a:pt x="32" y="19"/>
                </a:lnTo>
                <a:lnTo>
                  <a:pt x="38" y="18"/>
                </a:lnTo>
                <a:lnTo>
                  <a:pt x="45" y="13"/>
                </a:lnTo>
                <a:lnTo>
                  <a:pt x="49" y="7"/>
                </a:lnTo>
                <a:lnTo>
                  <a:pt x="33" y="0"/>
                </a:lnTo>
                <a:lnTo>
                  <a:pt x="33" y="1"/>
                </a:lnTo>
                <a:lnTo>
                  <a:pt x="31" y="2"/>
                </a:lnTo>
                <a:lnTo>
                  <a:pt x="28" y="3"/>
                </a:lnTo>
                <a:lnTo>
                  <a:pt x="23" y="5"/>
                </a:lnTo>
                <a:lnTo>
                  <a:pt x="17" y="6"/>
                </a:lnTo>
                <a:lnTo>
                  <a:pt x="13" y="5"/>
                </a:lnTo>
                <a:lnTo>
                  <a:pt x="9" y="6"/>
                </a:lnTo>
                <a:lnTo>
                  <a:pt x="6" y="5"/>
                </a:lnTo>
                <a:lnTo>
                  <a:pt x="7" y="5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09880" y="4119480"/>
            <a:ext cx="68040" cy="22320"/>
          </a:xfrm>
          <a:custGeom>
            <a:avLst/>
            <a:gdLst/>
            <a:ahLst/>
            <a:rect l="l" t="t" r="r" b="b"/>
            <a:pathLst>
              <a:path w="86" h="29">
                <a:moveTo>
                  <a:pt x="1" y="14"/>
                </a:moveTo>
                <a:lnTo>
                  <a:pt x="0" y="14"/>
                </a:lnTo>
                <a:lnTo>
                  <a:pt x="10" y="20"/>
                </a:lnTo>
                <a:lnTo>
                  <a:pt x="19" y="23"/>
                </a:lnTo>
                <a:lnTo>
                  <a:pt x="29" y="27"/>
                </a:lnTo>
                <a:lnTo>
                  <a:pt x="42" y="29"/>
                </a:lnTo>
                <a:lnTo>
                  <a:pt x="53" y="29"/>
                </a:lnTo>
                <a:lnTo>
                  <a:pt x="64" y="29"/>
                </a:lnTo>
                <a:lnTo>
                  <a:pt x="75" y="27"/>
                </a:lnTo>
                <a:lnTo>
                  <a:pt x="86" y="25"/>
                </a:lnTo>
                <a:lnTo>
                  <a:pt x="83" y="9"/>
                </a:lnTo>
                <a:lnTo>
                  <a:pt x="73" y="11"/>
                </a:lnTo>
                <a:lnTo>
                  <a:pt x="64" y="11"/>
                </a:lnTo>
                <a:lnTo>
                  <a:pt x="53" y="11"/>
                </a:lnTo>
                <a:lnTo>
                  <a:pt x="42" y="11"/>
                </a:lnTo>
                <a:lnTo>
                  <a:pt x="34" y="11"/>
                </a:lnTo>
                <a:lnTo>
                  <a:pt x="26" y="7"/>
                </a:lnTo>
                <a:lnTo>
                  <a:pt x="17" y="4"/>
                </a:lnTo>
                <a:lnTo>
                  <a:pt x="11" y="0"/>
                </a:lnTo>
                <a:lnTo>
                  <a:pt x="10" y="0"/>
                </a:lnTo>
                <a:lnTo>
                  <a:pt x="1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17720" y="3432240"/>
            <a:ext cx="33480" cy="28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37" y="0"/>
                </a:moveTo>
                <a:lnTo>
                  <a:pt x="37" y="0"/>
                </a:lnTo>
                <a:lnTo>
                  <a:pt x="26" y="3"/>
                </a:lnTo>
                <a:lnTo>
                  <a:pt x="17" y="9"/>
                </a:lnTo>
                <a:lnTo>
                  <a:pt x="8" y="17"/>
                </a:lnTo>
                <a:lnTo>
                  <a:pt x="0" y="26"/>
                </a:lnTo>
                <a:lnTo>
                  <a:pt x="14" y="35"/>
                </a:lnTo>
                <a:lnTo>
                  <a:pt x="19" y="29"/>
                </a:lnTo>
                <a:lnTo>
                  <a:pt x="26" y="23"/>
                </a:lnTo>
                <a:lnTo>
                  <a:pt x="33" y="19"/>
                </a:lnTo>
                <a:lnTo>
                  <a:pt x="41" y="16"/>
                </a:lnTo>
                <a:lnTo>
                  <a:pt x="41" y="16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158840" y="3683160"/>
            <a:ext cx="84240" cy="187200"/>
          </a:xfrm>
          <a:custGeom>
            <a:avLst/>
            <a:gdLst/>
            <a:ahLst/>
            <a:rect l="l" t="t" r="r" b="b"/>
            <a:pathLst>
              <a:path w="107" h="235">
                <a:moveTo>
                  <a:pt x="13" y="20"/>
                </a:moveTo>
                <a:lnTo>
                  <a:pt x="0" y="16"/>
                </a:lnTo>
                <a:lnTo>
                  <a:pt x="91" y="235"/>
                </a:lnTo>
                <a:lnTo>
                  <a:pt x="107" y="228"/>
                </a:lnTo>
                <a:lnTo>
                  <a:pt x="16" y="9"/>
                </a:lnTo>
                <a:lnTo>
                  <a:pt x="4" y="4"/>
                </a:lnTo>
                <a:lnTo>
                  <a:pt x="16" y="9"/>
                </a:lnTo>
                <a:lnTo>
                  <a:pt x="13" y="0"/>
                </a:lnTo>
                <a:lnTo>
                  <a:pt x="4" y="4"/>
                </a:lnTo>
                <a:lnTo>
                  <a:pt x="13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82520" y="3687840"/>
            <a:ext cx="86040" cy="52200"/>
          </a:xfrm>
          <a:custGeom>
            <a:avLst/>
            <a:gdLst/>
            <a:ahLst/>
            <a:rect l="l" t="t" r="r" b="b"/>
            <a:pathLst>
              <a:path w="109" h="68">
                <a:moveTo>
                  <a:pt x="20" y="56"/>
                </a:moveTo>
                <a:lnTo>
                  <a:pt x="16" y="68"/>
                </a:lnTo>
                <a:lnTo>
                  <a:pt x="109" y="16"/>
                </a:lnTo>
                <a:lnTo>
                  <a:pt x="100" y="0"/>
                </a:lnTo>
                <a:lnTo>
                  <a:pt x="7" y="52"/>
                </a:lnTo>
                <a:lnTo>
                  <a:pt x="4" y="63"/>
                </a:lnTo>
                <a:lnTo>
                  <a:pt x="7" y="52"/>
                </a:lnTo>
                <a:lnTo>
                  <a:pt x="0" y="56"/>
                </a:lnTo>
                <a:lnTo>
                  <a:pt x="4" y="63"/>
                </a:lnTo>
                <a:lnTo>
                  <a:pt x="20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50800" y="3668760"/>
            <a:ext cx="57240" cy="55440"/>
          </a:xfrm>
          <a:custGeom>
            <a:avLst/>
            <a:gdLst/>
            <a:ahLst/>
            <a:rect l="l" t="t" r="r" b="b"/>
            <a:pathLst>
              <a:path w="73" h="69">
                <a:moveTo>
                  <a:pt x="0" y="56"/>
                </a:moveTo>
                <a:lnTo>
                  <a:pt x="14" y="61"/>
                </a:lnTo>
                <a:lnTo>
                  <a:pt x="73" y="14"/>
                </a:lnTo>
                <a:lnTo>
                  <a:pt x="62" y="0"/>
                </a:lnTo>
                <a:lnTo>
                  <a:pt x="2" y="47"/>
                </a:lnTo>
                <a:lnTo>
                  <a:pt x="16" y="52"/>
                </a:lnTo>
                <a:lnTo>
                  <a:pt x="0" y="56"/>
                </a:lnTo>
                <a:lnTo>
                  <a:pt x="4" y="69"/>
                </a:lnTo>
                <a:lnTo>
                  <a:pt x="14" y="61"/>
                </a:lnTo>
                <a:lnTo>
                  <a:pt x="0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94000" y="3968640"/>
            <a:ext cx="25200" cy="19080"/>
          </a:xfrm>
          <a:custGeom>
            <a:avLst/>
            <a:gdLst/>
            <a:ahLst/>
            <a:rect l="l" t="t" r="r" b="b"/>
            <a:pathLst>
              <a:path w="32" h="23">
                <a:moveTo>
                  <a:pt x="0" y="15"/>
                </a:moveTo>
                <a:lnTo>
                  <a:pt x="9" y="21"/>
                </a:lnTo>
                <a:lnTo>
                  <a:pt x="32" y="16"/>
                </a:lnTo>
                <a:lnTo>
                  <a:pt x="30" y="0"/>
                </a:lnTo>
                <a:lnTo>
                  <a:pt x="7" y="5"/>
                </a:lnTo>
                <a:lnTo>
                  <a:pt x="16" y="10"/>
                </a:lnTo>
                <a:lnTo>
                  <a:pt x="0" y="15"/>
                </a:lnTo>
                <a:lnTo>
                  <a:pt x="1" y="23"/>
                </a:lnTo>
                <a:lnTo>
                  <a:pt x="9" y="21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19240" y="3014640"/>
            <a:ext cx="6480" cy="33480"/>
          </a:xfrm>
          <a:custGeom>
            <a:avLst/>
            <a:gdLst/>
            <a:ahLst/>
            <a:rect l="l" t="t" r="r" b="b"/>
            <a:pathLst>
              <a:path w="8" h="41">
                <a:moveTo>
                  <a:pt x="5" y="0"/>
                </a:moveTo>
                <a:lnTo>
                  <a:pt x="6" y="5"/>
                </a:lnTo>
                <a:lnTo>
                  <a:pt x="7" y="9"/>
                </a:lnTo>
                <a:lnTo>
                  <a:pt x="8" y="15"/>
                </a:lnTo>
                <a:lnTo>
                  <a:pt x="8" y="21"/>
                </a:lnTo>
                <a:lnTo>
                  <a:pt x="8" y="27"/>
                </a:lnTo>
                <a:lnTo>
                  <a:pt x="7" y="32"/>
                </a:lnTo>
                <a:lnTo>
                  <a:pt x="4" y="37"/>
                </a:lnTo>
                <a:lnTo>
                  <a:pt x="0" y="41"/>
                </a:lnTo>
                <a:lnTo>
                  <a:pt x="0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33640" y="3138480"/>
            <a:ext cx="9720" cy="23760"/>
          </a:xfrm>
          <a:custGeom>
            <a:avLst/>
            <a:gdLst/>
            <a:ahLst/>
            <a:rect l="l" t="t" r="r" b="b"/>
            <a:pathLst>
              <a:path w="11" h="30">
                <a:moveTo>
                  <a:pt x="10" y="30"/>
                </a:moveTo>
                <a:lnTo>
                  <a:pt x="6" y="30"/>
                </a:lnTo>
                <a:lnTo>
                  <a:pt x="5" y="28"/>
                </a:lnTo>
                <a:lnTo>
                  <a:pt x="3" y="26"/>
                </a:lnTo>
                <a:lnTo>
                  <a:pt x="0" y="22"/>
                </a:lnTo>
                <a:lnTo>
                  <a:pt x="8" y="0"/>
                </a:lnTo>
                <a:lnTo>
                  <a:pt x="10" y="7"/>
                </a:lnTo>
                <a:lnTo>
                  <a:pt x="11" y="15"/>
                </a:lnTo>
                <a:lnTo>
                  <a:pt x="10" y="23"/>
                </a:lnTo>
                <a:lnTo>
                  <a:pt x="1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32200" y="3216240"/>
            <a:ext cx="21960" cy="648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8"/>
                </a:moveTo>
                <a:lnTo>
                  <a:pt x="0" y="0"/>
                </a:lnTo>
                <a:lnTo>
                  <a:pt x="30" y="5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82520" y="3606840"/>
            <a:ext cx="84240" cy="187200"/>
          </a:xfrm>
          <a:custGeom>
            <a:avLst/>
            <a:gdLst/>
            <a:ahLst/>
            <a:rect l="l" t="t" r="r" b="b"/>
            <a:pathLst>
              <a:path w="107" h="235">
                <a:moveTo>
                  <a:pt x="13" y="21"/>
                </a:moveTo>
                <a:lnTo>
                  <a:pt x="0" y="16"/>
                </a:lnTo>
                <a:lnTo>
                  <a:pt x="91" y="235"/>
                </a:lnTo>
                <a:lnTo>
                  <a:pt x="107" y="229"/>
                </a:lnTo>
                <a:lnTo>
                  <a:pt x="16" y="9"/>
                </a:lnTo>
                <a:lnTo>
                  <a:pt x="4" y="5"/>
                </a:lnTo>
                <a:lnTo>
                  <a:pt x="16" y="9"/>
                </a:lnTo>
                <a:lnTo>
                  <a:pt x="13" y="0"/>
                </a:lnTo>
                <a:lnTo>
                  <a:pt x="4" y="5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00120" y="3551400"/>
            <a:ext cx="69840" cy="203040"/>
          </a:xfrm>
          <a:custGeom>
            <a:avLst/>
            <a:gdLst/>
            <a:ahLst/>
            <a:rect l="l" t="t" r="r" b="b"/>
            <a:pathLst>
              <a:path w="88" h="256">
                <a:moveTo>
                  <a:pt x="12" y="20"/>
                </a:moveTo>
                <a:lnTo>
                  <a:pt x="0" y="14"/>
                </a:lnTo>
                <a:lnTo>
                  <a:pt x="72" y="256"/>
                </a:lnTo>
                <a:lnTo>
                  <a:pt x="88" y="252"/>
                </a:lnTo>
                <a:lnTo>
                  <a:pt x="16" y="9"/>
                </a:lnTo>
                <a:lnTo>
                  <a:pt x="5" y="4"/>
                </a:lnTo>
                <a:lnTo>
                  <a:pt x="16" y="9"/>
                </a:lnTo>
                <a:lnTo>
                  <a:pt x="14" y="0"/>
                </a:lnTo>
                <a:lnTo>
                  <a:pt x="5" y="4"/>
                </a:lnTo>
                <a:lnTo>
                  <a:pt x="1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22360" y="3554280"/>
            <a:ext cx="87480" cy="49320"/>
          </a:xfrm>
          <a:custGeom>
            <a:avLst/>
            <a:gdLst/>
            <a:ahLst/>
            <a:rect l="l" t="t" r="r" b="b"/>
            <a:pathLst>
              <a:path w="109" h="63">
                <a:moveTo>
                  <a:pt x="11" y="62"/>
                </a:moveTo>
                <a:lnTo>
                  <a:pt x="9" y="63"/>
                </a:lnTo>
                <a:lnTo>
                  <a:pt x="109" y="16"/>
                </a:lnTo>
                <a:lnTo>
                  <a:pt x="102" y="0"/>
                </a:lnTo>
                <a:lnTo>
                  <a:pt x="2" y="47"/>
                </a:lnTo>
                <a:lnTo>
                  <a:pt x="0" y="48"/>
                </a:lnTo>
                <a:lnTo>
                  <a:pt x="2" y="47"/>
                </a:lnTo>
                <a:lnTo>
                  <a:pt x="1" y="48"/>
                </a:lnTo>
                <a:lnTo>
                  <a:pt x="0" y="48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973160" y="3246480"/>
            <a:ext cx="55800" cy="93600"/>
          </a:xfrm>
          <a:custGeom>
            <a:avLst/>
            <a:gdLst/>
            <a:ahLst/>
            <a:rect l="l" t="t" r="r" b="b"/>
            <a:pathLst>
              <a:path w="69" h="117">
                <a:moveTo>
                  <a:pt x="6" y="0"/>
                </a:moveTo>
                <a:lnTo>
                  <a:pt x="2" y="10"/>
                </a:lnTo>
                <a:lnTo>
                  <a:pt x="53" y="117"/>
                </a:lnTo>
                <a:lnTo>
                  <a:pt x="69" y="110"/>
                </a:lnTo>
                <a:lnTo>
                  <a:pt x="18" y="3"/>
                </a:lnTo>
                <a:lnTo>
                  <a:pt x="15" y="14"/>
                </a:lnTo>
                <a:lnTo>
                  <a:pt x="6" y="0"/>
                </a:lnTo>
                <a:lnTo>
                  <a:pt x="0" y="3"/>
                </a:lnTo>
                <a:lnTo>
                  <a:pt x="2" y="1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27240" y="3154320"/>
            <a:ext cx="52560" cy="158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5" y="3"/>
                </a:moveTo>
                <a:lnTo>
                  <a:pt x="65" y="3"/>
                </a:lnTo>
                <a:lnTo>
                  <a:pt x="57" y="2"/>
                </a:lnTo>
                <a:lnTo>
                  <a:pt x="50" y="2"/>
                </a:lnTo>
                <a:lnTo>
                  <a:pt x="42" y="1"/>
                </a:lnTo>
                <a:lnTo>
                  <a:pt x="33" y="0"/>
                </a:lnTo>
                <a:lnTo>
                  <a:pt x="25" y="0"/>
                </a:lnTo>
                <a:lnTo>
                  <a:pt x="16" y="1"/>
                </a:lnTo>
                <a:lnTo>
                  <a:pt x="8" y="2"/>
                </a:lnTo>
                <a:lnTo>
                  <a:pt x="0" y="3"/>
                </a:lnTo>
                <a:lnTo>
                  <a:pt x="2" y="19"/>
                </a:lnTo>
                <a:lnTo>
                  <a:pt x="10" y="18"/>
                </a:lnTo>
                <a:lnTo>
                  <a:pt x="18" y="17"/>
                </a:lnTo>
                <a:lnTo>
                  <a:pt x="25" y="18"/>
                </a:lnTo>
                <a:lnTo>
                  <a:pt x="33" y="18"/>
                </a:lnTo>
                <a:lnTo>
                  <a:pt x="40" y="17"/>
                </a:lnTo>
                <a:lnTo>
                  <a:pt x="48" y="18"/>
                </a:lnTo>
                <a:lnTo>
                  <a:pt x="55" y="18"/>
                </a:lnTo>
                <a:lnTo>
                  <a:pt x="63" y="19"/>
                </a:lnTo>
                <a:lnTo>
                  <a:pt x="63" y="19"/>
                </a:lnTo>
                <a:lnTo>
                  <a:pt x="65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7840" y="3800520"/>
            <a:ext cx="44280" cy="17280"/>
          </a:xfrm>
          <a:custGeom>
            <a:avLst/>
            <a:gdLst/>
            <a:ahLst/>
            <a:rect l="l" t="t" r="r" b="b"/>
            <a:pathLst>
              <a:path w="56" h="22">
                <a:moveTo>
                  <a:pt x="49" y="0"/>
                </a:moveTo>
                <a:lnTo>
                  <a:pt x="49" y="0"/>
                </a:lnTo>
                <a:lnTo>
                  <a:pt x="45" y="3"/>
                </a:lnTo>
                <a:lnTo>
                  <a:pt x="40" y="4"/>
                </a:lnTo>
                <a:lnTo>
                  <a:pt x="33" y="5"/>
                </a:lnTo>
                <a:lnTo>
                  <a:pt x="27" y="4"/>
                </a:lnTo>
                <a:lnTo>
                  <a:pt x="22" y="4"/>
                </a:lnTo>
                <a:lnTo>
                  <a:pt x="16" y="5"/>
                </a:lnTo>
                <a:lnTo>
                  <a:pt x="9" y="4"/>
                </a:lnTo>
                <a:lnTo>
                  <a:pt x="5" y="3"/>
                </a:lnTo>
                <a:lnTo>
                  <a:pt x="0" y="19"/>
                </a:lnTo>
                <a:lnTo>
                  <a:pt x="7" y="20"/>
                </a:lnTo>
                <a:lnTo>
                  <a:pt x="14" y="21"/>
                </a:lnTo>
                <a:lnTo>
                  <a:pt x="22" y="22"/>
                </a:lnTo>
                <a:lnTo>
                  <a:pt x="27" y="22"/>
                </a:lnTo>
                <a:lnTo>
                  <a:pt x="35" y="21"/>
                </a:lnTo>
                <a:lnTo>
                  <a:pt x="42" y="20"/>
                </a:lnTo>
                <a:lnTo>
                  <a:pt x="49" y="19"/>
                </a:lnTo>
                <a:lnTo>
                  <a:pt x="56" y="17"/>
                </a:lnTo>
                <a:lnTo>
                  <a:pt x="56" y="17"/>
                </a:lnTo>
                <a:lnTo>
                  <a:pt x="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19920" y="457200"/>
            <a:ext cx="2133360" cy="15238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228600"/>
            <a:ext cx="2514600" cy="1523880"/>
          </a:xfrm>
          <a:prstGeom prst="cloudCallout">
            <a:avLst>
              <a:gd name="adj1" fmla="val -365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400" spc="-1" strike="noStrike">
                <a:solidFill>
                  <a:srgbClr val="000000"/>
                </a:solidFill>
                <a:latin typeface="Lucida Handwriting"/>
              </a:rPr>
              <a:t>INSTAL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400" spc="-1" strike="noStrike">
                <a:solidFill>
                  <a:srgbClr val="000000"/>
                </a:solidFill>
                <a:latin typeface="Lucida Handwriting"/>
              </a:rPr>
              <a:t>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400" spc="-1" strike="noStrike">
                <a:solidFill>
                  <a:srgbClr val="000000"/>
                </a:solidFill>
                <a:latin typeface="Lucida Handwriting"/>
              </a:rPr>
              <a:t>FUNCIONAMENTO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162920" y="1676520"/>
            <a:ext cx="1981080" cy="1676160"/>
          </a:xfrm>
          <a:prstGeom prst="cloudCallout">
            <a:avLst>
              <a:gd name="adj1" fmla="val -32930"/>
              <a:gd name="adj2" fmla="val 68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COMPOSI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DIRETORIA ATUA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8600" y="380880"/>
            <a:ext cx="2362320" cy="1828800"/>
          </a:xfrm>
          <a:prstGeom prst="cloudCallout">
            <a:avLst>
              <a:gd name="adj1" fmla="val 60282"/>
              <a:gd name="adj2" fmla="val 70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CARACTERIZ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DA UGR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971800"/>
            <a:ext cx="2057400" cy="1523880"/>
          </a:xfrm>
          <a:prstGeom prst="cloudCallout">
            <a:avLst>
              <a:gd name="adj1" fmla="val 50694"/>
              <a:gd name="adj2" fmla="val 8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PRINCIPA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Handwriting"/>
              </a:rPr>
              <a:t>ATRIBUI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81680" y="4495680"/>
            <a:ext cx="2057400" cy="1524240"/>
          </a:xfrm>
          <a:prstGeom prst="cloudCallout">
            <a:avLst>
              <a:gd name="adj1" fmla="val -116898"/>
              <a:gd name="adj2" fmla="val -16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Handwriting"/>
              </a:rPr>
              <a:t>CÂMA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Handwriting"/>
              </a:rPr>
              <a:t>TÉCNICA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3808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Início da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60020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828800"/>
            <a:ext cx="3581280" cy="6858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Utilização dos Recursos Hídr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no Estado de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990720"/>
            <a:ext cx="358128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23c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Levantamento (DP/DA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2743200"/>
            <a:ext cx="3581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276720"/>
            <a:ext cx="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828800" y="3429000"/>
            <a:ext cx="571500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733920"/>
            <a:ext cx="1981080" cy="247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Norteia discuss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28800" y="3474720"/>
            <a:ext cx="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543800" y="3429000"/>
            <a:ext cx="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4410000"/>
            <a:ext cx="2514600" cy="66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Necessidade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Gerenciamento Integ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43800" y="3962520"/>
            <a:ext cx="0" cy="439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268880"/>
            <a:ext cx="2819520" cy="1346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badi MT Condensed Light"/>
              </a:rPr>
              <a:t>Crescente deteriorização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badi MT Condensed Light"/>
              </a:rPr>
              <a:t>agravamento dos conflitos en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badi MT Condensed Light"/>
              </a:rPr>
              <a:t>usuários de diversos se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badi MT Condensed Light"/>
              </a:rPr>
              <a:t>em inúmeras regi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5105520"/>
            <a:ext cx="0" cy="439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5545080"/>
            <a:ext cx="2514600" cy="9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badi MT Condensed Light"/>
              </a:rPr>
              <a:t>Agenda dos Polític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badi MT Condensed Light"/>
              </a:rPr>
              <a:t>Futuro das Águas Públicas e For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badi MT Condensed Light"/>
              </a:rPr>
              <a:t>de Gerenciá-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304920"/>
            <a:ext cx="1981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295720" cy="265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3429000" y="167652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/>
          </a:bodyPr>
          <a:p>
            <a:pPr marL="190440" indent="-190440" algn="just">
              <a:lnSpc>
                <a:spcPct val="100000"/>
              </a:lnSpc>
              <a:spcAft>
                <a:spcPts val="2001"/>
              </a:spcAft>
              <a:buClr>
                <a:srgbClr val="0000ff"/>
              </a:buClr>
              <a:buSzPct val="75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ÍCIO DA CONVERSA: III ENCONTRO DE COMITÊS DE BACIAS, EM BELO HORIZON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52680" y="2666880"/>
            <a:ext cx="5486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 fontScale="98000"/>
          </a:bodyPr>
          <a:p>
            <a:pPr marL="186480" indent="-186480" algn="just">
              <a:lnSpc>
                <a:spcPct val="100000"/>
              </a:lnSpc>
              <a:spcAft>
                <a:spcPts val="2001"/>
              </a:spcAft>
              <a:buClr>
                <a:srgbClr val="0000ff"/>
              </a:buClr>
              <a:buSzPct val="75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STERIORMENTE REALIZAÇÃO DE 06 REUNIÕ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71600" y="62485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</a:rPr>
              <a:t>EXPERIÊNCIA COM FORMAÇÃO DE COMITÊ FED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0880" y="167760"/>
            <a:ext cx="83059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ÊNCIA COM FORMAÇÃO DE COMITÊ FED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52680" y="36576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 fontScale="40000"/>
          </a:bodyPr>
          <a:p>
            <a:pPr marL="75960" indent="-75960" algn="just">
              <a:lnSpc>
                <a:spcPct val="100000"/>
              </a:lnSpc>
              <a:spcAft>
                <a:spcPts val="2001"/>
              </a:spcAft>
              <a:buClr>
                <a:srgbClr val="0000ff"/>
              </a:buClr>
              <a:buSzPct val="75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ICIALMENTE FORMAÇÃO DO COMITÊ DO PARDO/MOGI SP E M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6720" y="45720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rmAutofit fontScale="40000"/>
          </a:bodyPr>
          <a:p>
            <a:pPr marL="75960" indent="-75960" algn="just">
              <a:lnSpc>
                <a:spcPct val="100000"/>
              </a:lnSpc>
              <a:spcAft>
                <a:spcPts val="2001"/>
              </a:spcAft>
              <a:buClr>
                <a:srgbClr val="0000ff"/>
              </a:buClr>
              <a:buSzPct val="75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CLUSÃO DO COMITÊ DO RIO SAPUCAÍ-MIRIM EM S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lente" descr=""/>
          <p:cNvPicPr/>
          <p:nvPr/>
        </p:nvPicPr>
        <p:blipFill>
          <a:blip r:embed="rId1"/>
          <a:stretch/>
        </p:blipFill>
        <p:spPr>
          <a:xfrm>
            <a:off x="0" y="1752480"/>
            <a:ext cx="3276720" cy="350532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CBHLogo1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97" name="INSTRUCOES%2520DA%25Fehidror" descr=""/>
          <p:cNvPicPr/>
          <p:nvPr/>
        </p:nvPicPr>
        <p:blipFill>
          <a:blip r:embed="rId3"/>
          <a:stretch/>
        </p:blipFill>
        <p:spPr>
          <a:xfrm>
            <a:off x="7467480" y="6172200"/>
            <a:ext cx="1057320" cy="43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j017976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04920" y="30492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água não é somente uma herança de nossos predecessores; ela é sobretudo um empréstimo dos nossos sucessores. Sua proteção constitui uma necessidade vital, assim como uma obrigação moral do homem para com as gerações presentes e futura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Esteaqu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1981080" y="457200"/>
            <a:ext cx="6705360" cy="3352320"/>
            <a:chOff x="1981080" y="457200"/>
            <a:chExt cx="6705360" cy="3352320"/>
          </a:xfrm>
        </p:grpSpPr>
        <p:sp>
          <p:nvSpPr>
            <p:cNvPr id="68" name=""/>
            <p:cNvSpPr/>
            <p:nvPr/>
          </p:nvSpPr>
          <p:spPr>
            <a:xfrm>
              <a:off x="3733560" y="457200"/>
              <a:ext cx="33526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INSTITUTO DE ENGENHA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57440" y="761760"/>
              <a:ext cx="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66880" y="1117440"/>
              <a:ext cx="54100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SEMINÁRIO “POLÍTICA ESTADUAL DE RECURSOS HÍDRICOS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57440" y="14223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1879560"/>
              <a:ext cx="670536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DISCUSSÃO PELAS ASSOCIAÇÕES NACIONAIS LIGADAS À QUESTÃO DAS ÁGU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09880" y="2641680"/>
              <a:ext cx="33526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ABRH / ABES / ABAS / AB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57440" y="2184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4800">
              <a:off x="5257440" y="1549440"/>
              <a:ext cx="457200" cy="33526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9880" y="3504960"/>
              <a:ext cx="33526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RESPECTIVOS FÓRU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228600" y="1143000"/>
            <a:ext cx="1600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4724280"/>
            <a:ext cx="1601640" cy="144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5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09680" y="4876920"/>
            <a:ext cx="6629400" cy="1675800"/>
            <a:chOff x="2209680" y="4876920"/>
            <a:chExt cx="6629400" cy="1675800"/>
          </a:xfrm>
        </p:grpSpPr>
        <p:sp>
          <p:nvSpPr>
            <p:cNvPr id="80" name=""/>
            <p:cNvSpPr/>
            <p:nvPr/>
          </p:nvSpPr>
          <p:spPr>
            <a:xfrm>
              <a:off x="2209680" y="4876920"/>
              <a:ext cx="4419720" cy="45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DESCENTRALIZAÇÃO ADMINISTRATIVA DO DA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5333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533376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09680" y="6095880"/>
              <a:ext cx="3200400" cy="45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CRIAÇÃO DAS DIRETORIAS DE BA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2520" y="5486400"/>
              <a:ext cx="4876560" cy="45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BACIA HIDROGRÁFICA (DIVISÃO DA ÁREA DE ATUAÇÃ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H01266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57800" y="1828800"/>
            <a:ext cx="2514600" cy="137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badi MT Condensed Light"/>
              </a:rPr>
              <a:t>DNA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752480"/>
            <a:ext cx="2438640" cy="137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badi MT Condensed Light"/>
              </a:rPr>
              <a:t>DA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514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962160" y="25146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1143000"/>
            <a:ext cx="33530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iscus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676520"/>
            <a:ext cx="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4800600"/>
            <a:ext cx="3353040" cy="4572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Quatro Encontros N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03848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943600"/>
            <a:ext cx="33530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elatório Final do 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429000"/>
            <a:ext cx="335304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ortaria M.M.E. 6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e 05/05/19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525780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04920"/>
            <a:ext cx="1981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6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h01297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752120" y="304920"/>
            <a:ext cx="6096600" cy="3276360"/>
            <a:chOff x="1752120" y="304920"/>
            <a:chExt cx="6096600" cy="3276360"/>
          </a:xfrm>
        </p:grpSpPr>
        <p:sp>
          <p:nvSpPr>
            <p:cNvPr id="100" name=""/>
            <p:cNvSpPr/>
            <p:nvPr/>
          </p:nvSpPr>
          <p:spPr>
            <a:xfrm flipH="1">
              <a:off x="1752120" y="2590920"/>
              <a:ext cx="17528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43600" y="2590920"/>
              <a:ext cx="1905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25909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304920"/>
              <a:ext cx="541044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DECRETO 27.576 - GOVERNO DO ESTADO DE SÃO PAU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762120"/>
              <a:ext cx="0" cy="35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1117440"/>
              <a:ext cx="541044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CRIA O C.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14223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1905120"/>
              <a:ext cx="5486400" cy="71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SOMENTE ÓRGÃOS E ENT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badi MT Condensed Light"/>
                </a:rPr>
                <a:t>DO GOVERNO DO ESTADO DE SÃO PAU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2514600" y="51055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7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5105520"/>
            <a:ext cx="160164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5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5486400"/>
            <a:ext cx="21337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badi MT Condensed Ligh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581280"/>
            <a:ext cx="2666880" cy="134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ropor Política de Gover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relativa aos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3581280"/>
            <a:ext cx="2819520" cy="134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truturação de um Sistem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estão dos Recursos Hídr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3581280"/>
            <a:ext cx="2819520" cy="134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6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laboração do 1° Pl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tadual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838080"/>
            <a:ext cx="1600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87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579132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579132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j02276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438280" y="228600"/>
            <a:ext cx="4572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ORGANOGRAMA - DECRETO 25.576 DE 11/11/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335268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CRET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32004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838080"/>
            <a:ext cx="35816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CONSELHO ESTA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76160" y="19051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CRET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209680"/>
            <a:ext cx="510552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COMITÊ COORDENADOR DO PLANO E 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STADUAL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047760" y="37339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35268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CRET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3526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-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33526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066680" y="426708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4267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4267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572000"/>
            <a:ext cx="228600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RUPO TÉCNICO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SISTEMA DE GEST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E REC.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4572000"/>
            <a:ext cx="220968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RUPO TÉCNICO 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BACIA DO 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IRACICA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267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4572000"/>
            <a:ext cx="243864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GRUPO TÉCNICO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PLANO ESTADUAL 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DE REC.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562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86728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QUIPES 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PECIALIZA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586728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QUIPES 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PECIA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867280"/>
            <a:ext cx="1981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QUIPES 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ESPECIA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6002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SE-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600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MI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1828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4320" y="1371600"/>
            <a:ext cx="19810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SISTEMA DE GEST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POLÍTICA DE R.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PLANO ESTA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5627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T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55627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T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55627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badi MT Condensed Light"/>
              </a:rPr>
              <a:t>ET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6160"/>
            <a:ext cx="89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6019920"/>
            <a:ext cx="9144000" cy="609480"/>
            <a:chOff x="0" y="6019920"/>
            <a:chExt cx="9144000" cy="609480"/>
          </a:xfrm>
        </p:grpSpPr>
        <p:sp>
          <p:nvSpPr>
            <p:cNvPr id="153" name=""/>
            <p:cNvSpPr/>
            <p:nvPr/>
          </p:nvSpPr>
          <p:spPr>
            <a:xfrm>
              <a:off x="0" y="6019920"/>
              <a:ext cx="9144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band_sp" descr=""/>
            <p:cNvPicPr/>
            <p:nvPr/>
          </p:nvPicPr>
          <p:blipFill>
            <a:blip r:embed="rId1"/>
            <a:stretch/>
          </p:blipFill>
          <p:spPr>
            <a:xfrm>
              <a:off x="7848720" y="6172200"/>
              <a:ext cx="9316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DAEE_LOGOcor" descr=""/>
            <p:cNvPicPr/>
            <p:nvPr/>
          </p:nvPicPr>
          <p:blipFill>
            <a:blip r:embed="rId2"/>
            <a:stretch/>
          </p:blipFill>
          <p:spPr>
            <a:xfrm>
              <a:off x="457200" y="6095880"/>
              <a:ext cx="398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371600" y="6248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71360" y="1225440"/>
            <a:ext cx="2289240" cy="4496040"/>
            <a:chOff x="171360" y="1225440"/>
            <a:chExt cx="2289240" cy="4496040"/>
          </a:xfrm>
        </p:grpSpPr>
        <p:grpSp>
          <p:nvGrpSpPr>
            <p:cNvPr id="158" name=""/>
            <p:cNvGrpSpPr/>
            <p:nvPr/>
          </p:nvGrpSpPr>
          <p:grpSpPr>
            <a:xfrm>
              <a:off x="171360" y="1225440"/>
              <a:ext cx="2289240" cy="4496040"/>
              <a:chOff x="171360" y="1225440"/>
              <a:chExt cx="2289240" cy="44960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171360" y="1225440"/>
                <a:ext cx="2289240" cy="4496040"/>
                <a:chOff x="171360" y="1225440"/>
                <a:chExt cx="2289240" cy="4496040"/>
              </a:xfrm>
            </p:grpSpPr>
            <p:graphicFrame>
              <p:nvGraphicFramePr>
                <p:cNvPr id="160" name=""/>
                <p:cNvGraphicFramePr/>
                <p:nvPr/>
              </p:nvGraphicFramePr>
              <p:xfrm>
                <a:off x="722160" y="2630520"/>
                <a:ext cx="1738440" cy="30909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61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22160" y="2630520"/>
                          <a:ext cx="1738440" cy="3090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62" name=""/>
                <p:cNvGraphicFramePr/>
                <p:nvPr/>
              </p:nvGraphicFramePr>
              <p:xfrm>
                <a:off x="171360" y="1225440"/>
                <a:ext cx="1800360" cy="17258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63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71360" y="1225440"/>
                          <a:ext cx="1800360" cy="1725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64" name=""/>
              <p:cNvSpPr/>
              <p:nvPr/>
            </p:nvSpPr>
            <p:spPr>
              <a:xfrm>
                <a:off x="609480" y="1523880"/>
                <a:ext cx="990720" cy="1295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fc0128"/>
                    </a:solidFill>
                    <a:latin typeface="Times New Roman"/>
                  </a:rPr>
                  <a:t>?</a:t>
                </a:r>
                <a:endParaRPr b="0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65" name=""/>
            <p:cNvGraphicFramePr/>
            <p:nvPr/>
          </p:nvGraphicFramePr>
          <p:xfrm>
            <a:off x="1380960" y="3348000"/>
            <a:ext cx="584280" cy="522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80960" y="3348000"/>
                      <a:ext cx="58428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7" name=""/>
          <p:cNvSpPr/>
          <p:nvPr/>
        </p:nvSpPr>
        <p:spPr>
          <a:xfrm>
            <a:off x="2209680" y="1224000"/>
            <a:ext cx="6629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ITUIÇÃO ESTADUAL ESTABELECE OS PRINCÍPIOS BÁSICOS DA POLÍTICA ESTAD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438280" y="2057400"/>
            <a:ext cx="6324840" cy="3297960"/>
            <a:chOff x="2438280" y="2057400"/>
            <a:chExt cx="6324840" cy="3297960"/>
          </a:xfrm>
        </p:grpSpPr>
        <p:grpSp>
          <p:nvGrpSpPr>
            <p:cNvPr id="169" name=""/>
            <p:cNvGrpSpPr/>
            <p:nvPr/>
          </p:nvGrpSpPr>
          <p:grpSpPr>
            <a:xfrm>
              <a:off x="2438280" y="2057400"/>
              <a:ext cx="5999400" cy="891000"/>
              <a:chOff x="2438280" y="2057400"/>
              <a:chExt cx="5999400" cy="891000"/>
            </a:xfrm>
          </p:grpSpPr>
          <p:graphicFrame>
            <p:nvGraphicFramePr>
              <p:cNvPr id="170" name=""/>
              <p:cNvGraphicFramePr/>
              <p:nvPr/>
            </p:nvGraphicFramePr>
            <p:xfrm>
              <a:off x="2438280" y="2057400"/>
              <a:ext cx="644760" cy="5616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7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438280" y="2057400"/>
                        <a:ext cx="644760" cy="56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"/>
              <p:cNvSpPr/>
              <p:nvPr/>
            </p:nvSpPr>
            <p:spPr>
              <a:xfrm>
                <a:off x="3124080" y="2133720"/>
                <a:ext cx="5313600" cy="81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erenciamento Integrado, Descentralizado e Participativ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438280" y="2895480"/>
              <a:ext cx="6303960" cy="603000"/>
              <a:chOff x="2438280" y="2895480"/>
              <a:chExt cx="6303960" cy="603000"/>
            </a:xfrm>
          </p:grpSpPr>
          <p:graphicFrame>
            <p:nvGraphicFramePr>
              <p:cNvPr id="174" name=""/>
              <p:cNvGraphicFramePr/>
              <p:nvPr/>
            </p:nvGraphicFramePr>
            <p:xfrm>
              <a:off x="2438280" y="2895480"/>
              <a:ext cx="644760" cy="5619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7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438280" y="2895480"/>
                        <a:ext cx="64476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6" name=""/>
              <p:cNvSpPr/>
              <p:nvPr/>
            </p:nvSpPr>
            <p:spPr>
              <a:xfrm>
                <a:off x="3124080" y="2927160"/>
                <a:ext cx="56181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doção da Bacia Hidrográfica como Unidade Físico-territorial de Planejam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438280" y="3809880"/>
              <a:ext cx="6324840" cy="585720"/>
              <a:chOff x="2438280" y="3809880"/>
              <a:chExt cx="6324840" cy="585720"/>
            </a:xfrm>
          </p:grpSpPr>
          <p:graphicFrame>
            <p:nvGraphicFramePr>
              <p:cNvPr id="178" name=""/>
              <p:cNvGraphicFramePr/>
              <p:nvPr/>
            </p:nvGraphicFramePr>
            <p:xfrm>
              <a:off x="2438280" y="3809880"/>
              <a:ext cx="681120" cy="5619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438280" y="3809880"/>
                        <a:ext cx="68112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0" name=""/>
              <p:cNvSpPr/>
              <p:nvPr/>
            </p:nvSpPr>
            <p:spPr>
              <a:xfrm>
                <a:off x="3124080" y="3824280"/>
                <a:ext cx="563904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conhecimento dos R.H. como um bem público de valor econôm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438280" y="4540680"/>
              <a:ext cx="6324840" cy="814680"/>
              <a:chOff x="2438280" y="4540680"/>
              <a:chExt cx="6324840" cy="814680"/>
            </a:xfrm>
          </p:grpSpPr>
          <p:graphicFrame>
            <p:nvGraphicFramePr>
              <p:cNvPr id="182" name=""/>
              <p:cNvGraphicFramePr/>
              <p:nvPr/>
            </p:nvGraphicFramePr>
            <p:xfrm>
              <a:off x="2438280" y="4647960"/>
              <a:ext cx="681120" cy="5616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438280" y="4647960"/>
                        <a:ext cx="681120" cy="56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4" name=""/>
              <p:cNvSpPr/>
              <p:nvPr/>
            </p:nvSpPr>
            <p:spPr>
              <a:xfrm>
                <a:off x="3124080" y="4540680"/>
                <a:ext cx="5639040" cy="81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120" bIns="4212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mpatibilização do gerenciamento dos recursos hídricos com o desenvolvimento regional e com a proteção do meio ambien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56160"/>
            <a:ext cx="89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6019920"/>
            <a:ext cx="9144000" cy="609480"/>
            <a:chOff x="0" y="6019920"/>
            <a:chExt cx="9144000" cy="609480"/>
          </a:xfrm>
        </p:grpSpPr>
        <p:sp>
          <p:nvSpPr>
            <p:cNvPr id="187" name=""/>
            <p:cNvSpPr/>
            <p:nvPr/>
          </p:nvSpPr>
          <p:spPr>
            <a:xfrm>
              <a:off x="0" y="6019920"/>
              <a:ext cx="9144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band_sp" descr=""/>
            <p:cNvPicPr/>
            <p:nvPr/>
          </p:nvPicPr>
          <p:blipFill>
            <a:blip r:embed="rId1"/>
            <a:stretch/>
          </p:blipFill>
          <p:spPr>
            <a:xfrm>
              <a:off x="7848720" y="6172200"/>
              <a:ext cx="93168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DAEE_LOGOcor" descr=""/>
            <p:cNvPicPr/>
            <p:nvPr/>
          </p:nvPicPr>
          <p:blipFill>
            <a:blip r:embed="rId2"/>
            <a:stretch/>
          </p:blipFill>
          <p:spPr>
            <a:xfrm>
              <a:off x="457200" y="6095880"/>
              <a:ext cx="398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371600" y="6248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209680" y="1447920"/>
            <a:ext cx="6629400" cy="3985200"/>
            <a:chOff x="2209680" y="1447920"/>
            <a:chExt cx="6629400" cy="3985200"/>
          </a:xfrm>
        </p:grpSpPr>
        <p:sp>
          <p:nvSpPr>
            <p:cNvPr id="192" name=""/>
            <p:cNvSpPr/>
            <p:nvPr/>
          </p:nvSpPr>
          <p:spPr>
            <a:xfrm>
              <a:off x="2209680" y="1447920"/>
              <a:ext cx="6629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ZIDO O 1º PLANO ESTADUAL DE RECURSOS HÍDRICOS CONTENDO 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438280" y="2280960"/>
              <a:ext cx="6324840" cy="3152160"/>
              <a:chOff x="2438280" y="2280960"/>
              <a:chExt cx="6324840" cy="31521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2438280" y="2280960"/>
                <a:ext cx="5999400" cy="769680"/>
                <a:chOff x="2438280" y="2280960"/>
                <a:chExt cx="5999400" cy="769680"/>
              </a:xfrm>
            </p:grpSpPr>
            <p:graphicFrame>
              <p:nvGraphicFramePr>
                <p:cNvPr id="195" name=""/>
                <p:cNvGraphicFramePr/>
                <p:nvPr/>
              </p:nvGraphicFramePr>
              <p:xfrm>
                <a:off x="2438280" y="2280960"/>
                <a:ext cx="644760" cy="5616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9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2438280" y="2280960"/>
                          <a:ext cx="644760" cy="56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97" name=""/>
                <p:cNvSpPr/>
                <p:nvPr/>
              </p:nvSpPr>
              <p:spPr>
                <a:xfrm>
                  <a:off x="3124080" y="2479320"/>
                  <a:ext cx="531360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120" bIns="42120" anchor="ctr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iagnóstico sobre o uso e controle dos recursos hídricos no Estado de São Paul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438280" y="3118680"/>
                <a:ext cx="6303960" cy="561600"/>
                <a:chOff x="2438280" y="3118680"/>
                <a:chExt cx="6303960" cy="561600"/>
              </a:xfrm>
            </p:grpSpPr>
            <p:graphicFrame>
              <p:nvGraphicFramePr>
                <p:cNvPr id="199" name=""/>
                <p:cNvGraphicFramePr/>
                <p:nvPr/>
              </p:nvGraphicFramePr>
              <p:xfrm>
                <a:off x="2438280" y="3118680"/>
                <a:ext cx="644760" cy="5616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00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438280" y="3118680"/>
                          <a:ext cx="644760" cy="56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1" name=""/>
                <p:cNvSpPr/>
                <p:nvPr/>
              </p:nvSpPr>
              <p:spPr>
                <a:xfrm>
                  <a:off x="3124080" y="3271680"/>
                  <a:ext cx="561816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120" bIns="42120" anchor="ctr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enários de utilização, controle e recuperaçã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438280" y="4033080"/>
                <a:ext cx="6324840" cy="561600"/>
                <a:chOff x="2438280" y="4033080"/>
                <a:chExt cx="6324840" cy="561600"/>
              </a:xfrm>
            </p:grpSpPr>
            <p:graphicFrame>
              <p:nvGraphicFramePr>
                <p:cNvPr id="203" name=""/>
                <p:cNvGraphicFramePr/>
                <p:nvPr/>
              </p:nvGraphicFramePr>
              <p:xfrm>
                <a:off x="2438280" y="4033080"/>
                <a:ext cx="681120" cy="56160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04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2438280" y="4033080"/>
                          <a:ext cx="681120" cy="56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5" name=""/>
                <p:cNvSpPr/>
                <p:nvPr/>
              </p:nvSpPr>
              <p:spPr>
                <a:xfrm>
                  <a:off x="3124080" y="4168800"/>
                  <a:ext cx="563904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120" bIns="42120" anchor="ctr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</a:rPr>
                    <a:t>Indicação dos PDC’s  (10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438280" y="4871520"/>
                <a:ext cx="6324840" cy="561600"/>
                <a:chOff x="2438280" y="4871520"/>
                <a:chExt cx="6324840" cy="561600"/>
              </a:xfrm>
            </p:grpSpPr>
            <p:graphicFrame>
              <p:nvGraphicFramePr>
                <p:cNvPr id="207" name=""/>
                <p:cNvGraphicFramePr/>
                <p:nvPr/>
              </p:nvGraphicFramePr>
              <p:xfrm>
                <a:off x="2438280" y="4871520"/>
                <a:ext cx="681120" cy="56160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208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2438280" y="4871520"/>
                          <a:ext cx="681120" cy="56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9" name=""/>
                <p:cNvSpPr/>
                <p:nvPr/>
              </p:nvSpPr>
              <p:spPr>
                <a:xfrm>
                  <a:off x="3124080" y="5007240"/>
                  <a:ext cx="563904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120" bIns="42120" anchor="ctr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mplementação do Plan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0" name=""/>
          <p:cNvSpPr/>
          <p:nvPr/>
        </p:nvSpPr>
        <p:spPr>
          <a:xfrm>
            <a:off x="4343400" y="36576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45720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REUNIAO2" descr=""/>
          <p:cNvPicPr/>
          <p:nvPr/>
        </p:nvPicPr>
        <p:blipFill>
          <a:blip r:embed="rId11"/>
          <a:stretch/>
        </p:blipFill>
        <p:spPr>
          <a:xfrm>
            <a:off x="228600" y="2514600"/>
            <a:ext cx="233208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30120" y="1219320"/>
          <a:ext cx="732816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219320"/>
                    <a:ext cx="732816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61800" y="4826160"/>
          <a:ext cx="7296480" cy="17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800" y="4826160"/>
                    <a:ext cx="72964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61800" y="4826160"/>
          <a:ext cx="7296480" cy="178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800" y="4826160"/>
                    <a:ext cx="72964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61800" y="4826160"/>
          <a:ext cx="7296480" cy="178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1800" y="4826160"/>
                    <a:ext cx="72964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084400" y="4119480"/>
          <a:ext cx="752400" cy="32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84400" y="4119480"/>
                    <a:ext cx="752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65040" y="3451320"/>
          <a:ext cx="546120" cy="9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040" y="3451320"/>
                    <a:ext cx="54612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097600" y="3552840"/>
          <a:ext cx="399960" cy="907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97600" y="3552840"/>
                    <a:ext cx="39996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75160" y="3544920"/>
          <a:ext cx="438120" cy="93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75160" y="3544920"/>
                    <a:ext cx="43812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6676920" y="3954600"/>
          <a:ext cx="50184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76920" y="3954600"/>
                    <a:ext cx="5018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74720" y="3914640"/>
          <a:ext cx="503280" cy="579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74720" y="3914640"/>
                    <a:ext cx="5032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5499000" y="4043520"/>
          <a:ext cx="1227240" cy="420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99000" y="4043520"/>
                    <a:ext cx="12272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554360" y="3922560"/>
          <a:ext cx="650880" cy="567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54360" y="3922560"/>
                    <a:ext cx="65088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36600" y="3754440"/>
          <a:ext cx="461880" cy="1001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6600" y="3754440"/>
                    <a:ext cx="46188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5480" y="4241880"/>
          <a:ext cx="698400" cy="28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945480" y="4241880"/>
                    <a:ext cx="69840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332000" y="2825640"/>
          <a:ext cx="698400" cy="17668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332000" y="2825640"/>
                    <a:ext cx="6984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280120" y="3408480"/>
          <a:ext cx="631800" cy="12110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280120" y="3408480"/>
                    <a:ext cx="63180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52440" y="4341960"/>
          <a:ext cx="1173240" cy="5173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52440" y="4341960"/>
                    <a:ext cx="11732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93720" y="4051440"/>
          <a:ext cx="5873760" cy="771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593720" y="4051440"/>
                    <a:ext cx="5873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459080" y="4343400"/>
          <a:ext cx="882360" cy="3286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459080" y="4343400"/>
                    <a:ext cx="88236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1" name="" descr=""/>
          <p:cNvPicPr/>
          <p:nvPr/>
        </p:nvPicPr>
        <p:blipFill>
          <a:blip r:embed="rId39"/>
          <a:stretch/>
        </p:blipFill>
        <p:spPr>
          <a:xfrm>
            <a:off x="355680" y="4552920"/>
            <a:ext cx="498240" cy="53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1922400" y="4437000"/>
          <a:ext cx="555840" cy="23832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1922400" y="4437000"/>
                    <a:ext cx="5558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3995640" y="4210200"/>
          <a:ext cx="523800" cy="43020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995640" y="4210200"/>
                    <a:ext cx="5238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409840" y="4370400"/>
          <a:ext cx="338040" cy="2937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2409840" y="4370400"/>
                    <a:ext cx="33804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668600" y="4286160"/>
          <a:ext cx="663480" cy="480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668600" y="4286160"/>
                    <a:ext cx="6634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690640" y="4199040"/>
          <a:ext cx="873360" cy="39204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690640" y="4199040"/>
                    <a:ext cx="8733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34120" y="4432320"/>
          <a:ext cx="1747800" cy="34920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5334120" y="4432320"/>
                    <a:ext cx="17478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6845400" y="4533840"/>
          <a:ext cx="817560" cy="4161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845400" y="4533840"/>
                    <a:ext cx="8175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592360" y="4444920"/>
          <a:ext cx="1185840" cy="41904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2592360" y="4444920"/>
                    <a:ext cx="11858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61800" y="4361040"/>
          <a:ext cx="7294680" cy="873000"/>
        </p:xfrm>
        <a:graphic>
          <a:graphicData uri="http://schemas.openxmlformats.org/presentationml/2006/ole">
            <p:oleObj r:id="rId56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361800" y="4361040"/>
                    <a:ext cx="729468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6400800" y="4025880"/>
          <a:ext cx="2514600" cy="2584440"/>
        </p:xfrm>
        <a:graphic>
          <a:graphicData uri="http://schemas.openxmlformats.org/presentationml/2006/ole">
            <p:oleObj r:id="rId58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6400800" y="4025880"/>
                    <a:ext cx="2514600" cy="2584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8315280" y="4772160"/>
          <a:ext cx="452520" cy="36180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8315280" y="4772160"/>
                    <a:ext cx="4525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8277120" y="4781520"/>
          <a:ext cx="452520" cy="362160"/>
        </p:xfrm>
        <a:graphic>
          <a:graphicData uri="http://schemas.openxmlformats.org/presentationml/2006/ole">
            <p:oleObj r:id="rId6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8277120" y="4781520"/>
                    <a:ext cx="4525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0" y="56160"/>
            <a:ext cx="89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buClr>
                <a:srgbClr val="cc0000"/>
              </a:buClr>
              <a:buSzPct val="5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1599840"/>
            <a:ext cx="662940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ROVAÇÃO DA LEI 7.663 QUE ESTABELE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135160"/>
            <a:ext cx="531324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tivos, princípios, diretrizes e instrumentos da Política Estadual de Recursos Hídricos, definindo os órgãos de coordenação e de integração participativa do SIGRH e diretrizes para elaboração dos PERH e funcionamento do FEHID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1:26:37Z</dcterms:created>
  <dc:creator>Informações Gerenciais - PGIG</dc:creator>
  <dc:description/>
  <dc:language>en-US</dc:language>
  <cp:lastModifiedBy>Informações Gerenciais - PGIG</cp:lastModifiedBy>
  <dcterms:modified xsi:type="dcterms:W3CDTF">2002-12-06T18:06:30Z</dcterms:modified>
  <cp:revision>54</cp:revision>
  <dc:subject/>
  <dc:title>1982             INÍCIO DA POLIÍTICA</dc:title>
</cp:coreProperties>
</file>