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F7D02-33BA-4C09-B028-743B9646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7F26-F4A6-49B1-AC95-28D8686FE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79C53-8C75-4574-8D3F-79BFD1C00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48640-ACD9-4E36-933A-452E6981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928C-E0FC-4EB1-8B71-F8B9C346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FAF87-B60C-4D9D-A894-DF549721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29050-D8D2-4DAF-9E82-2D5E10E2A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6C840-7CF7-4729-8994-EC7E841D2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8F463-F346-4E16-AC25-1C31911B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F6A03-8DC7-4277-A97A-749E5398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115EC-7C77-48A8-97D8-D9BB20A9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0635-B068-478C-A48E-65AE93260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6396-7E96-4A94-BCED-C31CA9FAA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41" name=""/>
          <p:cNvSpPr/>
          <p:nvPr/>
        </p:nvSpPr>
        <p:spPr>
          <a:xfrm>
            <a:off x="212760" y="496800"/>
            <a:ext cx="406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762120" y="228600"/>
            <a:ext cx="8813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 SIMPÓSIO NACIONAL SOBRE RECUPERAÇÃO DE ÁREAS DEGRADAD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 PROCESSO DE FORMAÇÃO DE COMITÊS DE BACIA HIDROGRÁFICA EM MINAS GERA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INÁR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12/200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457200" y="1593720"/>
            <a:ext cx="9144000" cy="4743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 name=""/>
          <p:cNvSpPr/>
          <p:nvPr/>
        </p:nvSpPr>
        <p:spPr>
          <a:xfrm>
            <a:off x="5391000" y="179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1"/>
          <a:stretch/>
        </p:blipFill>
        <p:spPr>
          <a:xfrm>
            <a:off x="228600" y="0"/>
            <a:ext cx="2146320" cy="1052640"/>
          </a:xfrm>
          <a:prstGeom prst="rect">
            <a:avLst/>
          </a:prstGeom>
          <a:ln w="0">
            <a:noFill/>
          </a:ln>
        </p:spPr>
      </p:pic>
      <p:grpSp>
        <p:nvGrpSpPr>
          <p:cNvPr id="46" name=""/>
          <p:cNvGrpSpPr/>
          <p:nvPr/>
        </p:nvGrpSpPr>
        <p:grpSpPr>
          <a:xfrm>
            <a:off x="1600200" y="838440"/>
            <a:ext cx="8305560" cy="74520"/>
            <a:chOff x="1600200" y="838440"/>
            <a:chExt cx="8305560" cy="74520"/>
          </a:xfrm>
        </p:grpSpPr>
        <p:sp>
          <p:nvSpPr>
            <p:cNvPr id="47"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50"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51" name=""/>
          <p:cNvSpPr/>
          <p:nvPr/>
        </p:nvSpPr>
        <p:spPr>
          <a:xfrm>
            <a:off x="521280" y="1397160"/>
            <a:ext cx="8691840" cy="530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VOLUÇÃO DO PROCESSO</a:t>
            </a:r>
            <a:endParaRPr b="0" lang="en-US" sz="28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NÁRIO LEGISLATIVO “ÁGUAS DE MINAS”- 1993</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1.504/94–POLÍTICA ESTADU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5 – PRIORIZAÇÃO DE BACIAS HIDROGRÁFICAS COM CONFLIT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 RELAÇÃO À QUANTIDADE/QUALIDADE DE ÁGUA</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CERH-MG - 1995</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A SEMAD – 1996</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9.433/97-POLÍTICA NACION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IGAM – 1997</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3.199/99-POLÍTICA ESTADUAL DE RECURSOS HÍDRICOS </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TRIPARTITE, USUÁRIOS E SOCIEDADE CIVIL PARITÁRIO A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DER PÚBLICO)</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DADES DA SOCIEDADE CIVIL LIGADAS A RECURS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ÍDRICOS</a:t>
            </a:r>
            <a:endParaRPr b="0" lang="en-US" sz="2000" spc="-1" strike="noStrike">
              <a:solidFill>
                <a:srgbClr val="000000"/>
              </a:solidFill>
              <a:latin typeface="Times New Roman"/>
            </a:endParaRPr>
          </a:p>
        </p:txBody>
      </p:sp>
      <p:sp>
        <p:nvSpPr>
          <p:cNvPr id="52" name=""/>
          <p:cNvSpPr/>
          <p:nvPr/>
        </p:nvSpPr>
        <p:spPr>
          <a:xfrm>
            <a:off x="209520" y="2425680"/>
            <a:ext cx="180720" cy="919440"/>
          </a:xfrm>
          <a:prstGeom prst="rect">
            <a:avLst/>
          </a:prstGeom>
          <a:noFill/>
          <a:ln w="0">
            <a:noFill/>
          </a:ln>
        </p:spPr>
        <p:style>
          <a:lnRef idx="0"/>
          <a:fillRef idx="0"/>
          <a:effectRef idx="0"/>
          <a:fontRef idx="minor"/>
        </p:style>
        <p:txBody>
          <a:bodyPr wrap="none" lIns="90000" rIns="90000" tIns="46800" bIns="46800" anchor="t">
            <a:spAutoFit/>
          </a:bodyPr>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
          <p:cNvSpPr/>
          <p:nvPr/>
        </p:nvSpPr>
        <p:spPr>
          <a:xfrm>
            <a:off x="2305080" y="344520"/>
            <a:ext cx="26496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1760400" y="1066680"/>
            <a:ext cx="8145360" cy="56880"/>
            <a:chOff x="1760400" y="1066680"/>
            <a:chExt cx="8145360" cy="56880"/>
          </a:xfrm>
        </p:grpSpPr>
        <p:sp>
          <p:nvSpPr>
            <p:cNvPr id="55" name=""/>
            <p:cNvSpPr/>
            <p:nvPr/>
          </p:nvSpPr>
          <p:spPr>
            <a:xfrm flipV="1">
              <a:off x="1760400" y="1066680"/>
              <a:ext cx="81453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flipV="1">
              <a:off x="1760400" y="1122480"/>
              <a:ext cx="8145360" cy="1080"/>
            </a:xfrm>
            <a:prstGeom prst="line">
              <a:avLst/>
            </a:prstGeom>
            <a:ln w="12600">
              <a:solidFill>
                <a:srgbClr val="3333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flipV="1">
              <a:off x="1760400" y="1084320"/>
              <a:ext cx="8145360" cy="21960"/>
            </a:xfrm>
            <a:prstGeom prst="rect">
              <a:avLst/>
            </a:prstGeom>
            <a:solidFill>
              <a:srgbClr val="3333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58" name=""/>
          <p:cNvSpPr/>
          <p:nvPr/>
        </p:nvSpPr>
        <p:spPr>
          <a:xfrm>
            <a:off x="1467000" y="344520"/>
            <a:ext cx="26640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tretch/>
        </p:blipFill>
        <p:spPr>
          <a:xfrm>
            <a:off x="304920" y="228600"/>
            <a:ext cx="2057400" cy="990720"/>
          </a:xfrm>
          <a:prstGeom prst="rect">
            <a:avLst/>
          </a:prstGeom>
          <a:ln w="0">
            <a:noFill/>
          </a:ln>
        </p:spPr>
      </p:pic>
      <p:sp>
        <p:nvSpPr>
          <p:cNvPr id="60" name=""/>
          <p:cNvSpPr/>
          <p:nvPr/>
        </p:nvSpPr>
        <p:spPr>
          <a:xfrm>
            <a:off x="4416120" y="609480"/>
            <a:ext cx="481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15235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lang="en-US" sz="4400" spc="-1" strike="noStrike">
              <a:solidFill>
                <a:srgbClr val="000000"/>
              </a:solidFill>
              <a:latin typeface="Times New Roman"/>
            </a:endParaRPr>
          </a:p>
        </p:txBody>
      </p:sp>
      <p:pic>
        <p:nvPicPr>
          <p:cNvPr id="62" name="" descr=""/>
          <p:cNvPicPr/>
          <p:nvPr/>
        </p:nvPicPr>
        <p:blipFill>
          <a:blip r:embed="rId1"/>
          <a:stretch/>
        </p:blipFill>
        <p:spPr>
          <a:xfrm>
            <a:off x="228600" y="0"/>
            <a:ext cx="2146320" cy="1052640"/>
          </a:xfrm>
          <a:prstGeom prst="rect">
            <a:avLst/>
          </a:prstGeom>
          <a:ln w="0">
            <a:noFill/>
          </a:ln>
        </p:spPr>
      </p:pic>
      <p:sp>
        <p:nvSpPr>
          <p:cNvPr id="63" name=""/>
          <p:cNvSpPr/>
          <p:nvPr/>
        </p:nvSpPr>
        <p:spPr>
          <a:xfrm>
            <a:off x="2311560" y="457200"/>
            <a:ext cx="599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grpSp>
        <p:nvGrpSpPr>
          <p:cNvPr id="64" name=""/>
          <p:cNvGrpSpPr/>
          <p:nvPr/>
        </p:nvGrpSpPr>
        <p:grpSpPr>
          <a:xfrm>
            <a:off x="1600200" y="838440"/>
            <a:ext cx="8305560" cy="74520"/>
            <a:chOff x="1600200" y="838440"/>
            <a:chExt cx="8305560" cy="74520"/>
          </a:xfrm>
        </p:grpSpPr>
        <p:sp>
          <p:nvSpPr>
            <p:cNvPr id="6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8" name=""/>
          <p:cNvSpPr/>
          <p:nvPr/>
        </p:nvSpPr>
        <p:spPr>
          <a:xfrm>
            <a:off x="762120" y="1143000"/>
            <a:ext cx="9144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09480" y="1066680"/>
            <a:ext cx="8991720" cy="775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8 – INSTALAÇÃO DOS PRIMEIROS COMITÊS –VELH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SQUITO, ARAGUARI, PARACATU</a:t>
            </a:r>
            <a:r>
              <a:rPr b="1" lang="en-US" sz="2400" spc="-1" strike="noStrike">
                <a:solidFill>
                  <a:srgbClr val="000000"/>
                </a:solidFill>
                <a:latin typeface="Arial"/>
              </a:rPr>
              <a:t>, PARÁ, VERD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STADO INCENTIVOU)</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9 – UNIDADES DE PLANEJAMENTO E GESTÃO DE RECURSOS HÍDRICOS </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MANDA DA SOCIEDADE PELA FORMAÇÃO DE COMITÊS DE BACIA – O IGAM COORDENA O PROCESSO, MAS A COMISSÃO DESENVOLVE O TRABALHO NA BACIA</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 34 COMITÊS</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COMITÊS EM FUNCIONAMENTO, 04 COMITÊS COM DECRETO, 03 COMITÊS NO CONSELHO ESTADUAL DE RECURSOS HÍDRICOS E 13 UPGRH EM PROCESSO DE SENSIBILIZAÇÃ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35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PlaceHolder 2"/>
          <p:cNvSpPr>
            <a:spLocks noGrp="1"/>
          </p:cNvSpPr>
          <p:nvPr>
            <p:ph/>
          </p:nvPr>
        </p:nvSpPr>
        <p:spPr>
          <a:xfrm>
            <a:off x="685440" y="1219320"/>
            <a:ext cx="842004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IVIDADE COMPLEXA QUE COMPREENDE VÁRIAS ETAPAS: </a:t>
            </a:r>
            <a:r>
              <a:rPr b="1" lang="pt-BR" sz="2800" spc="-1" strike="noStrike">
                <a:solidFill>
                  <a:srgbClr val="000000"/>
                </a:solidFill>
                <a:latin typeface="Times New Roman"/>
              </a:rPr>
              <a:t>divulgação da Lei, Sensibilização em todos segmentos, reuniões preparatórias em municípios polo, reunião para consolidação do Comitê, solicitação ao Conselho Estadual de Recursos Hídricos, Decreto de criação, Processo Eleitoral, Ato Governamental, Instalação do Comitê e posse dos membros (1 ano);</a:t>
            </a:r>
            <a:endParaRPr b="0" lang="en-US" sz="28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4/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6/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ETODOLOGIA PARA FORMAÇÃO DOS COMITÊS</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GIMENTO INTERNO PADRÃO</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CESSO ELEITORAL – EDITAL DE CONVOCAÇÃO</a:t>
            </a: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228600" y="0"/>
            <a:ext cx="2146320" cy="1052640"/>
          </a:xfrm>
          <a:prstGeom prst="rect">
            <a:avLst/>
          </a:prstGeom>
          <a:ln w="0">
            <a:noFill/>
          </a:ln>
        </p:spPr>
      </p:pic>
      <p:grpSp>
        <p:nvGrpSpPr>
          <p:cNvPr id="74" name=""/>
          <p:cNvGrpSpPr/>
          <p:nvPr/>
        </p:nvGrpSpPr>
        <p:grpSpPr>
          <a:xfrm>
            <a:off x="1600200" y="838440"/>
            <a:ext cx="8305560" cy="74520"/>
            <a:chOff x="1600200" y="838440"/>
            <a:chExt cx="8305560" cy="74520"/>
          </a:xfrm>
        </p:grpSpPr>
        <p:sp>
          <p:nvSpPr>
            <p:cNvPr id="7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endParaRPr b="0" lang="en-US" sz="3200" spc="-1" strike="noStrike">
              <a:solidFill>
                <a:srgbClr val="000000"/>
              </a:solidFill>
              <a:latin typeface="Times New Roman"/>
            </a:endParaRPr>
          </a:p>
        </p:txBody>
      </p:sp>
      <p:grpSp>
        <p:nvGrpSpPr>
          <p:cNvPr id="79" name=""/>
          <p:cNvGrpSpPr/>
          <p:nvPr/>
        </p:nvGrpSpPr>
        <p:grpSpPr>
          <a:xfrm>
            <a:off x="1600200" y="838440"/>
            <a:ext cx="8305560" cy="74520"/>
            <a:chOff x="1600200" y="838440"/>
            <a:chExt cx="8305560" cy="74520"/>
          </a:xfrm>
        </p:grpSpPr>
        <p:sp>
          <p:nvSpPr>
            <p:cNvPr id="80"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pic>
        <p:nvPicPr>
          <p:cNvPr id="83" name="" descr=""/>
          <p:cNvPicPr/>
          <p:nvPr/>
        </p:nvPicPr>
        <p:blipFill>
          <a:blip r:embed="rId1"/>
          <a:stretch/>
        </p:blipFill>
        <p:spPr>
          <a:xfrm>
            <a:off x="228600" y="0"/>
            <a:ext cx="2146320" cy="1052640"/>
          </a:xfrm>
          <a:prstGeom prst="rect">
            <a:avLst/>
          </a:prstGeom>
          <a:ln w="0">
            <a:noFill/>
          </a:ln>
        </p:spPr>
      </p:pic>
      <p:sp>
        <p:nvSpPr>
          <p:cNvPr id="84" name=""/>
          <p:cNvSpPr/>
          <p:nvPr/>
        </p:nvSpPr>
        <p:spPr>
          <a:xfrm>
            <a:off x="279036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
        <p:nvSpPr>
          <p:cNvPr id="85" name=""/>
          <p:cNvSpPr/>
          <p:nvPr/>
        </p:nvSpPr>
        <p:spPr>
          <a:xfrm>
            <a:off x="1066680" y="1600200"/>
            <a:ext cx="853452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IBERAÇÃO NORMATIVA CERH-MG Nº 04/02 – ESTABELECE DIRETRIZES PARA FORMAÇÃO E FUNCIONAMENTO DOS COMITÊS DE BACIA (MINUTA DESDE 1999, CONFORME RES. Nº 0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ESENTAÇÃO DOS COMITÊS DO CERH-MG E REPRESENTATIVIDADE DE USUÁRIOS E SOCIEDADE CIVIL)</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CIEDADE CIVIL LIGADA A RECURSOS HÍDRICOS – (ESTATUTO CITA PROTEÇÃO AO MEIO AMBIENTE)</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UÁRIOS – (EXIGÊNCIA DA OUTORG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5440" y="2743200"/>
            <a:ext cx="8420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 descr=""/>
          <p:cNvPicPr/>
          <p:nvPr/>
        </p:nvPicPr>
        <p:blipFill>
          <a:blip r:embed="rId1"/>
          <a:stretch/>
        </p:blipFill>
        <p:spPr>
          <a:xfrm>
            <a:off x="228600" y="0"/>
            <a:ext cx="2146320" cy="1052640"/>
          </a:xfrm>
          <a:prstGeom prst="rect">
            <a:avLst/>
          </a:prstGeom>
          <a:ln w="0">
            <a:noFill/>
          </a:ln>
        </p:spPr>
      </p:pic>
      <p:sp>
        <p:nvSpPr>
          <p:cNvPr id="89"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grpSp>
        <p:nvGrpSpPr>
          <p:cNvPr id="90" name=""/>
          <p:cNvGrpSpPr/>
          <p:nvPr/>
        </p:nvGrpSpPr>
        <p:grpSpPr>
          <a:xfrm>
            <a:off x="1600200" y="838440"/>
            <a:ext cx="8305560" cy="74520"/>
            <a:chOff x="1600200" y="838440"/>
            <a:chExt cx="8305560" cy="74520"/>
          </a:xfrm>
        </p:grpSpPr>
        <p:sp>
          <p:nvSpPr>
            <p:cNvPr id="91"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94" name=""/>
          <p:cNvSpPr/>
          <p:nvPr/>
        </p:nvSpPr>
        <p:spPr>
          <a:xfrm>
            <a:off x="380880" y="1447920"/>
            <a:ext cx="929664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Times New Roman"/>
              </a:rPr>
              <a:t>Art.13.</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Os representantes do segmento de usuários serão escolhidos dentre as organizações que fazem uso, direto ou indireto, das águas superficiais ou subterrâneas existentes na respectiva Bacia Hidrográfica, derivando-as, captando-as, armazenando-as ou utilizando-as para diluição de dejetos, tais como: companhias de saneamento, companhias de geração de energia, siderurgia, mineração, indústria, comércio e reflorestamento, cooperativas, associações,sindicato de produtores rurais, irrigantes, lazer, recreação e</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que não estejam em situação irregular perante os órgãos que integram o SEGRH, para participarem dos Comitê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95" name=""/>
          <p:cNvSpPr/>
          <p:nvPr/>
        </p:nvSpPr>
        <p:spPr>
          <a:xfrm>
            <a:off x="228600" y="2286000"/>
            <a:ext cx="92203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rt. 14 Os representantes do segmento da sociedade civil serão escolhidos dentre as entidades não governamentais legalmente constituídas, cujas atuações sejam relacionadas aos recursos hídricos e que tenham representação em qualquer um dos municípios localizados na respectiva Bacia Hidrográfica, tais como: associações comunitárias, sindicatos de trabalhadores rurais, instituições de ensino, associações técnicas, associações culturais e entidades ambientalista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28600" y="0"/>
            <a:ext cx="2146320" cy="1052640"/>
          </a:xfrm>
          <a:prstGeom prst="rect">
            <a:avLst/>
          </a:prstGeom>
          <a:ln w="0">
            <a:noFill/>
          </a:ln>
        </p:spPr>
      </p:pic>
      <p:grpSp>
        <p:nvGrpSpPr>
          <p:cNvPr id="97" name=""/>
          <p:cNvGrpSpPr/>
          <p:nvPr/>
        </p:nvGrpSpPr>
        <p:grpSpPr>
          <a:xfrm>
            <a:off x="1600200" y="838440"/>
            <a:ext cx="8305560" cy="74520"/>
            <a:chOff x="1600200" y="838440"/>
            <a:chExt cx="8305560" cy="74520"/>
          </a:xfrm>
        </p:grpSpPr>
        <p:sp>
          <p:nvSpPr>
            <p:cNvPr id="98"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01"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1400" y="0"/>
            <a:ext cx="9864720" cy="698184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103" name=""/>
          <p:cNvSpPr/>
          <p:nvPr/>
        </p:nvSpPr>
        <p:spPr>
          <a:xfrm>
            <a:off x="2870280" y="7334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4" name=""/>
          <p:cNvSpPr/>
          <p:nvPr/>
        </p:nvSpPr>
        <p:spPr>
          <a:xfrm>
            <a:off x="2870280" y="7642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5" name=""/>
          <p:cNvSpPr/>
          <p:nvPr/>
        </p:nvSpPr>
        <p:spPr>
          <a:xfrm>
            <a:off x="2870280" y="7948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6" name=""/>
          <p:cNvSpPr/>
          <p:nvPr/>
        </p:nvSpPr>
        <p:spPr>
          <a:xfrm>
            <a:off x="7824600" y="2146320"/>
            <a:ext cx="314640" cy="853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7263000" y="23432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7682760" y="2583000"/>
            <a:ext cx="5126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7052400" y="4191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0" name=""/>
          <p:cNvSpPr/>
          <p:nvPr/>
        </p:nvSpPr>
        <p:spPr>
          <a:xfrm>
            <a:off x="0" y="0"/>
            <a:ext cx="1871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760400" y="852480"/>
            <a:ext cx="5504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0" y="0"/>
            <a:ext cx="9906120" cy="68580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2T12:07:00Z</dcterms:created>
  <dc:creator>a</dc:creator>
  <dc:description/>
  <dc:language>en-US</dc:language>
  <cp:lastModifiedBy>DPI</cp:lastModifiedBy>
  <cp:lastPrinted>2001-02-13T21:50:19Z</cp:lastPrinted>
  <dcterms:modified xsi:type="dcterms:W3CDTF">2002-12-10T16:53:57Z</dcterms:modified>
  <cp:revision>234</cp:revision>
  <dc:subject/>
  <dc:title>Slide sem título </dc:title>
</cp:coreProperties>
</file>