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66A07-634E-4509-948F-947DD9732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7DED-7176-4228-9DA4-A4C2D04E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946E7-2D0E-48C0-839E-EE6A26453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CAB8B-CC06-4CD2-B104-D3F856482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A5503-F2A6-46BF-8C25-366F04FE4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7C69C-BA76-46F5-854A-5BEA27547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51E7D-B6AB-4647-B817-44A8B439F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667AA-DA86-455A-865F-C637D60F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2F348-AB90-4352-81A1-2296A26C9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22DE5-E854-44FD-8DE2-F7A4CCD2F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7F53-36CD-4E16-B6EE-BDD0F52A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6D9C-FDE8-43A4-9CE0-A0152F92C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BFCA8-0627-4B3A-BCC2-B70EDD962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562B5-45FA-4D3C-95D7-7DF007E7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0509D-AE15-42D0-B260-9F32FDDCB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D1BEB-1A1D-4577-BA2D-E54606CA0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1C62D-E75B-4B4B-A5CA-6C09F880C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5A4FC-6926-4AFA-A2E2-90B14562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2715-AFA5-412A-A10C-FB11C16E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94F44-88C6-4515-BA0B-4C55181B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F758-D589-4C2E-A651-DD14025C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EF96-5115-446F-BBAF-0B98CBCE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E0F4-243E-469C-82E5-A4CEFAE6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EF7E-91CC-4E8A-A8F3-69F4F78B1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7440" y="-542520"/>
            <a:ext cx="6895080" cy="9686160"/>
            <a:chOff x="-37440" y="-542520"/>
            <a:chExt cx="6895080" cy="9686160"/>
          </a:xfrm>
        </p:grpSpPr>
        <p:sp>
          <p:nvSpPr>
            <p:cNvPr id="1" name=""/>
            <p:cNvSpPr/>
            <p:nvPr/>
          </p:nvSpPr>
          <p:spPr>
            <a:xfrm>
              <a:off x="0" y="636120"/>
              <a:ext cx="6857640" cy="1538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720"/>
              <a:ext cx="1332000" cy="9144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7440" y="-542520"/>
              <a:ext cx="6395040" cy="2105280"/>
              <a:chOff x="-37440" y="-542520"/>
              <a:chExt cx="6395040" cy="2105280"/>
            </a:xfrm>
          </p:grpSpPr>
          <p:sp>
            <p:nvSpPr>
              <p:cNvPr id="4" name=""/>
              <p:cNvSpPr/>
              <p:nvPr/>
            </p:nvSpPr>
            <p:spPr>
              <a:xfrm rot="21092400">
                <a:off x="-17280" y="1108080"/>
                <a:ext cx="1260720" cy="36360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378800" y="-18864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188360" y="689400"/>
                <a:ext cx="228600" cy="405720"/>
                <a:chOff x="1188360" y="689400"/>
                <a:chExt cx="228600" cy="405720"/>
              </a:xfrm>
            </p:grpSpPr>
            <p:sp>
              <p:nvSpPr>
                <p:cNvPr id="7" name=""/>
                <p:cNvSpPr/>
                <p:nvPr/>
              </p:nvSpPr>
              <p:spPr>
                <a:xfrm>
                  <a:off x="1188360" y="689400"/>
                  <a:ext cx="228600" cy="4057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302840" y="7966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 name=""/>
                <p:cNvSpPr/>
                <p:nvPr/>
              </p:nvSpPr>
              <p:spPr>
                <a:xfrm>
                  <a:off x="1224000" y="739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 name=""/>
                <p:cNvSpPr/>
                <p:nvPr/>
              </p:nvSpPr>
              <p:spPr>
                <a:xfrm>
                  <a:off x="1224000" y="854280"/>
                  <a:ext cx="55800" cy="101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277640" y="8920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 name=""/>
                <p:cNvSpPr/>
                <p:nvPr/>
              </p:nvSpPr>
              <p:spPr>
                <a:xfrm>
                  <a:off x="1349280" y="87912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 name=""/>
                <p:cNvSpPr/>
                <p:nvPr/>
              </p:nvSpPr>
              <p:spPr>
                <a:xfrm>
                  <a:off x="1292040" y="97488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 name=""/>
                <p:cNvSpPr/>
                <p:nvPr/>
              </p:nvSpPr>
              <p:spPr>
                <a:xfrm>
                  <a:off x="1224000" y="955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 name=""/>
                <p:cNvSpPr/>
                <p:nvPr/>
              </p:nvSpPr>
              <p:spPr>
                <a:xfrm>
                  <a:off x="1288440" y="695520"/>
                  <a:ext cx="55800" cy="101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sp>
          <p:nvSpPr>
            <p:cNvPr id="16" name=""/>
            <p:cNvSpPr/>
            <p:nvPr/>
          </p:nvSpPr>
          <p:spPr>
            <a:xfrm>
              <a:off x="507240" y="2507760"/>
              <a:ext cx="834480" cy="6635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A494-F29A-4766-B834-5E40CBFAFA1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6858000" cy="9143280"/>
            <a:chOff x="0" y="0"/>
            <a:chExt cx="6858000" cy="9143280"/>
          </a:xfrm>
        </p:grpSpPr>
        <p:grpSp>
          <p:nvGrpSpPr>
            <p:cNvPr id="59" name=""/>
            <p:cNvGrpSpPr/>
            <p:nvPr/>
          </p:nvGrpSpPr>
          <p:grpSpPr>
            <a:xfrm>
              <a:off x="0" y="0"/>
              <a:ext cx="6858000" cy="9143280"/>
              <a:chOff x="0" y="0"/>
              <a:chExt cx="6858000" cy="9143280"/>
            </a:xfrm>
          </p:grpSpPr>
          <p:sp>
            <p:nvSpPr>
              <p:cNvPr id="60" name=""/>
              <p:cNvSpPr/>
              <p:nvPr/>
            </p:nvSpPr>
            <p:spPr>
              <a:xfrm>
                <a:off x="0" y="2640960"/>
                <a:ext cx="6858000" cy="2336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332000" cy="914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971280" y="5486040"/>
              <a:ext cx="834840" cy="3657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9800" y="1475280"/>
            <a:ext cx="6395040" cy="2106000"/>
            <a:chOff x="-19800" y="1475280"/>
            <a:chExt cx="6395040" cy="2106000"/>
          </a:xfrm>
        </p:grpSpPr>
        <p:sp>
          <p:nvSpPr>
            <p:cNvPr id="64" name=""/>
            <p:cNvSpPr/>
            <p:nvPr/>
          </p:nvSpPr>
          <p:spPr>
            <a:xfrm rot="21092400">
              <a:off x="0" y="3125880"/>
              <a:ext cx="1260720" cy="3643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396440" y="182880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199880" y="2641320"/>
              <a:ext cx="342360" cy="609120"/>
              <a:chOff x="1199880" y="2641320"/>
              <a:chExt cx="342360" cy="609120"/>
            </a:xfrm>
          </p:grpSpPr>
          <p:sp>
            <p:nvSpPr>
              <p:cNvPr id="67" name=""/>
              <p:cNvSpPr/>
              <p:nvPr/>
            </p:nvSpPr>
            <p:spPr>
              <a:xfrm>
                <a:off x="1199880" y="2641320"/>
                <a:ext cx="342360" cy="6091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240" y="280260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3520" y="2716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53520" y="2889000"/>
                <a:ext cx="83520" cy="1519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33440" y="294588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40720" y="292644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55040" y="30697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53520" y="3040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49640" y="2650680"/>
                <a:ext cx="83520" cy="1519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371600" y="2844360"/>
            <a:ext cx="5486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28004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531468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8102-BD7E-4C74-B561-D388145B62F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1676520"/>
            <a:ext cx="5486400" cy="132804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50000"/>
              </a:lnSpc>
              <a:spcBef>
                <a:spcPts val="1687"/>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d4d4d"/>
                </a:solidFill>
                <a:latin typeface="Arial"/>
              </a:rPr>
              <a:t>Política Estadual de Recursos Hídricos</a:t>
            </a:r>
            <a:r>
              <a:rPr b="1" lang="en-US" sz="2700" spc="-1" strike="noStrike">
                <a:solidFill>
                  <a:srgbClr val="b2b2b2"/>
                </a:solidFill>
                <a:latin typeface="Arial"/>
              </a:rPr>
              <a:t> </a:t>
            </a:r>
            <a:endParaRPr b="0" lang="en-US" sz="2700" spc="-1" strike="noStrike">
              <a:solidFill>
                <a:srgbClr val="000000"/>
              </a:solidFill>
              <a:latin typeface="Times New Roman"/>
            </a:endParaRPr>
          </a:p>
        </p:txBody>
      </p:sp>
      <p:sp>
        <p:nvSpPr>
          <p:cNvPr id="117" name=""/>
          <p:cNvSpPr/>
          <p:nvPr/>
        </p:nvSpPr>
        <p:spPr>
          <a:xfrm>
            <a:off x="514440" y="4978440"/>
            <a:ext cx="5486400" cy="228168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DERHSA</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01480" y="685800"/>
            <a:ext cx="6356520" cy="11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f) Modalidades de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 e Associações Internacionais de Bacias Hidrográfica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s como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 7º - O Estado somente celebrará Convênios de Mútua Cooperação e de Assistência, para o exercício das competências reservadas às unidades Executivas Descentralizadas, com os consórcios ou associações intermunicipais que atendam aos seguintes requisitos mínim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 que contém como associados, com mais de cinqüenta por cento dos municípios de sua área territorial de atuação, definida em estatuto, e que detenham, no mínimo, trinta por cento da população total desta área; ou</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I – que contém com número mínimo de setenta por cento da população total de sua área territorial de atuação, definida em estatuto, e, como associados, com mais de trinta por cento dos municípios desta áre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Aft>
                <a:spcPts val="1500"/>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838080"/>
            <a:ext cx="6051600" cy="7408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 como UED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13 – número de associados superior a 15% do total de usuários de recursos hídricos outorgados, com vazão outorgada correspondente a, no mínimo, 30% da vazão total outorgad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somatório de vazões outorgadas superior a 50% da vazão outorgada, com número de associados superior a 5% do total de usuários outorgado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51240" y="4595760"/>
            <a:ext cx="0" cy="51768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51240" y="5697360"/>
            <a:ext cx="0" cy="51912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0"/>
            <a:ext cx="6629400" cy="120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Times New Roman"/>
            </a:endParaRPr>
          </a:p>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II -    Fluxograma de Ações</a:t>
            </a:r>
            <a:endParaRPr b="0" lang="en-US" sz="2400" spc="-1" strike="noStrike">
              <a:solidFill>
                <a:srgbClr val="000000"/>
              </a:solidFill>
              <a:latin typeface="Times New Roman"/>
            </a:endParaRPr>
          </a:p>
        </p:txBody>
      </p:sp>
      <p:sp>
        <p:nvSpPr>
          <p:cNvPr id="133" name=""/>
          <p:cNvSpPr/>
          <p:nvPr/>
        </p:nvSpPr>
        <p:spPr>
          <a:xfrm>
            <a:off x="1447920" y="137160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organizam Associação de Usuários</a:t>
            </a:r>
            <a:endParaRPr b="0" lang="en-US" sz="2000" spc="-1" strike="noStrike">
              <a:solidFill>
                <a:srgbClr val="000000"/>
              </a:solidFill>
              <a:latin typeface="Times New Roman"/>
            </a:endParaRPr>
          </a:p>
        </p:txBody>
      </p:sp>
      <p:sp>
        <p:nvSpPr>
          <p:cNvPr id="134" name=""/>
          <p:cNvSpPr/>
          <p:nvPr/>
        </p:nvSpPr>
        <p:spPr>
          <a:xfrm>
            <a:off x="1600200" y="2362320"/>
            <a:ext cx="4191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negociam Estatuto da Associação</a:t>
            </a:r>
            <a:endParaRPr b="0" lang="en-US" sz="2000" spc="-1" strike="noStrike">
              <a:solidFill>
                <a:srgbClr val="000000"/>
              </a:solidFill>
              <a:latin typeface="Times New Roman"/>
            </a:endParaRPr>
          </a:p>
        </p:txBody>
      </p:sp>
      <p:sp>
        <p:nvSpPr>
          <p:cNvPr id="135" name=""/>
          <p:cNvSpPr/>
          <p:nvPr/>
        </p:nvSpPr>
        <p:spPr>
          <a:xfrm>
            <a:off x="1447920" y="335268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m ao Conselho a instalação de Comitê</a:t>
            </a:r>
            <a:endParaRPr b="0" lang="en-US" sz="2000" spc="-1" strike="noStrike">
              <a:solidFill>
                <a:srgbClr val="000000"/>
              </a:solidFill>
              <a:latin typeface="Times New Roman"/>
            </a:endParaRPr>
          </a:p>
        </p:txBody>
      </p:sp>
      <p:sp>
        <p:nvSpPr>
          <p:cNvPr id="136" name=""/>
          <p:cNvSpPr/>
          <p:nvPr/>
        </p:nvSpPr>
        <p:spPr>
          <a:xfrm>
            <a:off x="1295280" y="4343400"/>
            <a:ext cx="4724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 de Usuários negocia Contrato de Gestão com o Estado</a:t>
            </a:r>
            <a:endParaRPr b="0" lang="en-US" sz="2000" spc="-1" strike="noStrike">
              <a:solidFill>
                <a:srgbClr val="000000"/>
              </a:solidFill>
              <a:latin typeface="Times New Roman"/>
            </a:endParaRPr>
          </a:p>
        </p:txBody>
      </p:sp>
      <p:sp>
        <p:nvSpPr>
          <p:cNvPr id="137" name=""/>
          <p:cNvSpPr/>
          <p:nvPr/>
        </p:nvSpPr>
        <p:spPr>
          <a:xfrm>
            <a:off x="1066680" y="5410080"/>
            <a:ext cx="5029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ntrato de Gestão é aprovado pelo Comitê e  remetido  ao Conselho</a:t>
            </a:r>
            <a:endParaRPr b="0" lang="en-US" sz="2000" spc="-1" strike="noStrike">
              <a:solidFill>
                <a:srgbClr val="000000"/>
              </a:solidFill>
              <a:latin typeface="Times New Roman"/>
            </a:endParaRPr>
          </a:p>
        </p:txBody>
      </p:sp>
      <p:sp>
        <p:nvSpPr>
          <p:cNvPr id="138" name=""/>
          <p:cNvSpPr/>
          <p:nvPr/>
        </p:nvSpPr>
        <p:spPr>
          <a:xfrm>
            <a:off x="990720" y="6477120"/>
            <a:ext cx="5257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lho Estadual aprova o Contrato de Gestão</a:t>
            </a:r>
            <a:endParaRPr b="0" lang="en-US" sz="2000" spc="-1" strike="noStrike">
              <a:solidFill>
                <a:srgbClr val="000000"/>
              </a:solidFill>
              <a:latin typeface="Times New Roman"/>
            </a:endParaRPr>
          </a:p>
        </p:txBody>
      </p:sp>
      <p:sp>
        <p:nvSpPr>
          <p:cNvPr id="139" name=""/>
          <p:cNvSpPr/>
          <p:nvPr/>
        </p:nvSpPr>
        <p:spPr>
          <a:xfrm>
            <a:off x="914400" y="7543800"/>
            <a:ext cx="5486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assinado o Contrato de Gestão e a Associação de Usuários se transforma em UED</a:t>
            </a:r>
            <a:endParaRPr b="0" lang="en-US" sz="2000" spc="-1" strike="noStrike">
              <a:solidFill>
                <a:srgbClr val="000000"/>
              </a:solidFill>
              <a:latin typeface="Times New Roman"/>
            </a:endParaRPr>
          </a:p>
        </p:txBody>
      </p:sp>
      <p:sp>
        <p:nvSpPr>
          <p:cNvPr id="140" name=""/>
          <p:cNvSpPr/>
          <p:nvPr/>
        </p:nvSpPr>
        <p:spPr>
          <a:xfrm>
            <a:off x="36576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339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339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98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9880" y="617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09880" y="7162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523880"/>
            <a:ext cx="5753160" cy="75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Proposta de Legislação Federal de</a:t>
            </a:r>
            <a:r>
              <a:rPr b="1" lang="pt-BR" sz="800" spc="-1" strike="noStrike">
                <a:solidFill>
                  <a:srgbClr val="0000ff"/>
                </a:solidFill>
                <a:latin typeface="Arial"/>
                <a:ea typeface="Times New Roman"/>
              </a:rPr>
              <a:t>    </a:t>
            </a:r>
            <a:r>
              <a:rPr b="1" lang="pt-BR" sz="2000" spc="-1" strike="noStrike">
                <a:solidFill>
                  <a:srgbClr val="0000ff"/>
                </a:solidFill>
                <a:latin typeface="Arial"/>
                <a:ea typeface="Times New Roman"/>
              </a:rPr>
              <a:t>     Recursos Hídricos</a:t>
            </a:r>
            <a:r>
              <a:rPr b="0" lang="pt-B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r>
              <a:rPr b="0" lang="pt-BR" sz="2000" spc="-1" strike="noStrike">
                <a:solidFill>
                  <a:srgbClr val="000000"/>
                </a:solidFill>
                <a:latin typeface="Arial"/>
                <a:ea typeface="Times New Roman"/>
              </a:rPr>
              <a:t>- 1991, o Projeto de Lei nº 2249: encaminhado ao Congresso Nacional.</a:t>
            </a: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1" lang="pt-BR" sz="2000" spc="-1" strike="noStrike">
                <a:solidFill>
                  <a:srgbClr val="0000ff"/>
                </a:solidFill>
                <a:latin typeface="Arial"/>
                <a:ea typeface="Times New Roman"/>
              </a:rPr>
              <a:t> </a:t>
            </a:r>
            <a:r>
              <a:rPr b="1" lang="pt-BR" sz="2000" spc="-1" strike="noStrike">
                <a:solidFill>
                  <a:srgbClr val="0000ff"/>
                </a:solidFill>
                <a:latin typeface="Arial"/>
                <a:ea typeface="Times New Roman"/>
              </a:rPr>
              <a:t>A LEI FEDERAL Nº 9.433 DE 8 DE JANEIRO DE 1997</a:t>
            </a:r>
            <a:endParaRPr b="0" lang="en-US" sz="2000" spc="-1" strike="noStrike">
              <a:solidFill>
                <a:srgbClr val="000000"/>
              </a:solidFill>
              <a:latin typeface="Times New Roman"/>
            </a:endParaRPr>
          </a:p>
          <a:p>
            <a:pPr algn="just">
              <a:lnSpc>
                <a:spcPct val="8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b2b2b2"/>
                </a:solidFill>
                <a:latin typeface="Arial"/>
                <a:ea typeface="Times New Roman"/>
              </a:rPr>
              <a:t> </a:t>
            </a:r>
            <a:endParaRPr b="0" lang="en-US" sz="14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 </a:t>
            </a:r>
            <a:r>
              <a:rPr b="0" lang="pt-BR" sz="2000" spc="-1" strike="noStrike">
                <a:solidFill>
                  <a:srgbClr val="000000"/>
                </a:solidFill>
                <a:latin typeface="Arial"/>
                <a:ea typeface="Times New Roman"/>
              </a:rPr>
              <a:t>Institui a Política Nacional de Recursos Hídricos e cria o Sistema Nacional de gerenciament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Dos Instrument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 – os Planos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 – o enquadramento dos corpos de água em classes, segundo os usos preponderantes da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I – a outorga dos direitos de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V – a cobrança pelo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 – a compensação a municípios (vetado);</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I – o Sistema de Informações sobre Recursos Hídricos.</a:t>
            </a:r>
            <a:endParaRPr b="0" lang="en-US" sz="2000" spc="-1" strike="noStrike">
              <a:solidFill>
                <a:srgbClr val="000000"/>
              </a:solidFill>
              <a:latin typeface="Times New Roman"/>
            </a:endParaRPr>
          </a:p>
          <a:p>
            <a:pPr algn="just">
              <a:lnSpc>
                <a:spcPct val="8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ea typeface="Times New Roman"/>
              </a:rPr>
              <a:t> </a:t>
            </a:r>
            <a:endParaRPr b="0" lang="en-US" sz="1800" spc="-1" strike="noStrike">
              <a:solidFill>
                <a:srgbClr val="000000"/>
              </a:solidFill>
              <a:latin typeface="Times New Roman"/>
            </a:endParaRPr>
          </a:p>
        </p:txBody>
      </p:sp>
      <p:sp>
        <p:nvSpPr>
          <p:cNvPr id="119" name=""/>
          <p:cNvSpPr/>
          <p:nvPr/>
        </p:nvSpPr>
        <p:spPr>
          <a:xfrm>
            <a:off x="228600" y="507960"/>
            <a:ext cx="640080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 Histórico da Legislação Federal de Recursos Hídricos</a:t>
            </a:r>
            <a:endParaRPr b="0" lang="en-US" sz="2400" spc="-1" strike="noStrike">
              <a:solidFill>
                <a:srgbClr val="000000"/>
              </a:solidFill>
              <a:latin typeface="Times New Roman"/>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9960" y="812880"/>
            <a:ext cx="5886720" cy="34020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ea typeface="Times New Roman"/>
              </a:rPr>
              <a:t> </a:t>
            </a:r>
            <a:r>
              <a:rPr b="0" lang="en-US" sz="2000" spc="-1" strike="noStrike">
                <a:solidFill>
                  <a:srgbClr val="0000ff"/>
                </a:solidFill>
                <a:latin typeface="Arial"/>
                <a:ea typeface="Times New Roman"/>
              </a:rPr>
              <a:t>Do Sistema Nacional</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 Conselho Nacional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 – Conselhos de Recursos Hídricos dos Estados e do DF;</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I – Comitês de Bacia Hidrográfic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V - órgãos dos poderes públicos federal, estaduais e municipais,</a:t>
            </a:r>
            <a:r>
              <a:rPr b="0" lang="en-US" sz="2000" spc="-1" strike="noStrike">
                <a:solidFill>
                  <a:srgbClr val="b2b2b2"/>
                </a:solidFill>
                <a:latin typeface="Arial"/>
                <a:ea typeface="Times New Roman"/>
              </a:rPr>
              <a:t> </a:t>
            </a:r>
            <a:r>
              <a:rPr b="0" lang="en-US" sz="2000" spc="-1" strike="noStrike">
                <a:solidFill>
                  <a:srgbClr val="0000ff"/>
                </a:solidFill>
                <a:latin typeface="Arial"/>
                <a:ea typeface="Times New Roman"/>
              </a:rPr>
              <a:t>(ANA/ SUDERHSA)</a:t>
            </a:r>
            <a:r>
              <a:rPr b="0" lang="en-US" sz="2000" spc="-1" strike="noStrike">
                <a:solidFill>
                  <a:srgbClr val="b2b2b2"/>
                </a:solidFill>
                <a:latin typeface="Arial"/>
                <a:ea typeface="Times New Roman"/>
              </a:rPr>
              <a:t>;</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 – Agências de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304920"/>
            <a:ext cx="6400800" cy="15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II - O DESENHO DO SISTEMA ESTADUAL DE GESTÃO DE RECURSOS HÍDRICOS</a:t>
            </a:r>
            <a:endParaRPr b="0" lang="en-US" sz="2400" spc="-1" strike="noStrike">
              <a:solidFill>
                <a:srgbClr val="000000"/>
              </a:solidFill>
              <a:latin typeface="Times New Roman"/>
            </a:endParaRPr>
          </a:p>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411120" y="1336680"/>
            <a:ext cx="6446880" cy="635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01480" y="914400"/>
            <a:ext cx="6356520" cy="55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I a)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áter deliberativo e normativo;</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princípios e diretrizes da polític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o Plano Estadual;</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sobre a cobranç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461880"/>
            <a:ext cx="6705720" cy="89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b)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mposição do CERH (29):</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idente do Conselho  (Secretário SEMA)</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instituições do Poder  Executivo (14);</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a Assembléia Legislativa (2);</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Municípios (3);</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entidades da sociedade civil (4);</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setores usuários (5). </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spcAft>
                <a:spcPts val="1250"/>
              </a:spcAft>
              <a:buClr>
                <a:srgbClr val="ffff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Secretaria executiva </a:t>
            </a:r>
            <a:r>
              <a:rPr b="0" lang="pt-BR" sz="2000" spc="-1" strike="noStrike">
                <a:solidFill>
                  <a:srgbClr val="000000"/>
                </a:solidFill>
                <a:latin typeface="Symbol"/>
                <a:ea typeface="Symbol"/>
              </a:rPr>
              <a:t></a:t>
            </a:r>
            <a:r>
              <a:rPr b="0" lang="pt-BR" sz="2000" spc="-1" strike="noStrike">
                <a:solidFill>
                  <a:srgbClr val="000000"/>
                </a:solidFill>
                <a:latin typeface="Arial"/>
              </a:rPr>
              <a:t> SUDERHSA</a:t>
            </a:r>
            <a:endParaRPr b="0" lang="en-US" sz="2000" spc="-1" strike="noStrike">
              <a:solidFill>
                <a:srgbClr val="000000"/>
              </a:solidFill>
              <a:latin typeface="Times New Roman"/>
            </a:endParaRPr>
          </a:p>
          <a:p>
            <a:pPr lvl="3" marL="13716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762120"/>
            <a:ext cx="6356520" cy="73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c)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lano de Baci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mpanha a execução do Plano (meta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as captações e lançamentos considerados insignificante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e mecanismos de cobranç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reço unitário da cobrança da águ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1480" y="990720"/>
            <a:ext cx="635652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d)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ição do CBH (10 - 40):</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o Poder Executivo da  União, do Estado e dos Municípios;</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e usuários de RH;</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úmero mínimo de 1/5 de representantes de entidades da sociedade civil. </a:t>
            </a: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1480" y="990720"/>
            <a:ext cx="635652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e)   Unidade Executiva Descentralizada (UED):</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 o Plano de Baci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 da gestão do Sistema de Informações;</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enquadramento dos corpos de águ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preço unitário; </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ecada em nome do Poder Público (delegação);</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a o Plano de Bacia.</a:t>
            </a:r>
            <a:endParaRPr b="0" lang="en-US" sz="2000" spc="-1" strike="noStrike">
              <a:solidFill>
                <a:srgbClr val="000000"/>
              </a:solidFill>
              <a:latin typeface="Times New Roman"/>
            </a:endParaRPr>
          </a:p>
          <a:p>
            <a:pPr lvl="3" marL="1371600">
              <a:lnSpc>
                <a:spcPct val="3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7:12:58Z</dcterms:created>
  <dc:creator>Ivo bernardo Heisler Junior</dc:creator>
  <dc:description/>
  <dc:language>en-US</dc:language>
  <cp:lastModifiedBy>SRH</cp:lastModifiedBy>
  <cp:lastPrinted>2001-10-02T17:35:52Z</cp:lastPrinted>
  <dcterms:modified xsi:type="dcterms:W3CDTF">2002-12-10T16:47:35Z</dcterms:modified>
  <cp:revision>140</cp:revision>
  <dc:subject/>
  <dc:title>Slide sem título </dc:title>
</cp:coreProperties>
</file>