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7CD-DB59-46FF-8F85-87DA2222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1AC-EE30-4B1A-9B74-0061A32B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861-0ABC-4835-AF89-07B1F935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296-3026-434E-BB61-262112D4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A18-17FC-4F72-948E-D54CB7E8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52E-131B-423F-BD55-DFE140F9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72E-16A0-4935-8F6F-FA1EEC73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C3B-E64F-48A4-ACBA-26F91EFD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FF0-4777-466B-94CF-89649CF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02C-38D9-4A1E-A5A8-64C0A74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2B2-AEA5-4D2F-9FEC-05315F5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7CF-F83C-4EE8-90CE-DB9FFE6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CE01-FCC3-4008-ABA7-C83539A94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7760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2:38:08Z</dcterms:created>
  <dc:creator>User</dc:creator>
  <dc:description/>
  <dc:language>en-US</dc:language>
  <cp:lastModifiedBy>SRH</cp:lastModifiedBy>
  <dcterms:modified xsi:type="dcterms:W3CDTF">2002-12-10T16:46:24Z</dcterms:modified>
  <cp:revision>1</cp:revision>
  <dc:subject/>
  <dc:title>Apresentação do PowerPoint</dc:title>
</cp:coreProperties>
</file>