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5177-CA61-40B4-BA2A-E0D8D172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E1C-752D-4D60-B156-C451C470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972-72DF-4A4F-949A-E63497BC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662-59A8-4B82-BF3C-2BB772B1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F1C4-2AC3-43A5-8923-BA52F95B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6C0B-7854-48D7-8A32-F94DB37A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30D0-097F-4D69-9989-D52F9E06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83BF-B348-4DF9-9590-0E74AA73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1D9C-AE49-44C1-A051-B2E7CC52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1348-EF8E-4C9A-829D-48077171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B031-8379-4DEE-BFD0-0D3CE8A1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AD7-8EF1-4D80-81CC-DA7B5650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107E-89FA-4B1A-8C70-2F469B54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F2EF-0E09-4A09-97DA-C2BCE3A8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1E7F-640F-4381-8CBC-CCE19B8A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E546-E540-4F1E-B4CB-1333D9CC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AD63-8FFB-4DBF-8962-D28EFEB3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FB0-6F93-4D74-8CBE-6501A07C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92F-71E4-4769-97A8-70B3B208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71E-161D-49B4-9708-028345F6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559-5EED-4BCE-BF04-468578A7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7AC-DBE0-4766-91AC-9005D7F3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5CB-9135-4172-9112-E1B62BE0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6994-9F26-4B4E-A791-EF2849F4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9A47-8EE7-4DC6-9212-4395DE73C7C1}" type="datetime">
              <a:rPr b="0" lang="pt-BR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8607-2FF0-46D6-A60E-0A571DEF637C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600"/>
            <a:ext cx="6399360" cy="17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2EF8-0A6B-42B1-9442-2B31D7954C8F}" type="datetime">
              <a:rPr b="0" lang="pt-BR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EE17-5797-4437-9BD5-78303DFE93FB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990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cc"/>
                </a:solidFill>
                <a:latin typeface="Arial Narrow"/>
              </a:rPr>
              <a:t>A Constituição do CEIVAP e a Resolução CNRH n.º 5/2000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14800" y="274320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laudio Serricch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82BE-686B-4F4E-B8CE-2A622235877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66A47B8-FC0E-4D1E-8C4F-5EABE3B1A7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presentaç</a:t>
            </a: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ã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600" y="17521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alestra apresentada no Seminário “Diretrizes gerais para a instituição e funcionamento de Comitês de bacias hidrográficas”, CNRH, Brasília, 10 de dezembro d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laudio Serricchio – coordenador do escritório técnico do CEIV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CDF-DFA4-4928-BE8B-4260365AF6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3990D-45CD-4AD7-93E4-A883E933FC2C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Tópico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14479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criação do CEIV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adequação do CEIVAP à Lei 943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adequação do CEIVAP à Resolução CNRH n.º 0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experiência da renovação da composição do CEIV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Os demais passos do CEIVAP junto ao CNR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onclusões e recomend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212-C344-4D9D-BFA1-220207E0B9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E2578-8550-4F54-A830-5401F6629518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 criação do CEIVA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riado pelo Decreto n.º 1842, de 22/03/1996, do Presidente da Re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stalado em 18/12/1997, com 39 membros, nomeados pelas Portarias 343 de 24/10/96 e 264 de 1/12/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riadas Câmaras Técnicas Institucional e de Planejamento, em 28/01/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augurado o escritório-sede em 10/12/98, em Resende/R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2FF-E99F-446F-BCD2-F08260D47C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728FB-E1F0-40DE-A21F-46C77576C72F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 adequação do CEIVAP à 9433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Necessidade de adequação à Lei 9433, de  08/01/1997, diante das definições das competências dos comitês de ba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lterações no Regimento Interno, em 9/12/99, ampliando a composição do CEIVAP para 57 memb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Realização dos primeiros fóruns públicos, em SP, RJ e MG,  para preenchimento de 18 novas va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1CB-87CD-4AC1-8FAD-AD865A1D2B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09220-7428-4250-8BFB-158D8FBC335B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dequação à Resolução n.º 05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Necessidade de adequação do CEIVAP à Resolução CNRH n.º 05, de 10/04/2000, que estabelece diretrizes para comitês de ba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Rediscussão e alterações no Regimento Interno do CEIVAP, em 21/07/00, ampliando a sua composição para 60 memb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juste final na representaç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Arial"/>
              </a:rPr>
              <a:t>- usuários: 24 membros  (40 %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Arial"/>
              </a:rPr>
              <a:t>- poder público: 21 membros  (35 %), sendo 3 da União, 9 dos estados e 9 dos municíp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Arial"/>
              </a:rPr>
              <a:t>- organizações civis: 15 membros  (25 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BF2-9AAE-4090-8109-A7AA2BDFDA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3A7C0-90A6-4D3F-A4C9-FEE4AB773B6E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 experiência da renovação da composição do CEIVAP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laboração de regulamento e editais públicos em SP, RJ e MG, convocando o processo eleitoral para: municípios, usuários e organizações civis (formalidade e publicida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Realização de fóruns para cada segmento, em cada estado, para a escolha dos representantes pelos seus pares (municípios, usuários e organizações civi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roposição de critérios de escolha considerand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- os diversos setores de cada segm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- as distribuição espacial da representação, contemplando as diversas regiões e sub-ba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vanços na mobilização e representatividade do CEIV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99F-E322-4167-AAFB-8FADE3F2A1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AE240-D68C-4766-8B49-25C55A09B58E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Os demais passos do CEIVAP junto ao CNRH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Submeteu à aprovação do CNRH as suas Deliberações sobre cobrança pelo uso da água na bacia do rio Paraíba do Sul: n.º 03, de 16/03/2001; n.º 08, de 6/12/2001 e n.º 15, de 4/11/2002, que resultaram nas Resoluções CNRH n.º 19, de 15/03/2002 e n.º 27, de 29/12/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Submeteu à aprovação do CNRH as suas Deliberações sobre a criação da agência de águas da bacia do rio Paraíba do Sul: n.º 05, de 16/03/2001 e n.º 12, de 20/06/2002, que resultaram na Resolução CNRH n.º 26, de 29/12/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89E-9630-462E-921C-8C26E95B9C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C1D25-30D6-423E-823B-EAB7C480031A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Conclusões e Recomendaçõ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stão em fase avançada de implantação na bacia do rio Paraíba do Sul, os principais instrumentos necessários à gestão sustentável de R.H.:  Comitê, PRH, Agência, Outorga e Cobrança, sendo estratégica a sua conclu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É preciso reiterar o caráter dos comitês como espaço de representação dos interesses relacionados ao usos múltiplos das águas (em detrimento da visão e demandas crescentes de representação política regiona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É necessário regulamentar o relacionamento formal e as competências entre comitês de bacias de diferentes níve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É necessário definir os atos dos comitês que exijam publicação no D.O. da União e os procedimentos para tanto, de modo a assegurar a sua legalidade e public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AC9-7B7D-4F93-8F30-5ABE5F4B90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EB187-A2BC-4509-85BB-FBC2B9D9472F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udio Serricchio</cp:lastModifiedBy>
  <dcterms:modified xsi:type="dcterms:W3CDTF">2002-12-09T21:29:25Z</dcterms:modified>
  <cp:revision>7</cp:revision>
  <dc:subject/>
  <dc:title>Apresentação do PowerPoint</dc:title>
</cp:coreProperties>
</file>