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255-672D-4E7D-B31D-F9277BD0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847-2028-4117-AC6E-4474155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A2C-23FA-4953-BDFD-FB5F014B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5F8-50DC-4490-86C9-999041B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E9E56-6773-4BAA-8111-63158838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4AD2-484B-4258-8892-42556EB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8B52-1D35-45B7-A731-008C142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34750-671B-450A-B0A5-CF90809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6BB7-E506-488E-AFC2-AAE87AE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5F9AF-F9D3-4FD1-8F42-436C7D5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4919-54EF-48D8-9489-87E0E02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83B-B5AA-4613-BAE8-A94224D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601B-EE2E-4FC0-B12E-AD5B084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1390-9388-4E2A-94F2-94A716E8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2231-4C95-4DFF-9A53-27CB6FD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78EE-2C20-4598-9987-4DC1CAED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E2797-8CD3-40BC-8DF4-FFC73212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85D1C-FBC6-4789-8299-43D6D8DA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0F6B7-0884-47F1-834C-1CCD755E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CABFC-4D91-42FB-9FB0-754BD311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FB72F-8779-420E-A5E7-8774A631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562EF-913E-49F0-9B1E-914ACA6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B4B-7901-4466-8C7C-A68721A1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EC026-9BC1-4C53-909F-ED761AE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0C87B-B71F-4CFE-95C0-AA93797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6C9B3-B420-477A-9719-4CDE54E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0D7E4-ADDA-4A30-8DE6-445728A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61707-FC12-4F55-AA9C-8616EE5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9A68D-0278-498B-8809-22536CD7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901D8-3CF1-4D3D-9EA6-8E1198BB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5E77-BCF0-4E64-B0FA-9D85F132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9347-F645-429A-82AE-7420B20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5A80-E20B-4BD7-AEDA-30736CD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FDF-2E65-4188-AD01-7C08D4E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F8F8-0636-4635-B6CE-8263593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4CDD-96FA-411D-A0AA-0BE4FFC9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A391-855C-4286-AEC6-8237DFA4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258D-4784-49CD-A47F-ABF4E94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7BA4-C082-47F0-91FF-7D930B7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F6EC-96C5-482A-895B-86E9FA0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3A1B-02CA-4AA0-882D-C80129B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6B40-03C4-4263-8C0E-86C6B4FC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B78B-9D13-4051-BBD6-1274643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AF1-FE95-43CA-83F1-82C1A63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836-DF09-4475-96F1-E7940BB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FD3-5F7E-4EBA-8422-5BE877E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EEB-9771-4935-BBFC-0A3D458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A03-85CB-4816-8B50-BE1A69E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6FD-1C7D-4073-8251-7EEDFB9E1E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3BA-3488-4410-BE47-983DDA477F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53D-55FE-4F3A-828F-9B1CB3CDA4A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F367-1549-46CA-A594-59190473F5F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2590920"/>
            <a:ext cx="8305920" cy="48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Conselho Nacional de Recursos Hídr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Reunião da Câmara Técnica de Outorg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A COBRANÇA PELO USO DOS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Francisco Lopes Vi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Superintendente de Outorga e Cobranç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Book Antiqua"/>
              </a:rPr>
              <a:t>Brasília (DF),  20 de agosto de 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564000" y="716040"/>
            <a:ext cx="2520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5493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6480" indent="-8287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natureza do corpo d'água - superficial e subterrâne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classe de uso preponderante em que estiver enquadrado o corpo d'águ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disponibilidade hídric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volume captado, extraído ou derivado e seu regime de vari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8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492280"/>
            <a:ext cx="76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volume consumido – diferença entre o volume captado e o devolvi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finalidade a que se destin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sazonalidad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s características e a vulnerabilidade dos aqüífer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2205000"/>
            <a:ext cx="7777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s características físico-químicas e biológicas do corpo de água nos locais de captação de água e de lançamento de efluente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localização do usuário na bacia e com relação ao corpo de água receptor; 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carga lançada e seu regime de variação, ponderando-se os parâmetros biológicos, físico-químicos e de toxicidade dos eflue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907920"/>
            <a:ext cx="813600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1º  O valores a serem cobrados, de que trata este artigo, serão fixados considerando  os volumes captado, extraído, derivado, consumido, e as cargas orgânicas e inorgânicas dos efluentes lançados nos corpos d'águ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2º Os Comitês de Bacia poderão propor diferenciação dos valores a serem cobrados, em função de critérios e parâmetros que abranjam a qualidade e a disponibilidade de recursos hídricos, de acordo com as peculiaridades das respectivas unidades hidrográfic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692280"/>
            <a:ext cx="73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7º. Quando da ocorrência d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ventos crít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everão ser adotada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did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ções transitóri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que influenciarão a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fixaçã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os valores a serem cob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8º. Deverão ser adotado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canismos de compensação e incentiv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para a melhoria d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nibilidade e da qualidade, proteção, conservação e recuperação dos recursos hídr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9º. Caberá interposição d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recurs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a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obre a proposta  apresentada pel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itê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para efeito de cobrança pelo uso de recurso hídrico na respectiva bacia hidro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9640" y="260280"/>
            <a:ext cx="813600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rt 10.  Estã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SENT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de pagament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OS SEGUINTES US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) 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de recursos hídricos destinados à satisfação das necessidades  de 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pequenos núcleos populacionais distribuídos no meio rural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b) a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deriv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apt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extr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lançamentos  considerados insignificant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tanto do ponto de vista de volume, quanto de carga poluidora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c) as acumulações de águas com volumes considerado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nsignificant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arágrafo único. A definição d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insignificante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será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posta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mitê de Bacia Hidrográfico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respectivo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aprovad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respec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nselho de Recursos Hídrico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63640" y="692280"/>
            <a:ext cx="82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DO PAGAMENTO PELO USO DE RECURSOS HÍDR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1.  O percentual de setenta e cinco centésimos por cento  do valor da energia produzida relativos à compensação financeira constitui pagamento pelo uso de recursos hídricos por parte das respectivas concessionárias e autorizadas de geração elétr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2.  O não pagamento dos valores estabelecidos pela cobrança até a data do vencimento, sem prejuízo das sanções administrativas ou judiciais cabíveis, sujeitará à suspensão ou perda do direito de uso, a critério e na forma definida pela autoridade outorga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A suspensão de que trata este artigo será efetuada pela respectiva autoridade outorgante no exercício de seu poder de polí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620640"/>
            <a:ext cx="77774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3. Serão cobradas, sem prejuízo das sanções administrativas ou judiciais cabíveis, as diferenças detectadas a maior, entre os valores declarado pelo outorgado e os identificados pela autoridade competente, relativas aos volumes e respectivos regimes de variação, bem como às características físico-químicas e biológicas dos efluent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4. Quando o volume outorgado de direito de utilização pelo usuário, for superior ao efetivamente usado pelo mesmo, a diferença entre os dois valores será cobr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O valor unitário a ser cobrado pelo volume não usado deverá ser igual ao valor unitário da parcela efetivamente utilizada.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620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5. Os recursos financeiros auferidos em razão da cobrança pelo uso de recursos hídricos serão aplicados em conformidade com os planos de recursos hídricos das bacias hidrográfic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6. As prioridades para a aplicação dos recursos oriundos da cobrança pelo uso de recursos hídricos a que se refere o § 4º do art. 21 da Lei nº 9.984, de 2000, serão estabelecidas mediante a observância  do disposto neste arti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1º. O produto da cobrança estará vinculado às bacias hidrográficas em que for arrecadado, e será aplicado no financiamento de estudos, programas, projetos e obras incluídos nos Planos de Recursos Hídric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2º. Desde que seja benéfico para a bacia sob sua jurisdição, o Comitê poderá decidir pela aplicação em outra bacia de parte do montante do recurso  arrecad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3º. Os recursos financeiros provenientes da cobrança poderão também ser utilizados para o financiamento aos usuários da bacia e aos órgãos e entidades componentes do Sistema Nacional de Gerenciamento de Recursos Hídricos, por definição do Comitê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55640" y="836640"/>
            <a:ext cx="741672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7. Os recursos oriundos da cobrança pelo uso de recursos hídricos somente poderão ser aplicados a fundo perdidos em projetos e obras que alterem, de modo considerado benéfico à coletividade, </a:t>
            </a:r>
            <a:r>
              <a:rPr b="1" lang="pt-BR" sz="2000" spc="-1" strike="noStrike">
                <a:solidFill>
                  <a:srgbClr val="00ffcc"/>
                </a:solidFill>
                <a:latin typeface="Times New Roman"/>
              </a:rPr>
              <a:t>a quantidade, a qualidade, o regime de vazão de um corpo d´água, mediante observação dos critérios estabelecidos  pela 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ouvidos os respectivos  Comitês, conforme  previsto no § 2º do art. 22, da Lei 9.433, de 1997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8.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aberá à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 ouvidos os respectivos comitês de bacias,  o estabelecimento  de critérios para uso dos recursos adicionais cobrados por ocasião da vigência do regime de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men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para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pensar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financeirament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s usuários que venham a ser racion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30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400"/>
            </a:b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 Versão nº 01 – 20/08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197000"/>
            <a:ext cx="83628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ISPOSIÇÕES GE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OBJETIVOS DA COBRANÇ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MECANISMOS PARA DEFINIÇÃO DOS 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 PAGAMENTO PELO USO DOS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A APLIC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98100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9. Os recursos oriundos da cobrança somente poderão financiar os usuários que não estiverem inadimplentes com as exigências estabelecidas no ato de outorga ou com os valores  decorrentes da aplicação de multas e ou de outras sanções previstas nos arts. 49 e 50 da Lei 9.433, de 1997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0. A aplicação de recursos auferidos pela cobrança de uso de recurso hídrico estará sujeita à fiscalização por órgão ou entidade compet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1. Esta Resolução entra em vigor na data de sua publicaçã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967040" y="2249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66240" y="46483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795600">
            <a:off x="2143440" y="29444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772000">
            <a:off x="4471560" y="309600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313848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33360"/>
            <a:ext cx="7586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7d"/>
                </a:solidFill>
                <a:latin typeface="Times New Roman"/>
              </a:rPr>
              <a:t>Visão do público hoj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33600" y="5137200"/>
            <a:ext cx="2705400" cy="1720800"/>
            <a:chOff x="3333600" y="5137200"/>
            <a:chExt cx="2705400" cy="1720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3333600" y="5137200"/>
              <a:ext cx="138276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840200" y="566100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rtó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470640" y="1601640"/>
            <a:ext cx="1700280" cy="1901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635520" y="3405240"/>
            <a:ext cx="16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u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mbarg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95280" y="1738440"/>
            <a:ext cx="2089080" cy="1817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36450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brança = CPMF da á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95640" y="2276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9920" y="46594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795600">
            <a:off x="2337120" y="29552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772000">
            <a:off x="4965840" y="314424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14964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344520"/>
            <a:ext cx="8604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ff"/>
                </a:solidFill>
                <a:latin typeface="Arial"/>
              </a:rPr>
              <a:t>Visão desej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1440" y="5145120"/>
            <a:ext cx="8872560" cy="1712880"/>
            <a:chOff x="271440" y="5145120"/>
            <a:chExt cx="8872560" cy="1712880"/>
          </a:xfrm>
        </p:grpSpPr>
        <p:sp>
          <p:nvSpPr>
            <p:cNvPr id="276" name=""/>
            <p:cNvSpPr/>
            <p:nvPr/>
          </p:nvSpPr>
          <p:spPr>
            <a:xfrm>
              <a:off x="2009880" y="5264280"/>
              <a:ext cx="5400720" cy="825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Fundamentação técnico-científ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xercício dos direitos de acesso à águ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271440" y="5162760"/>
              <a:ext cx="16462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7452000" y="5145120"/>
              <a:ext cx="1692000" cy="164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76320" y="1224000"/>
            <a:ext cx="4165200" cy="3263760"/>
            <a:chOff x="76320" y="1224000"/>
            <a:chExt cx="4165200" cy="3263760"/>
          </a:xfrm>
        </p:grpSpPr>
        <p:sp>
          <p:nvSpPr>
            <p:cNvPr id="280" name=""/>
            <p:cNvSpPr/>
            <p:nvPr/>
          </p:nvSpPr>
          <p:spPr>
            <a:xfrm>
              <a:off x="1962720" y="1224000"/>
              <a:ext cx="2278800" cy="1191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Financi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Bem econôm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so r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76320" y="2836800"/>
              <a:ext cx="197964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135000" y="1274760"/>
              <a:ext cx="1704960" cy="15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5130360" y="1268280"/>
            <a:ext cx="386820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du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ven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ticipativa/Descentra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92360" y="2166840"/>
            <a:ext cx="5616360" cy="35672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A cobrança visa preservar o uso dos recursos hídricos para as presentes e futuras gerações</a:t>
            </a: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800"/>
            </a:b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 Versão nº 01 – 20.08.20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973080"/>
            <a:ext cx="8686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Conselho Nacional de Recursos Hídricos, no uso das competências que lhe são conferidas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433, de 8 de janeiro de 1997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com a redação dada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984, de 17 de julho de 2000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regulamentada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2.612, de 3 de junho de 1998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3.978, de 22 de outubro de 2001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tendo em vista o disposto no seu Regimento Interno, aprov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MMA nº 407, de 23 de novembro de 1999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nº 65, de 15 de fevereiro de 2002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495360"/>
            <a:ext cx="7848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. Esta Resolução tem por objeto o estabelecimento de critérios gerais para a cobrança pelo uso dos recursos hídricos nas bacias hidrográficas, conforme previsão dos arts. 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Times New Roman"/>
              </a:rPr>
              <a:t>19 a 22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 da Lei nº 9.433, de 1997, com  redação dada pela Lei nº 9.984, de 2000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Lei  nº 9.433, de 1997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Art. 19.  A cobrança pelo uso de recursos hídricos objeti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 – reconhecer a água como bem econômico e dar ao usuário uma indicação de seu real va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 – incentivar a racionalização do uso da águ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I – obter recursos financeiros para o financiamento dos programas e intervenções contemplados nos planos de recursos hídricos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 rot="18498000">
            <a:off x="674640" y="198360"/>
            <a:ext cx="8906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0. Serão cobrados os usos de recursos hídricos sujeitos a outorga, nos termos do art. 12 desta Lei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1. Na fixação dos valores a serem cobrados pelo uso dos recursos hídricos devem ser observados, dentre out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 - nas derivações, captações e extrações de água, o volume retirado e seu regime de vari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I - nos lançamentos de esgotos e demais resíduos líquidos ou gasosos, o volume lançado e seu regime de variação e as características físico-químicas, biológicas e de toxidade do aflu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rt. 22. Os valores arrecadados com a cobrança pelo uso de recursos hídricos serão aplica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ment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a bacia hidrográfica em que foram gerados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e serão utiliz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 - no financiamento de estudos, programas, projetos e obras incluídos nos Planos de Recursos Hídric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I - no pagamento de despesas de implantação e custeio administrativo dos órgãos e entidades integrantes do Sistema Nacional de Gerenciamento de Recursos Hídr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1º A aplicação nas despesas previstas no inciso II deste artigo é limitada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te e meio por cento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o total arreca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2º Os valores previstos n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aput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este artigo poderão ser aplicados a fundo perdido em projetos e obras que alterem, de modo considerado benéfico à coletividade, a qualidade, a quantidade e o regime de vazão de um corpo de águ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49680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2º. Serão cobrados os usos de recursos hídricos </a:t>
            </a:r>
            <a:r>
              <a:rPr b="1" lang="pt-BR" sz="2800" spc="-1" strike="noStrike" u="sng">
                <a:solidFill>
                  <a:srgbClr val="00ffcc"/>
                </a:solidFill>
                <a:uFillTx/>
                <a:latin typeface="Times New Roman"/>
              </a:rPr>
              <a:t>sujeitos à outorg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conforme previsão no art. 20 da Lei nº 9.433,  de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3º. A cobrança pelo uso dos recursos hídricos será efetuada por meio de ato da autoridade outorgante competente e estará condicionada à existência de comitê na bacia hidrográfic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flipH="1">
            <a:off x="3851280" y="573264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ffcc"/>
                </a:solidFill>
                <a:latin typeface="Times New Roman"/>
              </a:rPr>
              <a:t>Disposições Gera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rt. 4º. As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autoridades outorgante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everão elaborar estudos técnicos para subsidiar a definição, pelos respectivos Conselhos, dos valores a serem cobrados pelo uso de recursos hídricos, com base nos mecanismos e quantitativos sugeridos pelo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comitê de bacia hidrográfica, conforme inciso VI, do art. 38,  da Lei nº 9.433, de 1997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476280"/>
            <a:ext cx="82803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OBJETIVOS DA COB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5º 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A cobrança objetiv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reconhecer a água com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bem fini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otado de valor econômico e dar ao usuário uma    indicação de seu real valo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centivar 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liz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nserv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per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os recursos hídricos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stimular a utilização de tecnologias limpa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que demandem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menor volume de águ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obte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rsos financeir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ara o financiamento de estudos, programas e projetos e a execução de intervenções contempladas nos Plan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duzir a adequada localização dos usuários nas bacias hidrográficas, buscando a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proteção e conservação dos recursos hídric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e acordo com 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nquadramento de  corpos de águas em classes de usos preponderante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distribuir cust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e forma eqüitativa entre os setores usuários e os usuári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ossibilita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mpensações e incen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8:26:32Z</dcterms:created>
  <dc:creator>xxxx</dc:creator>
  <dc:description/>
  <dc:language>en-US</dc:language>
  <cp:lastModifiedBy>Celia Cristina Moura Pimenta</cp:lastModifiedBy>
  <dcterms:modified xsi:type="dcterms:W3CDTF">2002-08-20T00:18:11Z</dcterms:modified>
  <cp:revision>84</cp:revision>
  <dc:subject/>
  <dc:title>Planos de Recursos Hídricos </dc:title>
</cp:coreProperties>
</file>