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4A0-F381-4F3D-84A3-A3F63094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F9C-8864-4A85-A6C8-56B1461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50C-122E-477D-A472-1D733F1D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6A6-98C0-4123-9795-5EE194D3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DBF-EDB2-4F2D-8FBA-5D6B2B1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244-4D6F-4239-93FA-81B625E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659-8062-4197-9BD7-B76CC99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2AA-412A-4536-AF77-358CA8D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FDE-9328-4138-8B66-B3827FC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3E4-5D1E-438B-9B61-32AFD45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BAD-1927-403A-9F9A-C8FF9EA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E78-2B0D-4870-A7F3-C83C1E0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6EB-86F0-4548-8ED5-31173544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14360" y="87480"/>
            <a:ext cx="834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FEDERAÇÃO DAS INDÚSTRIAS DO ESTADO DE SÃO PAULO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CENTRO DAS INDÚSTRIAS DO ESTADO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9080" y="19080"/>
          <a:ext cx="1143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19080"/>
                    <a:ext cx="1143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5328" dir="12393904" blurRad="0" rotWithShape="0">
                      <a:srgbClr val="006666"/>
                    </a:outerShdw>
                  </a:effectLst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COBRANÇA PELO 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USO DA ÁGUA :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A VISÃO DO USUÁRIO INDUSTRIAL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143000"/>
            <a:ext cx="929664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limites superiores de R$ 0,01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s valores a  serem  cobrados para captação e consumo e de R$ 0,02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 lançamento de efluentes, desde que o usuário esteja atendendo os padrões de emissão da classe em que estiver enquadrado o 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prazo de um ano para o desenvolvimento de estudos sobre os impactos da cobrança nas cadeias produtivas, para posterior reavaliação dos valores de cobrança estabel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1077840"/>
          <a:ext cx="838188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77840"/>
                    <a:ext cx="838188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14600" y="6019920"/>
            <a:ext cx="68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Regiões Hidrográficas do Brasil, ANA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143000"/>
            <a:ext cx="73152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2332080"/>
          <a:ext cx="91458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32080"/>
                    <a:ext cx="9145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523880" y="1143000"/>
            <a:ext cx="6769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ESTADO DE SÃO PA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617220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DAEE/ PERH 2000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295280"/>
            <a:ext cx="8839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ntidade de água, o setor industrial não é o maior consumidor de águas no país e nem mesmo no Estado de São Paul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carga orgânica remanescente total do Estado é estimada em 1,6 milhões de Kg DBO5, sendo que 1,2 milhões (77%) é de origem urbana e apenas 394 mil (23%) de origem industria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lidade de águas , o setor industrial não é o maior poluidor. Em São Paulo o setor apresenta índices de tratamento de 95%, enquanto o principal poluidor é o setor público, com índices de tratamento de somente 5%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3880"/>
            <a:ext cx="8915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TA EMBASAMENTO TÉCNICO PARA O ESTABELECIMENTO DE VALORES PARA A COBRANÇA PELO USO DA ÁGU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EXISTEM ESTUDOS CONSUBSTANCIADOS SOBRE OS IMPACTOS DA COBRANÇA CONSIDERANDO AS CADEIAS PRODUTIVA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68560"/>
            <a:ext cx="891540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EFICÁCIA DA COBRANÇA PARA MUDANÇA DE PADRÕES DE CONSUMO PARA O SETOR DE SANEAMENTO É QUESTIONÁVEL, POIS AS CONCESSIONÁRIAS PODERÃO REPASSAR SEUS CUSTOS INTEGRALMENTE PARA AS TARIF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ETOR PRODUTIVO TEM LIMITAÇÕES DE REPASSE POR EXISTIR UM MERCADO ABERTO E COMPETITIVO, ENQUANTO O SANEAMENTO É  UM MONOPÓLIO ESTA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ARRECADAÇÃO DE RECURSOS FINANCEIR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ICILMENTE OS RECURSOS SERÃO APLICADOS PARA O SETOR PRODUTIVO, DEVENDO SEREM INTEGRALMENTE APLICADOS PARA SISTEMAS DE SANEAMENTO PÚBLIC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ANTO O SETOR PRODUTIVO ESTARÁ FINANCIANDO UM SISTEMA DUPLAMENTE PERDULÁRIO, EM TERMOS ECONÔMICOS E FÍS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S SISTEMAS PÚBLICOS DE SANEAMENTO SÃO DUPLAMENTE PERDULÁRI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ÔMICOS : PERDAS  DE FATURAMENTO  MÉDIO DE 39,4 (SNIS/2000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ÍSICOS : PERDAS FÍSICAS POR FALTA DE MANUTENÇÃO, MEDIÇÃO, E DE POLÍTICAS DE REUSO DE ÁGUA PARA FINALIDADES QUE NÃO EXIGEM ÁGUA COM QUALIDADE SUPERIOR, INCLUSIVE PARA O ABASTECIMENTO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143000"/>
            <a:ext cx="89154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dos os usuários sujeitos à outorga estarem devidamente regulariz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istência do Plano da Bacia para identificar o montante de recursos necessá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belecimento pelo Comitê de Bacia do montante de recursos a ser financiado pela cobrança ( 20%, 30%, etc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duto da cobrança vinculado à bacia em que for arrecadad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7:57:15Z</dcterms:created>
  <dc:creator>-ANICIA PIO</dc:creator>
  <dc:description/>
  <dc:language>en-US</dc:language>
  <cp:lastModifiedBy>FIESP</cp:lastModifiedBy>
  <cp:lastPrinted>2002-08-19T13:38:59Z</cp:lastPrinted>
  <dcterms:modified xsi:type="dcterms:W3CDTF">2002-08-19T14:17:09Z</dcterms:modified>
  <cp:revision>252</cp:revision>
  <dc:subject/>
  <dc:title>VALOR ECONOMICO</dc:title>
</cp:coreProperties>
</file>