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gif" ContentType="image/gi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E8F9-C230-4C4E-A24E-436A4EDD6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28AF-ADED-4C4E-801C-CDE522FA8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577A-5FE1-4004-8605-53175D8EC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EB80-A79F-4E75-99C7-1ADF3FA99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667790-CBB9-4BFB-8FF3-C48216B60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68EAED-82A6-4ED3-933F-39332B8D9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D17817-54FA-41B6-8ACC-3E003C47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F33012-5884-4927-B4E8-A47B60BEA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1E176D-2B32-419F-93BF-56DD4B959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BFE594-64E9-4893-B68C-6581BE621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33CC55-9810-4269-AD40-9305AF1C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42A5-D193-438E-B15F-36D0C175A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245DFF-75D9-4996-BD46-B04D9ACF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5C54BD-00E2-427B-B65F-1D14EAB6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F9BE32-02BF-40BC-A965-85DC25C94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BD3C99-07FE-43EE-A1E9-4DECB3DB5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B2B610-B19E-4520-8442-03017F57C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29B1CA-3032-46A0-8E70-50DD644AA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1AE99C-8C9D-43F5-91D4-85EBD9A8D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C031BA-FEFF-448E-A40A-AFA6F5D27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C7B2D7-5783-4B77-840E-1AB3305D3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950E88-B7AD-4527-94BC-55C690AB2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E8BB-E511-4B60-88EB-E83C7E3FD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419459-165C-4270-9F41-B5E08921E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C91C48-DBC1-47A6-9AC7-6D5A6657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AFAEBF-D498-4F00-A102-100332AD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6618C9-CE55-41A4-BBD1-C4FC33B9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CF2321-1352-49B9-A3DA-FBF4EAAD5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283874-DFD0-4453-AE43-683DB69A0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AF2DB9-6D97-4C3F-8F62-1AB9966FA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5DAD1-611B-4ED7-899D-4CAD6FE21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13BF7-63A1-4142-B13E-6BCC9E823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51631-7C5B-4DEA-8E12-EC614C439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3551-CD23-4E10-9D68-E29181955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61CC0-B342-43B0-9D04-EB0A7EC96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BD13F-C8BC-47AF-AD6F-43EBB312C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D404F-961A-470E-9DAA-A5F4EFB79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8D241-29BB-45FA-82C7-01E913ED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8D625-1F97-4DE5-8721-758BDF97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EC40F-CB62-415E-9748-07A4FB10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C4068-C2CE-454C-821C-73A03CFF0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BA529-E81C-4F67-AFDF-D34C07D70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5E8F0-E83D-4E7E-96F0-889ABC58B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ECF0-67D6-47ED-8333-3FE751565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EA13-E44E-444A-A5BC-AC7D76D6A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2A04-1833-448C-A91C-D8CB7DD2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58DD-8D86-4572-BF6B-4884AA4C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8FC3-83C8-4D01-9D3F-F9D7ED5E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EF780-4C81-483F-9B84-23061D828A2E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EE9F9-18AD-45FB-923E-07BCCE5EA3CB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FE9F7-2FA3-435D-9B63-F462BE40C182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4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7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6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136B9-1188-4C64-8A3B-390CBEB83CFC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80880" y="2590920"/>
            <a:ext cx="8305920" cy="48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700" spc="-1" strike="noStrike">
                <a:solidFill>
                  <a:srgbClr val="ffff00"/>
                </a:solidFill>
                <a:latin typeface="Book Antiqua"/>
              </a:rPr>
              <a:t>Conselho Nacional de Recursos Hídricos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700" spc="-1" strike="noStrike">
                <a:solidFill>
                  <a:srgbClr val="ffff00"/>
                </a:solidFill>
                <a:latin typeface="Book Antiqua"/>
              </a:rPr>
              <a:t>Reunião da Câmara Técnica de Outorga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Book Antiqua"/>
              </a:rPr>
              <a:t>A COBRANÇA PELO USO DOS RECURSOS HÍDR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Book Antiqua"/>
              </a:rPr>
              <a:t>Francisco Lopes Vian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Book Antiqua"/>
              </a:rPr>
              <a:t>Superintendente de Outorga e Cobranç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Book Antiqua"/>
              </a:rPr>
              <a:t>Brasília (DF),  20 de agosto de 200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564000" y="716040"/>
            <a:ext cx="252072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468360" y="549360"/>
            <a:ext cx="7991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76480" indent="-82872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DOS MECANISMOS PARA A DEFINIÇÃO DOS VAL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176480" indent="-82872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176480" indent="-82872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Art. 6</a:t>
            </a:r>
            <a:r>
              <a:rPr b="1" lang="pt-BR" sz="2400" spc="-1" strike="noStrike">
                <a:solidFill>
                  <a:srgbClr val="00ffcc"/>
                </a:solidFill>
                <a:latin typeface="Symbol"/>
                <a:ea typeface="Symbol"/>
              </a:rPr>
              <a:t></a:t>
            </a: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. Para a fixação dos valores a serem cobrados pelo uso dos recursos hídricos deverão ser levados em consideração, dentre outr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176480" indent="-828720" algn="just">
              <a:buClr>
                <a:srgbClr val="ffffff"/>
              </a:buClr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a natureza do corpo d'água - superficial e subterrâneo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176480" indent="-828720" algn="just">
              <a:buClr>
                <a:srgbClr val="ffffff"/>
              </a:buClr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a classe de uso preponderante em que estiver enquadrado o corpo d'água nos locais de captação e lançamento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176480" indent="-828720" algn="just">
              <a:buClr>
                <a:srgbClr val="ffffff"/>
              </a:buClr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a disponibilidade hídrica nos locais de captação e lançamento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176480" indent="-828720" algn="just">
              <a:buClr>
                <a:srgbClr val="ffffff"/>
              </a:buClr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o volume captado, extraído ou derivado e seu regime de variação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55640" y="112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ffcc"/>
                </a:solidFill>
                <a:latin typeface="Times New Roman"/>
              </a:rPr>
              <a:t>Art. 6</a:t>
            </a:r>
            <a:r>
              <a:rPr b="1" lang="pt-BR" sz="2800" spc="-1" strike="noStrike">
                <a:solidFill>
                  <a:srgbClr val="00ffcc"/>
                </a:solidFill>
                <a:latin typeface="Symbol"/>
                <a:ea typeface="Symbol"/>
              </a:rPr>
              <a:t></a:t>
            </a:r>
            <a:r>
              <a:rPr b="1" lang="pt-BR" sz="2800" spc="-1" strike="noStrike">
                <a:solidFill>
                  <a:srgbClr val="00ffcc"/>
                </a:solidFill>
                <a:latin typeface="Times New Roman"/>
              </a:rPr>
              <a:t>. Para a fixação dos valores a serem cobrados pelo uso dos recursos hídricos deverão ser levados em consideração, dentre outros:</a:t>
            </a:r>
            <a:br>
              <a:rPr sz="2800"/>
            </a:br>
            <a:r>
              <a:rPr b="1" lang="pt-BR" sz="2800" spc="-1" strike="noStrike">
                <a:solidFill>
                  <a:srgbClr val="ffff00"/>
                </a:solidFill>
                <a:latin typeface="Times New Roman"/>
              </a:rPr>
              <a:t>(continuação)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26920" y="2492280"/>
            <a:ext cx="7634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79560" indent="-979560">
              <a:buClr>
                <a:srgbClr val="ffffff"/>
              </a:buClr>
              <a:buFont typeface="Times New Roman"/>
              <a:buAutoNum type="romanU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o volume consumido – diferença entre o volume captado e o devolvido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979560" indent="-979560">
              <a:buClr>
                <a:srgbClr val="ffffff"/>
              </a:buClr>
              <a:buFont typeface="Times New Roman"/>
              <a:buAutoNum type="romanU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a finalidade a que se destinam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979560" indent="-979560">
              <a:buClr>
                <a:srgbClr val="ffffff"/>
              </a:buClr>
              <a:buFont typeface="Times New Roman"/>
              <a:buAutoNum type="romanU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a sazonalidad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979560" indent="-979560">
              <a:buClr>
                <a:srgbClr val="ffffff"/>
              </a:buClr>
              <a:buFont typeface="Times New Roman"/>
              <a:buAutoNum type="romanU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as características e a vulnerabilidade dos aqüífero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55640" y="112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Art. 6</a:t>
            </a:r>
            <a:r>
              <a:rPr b="1" lang="pt-BR" sz="2400" spc="-1" strike="noStrike">
                <a:solidFill>
                  <a:srgbClr val="00ffcc"/>
                </a:solidFill>
                <a:latin typeface="Symbol"/>
                <a:ea typeface="Symbol"/>
              </a:rPr>
              <a:t></a:t>
            </a: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. Para a fixação dos valores a serem cobrados pelo uso dos recursos hídricos deverão ser levados em consideração, dentre outros:</a:t>
            </a:r>
            <a:br>
              <a:rPr sz="2400"/>
            </a:b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(continuação)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26920" y="2205000"/>
            <a:ext cx="777744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79560" indent="-979560" algn="just">
              <a:buClr>
                <a:srgbClr val="ffffff"/>
              </a:buClr>
              <a:buFont typeface="Times New Roman"/>
              <a:buAutoNum type="romanUcPeriod" startAt="9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Times New Roman"/>
              </a:rPr>
              <a:t>as características físico-químicas e biológicas do corpo de água nos locais de captação de água e de lançamento de efluentes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979560" indent="-979560" algn="just">
              <a:buClr>
                <a:srgbClr val="ffffff"/>
              </a:buClr>
              <a:buFont typeface="Times New Roman"/>
              <a:buAutoNum type="romanUcPeriod" startAt="9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Times New Roman"/>
              </a:rPr>
              <a:t>a localização do usuário na bacia e com relação ao corpo de água receptor; 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979560" indent="-979560" algn="just">
              <a:buClr>
                <a:srgbClr val="ffffff"/>
              </a:buClr>
              <a:buFont typeface="Times New Roman"/>
              <a:buAutoNum type="romanUcPeriod" startAt="9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Times New Roman"/>
              </a:rPr>
              <a:t>a carga lançada e seu regime de variação, ponderando-se os parâmetros biológicos, físico-químicos e de toxicidade dos efluente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468360" y="907920"/>
            <a:ext cx="8136000" cy="48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DOS MECANISMOS PARA A DEFINIÇÃO DOS VAL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Times New Roman"/>
              </a:rPr>
              <a:t>§ 1º  O valores a serem cobrados, de que trata este artigo, serão fixados considerando  os volumes captado, extraído, derivado, consumido, e as cargas orgânicas e inorgânicas dos efluentes lançados nos corpos d'águ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Times New Roman"/>
              </a:rPr>
              <a:t>§ 2º Os Comitês de Bacia poderão propor diferenciação dos valores a serem cobrados, em função de critérios e parâmetros que abranjam a qualidade e a disponibilidade de recursos hídricos, de acordo com as peculiaridades das respectivas unidades hidrográfica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971640" y="692280"/>
            <a:ext cx="7343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Art 7º. Quando da ocorrência de 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eventos críticos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deverão ser adotadas 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medidas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e 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ações transitórias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que influenciarão a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 fixação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dos valores a serem cobrad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Art 8º. Deverão ser adotados 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mecanismos de compensação e incentivos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para a melhoria da 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disponibilidade e da qualidade, proteção, conservação e recuperação dos recursos hídricos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Art 9º. Caberá interposição de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 recurso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ao respectivo 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Conselho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sobre a proposta  apresentada pelo respectivo 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Comitê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, para efeito de cobrança pelo uso de recurso hídrico na respectiva bacia hidrográfic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539640" y="260280"/>
            <a:ext cx="8136000" cy="57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DO PAGAMENTO PELO USO DE RECURSOS HÍDR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ffffff"/>
                </a:solidFill>
                <a:latin typeface="Times New Roman"/>
              </a:rPr>
              <a:t>Art 10.  Estão </a:t>
            </a:r>
            <a:r>
              <a:rPr b="1" lang="pt-BR" sz="2300" spc="-1" strike="noStrike">
                <a:solidFill>
                  <a:srgbClr val="ffff00"/>
                </a:solidFill>
                <a:latin typeface="Times New Roman"/>
              </a:rPr>
              <a:t>ISENTOS</a:t>
            </a:r>
            <a:r>
              <a:rPr b="1" lang="pt-BR" sz="2300" spc="-1" strike="noStrike">
                <a:solidFill>
                  <a:srgbClr val="ffffff"/>
                </a:solidFill>
                <a:latin typeface="Times New Roman"/>
              </a:rPr>
              <a:t> de pagamento </a:t>
            </a:r>
            <a:r>
              <a:rPr b="1" lang="pt-BR" sz="2300" spc="-1" strike="noStrike">
                <a:solidFill>
                  <a:srgbClr val="ffff00"/>
                </a:solidFill>
                <a:latin typeface="Times New Roman"/>
              </a:rPr>
              <a:t>OS SEGUINTES USOS</a:t>
            </a:r>
            <a:r>
              <a:rPr b="1" lang="pt-BR" sz="23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ffffff"/>
                </a:solidFill>
                <a:latin typeface="Times New Roman"/>
              </a:rPr>
              <a:t>a) o </a:t>
            </a:r>
            <a:r>
              <a:rPr b="1" lang="pt-BR" sz="2300" spc="-1" strike="noStrike">
                <a:solidFill>
                  <a:srgbClr val="ffff00"/>
                </a:solidFill>
                <a:latin typeface="Times New Roman"/>
              </a:rPr>
              <a:t>uso </a:t>
            </a:r>
            <a:r>
              <a:rPr b="1" lang="pt-BR" sz="2300" spc="-1" strike="noStrike">
                <a:solidFill>
                  <a:srgbClr val="ffffff"/>
                </a:solidFill>
                <a:latin typeface="Times New Roman"/>
              </a:rPr>
              <a:t>de recursos hídricos destinados à satisfação das necessidades  de </a:t>
            </a:r>
            <a:r>
              <a:rPr b="1" lang="pt-BR" sz="2300" spc="-1" strike="noStrike" u="sng">
                <a:solidFill>
                  <a:srgbClr val="ffff00"/>
                </a:solidFill>
                <a:uFillTx/>
                <a:latin typeface="Times New Roman"/>
              </a:rPr>
              <a:t>pequenos núcleos populacionais distribuídos no meio rural</a:t>
            </a:r>
            <a:r>
              <a:rPr b="1" lang="pt-BR" sz="2300" spc="-1" strike="noStrike">
                <a:solidFill>
                  <a:srgbClr val="ffffff"/>
                </a:solidFill>
                <a:latin typeface="Times New Roman"/>
              </a:rPr>
              <a:t>;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ffffff"/>
                </a:solidFill>
                <a:latin typeface="Times New Roman"/>
              </a:rPr>
              <a:t>b) as </a:t>
            </a:r>
            <a:r>
              <a:rPr b="1" lang="pt-BR" sz="2300" spc="-1" strike="noStrike">
                <a:solidFill>
                  <a:srgbClr val="ffff00"/>
                </a:solidFill>
                <a:latin typeface="Times New Roman"/>
              </a:rPr>
              <a:t>derivações</a:t>
            </a:r>
            <a:r>
              <a:rPr b="1" lang="pt-BR" sz="23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pt-BR" sz="2300" spc="-1" strike="noStrike">
                <a:solidFill>
                  <a:srgbClr val="ffff00"/>
                </a:solidFill>
                <a:latin typeface="Times New Roman"/>
              </a:rPr>
              <a:t>captações</a:t>
            </a:r>
            <a:r>
              <a:rPr b="1" lang="pt-BR" sz="23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pt-BR" sz="2300" spc="-1" strike="noStrike">
                <a:solidFill>
                  <a:srgbClr val="ffff00"/>
                </a:solidFill>
                <a:latin typeface="Times New Roman"/>
              </a:rPr>
              <a:t>extrações</a:t>
            </a:r>
            <a:r>
              <a:rPr b="1" lang="pt-BR" sz="2300" spc="-1" strike="noStrike">
                <a:solidFill>
                  <a:srgbClr val="ffffff"/>
                </a:solidFill>
                <a:latin typeface="Times New Roman"/>
              </a:rPr>
              <a:t> e </a:t>
            </a:r>
            <a:r>
              <a:rPr b="1" lang="pt-BR" sz="2300" spc="-1" strike="noStrike">
                <a:solidFill>
                  <a:srgbClr val="ffff00"/>
                </a:solidFill>
                <a:latin typeface="Times New Roman"/>
              </a:rPr>
              <a:t>lançamentos  considerados insignificantes</a:t>
            </a:r>
            <a:r>
              <a:rPr b="1" lang="pt-BR" sz="2300" spc="-1" strike="noStrike">
                <a:solidFill>
                  <a:srgbClr val="ffffff"/>
                </a:solidFill>
                <a:latin typeface="Times New Roman"/>
              </a:rPr>
              <a:t>, tanto do ponto de vista de volume, quanto de carga poluidora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ffffff"/>
                </a:solidFill>
                <a:latin typeface="Times New Roman"/>
              </a:rPr>
              <a:t>c) as acumulações de águas com volumes considerados </a:t>
            </a:r>
            <a:r>
              <a:rPr b="1" lang="pt-BR" sz="2300" spc="-1" strike="noStrike">
                <a:solidFill>
                  <a:srgbClr val="ffff00"/>
                </a:solidFill>
                <a:latin typeface="Times New Roman"/>
              </a:rPr>
              <a:t>insignificantes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ffffff"/>
                </a:solidFill>
                <a:latin typeface="Times New Roman"/>
              </a:rPr>
              <a:t>Parágrafo único. A definição de </a:t>
            </a:r>
            <a:r>
              <a:rPr b="1" lang="pt-BR" sz="2300" spc="-1" strike="noStrike">
                <a:solidFill>
                  <a:srgbClr val="ffff00"/>
                </a:solidFill>
                <a:latin typeface="Times New Roman"/>
              </a:rPr>
              <a:t>uso insignificante</a:t>
            </a:r>
            <a:r>
              <a:rPr b="1" lang="pt-BR" sz="2300" spc="-1" strike="noStrike">
                <a:solidFill>
                  <a:srgbClr val="ffffff"/>
                </a:solidFill>
                <a:latin typeface="Times New Roman"/>
              </a:rPr>
              <a:t> será </a:t>
            </a:r>
            <a:r>
              <a:rPr b="1" lang="pt-BR" sz="2300" spc="-1" strike="noStrike">
                <a:solidFill>
                  <a:srgbClr val="ffff00"/>
                </a:solidFill>
                <a:latin typeface="Times New Roman"/>
              </a:rPr>
              <a:t>proposta </a:t>
            </a:r>
            <a:r>
              <a:rPr b="1" lang="pt-BR" sz="2300" spc="-1" strike="noStrike">
                <a:solidFill>
                  <a:srgbClr val="ffffff"/>
                </a:solidFill>
                <a:latin typeface="Times New Roman"/>
              </a:rPr>
              <a:t>pelo </a:t>
            </a:r>
            <a:r>
              <a:rPr b="1" lang="pt-BR" sz="2300" spc="-1" strike="noStrike">
                <a:solidFill>
                  <a:srgbClr val="ffff00"/>
                </a:solidFill>
                <a:latin typeface="Times New Roman"/>
              </a:rPr>
              <a:t>Comitê de Bacia Hidrográfico</a:t>
            </a:r>
            <a:r>
              <a:rPr b="1" lang="pt-BR" sz="2300" spc="-1" strike="noStrike">
                <a:solidFill>
                  <a:srgbClr val="ffffff"/>
                </a:solidFill>
                <a:latin typeface="Times New Roman"/>
              </a:rPr>
              <a:t> respectivo e </a:t>
            </a:r>
            <a:r>
              <a:rPr b="1" lang="pt-BR" sz="2300" spc="-1" strike="noStrike">
                <a:solidFill>
                  <a:srgbClr val="ffff00"/>
                </a:solidFill>
                <a:latin typeface="Times New Roman"/>
              </a:rPr>
              <a:t>aprovado </a:t>
            </a:r>
            <a:r>
              <a:rPr b="1" lang="pt-BR" sz="2300" spc="-1" strike="noStrike">
                <a:solidFill>
                  <a:srgbClr val="ffffff"/>
                </a:solidFill>
                <a:latin typeface="Times New Roman"/>
              </a:rPr>
              <a:t>pelo respectivo </a:t>
            </a:r>
            <a:r>
              <a:rPr b="1" lang="pt-BR" sz="2300" spc="-1" strike="noStrike">
                <a:solidFill>
                  <a:srgbClr val="ffff00"/>
                </a:solidFill>
                <a:latin typeface="Times New Roman"/>
              </a:rPr>
              <a:t>Conselho de Recursos Hídricos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863640" y="692280"/>
            <a:ext cx="828036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Times New Roman"/>
              </a:rPr>
              <a:t>DO PAGAMENTO PELO USO DE RECURSOS HÍDRICO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Times New Roman"/>
              </a:rPr>
              <a:t>Art 11.  O percentual de setenta e cinco centésimos por cento  do valor da energia produzida relativos à compensação financeira constitui pagamento pelo uso de recursos hídricos por parte das respectivas concessionárias e autorizadas de geração elétric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Times New Roman"/>
              </a:rPr>
              <a:t>Art 12.  O não pagamento dos valores estabelecidos pela cobrança até a data do vencimento, sem prejuízo das sanções administrativas ou judiciais cabíveis, sujeitará à suspensão ou perda do direito de uso, a critério e na forma definida pela autoridade outorgante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Times New Roman"/>
              </a:rPr>
              <a:t>Parágrafo único. A suspensão de que trata este artigo será efetuada pela respectiva autoridade outorgante no exercício de seu poder de políci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900000" y="620640"/>
            <a:ext cx="7777440" cy="55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DO PAGAMENTO PELO USO DE RECURSOS HÍDR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Times New Roman"/>
              </a:rPr>
              <a:t>Art. 13. Serão cobradas, sem prejuízo das sanções administrativas ou judiciais cabíveis, as diferenças detectadas a maior, entre os valores declarado pelo outorgado e os identificados pela autoridade competente, relativas aos volumes e respectivos regimes de variação, bem como às características físico-químicas e biológicas dos efluente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Times New Roman"/>
              </a:rPr>
              <a:t>Art. 14. Quando o volume outorgado de direito de utilização pelo usuário, for superior ao efetivamente usado pelo mesmo, a diferença entre os dois valores será cobrad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Times New Roman"/>
              </a:rPr>
              <a:t>Parágrafo Único. O valor unitário a ser cobrado pelo volume não usado deverá ser igual ao valor unitário da parcela efetivamente utilizada.</a:t>
            </a:r>
            <a:r>
              <a:rPr b="0" lang="pt-BR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826920" y="62064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DA APLICAÇÃO DOS RECURS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Art. 15. Os recursos financeiros auferidos em razão da cobrança pelo uso de recursos hídricos serão aplicados em conformidade com os planos de recursos hídricos das bacias hidrográfica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Art. 16. As prioridades para a aplicação dos recursos oriundos da cobrança pelo uso de recursos hídricos a que se refere o § 4º do art. 21 da Lei nº 9.984, de 2000, serão estabelecidas mediante a observância  do disposto neste artig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§ 1º. O produto da cobrança estará vinculado às bacias hidrográficas em que for arrecadado, e será aplicado no financiamento de estudos, programas, projetos e obras incluídos nos Planos de Recursos Hídric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§ 2º. Desde que seja benéfico para a bacia sob sua jurisdição, o Comitê poderá decidir pela aplicação em outra bacia de parte do montante do recurso  arrecadad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§ 3º. Os recursos financeiros provenientes da cobrança poderão também ser utilizados para o financiamento aos usuários da bacia e aos órgãos e entidades componentes do Sistema Nacional de Gerenciamento de Recursos Hídricos, por definição do Comitê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755640" y="836640"/>
            <a:ext cx="7416720" cy="53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DA APLICAÇÃO DOS RECURS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Art. 17. Os recursos oriundos da cobrança pelo uso de recursos hídricos somente poderão ser aplicados a fundo perdidos em projetos e obras que alterem, de modo considerado benéfico à coletividade, </a:t>
            </a:r>
            <a:r>
              <a:rPr b="1" lang="pt-BR" sz="2000" spc="-1" strike="noStrike">
                <a:solidFill>
                  <a:srgbClr val="00ffcc"/>
                </a:solidFill>
                <a:latin typeface="Times New Roman"/>
              </a:rPr>
              <a:t>a quantidade, a qualidade, o regime de vazão de um corpo d´água, mediante observação dos critérios estabelecidos  pela autoridade outorgante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, ouvidos os respectivos  Comitês, conforme  previsto no § 2º do art. 22, da Lei 9.433, de 1997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Art. 18.</a:t>
            </a:r>
            <a:r>
              <a:rPr b="1" lang="pt-BR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Caberá à</a:t>
            </a:r>
            <a:r>
              <a:rPr b="1" lang="pt-BR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autoridade outorgante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,  ouvidos os respectivos comitês de bacias,  o estabelecimento  de critérios para uso dos recursos adicionais cobrados por ocasião da vigência do regime de</a:t>
            </a:r>
            <a:r>
              <a:rPr b="1" lang="pt-BR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racionamento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, para</a:t>
            </a:r>
            <a:r>
              <a:rPr b="1" lang="pt-BR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compensar</a:t>
            </a:r>
            <a:r>
              <a:rPr b="1" lang="pt-BR" sz="2000" spc="-1" strike="noStrike">
                <a:solidFill>
                  <a:srgbClr val="ffff00"/>
                </a:solidFill>
                <a:latin typeface="Times New Roman"/>
              </a:rPr>
              <a:t> financeiramente 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os usuários que venham a ser racionad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914400" y="3078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e3e3ff"/>
                </a:solidFill>
                <a:latin typeface="Times New Roman"/>
              </a:rPr>
              <a:t>PROPOSTA DE RESOLUÇÃO</a:t>
            </a:r>
            <a:br>
              <a:rPr sz="2400"/>
            </a:br>
            <a:r>
              <a:rPr b="1" i="1" lang="pt-BR" sz="2400" spc="-1" strike="noStrike">
                <a:solidFill>
                  <a:srgbClr val="e3e3ff"/>
                </a:solidFill>
                <a:latin typeface="Times New Roman"/>
              </a:rPr>
              <a:t> Versão nº 01 – 20/08/20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" y="1197000"/>
            <a:ext cx="8362800" cy="54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371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719280" indent="-371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CONSELHO NACIONAL DE RECURSOS HÍDR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19280" indent="-371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1928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Proposta de Resolução para o Estabelecimento  de Critérios Gerais para a Cobrança pelo Uso dos Recursos Hídr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1928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1928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19280" indent="-371520"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DISPOSIÇÕES GERA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719280" indent="-371520"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DOS OBJETIVOS DA COBRANÇ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719280" indent="-371520"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DOS MECANISMOS PARA DEFINIÇÃO DOS VALO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719280" indent="-371520"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DO PAGAMENTO PELO USO DOS RECURSOS HÍDRIC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719280" indent="-371520"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DA APLICAÇÃO DOS RECURS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71928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719280" indent="-371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719280" indent="-371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1928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4360" y="981000"/>
            <a:ext cx="770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Times New Roman"/>
              </a:rPr>
              <a:t>Art. 19. Os recursos oriundos da cobrança somente poderão financiar os usuários que não estiverem inadimplentes com as exigências estabelecidas no ato de outorga ou com os valores  decorrentes da aplicação de multas e ou de outras sanções previstas nos arts. 49 e 50 da Lei 9.433, de 1997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Times New Roman"/>
              </a:rPr>
              <a:t>Art. 20. A aplicação de recursos auferidos pela cobrança de uso de recurso hídrico estará sujeita à fiscalização por órgão ou entidade competente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Times New Roman"/>
              </a:rPr>
              <a:t>Art. 21. Esta Resolução entra em vigor na data de sua publicação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967040" y="2249640"/>
            <a:ext cx="4897440" cy="252072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666240" y="4648320"/>
            <a:ext cx="165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Times New Roman"/>
              </a:rPr>
              <a:t>Outor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rot="18795600">
            <a:off x="2143440" y="2944440"/>
            <a:ext cx="190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Times New Roman"/>
              </a:rPr>
              <a:t>Cobranç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rot="2772000">
            <a:off x="4471560" y="3096000"/>
            <a:ext cx="265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Times New Roman"/>
              </a:rPr>
              <a:t>Fiscalizaçã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370320" y="3138480"/>
            <a:ext cx="216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Times New Roman"/>
              </a:rPr>
              <a:t>USUÁRI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Times New Roman"/>
              </a:rPr>
              <a:t>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Times New Roman"/>
              </a:rPr>
              <a:t>ÁGU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9640" y="333360"/>
            <a:ext cx="758664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6000" spc="-1" strike="noStrike">
                <a:solidFill>
                  <a:srgbClr val="00007d"/>
                </a:solidFill>
                <a:latin typeface="Times New Roman"/>
              </a:rPr>
              <a:t>Visão do público hoj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3333600" y="5137200"/>
            <a:ext cx="2705400" cy="1720800"/>
            <a:chOff x="3333600" y="5137200"/>
            <a:chExt cx="2705400" cy="1720800"/>
          </a:xfrm>
        </p:grpSpPr>
        <p:pic>
          <p:nvPicPr>
            <p:cNvPr id="263" name="" descr=""/>
            <p:cNvPicPr/>
            <p:nvPr/>
          </p:nvPicPr>
          <p:blipFill>
            <a:blip r:embed="rId1"/>
            <a:stretch/>
          </p:blipFill>
          <p:spPr>
            <a:xfrm>
              <a:off x="3333600" y="5137200"/>
              <a:ext cx="1382760" cy="172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4840200" y="5661000"/>
              <a:ext cx="119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Cartóri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6470640" y="1601640"/>
            <a:ext cx="1700280" cy="19018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6635520" y="3405240"/>
            <a:ext cx="162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Repress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Mul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Embargo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395280" y="1738440"/>
            <a:ext cx="2089080" cy="181764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395280" y="3645000"/>
            <a:ext cx="1295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Cobrança = CPMF da águ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4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4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4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4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" dur="2000" fill="hold"/>
                                        <p:tgtEl>
                                          <p:spTgt spid="2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195640" y="2276640"/>
            <a:ext cx="4897440" cy="252072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59920" y="4659480"/>
            <a:ext cx="165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Times New Roman"/>
              </a:rPr>
              <a:t>Outor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18795600">
            <a:off x="2337120" y="2955240"/>
            <a:ext cx="190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Times New Roman"/>
              </a:rPr>
              <a:t>Cobranç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2772000">
            <a:off x="4965840" y="3144240"/>
            <a:ext cx="228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Times New Roman"/>
              </a:rPr>
              <a:t>Fiscalizaçã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564000" y="3149640"/>
            <a:ext cx="216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Times New Roman"/>
              </a:rPr>
              <a:t>USUÁRI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Times New Roman"/>
              </a:rPr>
              <a:t>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Times New Roman"/>
              </a:rPr>
              <a:t>ÁGU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39640" y="344520"/>
            <a:ext cx="860436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6000" spc="-1" strike="noStrike">
                <a:solidFill>
                  <a:srgbClr val="0000ff"/>
                </a:solidFill>
                <a:latin typeface="Arial"/>
              </a:rPr>
              <a:t>Visão desejada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271440" y="5145120"/>
            <a:ext cx="8872560" cy="1712880"/>
            <a:chOff x="271440" y="5145120"/>
            <a:chExt cx="8872560" cy="1712880"/>
          </a:xfrm>
        </p:grpSpPr>
        <p:sp>
          <p:nvSpPr>
            <p:cNvPr id="276" name=""/>
            <p:cNvSpPr/>
            <p:nvPr/>
          </p:nvSpPr>
          <p:spPr>
            <a:xfrm>
              <a:off x="2009880" y="5264280"/>
              <a:ext cx="5400720" cy="8254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Fundamentação técnico-científic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Exercício dos direitos de acesso à águ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7" name="" descr=""/>
            <p:cNvPicPr/>
            <p:nvPr/>
          </p:nvPicPr>
          <p:blipFill>
            <a:blip r:embed="rId1"/>
            <a:stretch/>
          </p:blipFill>
          <p:spPr>
            <a:xfrm>
              <a:off x="271440" y="5162760"/>
              <a:ext cx="1646280" cy="169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2"/>
            <a:stretch/>
          </p:blipFill>
          <p:spPr>
            <a:xfrm>
              <a:off x="7452000" y="5145120"/>
              <a:ext cx="1692000" cy="1649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9" name=""/>
          <p:cNvGrpSpPr/>
          <p:nvPr/>
        </p:nvGrpSpPr>
        <p:grpSpPr>
          <a:xfrm>
            <a:off x="76320" y="1224000"/>
            <a:ext cx="4165200" cy="3263760"/>
            <a:chOff x="76320" y="1224000"/>
            <a:chExt cx="4165200" cy="3263760"/>
          </a:xfrm>
        </p:grpSpPr>
        <p:sp>
          <p:nvSpPr>
            <p:cNvPr id="280" name=""/>
            <p:cNvSpPr/>
            <p:nvPr/>
          </p:nvSpPr>
          <p:spPr>
            <a:xfrm>
              <a:off x="1962720" y="1224000"/>
              <a:ext cx="2278800" cy="11912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Times New Roman"/>
                </a:rPr>
                <a:t>Financiament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Bem econômic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Uso raciona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81" name="" descr=""/>
            <p:cNvPicPr/>
            <p:nvPr/>
          </p:nvPicPr>
          <p:blipFill>
            <a:blip r:embed="rId3"/>
            <a:stretch/>
          </p:blipFill>
          <p:spPr>
            <a:xfrm>
              <a:off x="76320" y="2836800"/>
              <a:ext cx="1979640" cy="165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" descr=""/>
            <p:cNvPicPr/>
            <p:nvPr/>
          </p:nvPicPr>
          <p:blipFill>
            <a:blip r:embed="rId4"/>
            <a:stretch/>
          </p:blipFill>
          <p:spPr>
            <a:xfrm>
              <a:off x="135000" y="1274760"/>
              <a:ext cx="1704960" cy="155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3" name=""/>
          <p:cNvSpPr/>
          <p:nvPr/>
        </p:nvSpPr>
        <p:spPr>
          <a:xfrm>
            <a:off x="5130360" y="1268280"/>
            <a:ext cx="3868200" cy="11912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ducat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revent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articipativa/Descentraliz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692360" y="2166840"/>
            <a:ext cx="5616360" cy="35672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6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00"/>
                </a:solidFill>
                <a:latin typeface="Times New Roman"/>
              </a:rPr>
              <a:t>A cobrança visa preservar o uso dos recursos hídricos para as presentes e futuras gerações</a:t>
            </a:r>
            <a:r>
              <a:rPr b="0" lang="pt-BR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2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e3e3ff"/>
                </a:solidFill>
                <a:latin typeface="Times New Roman"/>
              </a:rPr>
              <a:t>PROPOSTA DE RESOLUÇÃO</a:t>
            </a:r>
            <a:br>
              <a:rPr sz="2800"/>
            </a:br>
            <a:r>
              <a:rPr b="1" i="1" lang="pt-BR" sz="2800" spc="-1" strike="noStrike">
                <a:solidFill>
                  <a:srgbClr val="e3e3ff"/>
                </a:solidFill>
                <a:latin typeface="Times New Roman"/>
              </a:rPr>
              <a:t> Versão nº 01 – 20.08.2002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" y="973080"/>
            <a:ext cx="868680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CONSELHO NACIONAL DE RECURSOS HÍDR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Proposta de Resolução para o Estabelecimento  de Critérios Gerais para a Cobrança pelo Uso dos Recursos Hídr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O Conselho Nacional de Recursos Hídricos, no uso das competências que lhe são conferidas pela </a:t>
            </a: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Lei nº 9.433, de 8 de janeiro de 1997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, com a redação dada pela </a:t>
            </a: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Lei nº 9.984, de 17 de julho de 2000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, regulamentada pelo </a:t>
            </a: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Decreto nº 2.612, de 3 de junho de 1998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, alterado pelo </a:t>
            </a: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Decreto nº 3.978, de 22 de outubro de 2001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, e tendo em vista o disposto no seu Regimento Interno, aprovado pela </a:t>
            </a: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Portaria MMA nº 407, de 23 de novembro de 1999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, alterado pela </a:t>
            </a: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Portaria nº 65, de 15 de fevereiro de 2002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, 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684360" y="495360"/>
            <a:ext cx="7848360" cy="61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DISPOSIÇÕES GERA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Times New Roman"/>
              </a:rPr>
              <a:t>Art. 1</a:t>
            </a:r>
            <a:r>
              <a:rPr b="1" lang="pt-BR" sz="22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1" lang="pt-BR" sz="2200" spc="-1" strike="noStrike">
                <a:solidFill>
                  <a:srgbClr val="ffffff"/>
                </a:solidFill>
                <a:latin typeface="Times New Roman"/>
              </a:rPr>
              <a:t>. Esta Resolução tem por objeto o estabelecimento de critérios gerais para a cobrança pelo uso dos recursos hídricos nas bacias hidrográficas, conforme previsão dos arts. </a:t>
            </a:r>
            <a:r>
              <a:rPr b="1" lang="pt-BR" sz="2200" spc="-1" strike="noStrike" u="sng">
                <a:solidFill>
                  <a:srgbClr val="ffffff"/>
                </a:solidFill>
                <a:uFillTx/>
                <a:latin typeface="Times New Roman"/>
              </a:rPr>
              <a:t>19 a 22</a:t>
            </a:r>
            <a:r>
              <a:rPr b="1" lang="pt-BR" sz="2200" spc="-1" strike="noStrike">
                <a:solidFill>
                  <a:srgbClr val="ffffff"/>
                </a:solidFill>
                <a:latin typeface="Times New Roman"/>
              </a:rPr>
              <a:t> da Lei nº 9.433, de 1997, com  redação dada pela Lei nº 9.984, de 2000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ffcc"/>
                </a:solidFill>
                <a:latin typeface="Times New Roman"/>
              </a:rPr>
              <a:t>Lei  nº 9.433, de 1997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i="1" lang="pt-BR" sz="2400" spc="-1" strike="noStrike">
                <a:solidFill>
                  <a:srgbClr val="ffff00"/>
                </a:solidFill>
                <a:latin typeface="Times New Roman"/>
              </a:rPr>
              <a:t>Art. 19.  A cobrança pelo uso de recursos hídricos objetiv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00"/>
                </a:solidFill>
                <a:latin typeface="Times New Roman"/>
              </a:rPr>
              <a:t>I – reconhecer a água como bem econômico e dar ao usuário uma indicação de seu real valor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00"/>
                </a:solidFill>
                <a:latin typeface="Times New Roman"/>
              </a:rPr>
              <a:t>II – incentivar a racionalização do uso da água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00"/>
                </a:solidFill>
                <a:latin typeface="Times New Roman"/>
              </a:rPr>
              <a:t>III – obter recursos financeiros para o financiamento dos programas e intervenções contemplados nos planos de recursos hídricos.”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 rot="18498000">
            <a:off x="674640" y="198360"/>
            <a:ext cx="89064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ffcc"/>
                </a:solidFill>
                <a:latin typeface="Times New Roman"/>
              </a:rPr>
              <a:t>Lei  nº 9.433, de 1997. 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8373960" cy="499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pt-BR" sz="2800" spc="-1" strike="noStrike">
                <a:solidFill>
                  <a:srgbClr val="ffff00"/>
                </a:solidFill>
                <a:latin typeface="Times New Roman"/>
              </a:rPr>
              <a:t>Art. 20. Serão cobrados os usos de recursos hídricos sujeitos a outorga, nos termos do art. 12 desta Lei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pt-BR" sz="2800" spc="-1" strike="noStrike">
                <a:solidFill>
                  <a:srgbClr val="ffff00"/>
                </a:solidFill>
                <a:latin typeface="Times New Roman"/>
              </a:rPr>
              <a:t>Art. 21. Na fixação dos valores a serem cobrados pelo uso dos recursos hídricos devem ser observados, dentre outr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Times New Roman"/>
              </a:rPr>
              <a:t>I - nas derivações, captações e extrações de água, o volume retirado e seu regime de variação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Times New Roman"/>
              </a:rPr>
              <a:t>II - nos lançamentos de esgotos e demais resíduos líquidos ou gasosos, o volume lançado e seu regime de variação e as características físico-químicas, biológicas e de toxidade do afluente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ffcc"/>
                </a:solidFill>
                <a:latin typeface="Times New Roman"/>
              </a:rPr>
              <a:t>Lei  nº 9.433, de 1997. 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36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Art. 22. Os valores arrecadados com a cobrança pelo uso de recursos hídricos serão aplicados </a:t>
            </a:r>
            <a:r>
              <a:rPr b="1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oritariamente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na bacia hidrográfica em que foram gerados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 e serão utilizad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I - no financiamento de estudos, programas, projetos e obras incluídos nos Planos de Recursos Hídrico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II - no pagamento de despesas de implantação e custeio administrativo dos órgãos e entidades integrantes do Sistema Nacional de Gerenciamento de Recursos Hídric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§ 1º A aplicação nas despesas previstas no inciso II deste artigo é limitada a </a:t>
            </a:r>
            <a:r>
              <a:rPr b="1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sete e meio por cento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 do total arrecad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§ 2º Os valores previstos no </a:t>
            </a:r>
            <a:r>
              <a:rPr b="1" i="1" lang="pt-BR" sz="2400" spc="-1" strike="noStrike">
                <a:solidFill>
                  <a:srgbClr val="ffff00"/>
                </a:solidFill>
                <a:latin typeface="Times New Roman"/>
              </a:rPr>
              <a:t>caput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 deste artigo poderão ser aplicados a fundo perdido em projetos e obras que alterem, de modo considerado benéfico à coletividade, a qualidade, a quantidade e o regime de vazão de um corpo de água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84360" y="496800"/>
            <a:ext cx="7848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Times New Roman"/>
              </a:rPr>
              <a:t>DISPOSIÇÕES GERA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Art. 2º. Serão cobrados os usos de recursos hídricos </a:t>
            </a:r>
            <a:r>
              <a:rPr b="1" lang="pt-BR" sz="2800" spc="-1" strike="noStrike" u="sng">
                <a:solidFill>
                  <a:srgbClr val="00ffcc"/>
                </a:solidFill>
                <a:uFillTx/>
                <a:latin typeface="Times New Roman"/>
              </a:rPr>
              <a:t>sujeitos à outorga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, conforme previsão no art. 20 da Lei nº 9.433,  de 1997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Art. 3º. A cobrança pelo uso dos recursos hídricos será efetuada por meio de ato da autoridade outorgante competente e estará condicionada à existência de comitê na bacia hidrográfica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 flipH="1">
            <a:off x="3851280" y="5732640"/>
            <a:ext cx="1830240" cy="114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ffcc"/>
                </a:solidFill>
                <a:latin typeface="Times New Roman"/>
              </a:rPr>
              <a:t>Disposições Gera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Art. 4º. As </a:t>
            </a:r>
            <a:r>
              <a:rPr b="1" lang="pt-BR" sz="3200" spc="-1" strike="noStrike">
                <a:solidFill>
                  <a:srgbClr val="00ffcc"/>
                </a:solidFill>
                <a:latin typeface="Times New Roman"/>
              </a:rPr>
              <a:t>autoridades outorgantes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 deverão elaborar estudos técnicos para subsidiar a definição, pelos respectivos Conselhos, dos valores a serem cobrados pelo uso de recursos hídricos, com base nos mecanismos e quantitativos sugeridos pelo </a:t>
            </a:r>
            <a:r>
              <a:rPr b="1" lang="pt-BR" sz="3200" spc="-1" strike="noStrike">
                <a:solidFill>
                  <a:srgbClr val="00ffcc"/>
                </a:solidFill>
                <a:latin typeface="Times New Roman"/>
              </a:rPr>
              <a:t>comitê de bacia hidrográfica, conforme inciso VI, do art. 38,  da Lei nº 9.433, de 1997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539640" y="476280"/>
            <a:ext cx="8280360" cy="54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DOS OBJETIVOS DA COBRANÇ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Art. 5º  </a:t>
            </a:r>
            <a:r>
              <a:rPr b="1" lang="pt-BR" sz="2000" spc="-1" strike="noStrike">
                <a:solidFill>
                  <a:srgbClr val="ffff00"/>
                </a:solidFill>
                <a:latin typeface="Times New Roman"/>
              </a:rPr>
              <a:t>A cobrança objetiva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pt-BR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 reconhecer a água como </a:t>
            </a:r>
            <a:r>
              <a:rPr b="1" lang="pt-BR" sz="2000" spc="-1" strike="noStrike">
                <a:solidFill>
                  <a:srgbClr val="ffff00"/>
                </a:solidFill>
                <a:latin typeface="Times New Roman"/>
              </a:rPr>
              <a:t>bem finito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, dotado de valor econômico e dar ao usuário uma    indicação de seu real valor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II </a:t>
            </a:r>
            <a:r>
              <a:rPr b="1" lang="pt-BR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 incentivar a 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racionalização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pt-BR" sz="2000" spc="-1" strike="noStrike">
                <a:solidFill>
                  <a:srgbClr val="ffff00"/>
                </a:solidFill>
                <a:latin typeface="Times New Roman"/>
              </a:rPr>
              <a:t>conservação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 e </a:t>
            </a:r>
            <a:r>
              <a:rPr b="1" lang="pt-BR" sz="2000" spc="-1" strike="noStrike">
                <a:solidFill>
                  <a:srgbClr val="ffff00"/>
                </a:solidFill>
                <a:latin typeface="Times New Roman"/>
              </a:rPr>
              <a:t>recuperação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 dos recursos hídricos e </a:t>
            </a:r>
            <a:r>
              <a:rPr b="1" lang="pt-BR" sz="2000" spc="-1" strike="noStrike">
                <a:solidFill>
                  <a:srgbClr val="ffff00"/>
                </a:solidFill>
                <a:latin typeface="Times New Roman"/>
              </a:rPr>
              <a:t>estimular a utilização de tecnologias limpas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 e que demandem </a:t>
            </a:r>
            <a:r>
              <a:rPr b="1" lang="pt-BR" sz="2000" spc="-1" strike="noStrike">
                <a:solidFill>
                  <a:srgbClr val="ffff00"/>
                </a:solidFill>
                <a:latin typeface="Times New Roman"/>
              </a:rPr>
              <a:t>menor volume de água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III </a:t>
            </a:r>
            <a:r>
              <a:rPr b="1" lang="pt-BR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 obter </a:t>
            </a:r>
            <a:r>
              <a:rPr b="1" lang="pt-BR" sz="2000" spc="-1" strike="noStrike">
                <a:solidFill>
                  <a:srgbClr val="ffff00"/>
                </a:solidFill>
                <a:latin typeface="Times New Roman"/>
              </a:rPr>
              <a:t>recursos financeiros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 para o financiamento de estudos, programas e projetos e a execução de intervenções contempladas nos Planos de Recursos Hídricos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IV </a:t>
            </a:r>
            <a:r>
              <a:rPr b="1" lang="pt-BR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 induzir a adequada localização dos usuários nas bacias hidrográficas, buscando a </a:t>
            </a:r>
            <a:r>
              <a:rPr b="1" lang="pt-BR" sz="2000" spc="-1" strike="noStrike">
                <a:solidFill>
                  <a:srgbClr val="ffff00"/>
                </a:solidFill>
                <a:latin typeface="Times New Roman"/>
              </a:rPr>
              <a:t>proteção e conservação dos recursos hídricos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, de acordo com o </a:t>
            </a:r>
            <a:r>
              <a:rPr b="1" lang="pt-BR" sz="2000" spc="-1" strike="noStrike">
                <a:solidFill>
                  <a:srgbClr val="ffff00"/>
                </a:solidFill>
                <a:latin typeface="Times New Roman"/>
              </a:rPr>
              <a:t>enquadramento de  corpos de águas em classes de usos preponderantes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V </a:t>
            </a:r>
            <a:r>
              <a:rPr b="1" lang="pt-BR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ffff00"/>
                </a:solidFill>
                <a:latin typeface="Times New Roman"/>
              </a:rPr>
              <a:t>redistribuir custos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 de forma eqüitativa entre os setores usuários e os usuários de recursos hídricos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VI </a:t>
            </a:r>
            <a:r>
              <a:rPr b="1" lang="pt-BR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 possibilitar </a:t>
            </a:r>
            <a:r>
              <a:rPr b="1" lang="pt-BR" sz="2000" spc="-1" strike="noStrike">
                <a:solidFill>
                  <a:srgbClr val="ffff00"/>
                </a:solidFill>
                <a:latin typeface="Times New Roman"/>
              </a:rPr>
              <a:t>compensações e incentiv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4T18:26:32Z</dcterms:created>
  <dc:creator>xxxx</dc:creator>
  <dc:description/>
  <dc:language>en-US</dc:language>
  <cp:lastModifiedBy>Celia Cristina Moura Pimenta</cp:lastModifiedBy>
  <dcterms:modified xsi:type="dcterms:W3CDTF">2002-08-20T00:18:11Z</dcterms:modified>
  <cp:revision>84</cp:revision>
  <dc:subject/>
  <dc:title>Planos de Recursos Hídricos </dc:title>
</cp:coreProperties>
</file>