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A1E4-3221-4D53-8E65-70BF5AC9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8F46-6063-43BE-83DD-10021069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B426-1606-4F18-89EE-730A5140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9B47-8DB3-4316-9FFC-55D04F6E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FF45-D90F-454D-A60B-A7291049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40C1-496E-4230-BCC0-A2F788E0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612E-2976-4449-81F6-71356C1F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6C2E-72DD-423F-97E0-1F16DF7F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400A-83FE-4F49-97DD-E0617539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A04A-EEFC-4129-9875-98569604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BF0E-FBA4-472D-846B-0AAAF3CB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62F2-D13E-49BA-8901-3F774F06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88120" y="1585800"/>
            <a:ext cx="3744720" cy="5261040"/>
          </a:xfrm>
          <a:custGeom>
            <a:avLst/>
            <a:gdLst/>
            <a:ahLst/>
            <a:rect l="l" t="t" r="r" b="b"/>
            <a:pathLst>
              <a:path w="2359" h="3314">
                <a:moveTo>
                  <a:pt x="1905" y="3312"/>
                </a:moveTo>
                <a:lnTo>
                  <a:pt x="2358" y="3313"/>
                </a:lnTo>
                <a:lnTo>
                  <a:pt x="2358" y="1437"/>
                </a:lnTo>
                <a:lnTo>
                  <a:pt x="0" y="0"/>
                </a:lnTo>
                <a:lnTo>
                  <a:pt x="201" y="150"/>
                </a:lnTo>
                <a:lnTo>
                  <a:pt x="366" y="279"/>
                </a:lnTo>
                <a:lnTo>
                  <a:pt x="552" y="441"/>
                </a:lnTo>
                <a:lnTo>
                  <a:pt x="732" y="612"/>
                </a:lnTo>
                <a:lnTo>
                  <a:pt x="996" y="903"/>
                </a:lnTo>
                <a:lnTo>
                  <a:pt x="1230" y="1212"/>
                </a:lnTo>
                <a:lnTo>
                  <a:pt x="1400" y="1482"/>
                </a:lnTo>
                <a:lnTo>
                  <a:pt x="1548" y="1761"/>
                </a:lnTo>
                <a:lnTo>
                  <a:pt x="1665" y="2040"/>
                </a:lnTo>
                <a:lnTo>
                  <a:pt x="1751" y="2295"/>
                </a:lnTo>
                <a:lnTo>
                  <a:pt x="1809" y="2511"/>
                </a:lnTo>
                <a:lnTo>
                  <a:pt x="1863" y="2778"/>
                </a:lnTo>
                <a:lnTo>
                  <a:pt x="1890" y="3012"/>
                </a:lnTo>
                <a:lnTo>
                  <a:pt x="1905" y="3312"/>
                </a:lnTo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8410320" y="1440"/>
            <a:ext cx="16820640" cy="1369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286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INISTÉRIO DO MEIO AMBIENTE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cretaria de Recursos Hídric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9164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ffff"/>
                </a:solidFill>
                <a:latin typeface="Times New Roman"/>
              </a:rPr>
              <a:t>Reflexões sobre a Implementação  do Instrumento Cobranç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66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3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512D-E7A6-43D0-AE7B-4F97FF146F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66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133720"/>
            <a:ext cx="9144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1" i="1" lang="en-US" sz="5500" spc="-1" strike="noStrike">
                <a:solidFill>
                  <a:srgbClr val="ffcc00"/>
                </a:solidFill>
                <a:latin typeface="Times New Roman"/>
              </a:rPr>
              <a:t>Reflexões sobre a implementação do instrumento Cobrança pelo uso de recursos hídricos”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5638680"/>
            <a:ext cx="5562720" cy="6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úlio Thadeu Silva Kettelh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retor do Programa de Implement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8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INISTÉRIO DO MEIO AMBIENT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cretaria de Recursos Hídr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14300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ffff"/>
                </a:solidFill>
                <a:latin typeface="Verdana"/>
              </a:rPr>
              <a:t>Reuniões das Câmaras Técnicas de Cobrança e Assuntos Legais e Institucionais</a:t>
            </a:r>
            <a:br>
              <a:rPr sz="2000"/>
            </a:br>
            <a:r>
              <a:rPr b="1" lang="en-US" sz="1600" spc="-1" strike="noStrike">
                <a:solidFill>
                  <a:srgbClr val="00ffff"/>
                </a:solidFill>
                <a:latin typeface="Verdana"/>
              </a:rPr>
              <a:t>Brasília, 16 de julho de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60DF-3FE7-404C-9383-8ED5B4FCB8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981080"/>
            <a:ext cx="9144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Black"/>
              </a:rPr>
              <a:t>SECRETARIA DE RECURSOS HÍDR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 Black"/>
              </a:rPr>
              <a:t>SGAN Q 601, Lote 1, Ed. Sede da CODEVASF, 4ºAND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 Black"/>
              </a:rPr>
              <a:t>Asa Norte - Brasília/DF - CEP: 70830 9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 Black"/>
              </a:rPr>
              <a:t>Tel: 317 1347 / 134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00"/>
                </a:solidFill>
                <a:latin typeface="Arial Black"/>
              </a:rPr>
              <a:t>srh@mma.gov.br</a:t>
            </a:r>
            <a:br>
              <a:rPr sz="3200"/>
            </a:br>
            <a:r>
              <a:rPr b="0" lang="pt-BR" sz="3600" spc="-1" strike="noStrike">
                <a:solidFill>
                  <a:srgbClr val="ffcc00"/>
                </a:solidFill>
                <a:latin typeface="Arial Black"/>
              </a:rPr>
              <a:t>www.mma.gov.br/port/sr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 Black"/>
              </a:rPr>
              <a:t>CNR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00"/>
                </a:solidFill>
                <a:latin typeface="Arial Black"/>
              </a:rPr>
              <a:t>sec.executiva@cnrh-srh.gov.b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cc00"/>
                </a:solidFill>
                <a:latin typeface="Arial Black"/>
              </a:rPr>
              <a:t>www.cnrh-srh.gov.b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76320">
            <a:solidFill>
              <a:srgbClr val="00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76320">
            <a:solidFill>
              <a:srgbClr val="00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1705680"/>
            <a:ext cx="8305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6600"/>
                </a:solidFill>
                <a:uFillTx/>
                <a:latin typeface="Verdana"/>
              </a:rPr>
              <a:t>COBRANÇA NÃO É IMPOS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Como transmitir este novo conceito à sociedade brasileir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conceito com a palavra </a:t>
            </a: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“COBRANÇ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sconfiança com relação às ações governamenta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lta de conhecimento ou divergências entre autoridades publicas sobre o 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lta ou erro de comunicação entre os responsáveis pela implementação e a socie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299840" y="802440"/>
            <a:ext cx="183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1379520"/>
            <a:ext cx="830592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COBRANÇA</a:t>
            </a: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 é um instrumento de gestão da Política Nacional de Recursos Híd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OBJETIV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água como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bem econôm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entivar a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racionalizaçã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do uso da águ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ter recursos financeiros para o financiamento dos programas e intervenções contemplados nos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lanos de Recursos Hídrico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299840" y="802440"/>
            <a:ext cx="183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75248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Considerar que a sociedad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á paga pelo uso de recursos hídric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ú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stos operacion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servatór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nea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ventos críticos (enchentes/secas)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299840" y="802440"/>
            <a:ext cx="183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567440"/>
            <a:ext cx="914400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8088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cc00"/>
                </a:solidFill>
                <a:latin typeface="Verdana"/>
              </a:rPr>
              <a:t>UTILIZAÇÃO DOS RECURSOS NÃO VISA CORRIGIR DISTORÇÕES REGIONAIS</a:t>
            </a:r>
            <a:r>
              <a:rPr b="1" lang="pt-BR" sz="2400" spc="-1" strike="noStrike">
                <a:solidFill>
                  <a:srgbClr val="ffcc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MOTIVOS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ff0033"/>
                </a:solidFill>
                <a:latin typeface="Monotype Sorts"/>
                <a:ea typeface="Monotype Sorts"/>
              </a:rPr>
              <a:t>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Lei 9433/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prioritariamente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na bacia hidrográfica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em que foram ger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riação de fundo de recursos hídr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RESSALTA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limite de 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7,5%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ff0033"/>
                </a:solidFill>
                <a:latin typeface="Monotype Sorts"/>
                <a:ea typeface="Monotype Sorts"/>
              </a:rPr>
              <a:t>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despesas adm.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SINGREH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comitê de bacia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deve decidir 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 possibilidade de aplicação dos recursos arrecadados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em outro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1023120"/>
            <a:ext cx="8839080" cy="56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NÃO VISA A UTILIZAÇÃO DOS RECUR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cc00"/>
                </a:solidFill>
                <a:latin typeface="Verdana"/>
              </a:rPr>
              <a:t>SOMENTE A FUNDO PERDID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OTIVOS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0033"/>
                </a:solidFill>
                <a:latin typeface="Monotype Sorts"/>
                <a:ea typeface="Monotype Sorts"/>
              </a:rPr>
              <a:t>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Lei 9433/97</a:t>
            </a:r>
            <a:r>
              <a:rPr b="1" lang="pt-BR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fundo perdido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em projetos e obras que beneficiem a coletividade, a qualidade, a quantidade e o regime de vazão de um corpo d’águ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 </a:t>
            </a:r>
            <a:r>
              <a:rPr b="1" lang="pt-BR" sz="2000" spc="-1" strike="noStrike">
                <a:solidFill>
                  <a:srgbClr val="ffcc66"/>
                </a:solidFill>
                <a:latin typeface="Verdana"/>
              </a:rPr>
              <a:t>Estado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deixa de atu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RESSALTAR </a:t>
            </a:r>
            <a:r>
              <a:rPr b="1" lang="pt-BR" sz="2000" spc="-1" strike="noStrike">
                <a:solidFill>
                  <a:srgbClr val="ff0033"/>
                </a:solidFill>
                <a:latin typeface="Monotype Sorts"/>
                <a:ea typeface="Monotype Sorts"/>
              </a:rPr>
              <a:t>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axa </a:t>
            </a:r>
            <a:r>
              <a:rPr b="1" lang="pt-BR" sz="2000" spc="-1" strike="noStrike">
                <a:solidFill>
                  <a:srgbClr val="ffcc66"/>
                </a:solidFill>
                <a:latin typeface="Verdana"/>
              </a:rPr>
              <a:t>condomin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PLICAÇÃ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o </a:t>
            </a:r>
            <a:r>
              <a:rPr b="1" lang="pt-BR" sz="1600" spc="-1" strike="noStrike">
                <a:solidFill>
                  <a:srgbClr val="ffcc66"/>
                </a:solidFill>
                <a:latin typeface="Verdana"/>
              </a:rPr>
              <a:t>financiamento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de estudos programas, projetos e obra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c00"/>
                </a:solidFill>
                <a:latin typeface="Verdana"/>
              </a:rPr>
              <a:t>obter recursos financeiros para o financiamento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dos programas e intervenções contemplados nos </a:t>
            </a:r>
            <a:r>
              <a:rPr b="1" lang="pt-BR" sz="1600" spc="-1" strike="noStrike">
                <a:solidFill>
                  <a:srgbClr val="ffcc66"/>
                </a:solidFill>
                <a:latin typeface="Verdana"/>
              </a:rPr>
              <a:t>Planos de Recursos Hídricos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Agencias de bacia: analisar e emitir pareceres sobre os projetos e obras a serem financiados com recursos gerados pela cobrança e encaminhá-los à instituição financeira responsável pela administração desses recurso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c66"/>
                </a:solidFill>
                <a:latin typeface="Verdana"/>
              </a:rPr>
              <a:t>O respectivo comitê de bacia deve decidir a possibilidade de aplicação dos recursos arrecadados em outro lo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1906560"/>
            <a:ext cx="86104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OS RECURSOS ARRECADADOS RETORNARÃO À BACI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DESCONFIANÇA NOS PODERES PUBL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Black"/>
              </a:rPr>
              <a:t>LEI 9.433/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prioritariamente na bacia hidrográficas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 em que foram ge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1853280"/>
            <a:ext cx="830556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presentação de </a:t>
            </a: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VALORES FIXOS, MÁXIMOS OU MÍNIMOS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 como sendo os que serão cob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TRANSM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que os valores  serão iguais para toda a bacia, região, Estado ou Paí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que os valores a serem cobrados serão iguais para todos os usuários, independente da  decisão do comitê, da diferença de uso, da localização espacial dos usuários na ba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634760"/>
            <a:ext cx="830592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76280" indent="-4762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SÓ IMPLICA EM PAGAMENTO (CUSTO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QUAIS BENEFÍCIO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diminuição de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stos operacion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nefícios sociais/ambient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nefícios saú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bertura para mercados que exigem linha de produção ambientalmente corr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esso a recursos financeiros (financiamento) oriundos da cobrança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em condições privilegiadas (definidas pelo Comitê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1T00:10:02Z</dcterms:created>
  <dc:creator>MINE</dc:creator>
  <dc:description/>
  <dc:language>en-US</dc:language>
  <cp:lastModifiedBy>Secretaria Recursos Hidricos</cp:lastModifiedBy>
  <dcterms:modified xsi:type="dcterms:W3CDTF">2002-07-17T12:23:11Z</dcterms:modified>
  <cp:revision>65</cp:revision>
  <dc:subject/>
  <dc:title>Apresentação do PowerPoint</dc:title>
</cp:coreProperties>
</file>