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68C-49D3-4A7E-AAA6-DCDC055A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D0A-5C86-402D-B534-190ED59D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CC33-CFEE-4D20-AE1B-C7FD393A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AFD-5F88-4503-9392-05872DCB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690-803F-4F87-9CA8-4F7522C0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25D-C75A-463B-8415-813364D1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0A7-6B05-4EC3-910F-853D574F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7E1-AB55-4CF3-B93F-2F32A431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DA7-A9ED-4ADD-8B8A-ADC8A0CB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8D83-D02A-45B3-9DC9-98EEB1FA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76F-1F5C-42C9-85C1-8F05411B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018-41C7-4AB4-ACF5-199BBE1E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88120" y="1585800"/>
            <a:ext cx="3744720" cy="5261040"/>
          </a:xfrm>
          <a:custGeom>
            <a:avLst/>
            <a:gdLst/>
            <a:ahLst/>
            <a:rect l="l" t="t" r="r" b="b"/>
            <a:pathLst>
              <a:path w="2359" h="3314">
                <a:moveTo>
                  <a:pt x="1905" y="3312"/>
                </a:moveTo>
                <a:lnTo>
                  <a:pt x="2358" y="3313"/>
                </a:lnTo>
                <a:lnTo>
                  <a:pt x="2358" y="1437"/>
                </a:lnTo>
                <a:lnTo>
                  <a:pt x="0" y="0"/>
                </a:lnTo>
                <a:lnTo>
                  <a:pt x="201" y="150"/>
                </a:lnTo>
                <a:lnTo>
                  <a:pt x="366" y="279"/>
                </a:lnTo>
                <a:lnTo>
                  <a:pt x="552" y="441"/>
                </a:lnTo>
                <a:lnTo>
                  <a:pt x="732" y="612"/>
                </a:lnTo>
                <a:lnTo>
                  <a:pt x="996" y="903"/>
                </a:lnTo>
                <a:lnTo>
                  <a:pt x="1230" y="1212"/>
                </a:lnTo>
                <a:lnTo>
                  <a:pt x="1400" y="1482"/>
                </a:lnTo>
                <a:lnTo>
                  <a:pt x="1548" y="1761"/>
                </a:lnTo>
                <a:lnTo>
                  <a:pt x="1665" y="2040"/>
                </a:lnTo>
                <a:lnTo>
                  <a:pt x="1751" y="2295"/>
                </a:lnTo>
                <a:lnTo>
                  <a:pt x="1809" y="2511"/>
                </a:lnTo>
                <a:lnTo>
                  <a:pt x="1863" y="2778"/>
                </a:lnTo>
                <a:lnTo>
                  <a:pt x="1890" y="3012"/>
                </a:lnTo>
                <a:lnTo>
                  <a:pt x="1905" y="3312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8410320" y="1440"/>
            <a:ext cx="16820640" cy="1369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286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NISTÉRIO DO MEIO AMBIENT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cretaria de Recursos Hídri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9164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ff"/>
                </a:solidFill>
                <a:latin typeface="Times New Roman"/>
              </a:rPr>
              <a:t>Reflexões sobre a Implementação  do Instrumento Cobranç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3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CBB9-D9CD-4AD5-9AE5-226AE15B8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13372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1" i="1" lang="en-US" sz="5500" spc="-1" strike="noStrike">
                <a:solidFill>
                  <a:srgbClr val="ffcc00"/>
                </a:solidFill>
                <a:latin typeface="Times New Roman"/>
              </a:rPr>
              <a:t>Reflexões sobre a implementação do instrumento Cobrança pelo uso de recursos hídricos”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5638680"/>
            <a:ext cx="556272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úlio Thadeu Silva Kettelh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retor do Programa de Implement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INISTÉRIO DO MEIO AMBIENT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cretaria de Recursos Hídr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1430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ffff"/>
                </a:solidFill>
                <a:latin typeface="Verdana"/>
              </a:rPr>
              <a:t>Reuniões das Câmaras Técnicas de Cobrança e Assuntos Legais e Institucionais</a:t>
            </a:r>
            <a:br>
              <a:rPr sz="2000"/>
            </a:br>
            <a:r>
              <a:rPr b="1" lang="en-US" sz="1600" spc="-1" strike="noStrike">
                <a:solidFill>
                  <a:srgbClr val="00ffff"/>
                </a:solidFill>
                <a:latin typeface="Verdana"/>
              </a:rPr>
              <a:t>Brasília, 16 de julho de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CFFE-4968-4F03-AB22-CDEA257D05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9810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SECRETARIA DE RECURSOS HÍDR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SGAN Q 601, Lote 1, Ed. Sede da CODEVASF, 4ºAND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Asa Norte - Brasília/DF - CEP: 70830 9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Tel: 317 1347 / 134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Arial Black"/>
              </a:rPr>
              <a:t>srh@mma.gov.br</a:t>
            </a:r>
            <a:br>
              <a:rPr sz="3200"/>
            </a:br>
            <a:r>
              <a:rPr b="0" lang="pt-BR" sz="3600" spc="-1" strike="noStrike">
                <a:solidFill>
                  <a:srgbClr val="ffcc00"/>
                </a:solidFill>
                <a:latin typeface="Arial Black"/>
              </a:rPr>
              <a:t>www.mma.gov.br/port/sr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 Black"/>
              </a:rPr>
              <a:t>CNR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Arial Black"/>
              </a:rPr>
              <a:t>sec.executiva@cnrh-srh.gov.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00"/>
                </a:solidFill>
                <a:latin typeface="Arial Black"/>
              </a:rPr>
              <a:t>www.cnrh-srh.gov.b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7632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7632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705680"/>
            <a:ext cx="8305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6600"/>
                </a:solidFill>
                <a:uFillTx/>
                <a:latin typeface="Verdana"/>
              </a:rPr>
              <a:t>COBRANÇA NÃO É IMPOS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Como transmitir este novo conceito à sociedade brasileir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conceito com a palavra 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“COBRANÇ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confiança com relação às ações governamenta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lta de conhecimento ou divergências entre autoridades publicas sobre o 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lta ou erro de comunicação entre os responsáveis pela implementação e a socie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379520"/>
            <a:ext cx="83059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COBRANÇA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 é um instrumento de gestão da Política Nacional de Recursos Híd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OBJETIV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água como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em econôm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entivar a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racionalizaçã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o uso da ág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ter recursos financeiros para o financiamento dos programas e intervenções contemplados nos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lanos de Recursos Hídrico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75248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Considerar que a sociedad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á paga pelo uso de recursos hídric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ú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stos operac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ervató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e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ventos críticos (enchentes/secas)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67440"/>
            <a:ext cx="91440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088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cc00"/>
                </a:solidFill>
                <a:latin typeface="Verdana"/>
              </a:rPr>
              <a:t>UTILIZAÇÃO DOS RECURSOS NÃO VISA CORRIGIR DISTORÇÕES REGIONAIS</a:t>
            </a:r>
            <a:r>
              <a:rPr b="1" lang="pt-BR" sz="24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OTIVOS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Lei 9433/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prioritariamente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na bacia hidrográfica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em que foram ger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iação de fundo de recursos hídr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RESSALT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imite de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7,5%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despesas adm.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SINGREH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comitê de bacia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deve decidir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possibilidade de aplicação dos recursos arrecadados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em outr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1023120"/>
            <a:ext cx="8839080" cy="56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NÃO VISA A UTILIZAÇÃO DOS RECUR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cc00"/>
                </a:solidFill>
                <a:latin typeface="Verdana"/>
              </a:rPr>
              <a:t>SOMENTE A FUNDO PERDI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OTIVOS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ei 9433/97</a:t>
            </a:r>
            <a:r>
              <a:rPr b="1" lang="pt-BR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fundo perdid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em projetos e obras que beneficiem a coletividade, a qualidade, a quantidade e o regime de vazão de um corpo d’á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</a:t>
            </a:r>
            <a:r>
              <a:rPr b="1" lang="pt-BR" sz="2000" spc="-1" strike="noStrike">
                <a:solidFill>
                  <a:srgbClr val="ffcc66"/>
                </a:solidFill>
                <a:latin typeface="Verdana"/>
              </a:rPr>
              <a:t>Estad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deixa de atu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RESSALTAR </a:t>
            </a:r>
            <a:r>
              <a:rPr b="1" lang="pt-BR" sz="20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xa </a:t>
            </a:r>
            <a:r>
              <a:rPr b="1" lang="pt-BR" sz="2000" spc="-1" strike="noStrike">
                <a:solidFill>
                  <a:srgbClr val="ffcc66"/>
                </a:solidFill>
                <a:latin typeface="Verdana"/>
              </a:rPr>
              <a:t>condomin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PLIC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 </a:t>
            </a: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financiamento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de estudos programas, projetos e obr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Verdana"/>
              </a:rPr>
              <a:t>obter recursos financeiros para o financiamento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dos programas e intervenções contemplados nos </a:t>
            </a: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Planos de Recursos Hídricos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gencias de bacia: analisar e emitir pareceres sobre os projetos e obras a serem financiados com recursos gerados pela cobrança e encaminhá-los à instituição financeira responsável pela administração desses recurso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O respectivo comitê de bacia deve decidir a possibilidade de aplicação dos recursos arrecadados em outro lo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906560"/>
            <a:ext cx="86104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OS RECURSOS ARRECADADOS RETORNARÃO À BACI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DESCONFIANÇA NOS PODERES PUBL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LEI 9.433/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prioritariamente na bacia hidrográficas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em que foram ge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853280"/>
            <a:ext cx="830556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presentação de </a:t>
            </a: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VALORES FIXOS, MÁXIMOS OU MÍNIMOS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como sendo os que serão cob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TRANSM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que os valores  serão iguais para toda a bacia, região, Estado ou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que os valores a serem cobrados serão iguais para todos os usuários, independente da  decisão do comitê, da diferença de uso, da localização espacial dos usuários na ba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634760"/>
            <a:ext cx="830592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76280" indent="-476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SÓ IMPLICA EM PAGAMENTO (CUSTO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QUAIS BENEFÍCIO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iminuição de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stos operacion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nefícios sociais/ambient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nefícios saú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bertura para mercados que exigem linha de produção ambientalmente corr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esso a recursos financeiros (financiamento) oriundos da cobrança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em condições privilegiadas (definidas pelo Comitê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00:10:02Z</dcterms:created>
  <dc:creator>MINE</dc:creator>
  <dc:description/>
  <dc:language>en-US</dc:language>
  <cp:lastModifiedBy>Secretaria Recursos Hidricos</cp:lastModifiedBy>
  <dcterms:modified xsi:type="dcterms:W3CDTF">2002-07-17T12:23:11Z</dcterms:modified>
  <cp:revision>65</cp:revision>
  <dc:subject/>
  <dc:title>Apresentação do PowerPoint</dc:title>
</cp:coreProperties>
</file>