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8EF4-2FDA-459D-B030-25310114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DE4D-9450-4A4B-B9AD-DDFCD49C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09B9-B8E4-489A-9313-33557478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966A-8069-44CA-B450-06EE2017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7674-B9BA-43A8-B0E4-A2CF697E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8044-3BBD-435F-BCD8-6DCBE5CC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7A80-AF85-410B-A354-9555CD4B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B550-741B-4B32-9C2C-844EF818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0CD5-797C-4AF9-A15B-1B58989E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641-0F92-4C86-B2CB-EB86A6C1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E883-9F99-4986-B6E9-46186A2B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2F7B-5BF0-4966-9E6E-DF0220A7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3636-79E5-4CBF-A4D2-4E04F266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5A90-E1F4-431C-8867-BAFBD466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3E55-BBA3-4141-B9D9-5A077D6C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D1F2-F34B-4F5A-AB04-53635532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E19-C9DB-4601-A17B-2271F9BE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E530-978E-4122-85DE-D8F38FD8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A7E5-B246-4912-901E-75CAFBB6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82DB-7FC8-4154-AF56-E23F3E6F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8730-2C4B-4F66-BB6D-75815E5B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B795-BE85-4400-A2C2-DDA5EEC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A8CD-3048-4BAE-A05B-B9A3DEC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2128-3162-47B2-9F53-667412B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3F02-1266-4F33-AF5C-2ABE110B3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3992-9207-4820-B627-A914C114A3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mailto:bcamano@iph.ufrgs.br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39840" y="11253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TICIP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02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133800" y="2611440"/>
            <a:ext cx="5830920" cy="405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05" name=""/>
          <p:cNvGrpSpPr/>
          <p:nvPr/>
        </p:nvGrpSpPr>
        <p:grpSpPr>
          <a:xfrm>
            <a:off x="3203640" y="1442880"/>
            <a:ext cx="1400040" cy="1011240"/>
            <a:chOff x="3203640" y="1442880"/>
            <a:chExt cx="1400040" cy="101124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3232080" y="1484280"/>
              <a:ext cx="1371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203640" y="1442880"/>
              <a:ext cx="8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IV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003640" y="1484280"/>
            <a:ext cx="1425600" cy="1003320"/>
            <a:chOff x="5003640" y="1484280"/>
            <a:chExt cx="1425600" cy="1003320"/>
          </a:xfrm>
        </p:grpSpPr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5057640" y="1484280"/>
              <a:ext cx="1371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003640" y="2119320"/>
              <a:ext cx="8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CE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60440" y="1487520"/>
            <a:ext cx="1411200" cy="984240"/>
            <a:chOff x="1360440" y="1487520"/>
            <a:chExt cx="1411200" cy="98424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1400040" y="1487520"/>
              <a:ext cx="1371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60440" y="2103480"/>
              <a:ext cx="8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EU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03280" y="2781360"/>
            <a:ext cx="1454400" cy="1044720"/>
            <a:chOff x="1403280" y="2781360"/>
            <a:chExt cx="1454400" cy="104472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rcRect l="0" t="12995" r="0" b="13221"/>
            <a:stretch/>
          </p:blipFill>
          <p:spPr>
            <a:xfrm>
              <a:off x="1403280" y="2781360"/>
              <a:ext cx="136836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849320" y="34578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CI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332000" y="4149720"/>
            <a:ext cx="1439640" cy="1009440"/>
            <a:chOff x="1332000" y="4149720"/>
            <a:chExt cx="1439640" cy="1009440"/>
          </a:xfrm>
        </p:grpSpPr>
        <p:pic>
          <p:nvPicPr>
            <p:cNvPr id="118" name="" descr=""/>
            <p:cNvPicPr/>
            <p:nvPr/>
          </p:nvPicPr>
          <p:blipFill>
            <a:blip r:embed="rId8"/>
            <a:stretch/>
          </p:blipFill>
          <p:spPr>
            <a:xfrm>
              <a:off x="1400040" y="4149720"/>
              <a:ext cx="1371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2000" y="47908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UNIGEC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00040" y="5516640"/>
            <a:ext cx="1731960" cy="1009800"/>
            <a:chOff x="1400040" y="5516640"/>
            <a:chExt cx="1731960" cy="1009800"/>
          </a:xfrm>
        </p:grpSpPr>
        <p:pic>
          <p:nvPicPr>
            <p:cNvPr id="121" name="" descr=""/>
            <p:cNvPicPr/>
            <p:nvPr/>
          </p:nvPicPr>
          <p:blipFill>
            <a:blip r:embed="rId9"/>
            <a:stretch/>
          </p:blipFill>
          <p:spPr>
            <a:xfrm>
              <a:off x="1400040" y="5516640"/>
              <a:ext cx="137160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124000" y="61581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lbertus Extra Bold"/>
                </a:rPr>
                <a:t>CV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7020000" y="429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6156360" y="4653000"/>
            <a:ext cx="792000" cy="385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7107120" y="2068560"/>
            <a:ext cx="1352520" cy="3524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6831000" y="1246320"/>
            <a:ext cx="1989000" cy="669960"/>
            <a:chOff x="6831000" y="1246320"/>
            <a:chExt cx="1989000" cy="669960"/>
          </a:xfrm>
        </p:grpSpPr>
        <p:pic>
          <p:nvPicPr>
            <p:cNvPr id="127" name="" descr=""/>
            <p:cNvPicPr/>
            <p:nvPr/>
          </p:nvPicPr>
          <p:blipFill>
            <a:blip r:embed="rId13"/>
            <a:stretch/>
          </p:blipFill>
          <p:spPr>
            <a:xfrm>
              <a:off x="7804080" y="1260360"/>
              <a:ext cx="100152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4"/>
            <a:stretch/>
          </p:blipFill>
          <p:spPr>
            <a:xfrm>
              <a:off x="6831000" y="1246320"/>
              <a:ext cx="95724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31000" y="1246320"/>
              <a:ext cx="1989000" cy="669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44520" y="1125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OPÓSI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33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7480" y="1684440"/>
            <a:ext cx="711504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Cobrir as lacunas de conhecimento e metodologia, permitindo a implementação de um enfoque harmonizado no gerenciamento do recursos hídricos em bacias latino-americanas, baseando-se nas diretivas européias para as águ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ermitir a avaliação dos efeitos das variações climáticas sobre o regime hidrológico, a disponibilidade e a qualidade da água nas bacias piloto, identificando e analisando as intervenções recomendadas pela Comunidade Europé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laborar propostas consensuais de ações nas bacias sob diferentes perspectivas, tais como: disponibilidade de águas superficiais e subterrâneas, critérios de sustentabilidade do ponto de vista da sociedade, do poder público e dos setores produ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4080" y="112536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TIV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7600" y="1684440"/>
            <a:ext cx="8434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iagnóstico técnico, legal e institucional dos recursos hídric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Monitoramento e estruturação do banco de dad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studos hidráulicos, hidrológicos e sedimentológic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Fomento à participação públic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stratégias de gestão sustentáve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nálise de potenciais e impactos poluidor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Classificação dos corpos de águ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Mudanças e vulnerabilidades do sistem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Otimização sócio-econômico-ambient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tividades conjuntas de capacitação e fortalecimento institu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58920" y="2133720"/>
            <a:ext cx="73080" cy="4390920"/>
            <a:chOff x="1258920" y="2133720"/>
            <a:chExt cx="73080" cy="4390920"/>
          </a:xfrm>
        </p:grpSpPr>
        <p:sp>
          <p:nvSpPr>
            <p:cNvPr id="143" name=""/>
            <p:cNvSpPr/>
            <p:nvPr/>
          </p:nvSpPr>
          <p:spPr>
            <a:xfrm>
              <a:off x="1258920" y="2133720"/>
              <a:ext cx="0" cy="439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21337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7240" y="11253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RTICULA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48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03760" y="1684440"/>
            <a:ext cx="2786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Urugua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NH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NAM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Rio Grande do Su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RH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EPA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RG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RSA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Governo Feder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N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NRH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TGR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6440" y="11253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XPECTATIVAS NO BRASI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54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7480" y="1684440"/>
            <a:ext cx="711504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ealizar o trabalho de forma articulada com os demais parceiros e com a coordenação geral do projeto na Suéc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lcançar, no escopo do projeto TwinLatin, uma abrangência nos níveis local e nacional e a aplicabilidade dos produtos gerados no âmbito do proje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omover a articulação necessária para o fomento a participação da população local ao proje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opiciar o fortalecimento institucional na gestão dos recursos hídricos na bacia do rio Quaraí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esenvolver pesquisa no campo da simulação hidrológica e de qualidade de água no IP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5400" y="0"/>
            <a:ext cx="9684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38040" y="112536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NTATOS EM PORTO ALEGRE-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40360" y="262080"/>
            <a:ext cx="2881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Univers"/>
              </a:rPr>
              <a:t>TWINLATI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Univers"/>
              <a:ea typeface="Univers"/>
            </a:endParaRPr>
          </a:p>
        </p:txBody>
      </p:sp>
      <p:sp>
        <p:nvSpPr>
          <p:cNvPr id="160" name=""/>
          <p:cNvSpPr txBox="1"/>
          <p:nvPr/>
        </p:nvSpPr>
        <p:spPr>
          <a:xfrm rot="16200000">
            <a:off x="-1042560" y="1481040"/>
            <a:ext cx="3191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>
                    <a:alphaModFix amt="3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Swis721 Blk BT"/>
              </a:rPr>
              <a:t>TWINLATIN</a:t>
            </a:r>
            <a:endParaRPr b="1" lang="en-US" sz="4000" spc="1" strike="noStrike">
              <a:ln w="0">
                <a:noFill/>
              </a:ln>
              <a:blipFill rotWithShape="0">
                <a:blip r:embed="rId2">
                  <a:alphaModFix amt="3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Swis721 Blk BT"/>
              <a:ea typeface="Swis721 Blk BT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981000"/>
            <a:ext cx="763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7480" y="1684440"/>
            <a:ext cx="711504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COORDEN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of. Dra. Beatriz Camaño Schett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pt-BR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bcamano@iph.ufrgs.br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Prof. Dr. Walter Collischo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(collischonn@iph.ufrgs.b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Garamond"/>
              </a:rPr>
              <a:t>EQUIPE DE APO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ng. Bruno Collischo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ng. Dante Gama Laren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FONE: (51) 3316 6415 ou 75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6:22:29Z</dcterms:created>
  <dc:creator>H</dc:creator>
  <dc:description/>
  <dc:language>en-US</dc:language>
  <cp:lastModifiedBy>SPOA-CGTI</cp:lastModifiedBy>
  <dcterms:modified xsi:type="dcterms:W3CDTF">2006-09-28T18:23:43Z</dcterms:modified>
  <cp:revision>27</cp:revision>
  <dc:subject/>
  <dc:title>Slide 1</dc:title>
</cp:coreProperties>
</file>