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65845-DA73-4EB5-BE75-5C40E23C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619E7-B171-4935-A13E-6719BAB0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2F859-05B9-4A30-B090-FEDDE5B4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8EF19-83A7-49FD-88EE-ED2B93D4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BCC6-9661-4537-8325-7A0DF471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282C-554E-413A-8278-90020D02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F717-611F-450C-B114-BCE47335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1D31-FC1E-4BD0-8D3B-BE867B38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D0DA-83F5-466E-8D5B-740FACEB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E730-4340-447B-A025-988D078B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E209-02BE-47F7-95D2-0A27FFB8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B02E6-D998-4DAA-A307-B88EACB8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FA50-F7CF-4C89-8D46-CFFCDDBC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14C5-1F46-44D1-8C0D-74A3A8C4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0B46-BDB2-4244-960F-9326F52D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304A-76F2-428B-99B3-04884BDF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85ED-3D2E-4D43-947B-73B8F9D4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E873E-DDBA-4830-98AB-228FE30B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0A3C9-BF13-4A63-AA37-776F5734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F3E01-76CD-406C-8FCC-EAC846D6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957C7-3A85-4E80-B79C-0C05552D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80AB1-2FAD-4A4E-A587-5053DEC6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DAD73-5B50-47CC-8D69-9F8FFC2B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C360B-FCB3-44A4-969C-565446C3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FF30-F1DA-44A4-BA35-CE5CB16923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7050-227B-4935-BECD-2E0F334D94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mailto:bcamano@iph.ufrgs.br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5400" y="0"/>
            <a:ext cx="968400" cy="6858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39840" y="112536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ARTICIPA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940360" y="262080"/>
            <a:ext cx="28814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Univers"/>
              </a:rPr>
              <a:t>TWINLATIN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Univers"/>
              <a:ea typeface="Univers"/>
            </a:endParaRPr>
          </a:p>
        </p:txBody>
      </p:sp>
      <p:sp>
        <p:nvSpPr>
          <p:cNvPr id="102" name=""/>
          <p:cNvSpPr txBox="1"/>
          <p:nvPr/>
        </p:nvSpPr>
        <p:spPr>
          <a:xfrm rot="16200000">
            <a:off x="-1042560" y="1481040"/>
            <a:ext cx="3191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>
                    <a:alphaModFix amt="3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Swis721 Blk BT"/>
              </a:rPr>
              <a:t>TWINLATIN</a:t>
            </a:r>
            <a:endParaRPr b="1" lang="en-US" sz="4000" spc="1" strike="noStrike">
              <a:ln w="0">
                <a:noFill/>
              </a:ln>
              <a:blipFill rotWithShape="0">
                <a:blip r:embed="rId2">
                  <a:alphaModFix amt="3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Swis721 Blk BT"/>
              <a:ea typeface="Swis721 Blk BT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981000"/>
            <a:ext cx="763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133800" y="2611440"/>
            <a:ext cx="5830920" cy="4057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105" name=""/>
          <p:cNvGrpSpPr/>
          <p:nvPr/>
        </p:nvGrpSpPr>
        <p:grpSpPr>
          <a:xfrm>
            <a:off x="3203640" y="1442880"/>
            <a:ext cx="1400040" cy="1011240"/>
            <a:chOff x="3203640" y="1442880"/>
            <a:chExt cx="1400040" cy="1011240"/>
          </a:xfrm>
        </p:grpSpPr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3232080" y="1484280"/>
              <a:ext cx="137160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203640" y="1442880"/>
              <a:ext cx="83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lbertus Extra Bold"/>
                </a:rPr>
                <a:t>IV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003640" y="1484280"/>
            <a:ext cx="1425600" cy="1003320"/>
            <a:chOff x="5003640" y="1484280"/>
            <a:chExt cx="1425600" cy="1003320"/>
          </a:xfrm>
        </p:grpSpPr>
        <p:pic>
          <p:nvPicPr>
            <p:cNvPr id="109" name="" descr=""/>
            <p:cNvPicPr/>
            <p:nvPr/>
          </p:nvPicPr>
          <p:blipFill>
            <a:blip r:embed="rId5"/>
            <a:stretch/>
          </p:blipFill>
          <p:spPr>
            <a:xfrm>
              <a:off x="5057640" y="1484280"/>
              <a:ext cx="137160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003640" y="2119320"/>
              <a:ext cx="83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lbertus Extra Bold"/>
                </a:rPr>
                <a:t>CE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360440" y="1487520"/>
            <a:ext cx="1411200" cy="984240"/>
            <a:chOff x="1360440" y="1487520"/>
            <a:chExt cx="1411200" cy="984240"/>
          </a:xfrm>
        </p:grpSpPr>
        <p:pic>
          <p:nvPicPr>
            <p:cNvPr id="112" name="" descr=""/>
            <p:cNvPicPr/>
            <p:nvPr/>
          </p:nvPicPr>
          <p:blipFill>
            <a:blip r:embed="rId6"/>
            <a:stretch/>
          </p:blipFill>
          <p:spPr>
            <a:xfrm>
              <a:off x="1400040" y="1487520"/>
              <a:ext cx="137160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360440" y="2103480"/>
              <a:ext cx="83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lbertus Extra Bold"/>
                </a:rPr>
                <a:t>EU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403280" y="2781360"/>
            <a:ext cx="1454400" cy="1044720"/>
            <a:chOff x="1403280" y="2781360"/>
            <a:chExt cx="1454400" cy="1044720"/>
          </a:xfrm>
        </p:grpSpPr>
        <p:pic>
          <p:nvPicPr>
            <p:cNvPr id="115" name="" descr=""/>
            <p:cNvPicPr/>
            <p:nvPr/>
          </p:nvPicPr>
          <p:blipFill>
            <a:blip r:embed="rId7"/>
            <a:srcRect l="0" t="12995" r="0" b="13221"/>
            <a:stretch/>
          </p:blipFill>
          <p:spPr>
            <a:xfrm>
              <a:off x="1403280" y="2781360"/>
              <a:ext cx="1368360" cy="10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849320" y="345780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lbertus Extra Bold"/>
                </a:rPr>
                <a:t>CIE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332000" y="4149720"/>
            <a:ext cx="1439640" cy="1009440"/>
            <a:chOff x="1332000" y="4149720"/>
            <a:chExt cx="1439640" cy="1009440"/>
          </a:xfrm>
        </p:grpSpPr>
        <p:pic>
          <p:nvPicPr>
            <p:cNvPr id="118" name="" descr=""/>
            <p:cNvPicPr/>
            <p:nvPr/>
          </p:nvPicPr>
          <p:blipFill>
            <a:blip r:embed="rId8"/>
            <a:stretch/>
          </p:blipFill>
          <p:spPr>
            <a:xfrm>
              <a:off x="1400040" y="4149720"/>
              <a:ext cx="137160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332000" y="47908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lbertus Extra Bold"/>
                </a:rPr>
                <a:t>UNIGEC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400040" y="5516640"/>
            <a:ext cx="1731960" cy="1009800"/>
            <a:chOff x="1400040" y="5516640"/>
            <a:chExt cx="1731960" cy="1009800"/>
          </a:xfrm>
        </p:grpSpPr>
        <p:pic>
          <p:nvPicPr>
            <p:cNvPr id="121" name="" descr=""/>
            <p:cNvPicPr/>
            <p:nvPr/>
          </p:nvPicPr>
          <p:blipFill>
            <a:blip r:embed="rId9"/>
            <a:stretch/>
          </p:blipFill>
          <p:spPr>
            <a:xfrm>
              <a:off x="1400040" y="5516640"/>
              <a:ext cx="1371600" cy="9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124000" y="615816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lbertus Extra Bold"/>
                </a:rPr>
                <a:t>CV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7020000" y="4292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6156360" y="4653000"/>
            <a:ext cx="792000" cy="385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7107120" y="2068560"/>
            <a:ext cx="1352520" cy="35244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6831000" y="1246320"/>
            <a:ext cx="1989000" cy="669960"/>
            <a:chOff x="6831000" y="1246320"/>
            <a:chExt cx="1989000" cy="669960"/>
          </a:xfrm>
        </p:grpSpPr>
        <p:pic>
          <p:nvPicPr>
            <p:cNvPr id="127" name="" descr=""/>
            <p:cNvPicPr/>
            <p:nvPr/>
          </p:nvPicPr>
          <p:blipFill>
            <a:blip r:embed="rId13"/>
            <a:stretch/>
          </p:blipFill>
          <p:spPr>
            <a:xfrm>
              <a:off x="7804080" y="1260360"/>
              <a:ext cx="100152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14"/>
            <a:stretch/>
          </p:blipFill>
          <p:spPr>
            <a:xfrm>
              <a:off x="6831000" y="1246320"/>
              <a:ext cx="95724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831000" y="1246320"/>
              <a:ext cx="1989000" cy="6699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5400" y="0"/>
            <a:ext cx="968400" cy="6858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44520" y="112536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ROPÓSIT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940360" y="262080"/>
            <a:ext cx="28814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Univers"/>
              </a:rPr>
              <a:t>TWINLATIN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Univers"/>
              <a:ea typeface="Univers"/>
            </a:endParaRPr>
          </a:p>
        </p:txBody>
      </p:sp>
      <p:sp>
        <p:nvSpPr>
          <p:cNvPr id="133" name=""/>
          <p:cNvSpPr txBox="1"/>
          <p:nvPr/>
        </p:nvSpPr>
        <p:spPr>
          <a:xfrm rot="16200000">
            <a:off x="-1042560" y="1481040"/>
            <a:ext cx="3191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>
                    <a:alphaModFix amt="3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Swis721 Blk BT"/>
              </a:rPr>
              <a:t>TWINLATIN</a:t>
            </a:r>
            <a:endParaRPr b="1" lang="en-US" sz="4000" spc="1" strike="noStrike">
              <a:ln w="0">
                <a:noFill/>
              </a:ln>
              <a:blipFill rotWithShape="0">
                <a:blip r:embed="rId2">
                  <a:alphaModFix amt="3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Swis721 Blk BT"/>
              <a:ea typeface="Swis721 Blk BT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981000"/>
            <a:ext cx="763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7480" y="1684440"/>
            <a:ext cx="711504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Cobrir as lacunas de conhecimento e metodologia, permitindo a implementação de um enfoque harmonizado no gerenciamento do recursos hídricos em bacias latino-americanas, baseando-se nas diretivas européias para as água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Permitir a avaliação dos efeitos das variações climáticas sobre o regime hidrológico, a disponibilidade e a qualidade da água nas bacias piloto, identificando e analisando as intervenções recomendadas pela Comunidade Européi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Elaborar propostas consensuais de ações nas bacias sob diferentes perspectivas, tais como: disponibilidade de águas superficiais e subterrâneas, critérios de sustentabilidade do ponto de vista da sociedade, do poder público e dos setores produ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5400" y="0"/>
            <a:ext cx="968400" cy="6858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34080" y="112536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TIVIDAD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40360" y="262080"/>
            <a:ext cx="28814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Univers"/>
              </a:rPr>
              <a:t>TWINLATIN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Univers"/>
              <a:ea typeface="Univers"/>
            </a:endParaRPr>
          </a:p>
        </p:txBody>
      </p:sp>
      <p:sp>
        <p:nvSpPr>
          <p:cNvPr id="139" name=""/>
          <p:cNvSpPr txBox="1"/>
          <p:nvPr/>
        </p:nvSpPr>
        <p:spPr>
          <a:xfrm rot="16200000">
            <a:off x="-1042560" y="1481040"/>
            <a:ext cx="3191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>
                    <a:alphaModFix amt="3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Swis721 Blk BT"/>
              </a:rPr>
              <a:t>TWINLATIN</a:t>
            </a:r>
            <a:endParaRPr b="1" lang="en-US" sz="4000" spc="1" strike="noStrike">
              <a:ln w="0">
                <a:noFill/>
              </a:ln>
              <a:blipFill rotWithShape="0">
                <a:blip r:embed="rId2">
                  <a:alphaModFix amt="3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Swis721 Blk BT"/>
              <a:ea typeface="Swis721 Blk BT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0" y="981000"/>
            <a:ext cx="763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7600" y="1684440"/>
            <a:ext cx="8434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Diagnóstico técnico, legal e institucional dos recursos hídrico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Monitoramento e estruturação do banco de dado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Estudos hidráulicos, hidrológicos e sedimentológico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Fomento à participação públic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Estratégias de gestão sustentáve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Análise de potenciais e impactos poluidore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Classificação dos corpos de águ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Mudanças e vulnerabilidades do sistem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Otimização sócio-econômico-ambient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Atividades conjuntas de capacitação e fortalecimento institucio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258920" y="2133720"/>
            <a:ext cx="73080" cy="4390920"/>
            <a:chOff x="1258920" y="2133720"/>
            <a:chExt cx="73080" cy="4390920"/>
          </a:xfrm>
        </p:grpSpPr>
        <p:sp>
          <p:nvSpPr>
            <p:cNvPr id="143" name=""/>
            <p:cNvSpPr/>
            <p:nvPr/>
          </p:nvSpPr>
          <p:spPr>
            <a:xfrm>
              <a:off x="1258920" y="2133720"/>
              <a:ext cx="0" cy="439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58920" y="2133720"/>
              <a:ext cx="7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5400" y="0"/>
            <a:ext cx="968400" cy="6858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27240" y="112536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RTICULAÇÃ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940360" y="262080"/>
            <a:ext cx="28814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Univers"/>
              </a:rPr>
              <a:t>TWINLATIN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Univers"/>
              <a:ea typeface="Univers"/>
            </a:endParaRPr>
          </a:p>
        </p:txBody>
      </p:sp>
      <p:sp>
        <p:nvSpPr>
          <p:cNvPr id="148" name=""/>
          <p:cNvSpPr txBox="1"/>
          <p:nvPr/>
        </p:nvSpPr>
        <p:spPr>
          <a:xfrm rot="16200000">
            <a:off x="-1042560" y="1481040"/>
            <a:ext cx="3191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>
                    <a:alphaModFix amt="3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Swis721 Blk BT"/>
              </a:rPr>
              <a:t>TWINLATIN</a:t>
            </a:r>
            <a:endParaRPr b="1" lang="en-US" sz="4000" spc="1" strike="noStrike">
              <a:ln w="0">
                <a:noFill/>
              </a:ln>
              <a:blipFill rotWithShape="0">
                <a:blip r:embed="rId2">
                  <a:alphaModFix amt="3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Swis721 Blk BT"/>
              <a:ea typeface="Swis721 Blk BT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981000"/>
            <a:ext cx="763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03760" y="1684440"/>
            <a:ext cx="2786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Urugua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NH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INAM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Rio Grande do Su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RH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EPAM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RG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ORSA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Governo Feder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N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NRH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TGRH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5400" y="0"/>
            <a:ext cx="968400" cy="6858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6440" y="11253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XPECTATIVAS NO BRASI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940360" y="262080"/>
            <a:ext cx="28814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Univers"/>
              </a:rPr>
              <a:t>TWINLATIN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Univers"/>
              <a:ea typeface="Univers"/>
            </a:endParaRPr>
          </a:p>
        </p:txBody>
      </p:sp>
      <p:sp>
        <p:nvSpPr>
          <p:cNvPr id="154" name=""/>
          <p:cNvSpPr txBox="1"/>
          <p:nvPr/>
        </p:nvSpPr>
        <p:spPr>
          <a:xfrm rot="16200000">
            <a:off x="-1042560" y="1481040"/>
            <a:ext cx="3191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>
                    <a:alphaModFix amt="3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Swis721 Blk BT"/>
              </a:rPr>
              <a:t>TWINLATIN</a:t>
            </a:r>
            <a:endParaRPr b="1" lang="en-US" sz="4000" spc="1" strike="noStrike">
              <a:ln w="0">
                <a:noFill/>
              </a:ln>
              <a:blipFill rotWithShape="0">
                <a:blip r:embed="rId2">
                  <a:alphaModFix amt="3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Swis721 Blk BT"/>
              <a:ea typeface="Swis721 Blk BT"/>
            </a:endParaRPr>
          </a:p>
        </p:txBody>
      </p:sp>
      <p:sp>
        <p:nvSpPr>
          <p:cNvPr id="155" name=""/>
          <p:cNvSpPr/>
          <p:nvPr/>
        </p:nvSpPr>
        <p:spPr>
          <a:xfrm>
            <a:off x="1332000" y="981000"/>
            <a:ext cx="763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57480" y="1684440"/>
            <a:ext cx="711504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ealizar o trabalho de forma articulada com os demais parceiros e com a coordenação geral do projeto na Suéci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Alcançar, no escopo do projeto TwinLatin, uma abrangência nos níveis local e nacional e a aplicabilidade dos produtos gerados no âmbito do projet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Promover a articulação necessária para o fomento a participação da população local ao projet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Propiciar o fortalecimento institucional na gestão dos recursos hídricos na bacia do rio Quaraí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Desenvolver pesquisa no campo da simulação hidrológica e de qualidade de água no IP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5400" y="0"/>
            <a:ext cx="968400" cy="6858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38040" y="1125360"/>
            <a:ext cx="42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ONTATOS EM PORTO ALEGRE-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940360" y="262080"/>
            <a:ext cx="28814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Univers"/>
              </a:rPr>
              <a:t>TWINLATIN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Univers"/>
              <a:ea typeface="Univers"/>
            </a:endParaRPr>
          </a:p>
        </p:txBody>
      </p:sp>
      <p:sp>
        <p:nvSpPr>
          <p:cNvPr id="160" name=""/>
          <p:cNvSpPr txBox="1"/>
          <p:nvPr/>
        </p:nvSpPr>
        <p:spPr>
          <a:xfrm rot="16200000">
            <a:off x="-1042560" y="1481040"/>
            <a:ext cx="3191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>
                    <a:alphaModFix amt="3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Swis721 Blk BT"/>
              </a:rPr>
              <a:t>TWINLATIN</a:t>
            </a:r>
            <a:endParaRPr b="1" lang="en-US" sz="4000" spc="1" strike="noStrike">
              <a:ln w="0">
                <a:noFill/>
              </a:ln>
              <a:blipFill rotWithShape="0">
                <a:blip r:embed="rId2">
                  <a:alphaModFix amt="3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Swis721 Blk BT"/>
              <a:ea typeface="Swis721 Blk BT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981000"/>
            <a:ext cx="763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7480" y="1684440"/>
            <a:ext cx="7115040" cy="49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ffff"/>
                </a:solidFill>
                <a:uFillTx/>
                <a:latin typeface="Garamond"/>
              </a:rPr>
              <a:t>COORDEN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Prof. Dra. Beatriz Camaño Schetti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pt-BR" sz="18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bcamano@iph.ufrgs.br</a:t>
            </a: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Prof. Dr. Walter Collischo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(collischonn@iph.ufrgs.b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ffff"/>
                </a:solidFill>
                <a:uFillTx/>
                <a:latin typeface="Garamond"/>
              </a:rPr>
              <a:t>EQUIPE DE APO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Eng. Bruno Collischo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Eng. Dante Gama Laren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FONE: (51) 3316 6415 ou 75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6:22:29Z</dcterms:created>
  <dc:creator>H</dc:creator>
  <dc:description/>
  <dc:language>en-US</dc:language>
  <cp:lastModifiedBy>SPOA-CGTI</cp:lastModifiedBy>
  <dcterms:modified xsi:type="dcterms:W3CDTF">2006-09-28T18:23:43Z</dcterms:modified>
  <cp:revision>27</cp:revision>
  <dc:subject/>
  <dc:title>Slide 1</dc:title>
</cp:coreProperties>
</file>