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0DF-7929-48E4-8EEA-9EB5EE7A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672-A48E-4EC0-83C8-1A43E2D7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A8D1-E547-4C74-8D0C-52B4D37D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BDB-375C-4E1D-AB93-7AA76236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86EA-D077-4F4A-89EF-0BEF0D39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C13B-25A5-41EF-AF5D-2834B8AF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342C-1849-4B02-A0E8-AC38F8FC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28DB-5730-482C-A642-7CF0B42E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CC56-7781-42B5-935D-E2D7C889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9105-8562-4F92-8520-325A34CB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4C30-6011-4F02-A756-9823F21B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9917-DA0C-4E45-BB44-82C75101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702D-01AA-4B98-BE1A-F33C50A2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78FA-81EE-47BB-BAB4-20BF49AA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C3CB-6299-4364-8EE0-F2668CE5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4E73-0CDF-41A3-97DC-C77C791E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C87D-5C7D-49BC-A1E2-BE142B03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F2A-4637-415D-821B-855FE349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F574-C976-4964-A452-39309E24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F01-6D19-4B3B-A97A-B1F6371E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DDA-9904-4704-9262-9B7F42B4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2BD-7BAE-4D7C-9E28-18A468A9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68B-8CCC-45E9-B589-7E314A43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67B7-F447-46C1-A1DE-57405D90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DD55-17BF-4682-B8A9-A6498543CF5C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1D4C-ED07-46CF-B74B-CC3C96E5F41C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s Internacionais para Operação Integrada de Transporte Hidroviário</a:t>
            </a:r>
            <a:br>
              <a:rPr sz="2400"/>
            </a:b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Hidrovia Paraguai - 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28195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Eng. Luiz Eduardo Gar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Administração da Hidrovia do Paraná – AHR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Conselho Nacional de Recursos Hídricos – CNR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Câmara Técnica de Gestão de Recursos Hídricos Transfronteiriç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Brasília, 23 de Junho de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74920" y="1946160"/>
            <a:ext cx="69832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mpactos Diretos (Módulo A), segundo HS-LB-EI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eio Físico, Biótico e Antróp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rincipais 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Regime Hidráulico (Pto. da Manga/Pinasco – km 2685 ao 208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Hidrologia e sedimentação devido às dragag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Qualidade da água e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Turbidez e perda biodiversid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Buscar reduzir a “mancha”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Bentos (dragagem 1,39% derrocamento 0,0039%, áreas relativ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erda pesca, poluição sonora, derrames, acidentes, tráfego, durante execução dos serviç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4920" y="1869840"/>
            <a:ext cx="69832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teú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1 - Diagnóst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2 - Avaliação de Impacto Ambie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3 - Programa de Mitigação, Monitoramento, Controle e Minimização de Impa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ut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sórcio Taylor-Golder Consular-Con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razo 30 me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usto de US$2,9 milh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4920" y="1869840"/>
            <a:ext cx="69832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2 - AVALIAÇÂO DE IMPACTO AMBIEN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rincipais resultados: Módulo A (curto prazo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...A avaliação de impactos indica que os impactos serão de magnitude baixa a depreciável em todo o tramo. As dragagens dos diferentes locais não produzirão efeitos cumulativos ou sinérgicos consideráveis....As avaliações indicaram que a baixa ocorrência  de obras (construção) e da navegação (operação), não modificarão de modo apreciável os recursos ecossistêmicos.... Os impactos no Rio Paraná são praticamente desprezíveis devido ao tamanho do rio e da planície de inundação....Entre Assunção e Murtinho...série de derrocamentos...devido ao reduzido volume de rochas...que os impactos são reduzidos e controláveis.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74920" y="1869840"/>
            <a:ext cx="69832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2 - AVALIAÇÂO DE IMPACTO AMBIEN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rincipais Resultados: Módulo B1(médio prazo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Os impactos diretos da construção de qualquer das alternativas são baixos. Os impactos indiretos (migrações, mudanças no uso do solo,economia) tampouco resultam substanciais para impedir a execução do projeto...Os consultores recomendam que se adote uma alternativa que assegure uma rentabilidade mínima ao projeto, porém que minimize ao máximo 1) o número de intervenções no rio e 2) a freqüência de embarcações....a possibilidade de relocação do porto de Cáceres em Morrinhos deveria ser estudada...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74920" y="1870200"/>
            <a:ext cx="69832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3 – PROGRAMA DE MITIGAÇÃO, MONITORAMENTO, CONTROLE E MINIMIZAÇÃO DE IMPA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Escritórios de Planejamento e Gestão Ambien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lano de Gestão Ambien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rograma de Gestão Ambiental(coleta e avaliação de parâmetros ambientais, emergências e derrames, controle das dragagens, regulamento ambiental, saúde e áreas protegid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rograma de Educação Ambiental e Capacit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rograma Indígen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Custo: US$1,73 milhões implant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US$1,70 milhões/ano manuten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escri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tuação A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HPYP_mapa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4673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mold4" descr=""/>
          <p:cNvPicPr/>
          <p:nvPr/>
        </p:nvPicPr>
        <p:blipFill>
          <a:blip r:embed="rId1"/>
          <a:stretch/>
        </p:blipFill>
        <p:spPr>
          <a:xfrm>
            <a:off x="1784520" y="533520"/>
            <a:ext cx="5454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tuação A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8960" y="2479680"/>
            <a:ext cx="380988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arga Atual na Hidrov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2 milhões de tone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arga Futura (até 200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6 milhões de tone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Granéis agrícol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7,5 milhões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inério de fer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3 milhões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mbustíveis e deriv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3 milhões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adeira e Wood Chi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 milhão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nteine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 milhão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elul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0,5 milhão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90560" y="2209320"/>
            <a:ext cx="563868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Paraguai-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O Acordo de Transporte Fluv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erspectivas de Integ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onclus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erspectivas de Integ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cordos (Hidrovia, MERCOSUL,IIRS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orredores Estraté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mold3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51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EJE_O-A-P2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662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225108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onclus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Verificação e identificação das deman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Instalação de termi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dequação da infraestru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Transposição” de Itaip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07720" y="1945800"/>
            <a:ext cx="606924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inistério dos Transpor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NT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HRANA, AHIP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74920" y="1828440"/>
            <a:ext cx="69832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O Acordo e o  CI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Os estudos e proje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(CIH, PNUD, BI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escri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tuação A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74920" y="1752480"/>
            <a:ext cx="698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Acordo de Transporte Fluvial pela Hidrovia Paraguai-Paraná (Porto de Cáceres/Porto de Nova Palmir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níci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gosto de 1989/Decreto 2.716 de 10/08/98 (promulgaçã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bjetiv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acilitar e manter condições seguras do tráf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umentar a competitividade em igualdade de condi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74920" y="1752120"/>
            <a:ext cx="698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O Acordo de Transporte Fluvial (cont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Protocolos (7): aduana, navegação e segurança, seguros, igualdade de oportunidade para maior competitividade, soluções de controvérsia e cessação da bandeir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Regulamentos (11): desde transporte de mercadorias, infrações, dimensões dos comboios, balizamento, entre outr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Órgãos operacio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O Comitê Intergovernam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missão do Acor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mitê Intergovernamental da Hidrovia Paraguai – Paraná - CI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tiv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Órgãos de apoi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missão do Acordo - 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rupo Assessor Naval - G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rupo Assessor Ambiental - G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rupos Técnicos - G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missão de Contraparte Técnica - C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s estudos e proje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vênio apoio PNUD-BID-CI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Unidade Coordenad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orque do proje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umento do tráfego na regi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nterrupção da navegação durante os períodos de seca prolonga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aracterísticas própr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proveitamento em Corrente Liv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Dragagens, Derrocamentos e Sinal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Nível de Referência - Hidrologia pecul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mponentes do Proj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uto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nsórcio Hidroservice-Louis Berger-EI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Prazo de 30 me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Valor US$ 3,5 milh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6:52:05Z</dcterms:created>
  <dc:creator>Garcia</dc:creator>
  <dc:description/>
  <dc:language>en-US</dc:language>
  <cp:lastModifiedBy>Luiz Garcia</cp:lastModifiedBy>
  <dcterms:modified xsi:type="dcterms:W3CDTF">2003-06-22T13:43:31Z</dcterms:modified>
  <cp:revision>32</cp:revision>
  <dc:subject/>
  <dc:title>Hidrovias e Integração da América Latina</dc:title>
</cp:coreProperties>
</file>