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B0A-18D9-4016-91A3-6A1F01C0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501-22B9-4B64-85EC-872FD352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3B8-87B0-4187-A4FF-2799F023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5B2-12DB-46C9-96DC-331D513F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E166-D3FC-40CC-B32C-B5027107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522B-4643-449F-BA6A-FD88ECD1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3104-65F8-447D-B735-22966079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61C2-0348-4114-91EA-63F3DD43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EADD-A9EC-4BB0-83E3-9257C043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7433-7BCB-411B-9858-4B9657A9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9D85-08B5-43D0-A197-C9DFBF2C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759-9354-4FE6-BAAB-F4D09B9A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F3A8-67A8-45EF-9738-43A5C0D6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6821-D1B0-4933-AB3E-D9018422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C9DE-5C00-4E2A-97DE-D05CF775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FD50-B4FA-4196-8104-611DAAE7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BA00-F520-4DB2-8C6F-293E1710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AF4-B4FC-4340-A14F-CB3548F2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062-C2F2-41DF-8591-5A67B70D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063-E709-489F-A5B9-8EC67D84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82C-5E15-402F-BDD8-A1DD10ED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08E-6EE3-475F-ADC5-D348F045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5B9-7C80-423F-947E-9BA3BF50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DEC-5B79-424F-8E4C-6D9885F4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BCF9-126E-49D5-A3B8-68A146FFC8B3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B1E1-1116-44FB-8F2B-A0D46F353074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s Internacionais para Operação Integrada de Transporte Hidroviário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Hidrovia Paraguai - 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28195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Eng. Luiz Eduardo Gar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Administração da Hidrovia do Paraná – AHR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Conselho Nacional de Recursos Hídricos – CNR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Câmara Técnica de Gestão de Recursos Hídricos Transfronteiriç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Brasília, 23 de Junho de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74920" y="1946160"/>
            <a:ext cx="69832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mpactos Diretos (Módulo A), segundo HS-LB-EI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eio Físico, Biótico e Antróp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Regime Hidráulico (Pto. da Manga/Pinasco – km 2685 ao 208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Hidrologia e sedimentação devido às dragag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Qualidade da água e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Turbidez e perda biodiversi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Buscar reduzir a “mancha”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Bentos (dragagem 1,39% derrocamento 0,0039%, áreas relativ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erda pesca, poluição sonora, derrames, acidentes, tráfego, durante execução dos serviç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teú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1 - Diagnós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2 - Avaliação de Impacto Ambie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3 - Programa de Mitigação, Monitoramento, Controle e Minimização de Imp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sórcio Taylor-Golder Consular-Con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razo 30 me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usto de US$2,9 milh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2 - AVALIAÇÂO DE IMPACTO AMBIEN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: Módulo A (curto prazo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...A avaliação de impactos indica que os impactos serão de magnitude baixa a depreciável em todo o tramo. As dragagens dos diferentes locais não produzirão efeitos cumulativos ou sinérgicos consideráveis....As avaliações indicaram que a baixa ocorrência  de obras (construção) e da navegação (operação), não modificarão de modo apreciável os recursos ecossistêmicos.... Os impactos no Rio Paraná são praticamente desprezíveis devido ao tamanho do rio e da planície de inundação....Entre Assunção e Murtinho...série de derrocamentos...devido ao reduzido volume de rochas...que os impactos são reduzidos e controláveis.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2 - AVALIAÇÂO DE IMPACTO AMBIEN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: Módulo B1(médio prazo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Os impactos diretos da construção de qualquer das alternativas são baixos. Os impactos indiretos (migrações, mudanças no uso do solo,economia) tampouco resultam substanciais para impedir a execução do projeto...Os consultores recomendam que se adote uma alternativa que assegure uma rentabilidade mínima ao projeto, porém que minimize ao máximo 1) o número de intervenções no rio e 2) a freqüência de embarcações....a possibilidade de relocação do porto de Cáceres em Morrinhos deveria ser estudada...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74920" y="1870200"/>
            <a:ext cx="69832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3 – PROGRAMA DE MITIGAÇÃO, MONITORAMENTO, CONTROLE E MINIMIZAÇÃO DE IMPA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Escritórios de Planejamento e Gestão Ambien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lano de Gestão Ambien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de Gestão Ambiental(coleta e avaliação de parâmetros ambientais, emergências e derrames, controle das dragagens, regulamento ambiental, saúde e áreas protegid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de Educação Ambiental e Capaci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Indígen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Custo: US$1,73 milhões implan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US$1,70 milhões/ano manuten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escr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HPYP_mapa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467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mold4" descr=""/>
          <p:cNvPicPr/>
          <p:nvPr/>
        </p:nvPicPr>
        <p:blipFill>
          <a:blip r:embed="rId1"/>
          <a:stretch/>
        </p:blipFill>
        <p:spPr>
          <a:xfrm>
            <a:off x="1784520" y="533520"/>
            <a:ext cx="5454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8960" y="2479680"/>
            <a:ext cx="380988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ga Atual na Hidrov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2 milhões de tone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ga Futura (até 200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6 milhões de tone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Granéis agrícol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7,5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inério de fer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3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bustíveis e deriv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3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adeira e Wood Chi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nteine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elu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0,5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90560" y="2209320"/>
            <a:ext cx="563868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Paraguai-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 Acordo de Transporte Flu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erspectivas de Integ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nclus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erspectivas de Integ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cordos (Hidrovia, MERCOSUL,IIRS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rredores Estraté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mold3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51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EJE_O-A-P2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662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225108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nclus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erificação e identificação das deman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Instalação de termi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dequação da infraestru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Transposição” de Itaip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07720" y="1945800"/>
            <a:ext cx="606924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inistério dos Transpo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NT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HRANA, AHIP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74920" y="182844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 Acordo e o  CI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s estudos e proje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(CIH, PNUD, B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escr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74920" y="1752480"/>
            <a:ext cx="698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Acordo de Transporte Fluvial pela Hidrovia Paraguai-Paraná (Porto de Cáceres/Porto de Nova Palmir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níci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gosto de 1989/Decreto 2.716 de 10/08/98 (promulgaçã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bjetiv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acilitar e manter condições seguras do tráf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mentar a competitividade em igualdade de condi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74920" y="1752120"/>
            <a:ext cx="698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O Acordo de Transporte Fluvial (cont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Protocolos (7): aduana, navegação e segurança, seguros, igualdade de oportunidade para maior competitividade, soluções de controvérsia e cessação da bandei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Regulamentos (11): desde transporte de mercadorias, infrações, dimensões dos comboios, balizamento, entre outr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Órgãos operacio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O Comitê Intergovernam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issão do Acor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tê Intergovernamental da Hidrovia Paraguai – Paraná - C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tiv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Órgãos de apoi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ssão do Acordo - 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 Assessor Naval - G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 Assessor Ambiental - G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s Técnicos - G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ssão de Contraparte Técnica - C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s estudos e proje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vênio apoio PNUD-BID-C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Unidade Coordenad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orque do proj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mento do tráfego na regi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nterrupção da navegação durante os períodos de seca prolong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acterísticas própr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proveitamento em Corrente Liv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Dragagens, Derrocamentos e Sinal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Nível de Referência - Hidrologia pecul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ponentes do Proj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uto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nsórcio Hidroservice-Louis Berger-EI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Prazo de 30 me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alor US$ 3,5 milh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6:52:05Z</dcterms:created>
  <dc:creator>Garcia</dc:creator>
  <dc:description/>
  <dc:language>en-US</dc:language>
  <cp:lastModifiedBy>Luiz Garcia</cp:lastModifiedBy>
  <dcterms:modified xsi:type="dcterms:W3CDTF">2003-06-22T13:43:31Z</dcterms:modified>
  <cp:revision>32</cp:revision>
  <dc:subject/>
  <dc:title>Hidrovias e Integração da América Latina</dc:title>
</cp:coreProperties>
</file>