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8D5B-7B3D-4743-97E5-127CCE3E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2D28-513E-4553-8733-7CF89DEC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60D7-33C4-4209-BF51-34F10B08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F5B-E3A2-4F95-80F4-06A2786D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23C8-0237-41BE-A167-97112B11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7A0E-C1C9-4C22-ABEE-F1F2177F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55BA-BF24-4218-9B14-07C532F8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AB2B-4E8F-46B7-A36A-6F2843A3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07AF-35EC-4718-9A23-4B7962B5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0196-E6B7-4D73-A1EB-888FB869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F37F-7D7F-4218-939C-7D915E1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A48-407B-4332-81F9-30071A61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E897-5ED6-457C-8527-64FE9679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00AF-0508-4C06-B7A0-DECDFC3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280D-2D0B-4F32-B5A5-25AC7E86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AA73-4E28-407F-ADB0-9ED87B24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E8A0-319E-490E-89AA-436A65CF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77FE-9313-4B41-8F71-FCCD648D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C96-E22A-4AAA-851C-CA498F6B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FCF-39BF-408B-9E75-F0BDE003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722-443A-485B-9FB2-5DF5F352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BFE-6D06-4E17-BA5B-ACFDE617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AC3-756F-47CA-82D3-16E3800D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8CB-99B7-4784-9398-4E6AED0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5310-2AE4-4BEA-BA50-8DC28514E2E2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1D6C-8087-48C4-8853-D5C760B36CE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s Internacionais para Operação Integrada de Transporte Hidroviári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Hidrovia Paraguai - 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8195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Eng. Luiz Eduardo Gar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Administração da Hidrovia do Paraná – AHR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onselho Nacional de Recursos Hídricos – CNR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Câmara Técnica de Gestão de Recursos Hídricos Transfronteir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Verdana"/>
              </a:rPr>
              <a:t>Brasília, 23 de Junho de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74920" y="1946160"/>
            <a:ext cx="69832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Impactos Diretos (Módulo A), segundo HS-LB-EI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Meio Físico, Biótico e Antróp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Regime Hidráulico (Pto. da Manga/Pinasco – km 2685 ao 208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Hidrologia e sedimentação devido às dragag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Qualidade da água e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Turbidez e perda biodivers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uscar reduzir a “mancha”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Bentos (dragagem 1,39% derrocamento 0,0039%, áreas relativ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erda pesca, poluição sonora, derrames, acidentes, tráfego, durante execução dos serviç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teú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1 - Diagnós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2 - Avaliação de Impacto Ambi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3 - Programa de Mitigação, Monitoramento, Controle e Minimização de Impac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sórcio Taylor-Golder Consular-Con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razo 30 me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usto de US$2,9 milh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A (curto prazo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...A avaliação de impactos indica que os impactos serão de magnitude baixa a depreciável em todo o tramo. As dragagens dos diferentes locais não produzirão efeitos cumulativos ou sinérgicos consideráveis....As avaliações indicaram que a baixa ocorrência  de obras (construção) e da navegação (operação), não modificarão de modo apreciável os recursos ecossistêmicos.... Os impactos no Rio Paraná são praticamente desprezíveis devido ao tamanho do rio e da planície de inundação....Entre Assunção e Murtinho...série de derrocamentos...devido ao reduzido volume de rochas...que os impactos são reduzidos e controláveis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4920" y="1869840"/>
            <a:ext cx="69832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2 - AVALIAÇÂO DE IMPACTO AMBIEN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Principais Resultados: Módulo B1(médio prazo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Os impactos diretos da construção de qualquer das alternativas são baixos. Os impactos indiretos (migrações, mudanças no uso do solo,economia) tampouco resultam substanciais para impedir a execução do projeto...Os consultores recomendam que se adote uma alternativa que assegure uma rentabilidade mínima ao projeto, porém que minimize ao máximo 1) o número de intervenções no rio e 2) a freqüência de embarcações....a possibilidade de relocação do porto de Cáceres em Morrinhos deveria ser estudada...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74920" y="1870200"/>
            <a:ext cx="69832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2 - Estudo de Impacto Ambi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Verdana"/>
              </a:rPr>
              <a:t>3 – PROGRAMA DE MITIGAÇÃO, MONITORAMENTO, CONTROLE E MINIMIZAÇÃO DE IMPA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Escritórios de Planejamento 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lano de Gestão Amb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Gestão Ambiental(coleta e avaliação de parâmetros ambientais, emergências e derrames, controle das dragagens, regulamento ambiental, saúde e áreas protegida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de Educação Ambiental e Capaci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Programa Indígen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Custo: US$1,73 milhões impla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pt-BR" sz="1400" spc="-1" strike="noStrike">
                <a:solidFill>
                  <a:srgbClr val="ffffff"/>
                </a:solidFill>
                <a:latin typeface="Verdana"/>
              </a:rPr>
              <a:t>US$1,70 milhões/ano manuten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HPYP_mapa" descr=""/>
          <p:cNvPicPr/>
          <p:nvPr/>
        </p:nvPicPr>
        <p:blipFill>
          <a:blip r:embed="rId1"/>
          <a:stretch/>
        </p:blipFill>
        <p:spPr>
          <a:xfrm>
            <a:off x="1981080" y="152280"/>
            <a:ext cx="54673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mold4" descr=""/>
          <p:cNvPicPr/>
          <p:nvPr/>
        </p:nvPicPr>
        <p:blipFill>
          <a:blip r:embed="rId1"/>
          <a:stretch/>
        </p:blipFill>
        <p:spPr>
          <a:xfrm>
            <a:off x="1784520" y="533520"/>
            <a:ext cx="5454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8960" y="2479680"/>
            <a:ext cx="380988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Atual na Hidrov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2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ga Futura (até 200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6 milhões de tonel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Granéis agríco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7,5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inério de fer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bustíveis e deriv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3 milhões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adeira e Wood Chi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tein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1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elu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0,5 milhão de 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560" y="2209320"/>
            <a:ext cx="563868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Paraguai-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de Transporte Fluv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erspectivas de Integ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cordos (Hidrovia, MERCOSUL,IIRS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rredores Estraté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mold3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51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EJE_O-A-P2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6623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225108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Conclus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erificação e identificação das deman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Instalação de termi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dequação da infra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Transposição” de Itai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07720" y="1945800"/>
            <a:ext cx="606924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inistério dos Trans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NT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HRANA, AHIP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74920" y="182844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 Acordo e o  CI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(CIH, PNUD, B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escr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m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tuação At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4920" y="1752480"/>
            <a:ext cx="698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 Acordo de Transporte Fluvial pela Hidrovia Paraguai-Paraná (Porto de Cáceres/Porto de Nova Palmir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íc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gosto de 1989/Decreto 2.716 de 10/08/98 (promulgaçã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Facilitar e manter condições seguras do tráf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ar a competitividade em igualdade de cond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74920" y="1752120"/>
            <a:ext cx="698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Acordo de Transporte Fluvial (cont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otocolos (7): aduana, navegação e segurança, seguros, igualdade de oportunidade para maior competitividade, soluções de controvérsia e cessação da bandei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Regulamentos (11): desde transporte de mercadorias, infrações, dimensões dos comboios, balizamento, entre outr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Órgãos opera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O Comitê Intergovername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issão do Aco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tê Intergovernamental da Hidrovia Paraguai – Paraná - 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Órgãos de apoi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o Acordo - 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Naval - G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 Assessor Ambiental - G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Grupos Técnicos - G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missão de Contraparte Técnica - C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Os estudos e proje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Convênio apoio PNUD-BID-CI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Unidade Coordenad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Porque do proj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Aumento do tráfego na regi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Interrupção da navegação durante os períodos de seca prolong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Verdana"/>
              </a:rPr>
              <a:t>Acordo Hidrovia Paraguai-Paraná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74920" y="1945800"/>
            <a:ext cx="69832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 HIDROVIA  PARAGUAI – PARAN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aracterísticas próp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proveitamento em Corrente Liv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Dragagens, Derrocamentos e Sina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Nível de Referência - Hidrologia pecul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mponentes do Proje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Módulo B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Aut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Consórcio Hidroservice-Louis Berger-EI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Prazo de 30 me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Valor US$ 3,5 milh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6:52:05Z</dcterms:created>
  <dc:creator>Garcia</dc:creator>
  <dc:description/>
  <dc:language>en-US</dc:language>
  <cp:lastModifiedBy>Luiz Garcia</cp:lastModifiedBy>
  <dcterms:modified xsi:type="dcterms:W3CDTF">2003-06-22T13:43:31Z</dcterms:modified>
  <cp:revision>32</cp:revision>
  <dc:subject/>
  <dc:title>Hidrovias e Integração da América Latina</dc:title>
</cp:coreProperties>
</file>